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9EA-498C-47E9-924A-9AC544BF0B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CF27-A5FE-402B-B6B0-C3A45CC627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088-9FD0-4B2D-A570-CF27AB68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C7E-0510-4BAA-BD9F-F6CBCED9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1C4-813C-4E60-B308-B47A142F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31D-F635-450B-A474-F4C791C8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E594-15FF-48A1-8C73-BDB18B88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44A-561D-4CAE-9F23-578ED04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18A-76DA-4EFE-A9CC-33CA905D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067-CD67-4BEA-AB88-A013FCD7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C02-7531-4174-914B-892DC913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45B-33BE-4B18-8504-62D5108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12C-CC5D-4A83-B191-6974B6A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633-5018-460C-883A-E6107F6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316E-B651-4BD2-B91B-20200E031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670200" y="1004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39880" y="273204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圆圆的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4760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EA12-53FA-48CE-B432-FB4EAFE8D5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920" y="213372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图画内容，设想故事情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胆想象，表述自己的美好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自主口语交际，说话要有礼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539640" y="1268280"/>
            <a:ext cx="3816360" cy="1584360"/>
          </a:xfrm>
          <a:prstGeom prst="wedgeEllipseCallout">
            <a:avLst>
              <a:gd name="adj1" fmla="val 3578"/>
              <a:gd name="adj2" fmla="val 90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口语交际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小男孩11"/>
          <p:cNvPicPr/>
          <p:nvPr/>
        </p:nvPicPr>
        <p:blipFill>
          <a:blip r:embed="rId1"/>
          <a:stretch/>
        </p:blipFill>
        <p:spPr>
          <a:xfrm>
            <a:off x="468360" y="3645000"/>
            <a:ext cx="3181320" cy="2808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4356000" y="907920"/>
            <a:ext cx="4176720" cy="3673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顺序观测图，理解画面内容。看图上是什么时间？谁在干什么？从图上可以看出圆圆梦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理解图画的基础上展开合理的想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5448240" cy="383832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2556000" y="9558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图说话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332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圆做了一个什么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在梦中看见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tnpic195"/>
          <p:cNvPicPr/>
          <p:nvPr/>
        </p:nvPicPr>
        <p:blipFill>
          <a:blip r:embed="rId1"/>
          <a:stretch/>
        </p:blipFill>
        <p:spPr>
          <a:xfrm>
            <a:off x="1042920" y="2133720"/>
            <a:ext cx="1525680" cy="187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3348000" y="1916280"/>
            <a:ext cx="5113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圆圆会飞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哪里去呢？她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见了会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476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指导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99736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然后把所说的话写下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985680" y="4871880"/>
            <a:ext cx="56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xy0276"/>
          <p:cNvPicPr/>
          <p:nvPr/>
        </p:nvPicPr>
        <p:blipFill>
          <a:blip r:embed="rId1"/>
          <a:stretch/>
        </p:blipFill>
        <p:spPr>
          <a:xfrm>
            <a:off x="324000" y="1157400"/>
            <a:ext cx="3024000" cy="4000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"/>
          <p:cNvSpPr/>
          <p:nvPr/>
        </p:nvSpPr>
        <p:spPr>
          <a:xfrm>
            <a:off x="3708360" y="1989000"/>
            <a:ext cx="489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如果你给月亮姐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打电话，你会跟她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型搭桥，学习语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64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选择下列句型，将自己的所风所闻告诉“月亮姐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飞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看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听到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那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太高兴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因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11:3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42:0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