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applause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19.png" ContentType="image/png"/>
  <Override PartName="/ppt/media/image18.gif" ContentType="image/gif"/>
  <Override PartName="/ppt/media/image17.jpeg" ContentType="image/jpeg"/>
  <Override PartName="/ppt/media/image16.png" ContentType="image/png"/>
  <Override PartName="/ppt/media/image14.jpeg" ContentType="image/jpeg"/>
  <Override PartName="/ppt/media/image13.png" ContentType="image/png"/>
  <Override PartName="/ppt/media/image1.jpeg" ContentType="image/jpeg"/>
  <Override PartName="/ppt/media/image2.jpeg" ContentType="image/jpeg"/>
  <Override PartName="/ppt/media/image3.gif" ContentType="image/gif"/>
  <Override PartName="/ppt/media/image12.png" ContentType="image/png"/>
  <Override PartName="/ppt/media/image20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66F1-10BC-43D6-BD74-AD367652C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E164-5A06-46BD-9DB5-541EB1EAF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73A0-6567-4E18-9891-5A0439D72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93AB-5CD5-4E19-9768-0338298ED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8EF4-1C61-4FF1-BA05-3FDAC2FC3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72AD-DC78-4FAD-8CC3-9C3EA86F2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09EC-2FFC-4148-ACE2-19EE35BB3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028B-DA4A-4CE8-9D97-DA0213E56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3027-1BD3-4E40-B00D-C9823A397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2C6-6415-4155-9731-D89F2EB4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A3B1-A53D-40E2-A6BF-2AB9D5FB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7E6-BA2F-413A-B5B7-10B02545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7F5-E886-44EE-8F57-5A6CE4AB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D698-42D0-4E38-9DF3-CB644F68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997-1CE7-429A-93B8-F6835D42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11F2-B98A-4381-B6CB-4BDC77DE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5FF-C9DE-42FE-80BC-C2D7DCCD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1EC-2C4C-4BD4-AA42-408EB022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3F6-AED4-48EF-8265-96EC44A7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739-0326-4CC6-A353-23C4D9A7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CAF-A437-4342-9FCC-5A89D5E2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6784-3427-4E00-8E4D-020B7AF85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8"/>
          <p:cNvSpPr txBox="1"/>
          <p:nvPr/>
        </p:nvSpPr>
        <p:spPr>
          <a:xfrm>
            <a:off x="4427640" y="1150920"/>
            <a:ext cx="4343400" cy="181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c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隶书"/>
              </a:rPr>
              <a:t>燕子</a:t>
            </a:r>
            <a:endParaRPr b="0" lang="en-US" sz="9600" spc="1" strike="noStrike">
              <a:ln w="12600">
                <a:solidFill>
                  <a:srgbClr val="eaeaea"/>
                </a:solidFill>
                <a:round/>
              </a:ln>
              <a:solidFill>
                <a:srgbClr val="c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70604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3307218_232709007074_2"/>
          <p:cNvPicPr/>
          <p:nvPr/>
        </p:nvPicPr>
        <p:blipFill>
          <a:blip r:embed="rId1"/>
          <a:stretch/>
        </p:blipFill>
        <p:spPr>
          <a:xfrm>
            <a:off x="0" y="0"/>
            <a:ext cx="94298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55640" y="692280"/>
            <a:ext cx="8137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思考：每个自然段的主要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第一自然段描写了燕子的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第二自然段描写了哪些景物？体现了春天的什么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在第三自然段中找出描写燕子飞行的词语。体现了燕子的什么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找出第四自然段的比喻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732720" y="6165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注意板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14400" y="990720"/>
            <a:ext cx="72928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三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仔细读课文，写出每一自然段的大概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自然段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自然段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自然段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四自然段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4498920" y="19051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描写燕子活泼可爱的样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819520" y="31240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描写光彩夺目的春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559400" y="41353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描写了燕子飞行时的样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559400" y="5202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描写了燕子停歇时的样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5"/>
          <p:cNvSpPr/>
          <p:nvPr/>
        </p:nvSpPr>
        <p:spPr>
          <a:xfrm>
            <a:off x="1403280" y="620640"/>
            <a:ext cx="304920" cy="5181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752480" y="5475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741760" y="5475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乌黑光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752480" y="13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翅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817720" y="1309680"/>
            <a:ext cx="16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俊俏轻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752480" y="21477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尾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2817720" y="21477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剪刀似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4494240" y="700200"/>
            <a:ext cx="228600" cy="1828800"/>
          </a:xfrm>
          <a:custGeom>
            <a:avLst/>
            <a:gdLst>
              <a:gd name="textAreaLeft" fmla="*/ 0 w 228600"/>
              <a:gd name="textAreaRight" fmla="*/ 8244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5410080" y="1309680"/>
            <a:ext cx="1752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燕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6781680" y="13096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活泼机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752480" y="2909880"/>
            <a:ext cx="4187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雨、风、柳、草、叶、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5943600" y="321480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554880" y="2909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赶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7238880" y="2909880"/>
            <a:ext cx="27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生机勃勃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1830240" y="3824280"/>
            <a:ext cx="4265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掠、叫、飞、横掠、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5715000" y="412920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6400800" y="38242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燕子在田野里飞行的各种姿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3"/>
          <p:cNvSpPr/>
          <p:nvPr/>
        </p:nvSpPr>
        <p:spPr>
          <a:xfrm>
            <a:off x="1828800" y="5043600"/>
            <a:ext cx="5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24"/>
          <p:cNvSpPr/>
          <p:nvPr/>
        </p:nvSpPr>
        <p:spPr>
          <a:xfrm>
            <a:off x="2514600" y="4800600"/>
            <a:ext cx="152280" cy="11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2743200" y="4662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743200" y="5500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燕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3886200" y="4662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线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8"/>
          <p:cNvSpPr/>
          <p:nvPr/>
        </p:nvSpPr>
        <p:spPr>
          <a:xfrm>
            <a:off x="3886200" y="5500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音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9"/>
          <p:cNvSpPr/>
          <p:nvPr/>
        </p:nvSpPr>
        <p:spPr>
          <a:xfrm>
            <a:off x="5257800" y="47386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6172200" y="50436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燕子落在电线上谱出春天的赞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2"/>
          <p:cNvSpPr/>
          <p:nvPr/>
        </p:nvSpPr>
        <p:spPr>
          <a:xfrm>
            <a:off x="152280" y="2909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燕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3"/>
          <p:cNvSpPr/>
          <p:nvPr/>
        </p:nvSpPr>
        <p:spPr>
          <a:xfrm>
            <a:off x="4800600" y="161460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34"/>
          <p:cNvSpPr/>
          <p:nvPr/>
        </p:nvSpPr>
        <p:spPr>
          <a:xfrm>
            <a:off x="5562720" y="534816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755640" y="1341360"/>
            <a:ext cx="784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谁读得最好最有感情！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身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黑光亮的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羽毛，一对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俊俏轻快的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翅膀，加上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剪刀似的尾巴，凑成了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泼机灵的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燕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851280" y="1916280"/>
            <a:ext cx="4967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身乌黑光亮的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羽毛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一对俊俏轻快的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翅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加上剪刀似的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尾巴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凑成了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泼机灵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燕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u=2053775780,1741403174&amp;gp=0"/>
          <p:cNvPicPr/>
          <p:nvPr/>
        </p:nvPicPr>
        <p:blipFill>
          <a:blip r:embed="rId1"/>
          <a:stretch/>
        </p:blipFill>
        <p:spPr>
          <a:xfrm rot="2223000">
            <a:off x="684360" y="259920"/>
            <a:ext cx="2852640" cy="4567320"/>
          </a:xfrm>
          <a:prstGeom prst="rect">
            <a:avLst/>
          </a:prstGeom>
          <a:ln w="0">
            <a:noFill/>
          </a:ln>
        </p:spPr>
      </p:pic>
      <p:sp>
        <p:nvSpPr>
          <p:cNvPr id="126" name="WordArt 4"/>
          <p:cNvSpPr txBox="1"/>
          <p:nvPr/>
        </p:nvSpPr>
        <p:spPr>
          <a:xfrm>
            <a:off x="4500720" y="1125360"/>
            <a:ext cx="3816360" cy="1484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华文彩云"/>
              </a:rPr>
              <a:t>活泼可爱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比较一下，说说哪句写得好，好在哪里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7200" y="17524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身羽毛，一对翅膀，加上尾巴，凑成了小燕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57200" y="34574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身乌黑光亮的羽毛，一对俊俏轻快的翅膀，加上剪刀似的尾巴，凑成了活泼可爱的小燕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68360" y="34290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身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乌黑光亮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羽毛，一对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俊俏轻快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翅膀，加上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剪刀似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尾巴，凑成了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活泼可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燕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0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WordArt 2"/>
          <p:cNvSpPr txBox="1"/>
          <p:nvPr/>
        </p:nvSpPr>
        <p:spPr>
          <a:xfrm>
            <a:off x="3203640" y="1125360"/>
            <a:ext cx="25905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00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填空背诵</a:t>
            </a:r>
            <a:endParaRPr b="1" lang="en-US" sz="2400" spc="1" strike="noStrike">
              <a:ln w="9360">
                <a:solidFill>
                  <a:srgbClr val="ff3300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11280" y="2205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身（       ）的羽毛，一对（       ）的翅膀，加上（     ）的尾巴，（  ）成了（       ）的小燕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771640" y="220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乌黑光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971640" y="2708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俊俏轻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227640" y="2781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剪刀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2916360" y="3357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076720" y="33577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活泼机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幼圆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图文对照，想想春天里有什么景物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它们有什么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92280"/>
            <a:ext cx="8820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才下过几阵蒙蒙的细雨。微风吹拂着千万条才展开带黄色的嫩叶的柳丝。青的草，绿的叶，各色鲜艳的花，都像赶集似的聚拢来，形成了光彩夺目的春天。小燕子从南方赶来，为春光增添了许多生机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549360"/>
            <a:ext cx="889308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才下过几阵蒙蒙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细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微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吹拂着千万条才展开带黄色的嫩叶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柳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青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绿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各色鲜艳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都像赶集似的聚拢来，形成了光彩夺目的春天。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小燕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从南方赶来，为春光增添了许多生机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下雨"/>
          <p:cNvPicPr/>
          <p:nvPr/>
        </p:nvPicPr>
        <p:blipFill>
          <a:blip r:embed="rId1"/>
          <a:stretch/>
        </p:blipFill>
        <p:spPr>
          <a:xfrm>
            <a:off x="1763640" y="1413000"/>
            <a:ext cx="6697800" cy="4967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471960" y="1484280"/>
            <a:ext cx="1094760" cy="4969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黑体"/>
              </a:rPr>
              <a:t>春     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34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下过几阵雨，风吹拂着柳丝，草、叶、花聚拢来，形成了春天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比较一下，说说哪句写得好，好在哪里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80880" y="3152880"/>
            <a:ext cx="876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下过几阵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蒙蒙的细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。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微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吹拂着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千万条才展开带黄色的嫩叶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丝。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青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，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绿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叶，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各色鲜艳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，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都像赶集似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聚拢来，形成了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光彩夺目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图片2"/>
          <p:cNvPicPr/>
          <p:nvPr/>
        </p:nvPicPr>
        <p:blipFill>
          <a:blip r:embed="rId1"/>
          <a:stretch/>
        </p:blipFill>
        <p:spPr>
          <a:xfrm>
            <a:off x="-468360" y="0"/>
            <a:ext cx="1000908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684360" y="620640"/>
            <a:ext cx="748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微风吹拂着千万条才展开带黄色的嫩叶的柳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题：联系重点词语，说说你对这句话的理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900000" y="1916280"/>
            <a:ext cx="6553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微风</a:t>
            </a: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吹拂</a:t>
            </a: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是说春风轻轻地、缓缓地吹着，写出了春风的轻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千万条</a:t>
            </a: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写出了柳条的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展开</a:t>
            </a: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写出了柔柳的姿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带黄色的</a:t>
            </a: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写出了柳枝的色彩和鲜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图片2"/>
          <p:cNvPicPr/>
          <p:nvPr/>
        </p:nvPicPr>
        <p:blipFill>
          <a:blip r:embed="rId1"/>
          <a:stretch/>
        </p:blipFill>
        <p:spPr>
          <a:xfrm>
            <a:off x="-468360" y="0"/>
            <a:ext cx="1000908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755640" y="836640"/>
            <a:ext cx="7488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青的草，绿的叶，各色鲜艳的花，都像赶集似的聚拢来，形成了光彩夺目的春天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题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能想象体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赶集似的聚拢来”的景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者问：这句话有什么特点，你有何体会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900000" y="3068640"/>
            <a:ext cx="655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聚拢</a:t>
            </a: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形容多而密集的样子，形容花草繁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像赶集似的</a:t>
            </a: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用拟人的手法，表现出各色花草在春雨滋润下争先恐后、迅速生长的景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草花2"/>
          <p:cNvPicPr/>
          <p:nvPr/>
        </p:nvPicPr>
        <p:blipFill>
          <a:blip r:embed="rId1"/>
          <a:stretch/>
        </p:blipFill>
        <p:spPr>
          <a:xfrm>
            <a:off x="539640" y="1341360"/>
            <a:ext cx="3888000" cy="3311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花儿"/>
          <p:cNvPicPr/>
          <p:nvPr/>
        </p:nvPicPr>
        <p:blipFill>
          <a:blip r:embed="rId2"/>
          <a:stretch/>
        </p:blipFill>
        <p:spPr>
          <a:xfrm>
            <a:off x="4500720" y="1341360"/>
            <a:ext cx="4174920" cy="33148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539640" y="4941720"/>
            <a:ext cx="7799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青的草绿的叶，各色鲜艳的花，都像赶集似的聚拢来，形成了光彩夺目的春天。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838080" y="1484280"/>
            <a:ext cx="83059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微风中，在阳光中，燕子斜着身子   在天空中（  ）过，唧唧地（  ）着，    有的由这边的稻田上，一转眼（  ）到了  那边的柳树下边；有的（    ）过湖面，  尾尖偶尔（  ）了一下水面，就看到      波纹一圈一圈地（    ）开去。</a:t>
            </a: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2916360" y="189000"/>
            <a:ext cx="2590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00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填空</a:t>
            </a:r>
            <a:endParaRPr b="1" lang="en-US" sz="2400" spc="1" strike="noStrike">
              <a:ln w="9360">
                <a:solidFill>
                  <a:srgbClr val="ff3300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843280" y="1989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084720" y="1989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6588000" y="2492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5292720" y="2997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横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843280" y="3500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995640" y="39337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荡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7620120" y="579132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4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燕子飞翔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345480" y="568332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掠：轻轻地擦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图片2"/>
          <p:cNvPicPr/>
          <p:nvPr/>
        </p:nvPicPr>
        <p:blipFill>
          <a:blip r:embed="rId1"/>
          <a:stretch/>
        </p:blipFill>
        <p:spPr>
          <a:xfrm>
            <a:off x="-468360" y="0"/>
            <a:ext cx="1000908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684360" y="76500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题：找出描写燕子飞行姿态、动作的词语，想想燕子飞行有哪些特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00000" y="1916280"/>
            <a:ext cx="6553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斜着身子</a:t>
            </a: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写的是燕子飞行时的姿势优美，表现出燕子飞行时的轻快灵活、自由自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掠过</a:t>
            </a: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表现出燕子飞行的速度之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唧唧地叫着</a:t>
            </a: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写出了燕子飞行时的快乐心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有的</a:t>
            </a:r>
            <a:r>
              <a:rPr b="1" lang="en-US" sz="2800" spc="-1" strike="noStrike">
                <a:solidFill>
                  <a:srgbClr val="cc66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有的</a:t>
            </a:r>
            <a:r>
              <a:rPr b="1" lang="en-US" sz="2800" spc="-1" strike="noStrike">
                <a:solidFill>
                  <a:srgbClr val="cc6600"/>
                </a:solidFill>
                <a:latin typeface="宋体"/>
              </a:rPr>
              <a:t>……”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写出了众多燕子在春日里自由飞行的情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539640" y="2421000"/>
            <a:ext cx="820908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（飞行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在微风中，在阳光中，燕子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斜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着身子在天空中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掠过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唧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一声，已由这边的稻田上，飞到那边的高柳之下。有的横掠过波光粼粼的湖面，剪尾或翼尖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偶尔沾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了一下水面，那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小圆晕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就一圈一圈地荡漾开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（停歇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几对小燕子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飞倦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了，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电线上。蓝蓝的天空中，几痕细线连在电杆之间，这多么像正待演奏的曲谱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035520" y="69228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Times New Roman"/>
              </a:rPr>
              <a:t>燕子的动作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082960" y="1371600"/>
            <a:ext cx="4987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　　几对燕子飞倦了，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落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在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线上。蓝蓝的天空，电杆之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连着几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痕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细线，多么像五线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啊。停着的燕子成了音符，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出一支正待演奏的春天的赞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087640" y="1371600"/>
            <a:ext cx="4987440" cy="344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　　几对燕子飞倦了，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落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在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线上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蓝蓝的天空，电杆之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连着几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</a:rPr>
              <a:t>痕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细线，多么像五线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啊。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停着的燕子成了音符，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出一支正待演奏的春天的赞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41946_200710252102321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47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3132000" y="537372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黑体"/>
              </a:rPr>
              <a:t>柳树绿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图片2"/>
          <p:cNvPicPr/>
          <p:nvPr/>
        </p:nvPicPr>
        <p:blipFill>
          <a:blip r:embed="rId1"/>
          <a:stretch/>
        </p:blipFill>
        <p:spPr>
          <a:xfrm>
            <a:off x="-468360" y="0"/>
            <a:ext cx="1000908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84360" y="836640"/>
            <a:ext cx="748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蓝蓝的天空，电杆之间连着几痕细线，多么像五线谱啊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题：我们通常说“几根”电线，可这里怎么说“几痕”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39640" y="2997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文中的</a:t>
            </a: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几痕细线</a:t>
            </a: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是指远处模糊不清的电线，只看到隐隐约约的几条痕迹。所以用</a:t>
            </a: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几痕</a:t>
            </a: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不用</a:t>
            </a: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几根</a:t>
            </a: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图片2"/>
          <p:cNvPicPr/>
          <p:nvPr/>
        </p:nvPicPr>
        <p:blipFill>
          <a:blip r:embed="rId1"/>
          <a:stretch/>
        </p:blipFill>
        <p:spPr>
          <a:xfrm>
            <a:off x="-468360" y="0"/>
            <a:ext cx="1000908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684360" y="836640"/>
            <a:ext cx="748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蓝蓝的天空，电杆之间连着几痕细线，多么像五线谱啊！停着的燕子成了音符，谱成了一支正待演奏的春天的赞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题：谈谈你对这句话的体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11280" y="2997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这句话运用了比喻的修辞手法，把电线比作五线谱，把燕子比作音符。这一比喻使我们体会到活泼可爱的燕子为春天谱写了动人的旋律，就要奏起春天的赞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无线"/>
          <p:cNvPicPr/>
          <p:nvPr/>
        </p:nvPicPr>
        <p:blipFill>
          <a:blip r:embed="rId1"/>
          <a:stretch/>
        </p:blipFill>
        <p:spPr>
          <a:xfrm>
            <a:off x="539640" y="2708280"/>
            <a:ext cx="7921800" cy="3645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468360" y="148428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几对小燕子飞倦了，停电线上。蓝蓝的天空中，几痕细线连在电杆之间，这多么像正待演奏的曲谱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文本框 1"/>
          <p:cNvSpPr/>
          <p:nvPr/>
        </p:nvSpPr>
        <p:spPr>
          <a:xfrm>
            <a:off x="673200" y="635040"/>
            <a:ext cx="63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2004726103105"/>
          <p:cNvPicPr/>
          <p:nvPr/>
        </p:nvPicPr>
        <p:blipFill>
          <a:blip r:embed="rId1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84360" y="476280"/>
            <a:ext cx="51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谁来为燕子写写歌词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68360" y="57340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章赞美了活泼机灵的小燕子，赞美了生机勃勃的春天，表达了作者对燕子对春天的喜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图片2"/>
          <p:cNvPicPr/>
          <p:nvPr/>
        </p:nvPicPr>
        <p:blipFill>
          <a:blip r:embed="rId1"/>
          <a:stretch/>
        </p:blipFill>
        <p:spPr>
          <a:xfrm>
            <a:off x="-541440" y="-11160"/>
            <a:ext cx="1000944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684360" y="692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课文写出了燕子的哪些特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6920" y="1844640"/>
            <a:ext cx="6553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第一自然段写了燕子的外形特点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第三自然段写了燕子飞行的特点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表现了燕子活泼机灵、小巧可爱的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4671-1797-41CD-BEF3-5E5F13C322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wallcoo_com_spring09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45878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348000" y="5373720"/>
            <a:ext cx="43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黑体"/>
              </a:rPr>
              <a:t>桃花开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6"/>
          <p:cNvSpPr/>
          <p:nvPr/>
        </p:nvSpPr>
        <p:spPr>
          <a:xfrm>
            <a:off x="1835280" y="2421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草地1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4768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564000" y="551664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黑体"/>
              </a:rPr>
              <a:t>草绿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2008312104932860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2700360" y="475632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春天来了，我们从南方飞来了。这里的春天真美丽啊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4"/>
          <p:cNvSpPr/>
          <p:nvPr/>
        </p:nvSpPr>
        <p:spPr>
          <a:xfrm>
            <a:off x="241200" y="44280"/>
            <a:ext cx="259092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79280" y="1666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-11160" y="961920"/>
            <a:ext cx="883908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燕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疲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赞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 剪刀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沾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泼机灵 微风 俊俏 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演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彩夺目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聚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拢 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增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添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稻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田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翅膀  吹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拂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掠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圈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偶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尔  波纹  荡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57200" y="1825560"/>
            <a:ext cx="853452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俏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拂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悄（    ）  佛（    ）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稍（    ）  沸（   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57200" y="4508640"/>
            <a:ext cx="8686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谱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奏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沾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普（    ）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凑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  粘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6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58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组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258920" y="1844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俏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1187280" y="2492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悄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116000" y="321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稍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3276720" y="1844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吹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3276720" y="2492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仿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3276720" y="3284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沸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187280" y="450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乐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1116000" y="5157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普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5410080" y="4495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沾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5410080" y="51195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粘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3203640" y="450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演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3276720" y="5157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紧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4716360" y="2492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佛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3307218_232709007074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195640" y="1341360"/>
            <a:ext cx="5905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     ） 似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 似的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900000" y="476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多音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708360" y="1341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s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564000" y="29973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sh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6:53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2:36Z</dcterms:modified>
  <cp:revision>7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