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2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8EB92-3CD3-4A39-B8A8-C643C4C6A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8.xml"/><Relationship Id="rId24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FE4FC-A31B-478F-9200-D0E1DA9BBA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2B87B-1188-4933-B66A-75E34C362F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0CE71-5D77-4440-9294-64143B615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7D341-BF29-4E28-9E5C-C3FCCA174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13E47-672B-4769-BA31-156563D89A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2BC85-F705-4869-892D-F23E6056C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FF8D4-E0F1-4319-A8F4-50F77AC65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FE7CC-8BD1-414B-8B52-AED876883A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0C01F-8D88-4564-B134-4B8B57CD1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64DE2-E2B6-4CC9-8577-FC927E073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C6CD2-B680-41B9-9C8C-FC869BE25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81FFE-359E-46C4-A2BB-0C1468C4F0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85B9B-E3D7-432C-90E0-D7C49E6C1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6AB03-6EE9-4369-BB9A-70B48DFAA4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A12F2-7DC0-457B-9E2F-5B16C7C892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08A52-53DF-4E5E-960A-6ED4F3F9B1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0C12F-2DCD-41C6-8A51-B5E5CF8ED3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3467F-F71F-4210-959F-0D61A72755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D75C-7215-4EF1-BB05-092D0FFD0E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5EC5-04D3-4C40-9F4C-C828B56E3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23B2-7D25-41F6-9A9B-EB24A14B7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FB00-7B57-41C9-97ED-69556F06A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4201-70E2-4A8B-A0AE-FDB7283CA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FBA1-80EE-468E-BCA1-E3AEA5F7B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0BBC-9818-4DBB-BD5F-33327D8C9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374D-993F-44E6-B934-3CC70343F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FEB6-6F03-436E-A534-A46CCA792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19FD-FC3F-4435-A8EC-CECE575E4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0C1C-0AA5-4860-80DF-5C5D1B9E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5BEC-E4DD-4104-A8D2-4B725929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374B-A824-43B8-B5E5-7149D060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2FD70-9FC8-4DCD-8CED-A2DE69EFCE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19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slide" Target="slide18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9.xm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3"/>
          <p:cNvSpPr txBox="1"/>
          <p:nvPr/>
        </p:nvSpPr>
        <p:spPr>
          <a:xfrm>
            <a:off x="1587600" y="1989000"/>
            <a:ext cx="60498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324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燕子专列</a:t>
            </a:r>
            <a:endParaRPr b="1" lang="en-US" sz="8000" spc="1" strike="noStrike">
              <a:ln w="324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9" name="矩形 3"/>
          <p:cNvSpPr/>
          <p:nvPr/>
        </p:nvSpPr>
        <p:spPr>
          <a:xfrm>
            <a:off x="1868040" y="595008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054"/>
          <p:cNvGrpSpPr/>
          <p:nvPr/>
        </p:nvGrpSpPr>
        <p:grpSpPr>
          <a:xfrm>
            <a:off x="3203640" y="2287440"/>
            <a:ext cx="3197160" cy="2810160"/>
            <a:chOff x="3203640" y="2287440"/>
            <a:chExt cx="3197160" cy="2810160"/>
          </a:xfrm>
        </p:grpSpPr>
        <p:sp>
          <p:nvSpPr>
            <p:cNvPr id="86" name="Rectangle 2052"/>
            <p:cNvSpPr/>
            <p:nvPr/>
          </p:nvSpPr>
          <p:spPr>
            <a:xfrm>
              <a:off x="3381480" y="3357720"/>
              <a:ext cx="26384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</a:t>
              </a: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特 殊　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2053"/>
            <p:cNvSpPr/>
            <p:nvPr/>
          </p:nvSpPr>
          <p:spPr>
            <a:xfrm>
              <a:off x="3203640" y="2287440"/>
              <a:ext cx="31971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</a:rPr>
                <a:t>　   </a:t>
              </a: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shū</a:t>
              </a: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</a:rPr>
                <a:t>　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AutoShape 2057">
            <a:hlinkClick r:id="rId1" action="ppaction://hlinksldjump"/>
          </p:cNvPr>
          <p:cNvSpPr/>
          <p:nvPr/>
        </p:nvSpPr>
        <p:spPr>
          <a:xfrm>
            <a:off x="7010280" y="5867280"/>
            <a:ext cx="2133720" cy="990720"/>
          </a:xfrm>
          <a:custGeom>
            <a:avLst/>
            <a:gdLst>
              <a:gd name="textAreaLeft" fmla="*/ 64080 w 2133720"/>
              <a:gd name="textAreaRight" fmla="*/ 2069640 w 21337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6511" h="21600">
                <a:moveTo>
                  <a:pt x="0" y="0"/>
                </a:moveTo>
                <a:lnTo>
                  <a:pt x="46511" y="0"/>
                </a:lnTo>
                <a:lnTo>
                  <a:pt x="46511" y="21600"/>
                </a:lnTo>
                <a:lnTo>
                  <a:pt x="0" y="21600"/>
                </a:lnTo>
                <a:close/>
              </a:path>
              <a:path fill="lightenLess" w="46511" h="21600">
                <a:moveTo>
                  <a:pt x="0" y="0"/>
                </a:moveTo>
                <a:lnTo>
                  <a:pt x="46511" y="0"/>
                </a:lnTo>
                <a:lnTo>
                  <a:pt x="45111" y="1400"/>
                </a:lnTo>
                <a:lnTo>
                  <a:pt x="1400" y="1400"/>
                </a:lnTo>
                <a:close/>
              </a:path>
              <a:path fill="darken" w="46511" h="21600">
                <a:moveTo>
                  <a:pt x="46511" y="0"/>
                </a:moveTo>
                <a:lnTo>
                  <a:pt x="46511" y="21600"/>
                </a:lnTo>
                <a:lnTo>
                  <a:pt x="45111" y="20200"/>
                </a:lnTo>
                <a:lnTo>
                  <a:pt x="45111" y="1400"/>
                </a:lnTo>
                <a:close/>
              </a:path>
              <a:path fill="darkenLess" w="46511" h="21600">
                <a:moveTo>
                  <a:pt x="465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111" y="20200"/>
                </a:lnTo>
                <a:close/>
              </a:path>
              <a:path fill="lighten" w="465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511" h="21600">
                <a:moveTo>
                  <a:pt x="16249" y="10800"/>
                </a:moveTo>
                <a:lnTo>
                  <a:pt x="30262" y="3794"/>
                </a:lnTo>
                <a:lnTo>
                  <a:pt x="3026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1000080" y="928800"/>
            <a:ext cx="7777080" cy="42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自由朗读课文，要求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借助拼音读准文中的新字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努力把课文读正确，圈出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理解的字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课文有几个自然段，每个自然段写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课文的主要内容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6"/>
          <p:cNvGrpSpPr/>
          <p:nvPr/>
        </p:nvGrpSpPr>
        <p:grpSpPr>
          <a:xfrm>
            <a:off x="324000" y="836640"/>
            <a:ext cx="7618320" cy="6247440"/>
            <a:chOff x="324000" y="836640"/>
            <a:chExt cx="7618320" cy="6247440"/>
          </a:xfrm>
        </p:grpSpPr>
        <p:sp>
          <p:nvSpPr>
            <p:cNvPr id="91" name="Rectangle 4"/>
            <p:cNvSpPr/>
            <p:nvPr/>
          </p:nvSpPr>
          <p:spPr>
            <a:xfrm>
              <a:off x="324000" y="907920"/>
              <a:ext cx="7618320" cy="61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  </a:t>
              </a: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骤然　　跋涉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　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 </a:t>
              </a: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濒临    覆盖     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　　　　　　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5"/>
            <p:cNvSpPr/>
            <p:nvPr/>
          </p:nvSpPr>
          <p:spPr>
            <a:xfrm>
              <a:off x="741600" y="836640"/>
              <a:ext cx="7188120" cy="46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zhòu</a:t>
              </a: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</a:rPr>
                <a:t>　    </a:t>
              </a: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5400" spc="-1" strike="noStrike">
                  <a:solidFill>
                    <a:srgbClr val="000000"/>
                  </a:solidFill>
                  <a:latin typeface="Century Gothic"/>
                </a:rPr>
                <a:t>á</a:t>
              </a: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 shè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</a:rPr>
                <a:t>　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bīn       fù           xiān</a:t>
              </a: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g  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                         </a:t>
              </a: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车厢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　　　　　　　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674640" y="1557360"/>
            <a:ext cx="7705800" cy="4924440"/>
            <a:chOff x="674640" y="1557360"/>
            <a:chExt cx="7705800" cy="4924440"/>
          </a:xfrm>
        </p:grpSpPr>
        <p:sp>
          <p:nvSpPr>
            <p:cNvPr id="94" name="Rectangle 3"/>
            <p:cNvSpPr/>
            <p:nvPr/>
          </p:nvSpPr>
          <p:spPr>
            <a:xfrm>
              <a:off x="761760" y="1557360"/>
              <a:ext cx="7618680" cy="492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　跋涉      车厢 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</a:t>
              </a: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濒临    骤然   覆盖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　　　　　　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4"/>
            <p:cNvSpPr/>
            <p:nvPr/>
          </p:nvSpPr>
          <p:spPr>
            <a:xfrm>
              <a:off x="674640" y="1884240"/>
              <a:ext cx="71881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1219320" y="2971800"/>
            <a:ext cx="72388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990720" y="1905120"/>
            <a:ext cx="761976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欧洲    瑞士    舒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启程    特殊    骤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疲劳    政府    饥寒交迫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5" descr="图片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6"/>
          <p:cNvSpPr/>
          <p:nvPr/>
        </p:nvSpPr>
        <p:spPr>
          <a:xfrm>
            <a:off x="260280" y="1116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Arial"/>
                <a:ea typeface="华文新魏"/>
              </a:rPr>
              <a:t>精读课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270000" y="1052640"/>
            <a:ext cx="862308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华文新魏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感悟燕子面临的“麻烦”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　　春暖花开，万物复苏，成千上万只燕子高高兴兴地从南方飞往北方。然而，它们在瑞士境内却遇到了麻烦。究竟是什么麻烦呢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华文新魏"/>
              </a:rPr>
              <a:t>?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5"/>
          <p:cNvSpPr/>
          <p:nvPr/>
        </p:nvSpPr>
        <p:spPr>
          <a:xfrm>
            <a:off x="1219320" y="2971800"/>
            <a:ext cx="72388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1219320" y="4610160"/>
            <a:ext cx="72388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1219320" y="5105520"/>
            <a:ext cx="7391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39640" y="1413000"/>
            <a:ext cx="7918560" cy="48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事情是这样的：这年春天，成千上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只燕子从南方飞回北方时，在瑞士境内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到了麻烦。当地气温骤降，风雪不止，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乎所有昆虫都被冻死了。燕子经过长途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涉，已经非常疲劳，再加上找不到食物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饥寒交迫，濒临死亡。瑞士政府知道了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情况，决定用火车把这些燕子送到温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地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0">
            <a:hlinkClick r:id="rId1" action="ppaction://hlinksldjump"/>
          </p:cNvPr>
          <p:cNvSpPr/>
          <p:nvPr/>
        </p:nvSpPr>
        <p:spPr>
          <a:xfrm>
            <a:off x="7010280" y="5867280"/>
            <a:ext cx="2133720" cy="990720"/>
          </a:xfrm>
          <a:custGeom>
            <a:avLst/>
            <a:gdLst>
              <a:gd name="textAreaLeft" fmla="*/ 64080 w 2133720"/>
              <a:gd name="textAreaRight" fmla="*/ 2069640 w 21337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6511" h="21600">
                <a:moveTo>
                  <a:pt x="0" y="0"/>
                </a:moveTo>
                <a:lnTo>
                  <a:pt x="46511" y="0"/>
                </a:lnTo>
                <a:lnTo>
                  <a:pt x="46511" y="21600"/>
                </a:lnTo>
                <a:lnTo>
                  <a:pt x="0" y="21600"/>
                </a:lnTo>
                <a:close/>
              </a:path>
              <a:path fill="lightenLess" w="46511" h="21600">
                <a:moveTo>
                  <a:pt x="0" y="0"/>
                </a:moveTo>
                <a:lnTo>
                  <a:pt x="46511" y="0"/>
                </a:lnTo>
                <a:lnTo>
                  <a:pt x="45111" y="1400"/>
                </a:lnTo>
                <a:lnTo>
                  <a:pt x="1400" y="1400"/>
                </a:lnTo>
                <a:close/>
              </a:path>
              <a:path fill="darken" w="46511" h="21600">
                <a:moveTo>
                  <a:pt x="46511" y="0"/>
                </a:moveTo>
                <a:lnTo>
                  <a:pt x="46511" y="21600"/>
                </a:lnTo>
                <a:lnTo>
                  <a:pt x="45111" y="20200"/>
                </a:lnTo>
                <a:lnTo>
                  <a:pt x="45111" y="1400"/>
                </a:lnTo>
                <a:close/>
              </a:path>
              <a:path fill="darkenLess" w="46511" h="21600">
                <a:moveTo>
                  <a:pt x="465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111" y="20200"/>
                </a:lnTo>
                <a:close/>
              </a:path>
              <a:path fill="lighten" w="465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511" h="21600">
                <a:moveTo>
                  <a:pt x="16249" y="10800"/>
                </a:moveTo>
                <a:lnTo>
                  <a:pt x="30262" y="3794"/>
                </a:lnTo>
                <a:lnTo>
                  <a:pt x="3026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1">
            <a:hlinkClick r:id="rId2" action="ppaction://hlinksldjump"/>
          </p:cNvPr>
          <p:cNvSpPr/>
          <p:nvPr/>
        </p:nvSpPr>
        <p:spPr>
          <a:xfrm>
            <a:off x="6553080" y="320040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2">
            <a:hlinkClick r:id="rId3" action="ppaction://hlinksldjump"/>
          </p:cNvPr>
          <p:cNvSpPr/>
          <p:nvPr/>
        </p:nvSpPr>
        <p:spPr>
          <a:xfrm>
            <a:off x="838080" y="4419720"/>
            <a:ext cx="1676520" cy="457200"/>
          </a:xfrm>
          <a:custGeom>
            <a:avLst/>
            <a:gdLst>
              <a:gd name="textAreaLeft" fmla="*/ 29520 w 1676520"/>
              <a:gd name="textAreaRight" fmla="*/ 1647000 w 1676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9160" h="21600">
                <a:moveTo>
                  <a:pt x="0" y="0"/>
                </a:moveTo>
                <a:lnTo>
                  <a:pt x="79160" y="0"/>
                </a:lnTo>
                <a:lnTo>
                  <a:pt x="79160" y="21600"/>
                </a:lnTo>
                <a:lnTo>
                  <a:pt x="0" y="21600"/>
                </a:lnTo>
                <a:close/>
              </a:path>
              <a:path fill="lightenLess" w="79160" h="21600">
                <a:moveTo>
                  <a:pt x="0" y="0"/>
                </a:moveTo>
                <a:lnTo>
                  <a:pt x="79160" y="0"/>
                </a:lnTo>
                <a:lnTo>
                  <a:pt x="77760" y="1400"/>
                </a:lnTo>
                <a:lnTo>
                  <a:pt x="1400" y="1400"/>
                </a:lnTo>
                <a:close/>
              </a:path>
              <a:path fill="darken" w="79160" h="21600">
                <a:moveTo>
                  <a:pt x="79160" y="0"/>
                </a:moveTo>
                <a:lnTo>
                  <a:pt x="79160" y="21600"/>
                </a:lnTo>
                <a:lnTo>
                  <a:pt x="77760" y="20200"/>
                </a:lnTo>
                <a:lnTo>
                  <a:pt x="77760" y="1400"/>
                </a:lnTo>
                <a:close/>
              </a:path>
              <a:path fill="darkenLess" w="79160" h="21600">
                <a:moveTo>
                  <a:pt x="791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60" y="20200"/>
                </a:lnTo>
                <a:close/>
              </a:path>
              <a:path fill="lighten" w="791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4">
            <a:hlinkClick r:id="rId4" action="ppaction://hlinksldjump"/>
          </p:cNvPr>
          <p:cNvSpPr/>
          <p:nvPr/>
        </p:nvSpPr>
        <p:spPr>
          <a:xfrm>
            <a:off x="2971800" y="4419720"/>
            <a:ext cx="1905120" cy="457200"/>
          </a:xfrm>
          <a:custGeom>
            <a:avLst/>
            <a:gdLst>
              <a:gd name="textAreaLeft" fmla="*/ 29520 w 1905120"/>
              <a:gd name="textAreaRight" fmla="*/ 1875600 w 1905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9952" h="21600">
                <a:moveTo>
                  <a:pt x="0" y="0"/>
                </a:moveTo>
                <a:lnTo>
                  <a:pt x="89952" y="0"/>
                </a:lnTo>
                <a:lnTo>
                  <a:pt x="89952" y="21600"/>
                </a:lnTo>
                <a:lnTo>
                  <a:pt x="0" y="21600"/>
                </a:lnTo>
                <a:close/>
              </a:path>
              <a:path fill="lightenLess" w="89952" h="21600">
                <a:moveTo>
                  <a:pt x="0" y="0"/>
                </a:moveTo>
                <a:lnTo>
                  <a:pt x="89952" y="0"/>
                </a:lnTo>
                <a:lnTo>
                  <a:pt x="88552" y="1400"/>
                </a:lnTo>
                <a:lnTo>
                  <a:pt x="1400" y="1400"/>
                </a:lnTo>
                <a:close/>
              </a:path>
              <a:path fill="darken" w="89952" h="21600">
                <a:moveTo>
                  <a:pt x="89952" y="0"/>
                </a:moveTo>
                <a:lnTo>
                  <a:pt x="89952" y="21600"/>
                </a:lnTo>
                <a:lnTo>
                  <a:pt x="88552" y="20200"/>
                </a:lnTo>
                <a:lnTo>
                  <a:pt x="88552" y="1400"/>
                </a:lnTo>
                <a:close/>
              </a:path>
              <a:path fill="darkenLess" w="89952" h="21600">
                <a:moveTo>
                  <a:pt x="899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552" y="20200"/>
                </a:lnTo>
                <a:close/>
              </a:path>
              <a:path fill="lighten" w="899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5">
            <a:hlinkClick r:id="rId5" action="ppaction://hlinksldjump"/>
          </p:cNvPr>
          <p:cNvSpPr/>
          <p:nvPr/>
        </p:nvSpPr>
        <p:spPr>
          <a:xfrm>
            <a:off x="3962520" y="2590920"/>
            <a:ext cx="1676160" cy="457200"/>
          </a:xfrm>
          <a:custGeom>
            <a:avLst/>
            <a:gdLst>
              <a:gd name="textAreaLeft" fmla="*/ 29520 w 1676160"/>
              <a:gd name="textAreaRight" fmla="*/ 1646640 w 1676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9143" h="21600">
                <a:moveTo>
                  <a:pt x="0" y="0"/>
                </a:moveTo>
                <a:lnTo>
                  <a:pt x="79143" y="0"/>
                </a:lnTo>
                <a:lnTo>
                  <a:pt x="79143" y="21600"/>
                </a:lnTo>
                <a:lnTo>
                  <a:pt x="0" y="21600"/>
                </a:lnTo>
                <a:close/>
              </a:path>
              <a:path fill="lightenLess" w="79143" h="21600">
                <a:moveTo>
                  <a:pt x="0" y="0"/>
                </a:moveTo>
                <a:lnTo>
                  <a:pt x="79143" y="0"/>
                </a:lnTo>
                <a:lnTo>
                  <a:pt x="77743" y="1400"/>
                </a:lnTo>
                <a:lnTo>
                  <a:pt x="1400" y="1400"/>
                </a:lnTo>
                <a:close/>
              </a:path>
              <a:path fill="darken" w="79143" h="21600">
                <a:moveTo>
                  <a:pt x="79143" y="0"/>
                </a:moveTo>
                <a:lnTo>
                  <a:pt x="79143" y="21600"/>
                </a:lnTo>
                <a:lnTo>
                  <a:pt x="77743" y="20200"/>
                </a:lnTo>
                <a:lnTo>
                  <a:pt x="77743" y="1400"/>
                </a:lnTo>
                <a:close/>
              </a:path>
              <a:path fill="darkenLess" w="79143" h="21600">
                <a:moveTo>
                  <a:pt x="79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43" y="20200"/>
                </a:lnTo>
                <a:close/>
              </a:path>
              <a:path fill="lighten" w="79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900000" y="765000"/>
            <a:ext cx="7559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当地　　　　，风雪不止，几乎所有昆虫都被冻死了。燕子经过　　　　，已经非常疲劳，再加上找不到食物，               ，          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3132000" y="765000"/>
            <a:ext cx="266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气温骤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3132000" y="0"/>
            <a:ext cx="1800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4572000" y="2205000"/>
            <a:ext cx="266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长途跋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2372040" y="3716280"/>
            <a:ext cx="288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隶书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饥寒交迫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6004440" y="36450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濒临死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1219320" y="2971800"/>
            <a:ext cx="72388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1219320" y="4610160"/>
            <a:ext cx="72388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1219320" y="5105520"/>
            <a:ext cx="7391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838080" y="1295280"/>
            <a:ext cx="7620120" cy="48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事情是这样的：这年春天，成千上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只燕子从南方飞回北方时，在瑞士境内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到了麻烦。当地气温骤降，风雪不止，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乎所有昆虫都被冻死了。燕子经过长途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涉，已经非常疲劳，再加上找不到食物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饥寒交迫，濒临死亡。瑞士政府知道了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情况，决定用火车把这些燕子送到温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地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7"/>
          <p:cNvSpPr/>
          <p:nvPr/>
        </p:nvSpPr>
        <p:spPr>
          <a:xfrm>
            <a:off x="609480" y="426708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2438280" y="4952880"/>
            <a:ext cx="1676520" cy="457200"/>
          </a:xfrm>
          <a:custGeom>
            <a:avLst/>
            <a:gdLst>
              <a:gd name="textAreaLeft" fmla="*/ 29520 w 1676520"/>
              <a:gd name="textAreaRight" fmla="*/ 1647000 w 1676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9160" h="21600">
                <a:moveTo>
                  <a:pt x="0" y="0"/>
                </a:moveTo>
                <a:lnTo>
                  <a:pt x="79160" y="0"/>
                </a:lnTo>
                <a:lnTo>
                  <a:pt x="79160" y="21600"/>
                </a:lnTo>
                <a:lnTo>
                  <a:pt x="0" y="21600"/>
                </a:lnTo>
                <a:close/>
              </a:path>
              <a:path fill="lightenLess" w="79160" h="21600">
                <a:moveTo>
                  <a:pt x="0" y="0"/>
                </a:moveTo>
                <a:lnTo>
                  <a:pt x="79160" y="0"/>
                </a:lnTo>
                <a:lnTo>
                  <a:pt x="77760" y="1400"/>
                </a:lnTo>
                <a:lnTo>
                  <a:pt x="1400" y="1400"/>
                </a:lnTo>
                <a:close/>
              </a:path>
              <a:path fill="darken" w="79160" h="21600">
                <a:moveTo>
                  <a:pt x="79160" y="0"/>
                </a:moveTo>
                <a:lnTo>
                  <a:pt x="79160" y="21600"/>
                </a:lnTo>
                <a:lnTo>
                  <a:pt x="77760" y="20200"/>
                </a:lnTo>
                <a:lnTo>
                  <a:pt x="77760" y="1400"/>
                </a:lnTo>
                <a:close/>
              </a:path>
              <a:path fill="darkenLess" w="79160" h="21600">
                <a:moveTo>
                  <a:pt x="791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60" y="20200"/>
                </a:lnTo>
                <a:close/>
              </a:path>
              <a:path fill="lighten" w="791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2895480" y="2895480"/>
            <a:ext cx="1752840" cy="457200"/>
          </a:xfrm>
          <a:custGeom>
            <a:avLst/>
            <a:gdLst>
              <a:gd name="textAreaLeft" fmla="*/ 29520 w 1752840"/>
              <a:gd name="textAreaRight" fmla="*/ 1723320 w 1752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81363" y="1400"/>
                </a:lnTo>
                <a:lnTo>
                  <a:pt x="1400" y="140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81363" y="20200"/>
                </a:lnTo>
                <a:lnTo>
                  <a:pt x="81363" y="140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63" y="2020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0"/>
          <p:cNvSpPr/>
          <p:nvPr/>
        </p:nvSpPr>
        <p:spPr>
          <a:xfrm>
            <a:off x="4648320" y="4952880"/>
            <a:ext cx="1904760" cy="457200"/>
          </a:xfrm>
          <a:custGeom>
            <a:avLst/>
            <a:gdLst>
              <a:gd name="textAreaLeft" fmla="*/ 29520 w 1904760"/>
              <a:gd name="textAreaRight" fmla="*/ 1875240 w 19047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9935" h="21600">
                <a:moveTo>
                  <a:pt x="0" y="0"/>
                </a:moveTo>
                <a:lnTo>
                  <a:pt x="89935" y="0"/>
                </a:lnTo>
                <a:lnTo>
                  <a:pt x="89935" y="21600"/>
                </a:lnTo>
                <a:lnTo>
                  <a:pt x="0" y="21600"/>
                </a:lnTo>
                <a:close/>
              </a:path>
              <a:path fill="lightenLess" w="89935" h="21600">
                <a:moveTo>
                  <a:pt x="0" y="0"/>
                </a:moveTo>
                <a:lnTo>
                  <a:pt x="89935" y="0"/>
                </a:lnTo>
                <a:lnTo>
                  <a:pt x="88535" y="1400"/>
                </a:lnTo>
                <a:lnTo>
                  <a:pt x="1400" y="1400"/>
                </a:lnTo>
                <a:close/>
              </a:path>
              <a:path fill="darken" w="89935" h="21600">
                <a:moveTo>
                  <a:pt x="89935" y="0"/>
                </a:moveTo>
                <a:lnTo>
                  <a:pt x="89935" y="21600"/>
                </a:lnTo>
                <a:lnTo>
                  <a:pt x="88535" y="20200"/>
                </a:lnTo>
                <a:lnTo>
                  <a:pt x="88535" y="1400"/>
                </a:lnTo>
                <a:close/>
              </a:path>
              <a:path fill="darkenLess" w="89935" h="21600">
                <a:moveTo>
                  <a:pt x="89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535" y="20200"/>
                </a:lnTo>
                <a:close/>
              </a:path>
              <a:path fill="lighten" w="89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4">
            <a:hlinkClick r:id="rId1" action="ppaction://hlinksldjump"/>
          </p:cNvPr>
          <p:cNvSpPr/>
          <p:nvPr/>
        </p:nvSpPr>
        <p:spPr>
          <a:xfrm>
            <a:off x="6934320" y="5715000"/>
            <a:ext cx="2209680" cy="1143000"/>
          </a:xfrm>
          <a:custGeom>
            <a:avLst/>
            <a:gdLst>
              <a:gd name="textAreaLeft" fmla="*/ 73800 w 2209680"/>
              <a:gd name="textAreaRight" fmla="*/ 2135880 w 22096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41751" h="21600">
                <a:moveTo>
                  <a:pt x="0" y="0"/>
                </a:moveTo>
                <a:lnTo>
                  <a:pt x="41751" y="0"/>
                </a:lnTo>
                <a:lnTo>
                  <a:pt x="41751" y="21600"/>
                </a:lnTo>
                <a:lnTo>
                  <a:pt x="0" y="21600"/>
                </a:lnTo>
                <a:close/>
              </a:path>
              <a:path fill="lightenLess" w="41751" h="21600">
                <a:moveTo>
                  <a:pt x="0" y="0"/>
                </a:moveTo>
                <a:lnTo>
                  <a:pt x="41751" y="0"/>
                </a:lnTo>
                <a:lnTo>
                  <a:pt x="40351" y="1400"/>
                </a:lnTo>
                <a:lnTo>
                  <a:pt x="1400" y="1400"/>
                </a:lnTo>
                <a:close/>
              </a:path>
              <a:path fill="darken" w="41751" h="21600">
                <a:moveTo>
                  <a:pt x="41751" y="0"/>
                </a:moveTo>
                <a:lnTo>
                  <a:pt x="41751" y="21600"/>
                </a:lnTo>
                <a:lnTo>
                  <a:pt x="40351" y="20200"/>
                </a:lnTo>
                <a:lnTo>
                  <a:pt x="40351" y="1400"/>
                </a:lnTo>
                <a:close/>
              </a:path>
              <a:path fill="darkenLess" w="41751" h="21600">
                <a:moveTo>
                  <a:pt x="417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351" y="20200"/>
                </a:lnTo>
                <a:close/>
              </a:path>
              <a:path fill="lighten" w="417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751" h="21600">
                <a:moveTo>
                  <a:pt x="13869" y="10800"/>
                </a:moveTo>
                <a:lnTo>
                  <a:pt x="27882" y="3794"/>
                </a:lnTo>
                <a:lnTo>
                  <a:pt x="2788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3581280" y="2209680"/>
            <a:ext cx="2527560" cy="13096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骤 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1219320" y="2971800"/>
            <a:ext cx="72388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1219320" y="4610160"/>
            <a:ext cx="72388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1219320" y="5105520"/>
            <a:ext cx="7391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838080" y="1295280"/>
            <a:ext cx="7620120" cy="48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事情是这样的：这年春天，成千上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只燕子从南方飞回北方时，在瑞士境内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到了麻烦。当地气温骤降，风雪不止，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乎所有昆虫都被冻死了。燕子经过长途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涉，已经非常疲劳，再加上找不到食物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饥寒交迫，濒临死亡。瑞士政府知道了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情况，决定用火车把这些燕子送到温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地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7"/>
          <p:cNvSpPr/>
          <p:nvPr/>
        </p:nvSpPr>
        <p:spPr>
          <a:xfrm>
            <a:off x="609480" y="426708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8"/>
          <p:cNvSpPr/>
          <p:nvPr/>
        </p:nvSpPr>
        <p:spPr>
          <a:xfrm>
            <a:off x="2438280" y="4952880"/>
            <a:ext cx="1676520" cy="457200"/>
          </a:xfrm>
          <a:custGeom>
            <a:avLst/>
            <a:gdLst>
              <a:gd name="textAreaLeft" fmla="*/ 29520 w 1676520"/>
              <a:gd name="textAreaRight" fmla="*/ 1647000 w 1676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9160" h="21600">
                <a:moveTo>
                  <a:pt x="0" y="0"/>
                </a:moveTo>
                <a:lnTo>
                  <a:pt x="79160" y="0"/>
                </a:lnTo>
                <a:lnTo>
                  <a:pt x="79160" y="21600"/>
                </a:lnTo>
                <a:lnTo>
                  <a:pt x="0" y="21600"/>
                </a:lnTo>
                <a:close/>
              </a:path>
              <a:path fill="lightenLess" w="79160" h="21600">
                <a:moveTo>
                  <a:pt x="0" y="0"/>
                </a:moveTo>
                <a:lnTo>
                  <a:pt x="79160" y="0"/>
                </a:lnTo>
                <a:lnTo>
                  <a:pt x="77760" y="1400"/>
                </a:lnTo>
                <a:lnTo>
                  <a:pt x="1400" y="1400"/>
                </a:lnTo>
                <a:close/>
              </a:path>
              <a:path fill="darken" w="79160" h="21600">
                <a:moveTo>
                  <a:pt x="79160" y="0"/>
                </a:moveTo>
                <a:lnTo>
                  <a:pt x="79160" y="21600"/>
                </a:lnTo>
                <a:lnTo>
                  <a:pt x="77760" y="20200"/>
                </a:lnTo>
                <a:lnTo>
                  <a:pt x="77760" y="1400"/>
                </a:lnTo>
                <a:close/>
              </a:path>
              <a:path fill="darkenLess" w="79160" h="21600">
                <a:moveTo>
                  <a:pt x="791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60" y="20200"/>
                </a:lnTo>
                <a:close/>
              </a:path>
              <a:path fill="lighten" w="791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2895480" y="2895480"/>
            <a:ext cx="1752840" cy="457200"/>
          </a:xfrm>
          <a:custGeom>
            <a:avLst/>
            <a:gdLst>
              <a:gd name="textAreaLeft" fmla="*/ 29520 w 1752840"/>
              <a:gd name="textAreaRight" fmla="*/ 1723320 w 1752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81363" y="1400"/>
                </a:lnTo>
                <a:lnTo>
                  <a:pt x="1400" y="140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81363" y="20200"/>
                </a:lnTo>
                <a:lnTo>
                  <a:pt x="81363" y="140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63" y="2020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0"/>
          <p:cNvSpPr/>
          <p:nvPr/>
        </p:nvSpPr>
        <p:spPr>
          <a:xfrm>
            <a:off x="4648320" y="4952880"/>
            <a:ext cx="1904760" cy="457200"/>
          </a:xfrm>
          <a:custGeom>
            <a:avLst/>
            <a:gdLst>
              <a:gd name="textAreaLeft" fmla="*/ 29520 w 1904760"/>
              <a:gd name="textAreaRight" fmla="*/ 1875240 w 19047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9935" h="21600">
                <a:moveTo>
                  <a:pt x="0" y="0"/>
                </a:moveTo>
                <a:lnTo>
                  <a:pt x="89935" y="0"/>
                </a:lnTo>
                <a:lnTo>
                  <a:pt x="89935" y="21600"/>
                </a:lnTo>
                <a:lnTo>
                  <a:pt x="0" y="21600"/>
                </a:lnTo>
                <a:close/>
              </a:path>
              <a:path fill="lightenLess" w="89935" h="21600">
                <a:moveTo>
                  <a:pt x="0" y="0"/>
                </a:moveTo>
                <a:lnTo>
                  <a:pt x="89935" y="0"/>
                </a:lnTo>
                <a:lnTo>
                  <a:pt x="88535" y="1400"/>
                </a:lnTo>
                <a:lnTo>
                  <a:pt x="1400" y="1400"/>
                </a:lnTo>
                <a:close/>
              </a:path>
              <a:path fill="darken" w="89935" h="21600">
                <a:moveTo>
                  <a:pt x="89935" y="0"/>
                </a:moveTo>
                <a:lnTo>
                  <a:pt x="89935" y="21600"/>
                </a:lnTo>
                <a:lnTo>
                  <a:pt x="88535" y="20200"/>
                </a:lnTo>
                <a:lnTo>
                  <a:pt x="88535" y="1400"/>
                </a:lnTo>
                <a:close/>
              </a:path>
              <a:path fill="darkenLess" w="89935" h="21600">
                <a:moveTo>
                  <a:pt x="89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535" y="20200"/>
                </a:lnTo>
                <a:close/>
              </a:path>
              <a:path fill="lighten" w="89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5105520" y="2819520"/>
            <a:ext cx="3240000" cy="16570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长途跋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2">
            <a:hlinkClick r:id="rId1" action="ppaction://hlinksldjump"/>
          </p:cNvPr>
          <p:cNvSpPr/>
          <p:nvPr/>
        </p:nvSpPr>
        <p:spPr>
          <a:xfrm>
            <a:off x="7010280" y="5867280"/>
            <a:ext cx="2133720" cy="990720"/>
          </a:xfrm>
          <a:custGeom>
            <a:avLst/>
            <a:gdLst>
              <a:gd name="textAreaLeft" fmla="*/ 64080 w 2133720"/>
              <a:gd name="textAreaRight" fmla="*/ 2069640 w 21337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6511" h="21600">
                <a:moveTo>
                  <a:pt x="0" y="0"/>
                </a:moveTo>
                <a:lnTo>
                  <a:pt x="46511" y="0"/>
                </a:lnTo>
                <a:lnTo>
                  <a:pt x="46511" y="21600"/>
                </a:lnTo>
                <a:lnTo>
                  <a:pt x="0" y="21600"/>
                </a:lnTo>
                <a:close/>
              </a:path>
              <a:path fill="lightenLess" w="46511" h="21600">
                <a:moveTo>
                  <a:pt x="0" y="0"/>
                </a:moveTo>
                <a:lnTo>
                  <a:pt x="46511" y="0"/>
                </a:lnTo>
                <a:lnTo>
                  <a:pt x="45111" y="1400"/>
                </a:lnTo>
                <a:lnTo>
                  <a:pt x="1400" y="1400"/>
                </a:lnTo>
                <a:close/>
              </a:path>
              <a:path fill="darken" w="46511" h="21600">
                <a:moveTo>
                  <a:pt x="46511" y="0"/>
                </a:moveTo>
                <a:lnTo>
                  <a:pt x="46511" y="21600"/>
                </a:lnTo>
                <a:lnTo>
                  <a:pt x="45111" y="20200"/>
                </a:lnTo>
                <a:lnTo>
                  <a:pt x="45111" y="1400"/>
                </a:lnTo>
                <a:close/>
              </a:path>
              <a:path fill="darkenLess" w="46511" h="21600">
                <a:moveTo>
                  <a:pt x="465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111" y="20200"/>
                </a:lnTo>
                <a:close/>
              </a:path>
              <a:path fill="lighten" w="465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511" h="21600">
                <a:moveTo>
                  <a:pt x="16249" y="10800"/>
                </a:moveTo>
                <a:lnTo>
                  <a:pt x="30262" y="3794"/>
                </a:lnTo>
                <a:lnTo>
                  <a:pt x="3026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瑞士03"/>
          <p:cNvPicPr/>
          <p:nvPr/>
        </p:nvPicPr>
        <p:blipFill>
          <a:blip r:embed="rId1"/>
          <a:stretch/>
        </p:blipFill>
        <p:spPr>
          <a:xfrm>
            <a:off x="1447920" y="1295280"/>
            <a:ext cx="6019560" cy="4496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20053251526370"/>
          <p:cNvPicPr/>
          <p:nvPr/>
        </p:nvPicPr>
        <p:blipFill>
          <a:blip r:embed="rId2"/>
          <a:stretch/>
        </p:blipFill>
        <p:spPr>
          <a:xfrm>
            <a:off x="1447920" y="1295280"/>
            <a:ext cx="6100560" cy="4577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20031119143145660"/>
          <p:cNvPicPr/>
          <p:nvPr/>
        </p:nvPicPr>
        <p:blipFill>
          <a:blip r:embed="rId3"/>
          <a:stretch/>
        </p:blipFill>
        <p:spPr>
          <a:xfrm>
            <a:off x="1447920" y="129528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20040323_downz_16"/>
          <p:cNvPicPr/>
          <p:nvPr/>
        </p:nvPicPr>
        <p:blipFill>
          <a:blip r:embed="rId4"/>
          <a:stretch/>
        </p:blipFill>
        <p:spPr>
          <a:xfrm>
            <a:off x="1447920" y="129528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20040323_downz_12"/>
          <p:cNvPicPr/>
          <p:nvPr/>
        </p:nvPicPr>
        <p:blipFill>
          <a:blip r:embed="rId5"/>
          <a:stretch/>
        </p:blipFill>
        <p:spPr>
          <a:xfrm>
            <a:off x="1447920" y="129528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ct"/>
          <p:cNvPicPr/>
          <p:nvPr/>
        </p:nvPicPr>
        <p:blipFill>
          <a:blip r:embed="rId6"/>
          <a:stretch/>
        </p:blipFill>
        <p:spPr>
          <a:xfrm>
            <a:off x="1447920" y="129528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2005022318453698c0b"/>
          <p:cNvPicPr/>
          <p:nvPr/>
        </p:nvPicPr>
        <p:blipFill>
          <a:blip r:embed="rId7"/>
          <a:stretch/>
        </p:blipFill>
        <p:spPr>
          <a:xfrm>
            <a:off x="1371600" y="1219320"/>
            <a:ext cx="6296040" cy="4814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2005611103338785"/>
          <p:cNvPicPr/>
          <p:nvPr/>
        </p:nvPicPr>
        <p:blipFill>
          <a:blip r:embed="rId8"/>
          <a:stretch/>
        </p:blipFill>
        <p:spPr>
          <a:xfrm>
            <a:off x="1371600" y="1219320"/>
            <a:ext cx="6400800" cy="4914720"/>
          </a:xfrm>
          <a:prstGeom prst="rect">
            <a:avLst/>
          </a:prstGeom>
          <a:ln w="0">
            <a:noFill/>
          </a:ln>
        </p:spPr>
      </p:pic>
      <p:pic>
        <p:nvPicPr>
          <p:cNvPr id="58" name="05牧场上的家.MP3" descr=""/>
          <p:cNvPicPr/>
          <p:nvPr/>
        </p:nvPicPr>
        <p:blipFill>
          <a:blip r:embed="rId9"/>
          <a:stretch/>
        </p:blipFill>
        <p:spPr>
          <a:xfrm>
            <a:off x="8459640" y="6173640"/>
            <a:ext cx="684360" cy="6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dur="indefinite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500"/>
                            </p:stCondLst>
                            <p:childTnLst>
                              <p:par>
                                <p:cTn id="17" dur="indefinite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dur="indefinite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" dur="indefinite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3000"/>
                            </p:stCondLst>
                            <p:childTnLst>
                              <p:par>
                                <p:cTn id="30" dur="indefinite" nodeType="afterEffect" fill="hold" presetClass="entr" presetID="2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5500"/>
                            </p:stCondLst>
                            <p:childTnLst>
                              <p:par>
                                <p:cTn id="35" dur="indefinite" nodeType="afterEffect" fill="hold" presetClass="entr" presetID="2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1219320" y="2971800"/>
            <a:ext cx="72388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1219320" y="4610160"/>
            <a:ext cx="72388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1219320" y="5105520"/>
            <a:ext cx="7391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838080" y="1295280"/>
            <a:ext cx="7620120" cy="48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事情是这样的：这年春天，成千上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只燕子从南方飞回北方时，在瑞士境内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到了麻烦。当地气温骤降，风雪不止，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乎所有昆虫都被冻死了。燕子经过长途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涉，已经非常疲劳，再加上找不到食物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饥寒交迫，濒临死亡。瑞士政府知道了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情况，决定用火车把这些燕子送到温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地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7"/>
          <p:cNvSpPr/>
          <p:nvPr/>
        </p:nvSpPr>
        <p:spPr>
          <a:xfrm>
            <a:off x="609480" y="426708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8"/>
          <p:cNvSpPr/>
          <p:nvPr/>
        </p:nvSpPr>
        <p:spPr>
          <a:xfrm>
            <a:off x="2438280" y="4952880"/>
            <a:ext cx="1676520" cy="457200"/>
          </a:xfrm>
          <a:custGeom>
            <a:avLst/>
            <a:gdLst>
              <a:gd name="textAreaLeft" fmla="*/ 29520 w 1676520"/>
              <a:gd name="textAreaRight" fmla="*/ 1647000 w 1676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9160" h="21600">
                <a:moveTo>
                  <a:pt x="0" y="0"/>
                </a:moveTo>
                <a:lnTo>
                  <a:pt x="79160" y="0"/>
                </a:lnTo>
                <a:lnTo>
                  <a:pt x="79160" y="21600"/>
                </a:lnTo>
                <a:lnTo>
                  <a:pt x="0" y="21600"/>
                </a:lnTo>
                <a:close/>
              </a:path>
              <a:path fill="lightenLess" w="79160" h="21600">
                <a:moveTo>
                  <a:pt x="0" y="0"/>
                </a:moveTo>
                <a:lnTo>
                  <a:pt x="79160" y="0"/>
                </a:lnTo>
                <a:lnTo>
                  <a:pt x="77760" y="1400"/>
                </a:lnTo>
                <a:lnTo>
                  <a:pt x="1400" y="1400"/>
                </a:lnTo>
                <a:close/>
              </a:path>
              <a:path fill="darken" w="79160" h="21600">
                <a:moveTo>
                  <a:pt x="79160" y="0"/>
                </a:moveTo>
                <a:lnTo>
                  <a:pt x="79160" y="21600"/>
                </a:lnTo>
                <a:lnTo>
                  <a:pt x="77760" y="20200"/>
                </a:lnTo>
                <a:lnTo>
                  <a:pt x="77760" y="1400"/>
                </a:lnTo>
                <a:close/>
              </a:path>
              <a:path fill="darkenLess" w="79160" h="21600">
                <a:moveTo>
                  <a:pt x="791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60" y="20200"/>
                </a:lnTo>
                <a:close/>
              </a:path>
              <a:path fill="lighten" w="791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9"/>
          <p:cNvSpPr/>
          <p:nvPr/>
        </p:nvSpPr>
        <p:spPr>
          <a:xfrm>
            <a:off x="2895480" y="2895480"/>
            <a:ext cx="1752840" cy="457200"/>
          </a:xfrm>
          <a:custGeom>
            <a:avLst/>
            <a:gdLst>
              <a:gd name="textAreaLeft" fmla="*/ 29520 w 1752840"/>
              <a:gd name="textAreaRight" fmla="*/ 1723320 w 1752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81363" y="1400"/>
                </a:lnTo>
                <a:lnTo>
                  <a:pt x="1400" y="140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81363" y="20200"/>
                </a:lnTo>
                <a:lnTo>
                  <a:pt x="81363" y="140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63" y="2020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0"/>
          <p:cNvSpPr/>
          <p:nvPr/>
        </p:nvSpPr>
        <p:spPr>
          <a:xfrm>
            <a:off x="4648320" y="4952880"/>
            <a:ext cx="1904760" cy="457200"/>
          </a:xfrm>
          <a:custGeom>
            <a:avLst/>
            <a:gdLst>
              <a:gd name="textAreaLeft" fmla="*/ 29520 w 1904760"/>
              <a:gd name="textAreaRight" fmla="*/ 1875240 w 19047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9935" h="21600">
                <a:moveTo>
                  <a:pt x="0" y="0"/>
                </a:moveTo>
                <a:lnTo>
                  <a:pt x="89935" y="0"/>
                </a:lnTo>
                <a:lnTo>
                  <a:pt x="89935" y="21600"/>
                </a:lnTo>
                <a:lnTo>
                  <a:pt x="0" y="21600"/>
                </a:lnTo>
                <a:close/>
              </a:path>
              <a:path fill="lightenLess" w="89935" h="21600">
                <a:moveTo>
                  <a:pt x="0" y="0"/>
                </a:moveTo>
                <a:lnTo>
                  <a:pt x="89935" y="0"/>
                </a:lnTo>
                <a:lnTo>
                  <a:pt x="88535" y="1400"/>
                </a:lnTo>
                <a:lnTo>
                  <a:pt x="1400" y="1400"/>
                </a:lnTo>
                <a:close/>
              </a:path>
              <a:path fill="darken" w="89935" h="21600">
                <a:moveTo>
                  <a:pt x="89935" y="0"/>
                </a:moveTo>
                <a:lnTo>
                  <a:pt x="89935" y="21600"/>
                </a:lnTo>
                <a:lnTo>
                  <a:pt x="88535" y="20200"/>
                </a:lnTo>
                <a:lnTo>
                  <a:pt x="88535" y="1400"/>
                </a:lnTo>
                <a:close/>
              </a:path>
              <a:path fill="darkenLess" w="89935" h="21600">
                <a:moveTo>
                  <a:pt x="89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535" y="20200"/>
                </a:lnTo>
                <a:close/>
              </a:path>
              <a:path fill="lighten" w="89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1"/>
          <p:cNvSpPr/>
          <p:nvPr/>
        </p:nvSpPr>
        <p:spPr>
          <a:xfrm>
            <a:off x="990720" y="3733920"/>
            <a:ext cx="3240000" cy="16570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饥寒交迫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2">
            <a:hlinkClick r:id="rId1" action="ppaction://hlinksldjump"/>
          </p:cNvPr>
          <p:cNvSpPr/>
          <p:nvPr/>
        </p:nvSpPr>
        <p:spPr>
          <a:xfrm>
            <a:off x="7010280" y="5867280"/>
            <a:ext cx="2133720" cy="990720"/>
          </a:xfrm>
          <a:custGeom>
            <a:avLst/>
            <a:gdLst>
              <a:gd name="textAreaLeft" fmla="*/ 64080 w 2133720"/>
              <a:gd name="textAreaRight" fmla="*/ 2069640 w 21337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6511" h="21600">
                <a:moveTo>
                  <a:pt x="0" y="0"/>
                </a:moveTo>
                <a:lnTo>
                  <a:pt x="46511" y="0"/>
                </a:lnTo>
                <a:lnTo>
                  <a:pt x="46511" y="21600"/>
                </a:lnTo>
                <a:lnTo>
                  <a:pt x="0" y="21600"/>
                </a:lnTo>
                <a:close/>
              </a:path>
              <a:path fill="lightenLess" w="46511" h="21600">
                <a:moveTo>
                  <a:pt x="0" y="0"/>
                </a:moveTo>
                <a:lnTo>
                  <a:pt x="46511" y="0"/>
                </a:lnTo>
                <a:lnTo>
                  <a:pt x="45111" y="1400"/>
                </a:lnTo>
                <a:lnTo>
                  <a:pt x="1400" y="1400"/>
                </a:lnTo>
                <a:close/>
              </a:path>
              <a:path fill="darken" w="46511" h="21600">
                <a:moveTo>
                  <a:pt x="46511" y="0"/>
                </a:moveTo>
                <a:lnTo>
                  <a:pt x="46511" y="21600"/>
                </a:lnTo>
                <a:lnTo>
                  <a:pt x="45111" y="20200"/>
                </a:lnTo>
                <a:lnTo>
                  <a:pt x="45111" y="1400"/>
                </a:lnTo>
                <a:close/>
              </a:path>
              <a:path fill="darkenLess" w="46511" h="21600">
                <a:moveTo>
                  <a:pt x="465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111" y="20200"/>
                </a:lnTo>
                <a:close/>
              </a:path>
              <a:path fill="lighten" w="465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511" h="21600">
                <a:moveTo>
                  <a:pt x="16249" y="10800"/>
                </a:moveTo>
                <a:lnTo>
                  <a:pt x="30262" y="3794"/>
                </a:lnTo>
                <a:lnTo>
                  <a:pt x="3026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1219320" y="2971800"/>
            <a:ext cx="72388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1219320" y="4610160"/>
            <a:ext cx="72388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1219320" y="5105520"/>
            <a:ext cx="7391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838080" y="1295280"/>
            <a:ext cx="7620120" cy="48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事情是这样的：这年春天，成千上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只燕子从南方飞回北方时，在瑞士境内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到了麻烦。当地气温骤降，风雪不止，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乎所有昆虫都被冻死了。燕子经过长途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涉，已经非常疲劳，再加上找不到食物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饥寒交迫，濒临死亡。瑞士政府知道了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情况，决定用火车把这些燕子送到温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地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7"/>
          <p:cNvSpPr/>
          <p:nvPr/>
        </p:nvSpPr>
        <p:spPr>
          <a:xfrm>
            <a:off x="609480" y="426708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8"/>
          <p:cNvSpPr/>
          <p:nvPr/>
        </p:nvSpPr>
        <p:spPr>
          <a:xfrm>
            <a:off x="2438280" y="4952880"/>
            <a:ext cx="1676520" cy="457200"/>
          </a:xfrm>
          <a:custGeom>
            <a:avLst/>
            <a:gdLst>
              <a:gd name="textAreaLeft" fmla="*/ 29520 w 1676520"/>
              <a:gd name="textAreaRight" fmla="*/ 1647000 w 1676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9160" h="21600">
                <a:moveTo>
                  <a:pt x="0" y="0"/>
                </a:moveTo>
                <a:lnTo>
                  <a:pt x="79160" y="0"/>
                </a:lnTo>
                <a:lnTo>
                  <a:pt x="79160" y="21600"/>
                </a:lnTo>
                <a:lnTo>
                  <a:pt x="0" y="21600"/>
                </a:lnTo>
                <a:close/>
              </a:path>
              <a:path fill="lightenLess" w="79160" h="21600">
                <a:moveTo>
                  <a:pt x="0" y="0"/>
                </a:moveTo>
                <a:lnTo>
                  <a:pt x="79160" y="0"/>
                </a:lnTo>
                <a:lnTo>
                  <a:pt x="77760" y="1400"/>
                </a:lnTo>
                <a:lnTo>
                  <a:pt x="1400" y="1400"/>
                </a:lnTo>
                <a:close/>
              </a:path>
              <a:path fill="darken" w="79160" h="21600">
                <a:moveTo>
                  <a:pt x="79160" y="0"/>
                </a:moveTo>
                <a:lnTo>
                  <a:pt x="79160" y="21600"/>
                </a:lnTo>
                <a:lnTo>
                  <a:pt x="77760" y="20200"/>
                </a:lnTo>
                <a:lnTo>
                  <a:pt x="77760" y="1400"/>
                </a:lnTo>
                <a:close/>
              </a:path>
              <a:path fill="darkenLess" w="79160" h="21600">
                <a:moveTo>
                  <a:pt x="791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60" y="20200"/>
                </a:lnTo>
                <a:close/>
              </a:path>
              <a:path fill="lighten" w="791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9"/>
          <p:cNvSpPr/>
          <p:nvPr/>
        </p:nvSpPr>
        <p:spPr>
          <a:xfrm>
            <a:off x="2895480" y="2895480"/>
            <a:ext cx="1752840" cy="457200"/>
          </a:xfrm>
          <a:custGeom>
            <a:avLst/>
            <a:gdLst>
              <a:gd name="textAreaLeft" fmla="*/ 29520 w 1752840"/>
              <a:gd name="textAreaRight" fmla="*/ 1723320 w 1752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81363" y="1400"/>
                </a:lnTo>
                <a:lnTo>
                  <a:pt x="1400" y="140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81363" y="20200"/>
                </a:lnTo>
                <a:lnTo>
                  <a:pt x="81363" y="140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63" y="2020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0"/>
          <p:cNvSpPr/>
          <p:nvPr/>
        </p:nvSpPr>
        <p:spPr>
          <a:xfrm>
            <a:off x="4648320" y="4952880"/>
            <a:ext cx="1904760" cy="457200"/>
          </a:xfrm>
          <a:custGeom>
            <a:avLst/>
            <a:gdLst>
              <a:gd name="textAreaLeft" fmla="*/ 29520 w 1904760"/>
              <a:gd name="textAreaRight" fmla="*/ 1875240 w 19047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9935" h="21600">
                <a:moveTo>
                  <a:pt x="0" y="0"/>
                </a:moveTo>
                <a:lnTo>
                  <a:pt x="89935" y="0"/>
                </a:lnTo>
                <a:lnTo>
                  <a:pt x="89935" y="21600"/>
                </a:lnTo>
                <a:lnTo>
                  <a:pt x="0" y="21600"/>
                </a:lnTo>
                <a:close/>
              </a:path>
              <a:path fill="lightenLess" w="89935" h="21600">
                <a:moveTo>
                  <a:pt x="0" y="0"/>
                </a:moveTo>
                <a:lnTo>
                  <a:pt x="89935" y="0"/>
                </a:lnTo>
                <a:lnTo>
                  <a:pt x="88535" y="1400"/>
                </a:lnTo>
                <a:lnTo>
                  <a:pt x="1400" y="1400"/>
                </a:lnTo>
                <a:close/>
              </a:path>
              <a:path fill="darken" w="89935" h="21600">
                <a:moveTo>
                  <a:pt x="89935" y="0"/>
                </a:moveTo>
                <a:lnTo>
                  <a:pt x="89935" y="21600"/>
                </a:lnTo>
                <a:lnTo>
                  <a:pt x="88535" y="20200"/>
                </a:lnTo>
                <a:lnTo>
                  <a:pt x="88535" y="1400"/>
                </a:lnTo>
                <a:close/>
              </a:path>
              <a:path fill="darkenLess" w="89935" h="21600">
                <a:moveTo>
                  <a:pt x="89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535" y="20200"/>
                </a:lnTo>
                <a:close/>
              </a:path>
              <a:path fill="lighten" w="89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2895480" y="3733920"/>
            <a:ext cx="3240360" cy="16570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濒临死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2">
            <a:hlinkClick r:id="rId1" action="ppaction://hlinksldjump"/>
          </p:cNvPr>
          <p:cNvSpPr/>
          <p:nvPr/>
        </p:nvSpPr>
        <p:spPr>
          <a:xfrm>
            <a:off x="7010280" y="5867280"/>
            <a:ext cx="2133720" cy="990720"/>
          </a:xfrm>
          <a:custGeom>
            <a:avLst/>
            <a:gdLst>
              <a:gd name="textAreaLeft" fmla="*/ 64080 w 2133720"/>
              <a:gd name="textAreaRight" fmla="*/ 2069640 w 21337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6511" h="21600">
                <a:moveTo>
                  <a:pt x="0" y="0"/>
                </a:moveTo>
                <a:lnTo>
                  <a:pt x="46511" y="0"/>
                </a:lnTo>
                <a:lnTo>
                  <a:pt x="46511" y="21600"/>
                </a:lnTo>
                <a:lnTo>
                  <a:pt x="0" y="21600"/>
                </a:lnTo>
                <a:close/>
              </a:path>
              <a:path fill="lightenLess" w="46511" h="21600">
                <a:moveTo>
                  <a:pt x="0" y="0"/>
                </a:moveTo>
                <a:lnTo>
                  <a:pt x="46511" y="0"/>
                </a:lnTo>
                <a:lnTo>
                  <a:pt x="45111" y="1400"/>
                </a:lnTo>
                <a:lnTo>
                  <a:pt x="1400" y="1400"/>
                </a:lnTo>
                <a:close/>
              </a:path>
              <a:path fill="darken" w="46511" h="21600">
                <a:moveTo>
                  <a:pt x="46511" y="0"/>
                </a:moveTo>
                <a:lnTo>
                  <a:pt x="46511" y="21600"/>
                </a:lnTo>
                <a:lnTo>
                  <a:pt x="45111" y="20200"/>
                </a:lnTo>
                <a:lnTo>
                  <a:pt x="45111" y="1400"/>
                </a:lnTo>
                <a:close/>
              </a:path>
              <a:path fill="darkenLess" w="46511" h="21600">
                <a:moveTo>
                  <a:pt x="465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111" y="20200"/>
                </a:lnTo>
                <a:close/>
              </a:path>
              <a:path fill="lighten" w="465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511" h="21600">
                <a:moveTo>
                  <a:pt x="16249" y="10800"/>
                </a:moveTo>
                <a:lnTo>
                  <a:pt x="30262" y="3794"/>
                </a:lnTo>
                <a:lnTo>
                  <a:pt x="3026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1219320" y="2971800"/>
            <a:ext cx="72388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1219320" y="4610160"/>
            <a:ext cx="72388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1219320" y="5105520"/>
            <a:ext cx="7391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838080" y="1563840"/>
            <a:ext cx="762012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年春天，成千上万只燕子从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方飞回北方时，在瑞士境内遇到了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烦。当地气温骤降，风雪不止，几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所有昆虫都被冻死了。燕子经过长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跋涉，已经非常疲劳，再加上找不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食物，饥寒交迫，濒临死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31" descr="xin_a19260ebec4d4890afab41b82f0bdf25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27"/>
          <p:cNvSpPr/>
          <p:nvPr/>
        </p:nvSpPr>
        <p:spPr>
          <a:xfrm>
            <a:off x="34920" y="4428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Arial"/>
                <a:ea typeface="华文新魏"/>
              </a:rPr>
              <a:t>精读课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8"/>
          <p:cNvSpPr/>
          <p:nvPr/>
        </p:nvSpPr>
        <p:spPr>
          <a:xfrm>
            <a:off x="539640" y="1125360"/>
            <a:ext cx="806472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cc6600"/>
                </a:solidFill>
                <a:latin typeface="华文新魏"/>
                <a:ea typeface="华文新魏"/>
              </a:rPr>
              <a:t>2.</a:t>
            </a:r>
            <a:r>
              <a:rPr b="1" lang="zh-CN" sz="3600" spc="-1" strike="noStrike">
                <a:solidFill>
                  <a:srgbClr val="cc6600"/>
                </a:solidFill>
                <a:latin typeface="华文新魏"/>
                <a:ea typeface="华文新魏"/>
              </a:rPr>
              <a:t>感悟政府决策的伟大</a:t>
            </a:r>
            <a:br>
              <a:rPr sz="3600"/>
            </a:br>
            <a:r>
              <a:rPr b="1" lang="zh-CN" sz="3600" spc="-1" strike="noStrike">
                <a:solidFill>
                  <a:srgbClr val="cc6600"/>
                </a:solidFill>
                <a:latin typeface="华文新魏"/>
                <a:ea typeface="华文新魏"/>
              </a:rPr>
              <a:t>　　正当这些燕子处于生死存亡的关键时刻，瑞士政府做出了怎样的决策</a:t>
            </a:r>
            <a:r>
              <a:rPr b="1" lang="en-US" sz="3600" spc="-1" strike="noStrike">
                <a:solidFill>
                  <a:srgbClr val="cc6600"/>
                </a:solidFill>
                <a:latin typeface="华文新魏"/>
                <a:ea typeface="华文新魏"/>
              </a:rPr>
              <a:t>?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（想一想，一群遇难的燕子与一个国家的其他大事比较，实在是太微不足道了。但政府却决定用专列送燕子回温暖的地方，真是了不起的举动。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8" descr="200411091735347776"/>
          <p:cNvPicPr/>
          <p:nvPr/>
        </p:nvPicPr>
        <p:blipFill>
          <a:blip r:embed="rId1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"/>
          <p:cNvSpPr/>
          <p:nvPr/>
        </p:nvSpPr>
        <p:spPr>
          <a:xfrm>
            <a:off x="108000" y="-31680"/>
            <a:ext cx="885672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华文新魏"/>
                <a:ea typeface="华文新魏"/>
              </a:rPr>
              <a:t>3.</a:t>
            </a:r>
            <a:r>
              <a:rPr b="1" lang="zh-CN" sz="3600" spc="-1" strike="noStrike">
                <a:solidFill>
                  <a:srgbClr val="cc6600"/>
                </a:solidFill>
                <a:latin typeface="华文新魏"/>
                <a:ea typeface="华文新魏"/>
              </a:rPr>
              <a:t>感悟居民奉献的爱心</a:t>
            </a:r>
            <a:br>
              <a:rPr sz="3600"/>
            </a:br>
            <a:r>
              <a:rPr b="1" lang="zh-CN" sz="3600" spc="-1" strike="noStrike">
                <a:solidFill>
                  <a:srgbClr val="cc6600"/>
                </a:solidFill>
                <a:latin typeface="华文新魏"/>
                <a:ea typeface="华文新魏"/>
              </a:rPr>
              <a:t>　居民知道了这个消息以后，表现怎样</a:t>
            </a:r>
            <a:r>
              <a:rPr b="1" lang="en-US" sz="3600" spc="-1" strike="noStrike">
                <a:solidFill>
                  <a:srgbClr val="cc6600"/>
                </a:solidFill>
                <a:latin typeface="华文新魏"/>
                <a:ea typeface="华文新魏"/>
              </a:rPr>
              <a:t>?</a:t>
            </a:r>
            <a:br>
              <a:rPr sz="3600"/>
            </a:br>
            <a:r>
              <a:rPr b="1" lang="en-US" sz="3600" spc="-1" strike="noStrike">
                <a:solidFill>
                  <a:srgbClr val="0066ff"/>
                </a:solidFill>
                <a:latin typeface="华文新魏"/>
                <a:ea typeface="华文新魏"/>
              </a:rPr>
              <a:t>(l) </a:t>
            </a:r>
            <a:r>
              <a:rPr b="1" lang="zh-CN" sz="3600" spc="-1" strike="noStrike">
                <a:solidFill>
                  <a:srgbClr val="0066ff"/>
                </a:solidFill>
                <a:latin typeface="华文新魏"/>
                <a:ea typeface="华文新魏"/>
              </a:rPr>
              <a:t>按照课文补充句子</a:t>
            </a:r>
            <a:r>
              <a:rPr b="1" lang="en-US" sz="3600" spc="-1" strike="noStrike">
                <a:solidFill>
                  <a:srgbClr val="0066ff"/>
                </a:solidFill>
                <a:latin typeface="华文新魏"/>
                <a:ea typeface="华文新魏"/>
              </a:rPr>
              <a:t>:</a:t>
            </a:r>
            <a:r>
              <a:rPr b="1" lang="zh-CN" sz="3200" spc="-1" strike="noStrike">
                <a:solidFill>
                  <a:srgbClr val="009999"/>
                </a:solidFill>
                <a:latin typeface="华文新魏"/>
                <a:ea typeface="华文新魏"/>
              </a:rPr>
              <a:t>听到消息以后，居民们</a:t>
            </a:r>
            <a:r>
              <a:rPr b="1" lang="en-US" sz="3200" spc="-1" strike="noStrike">
                <a:solidFill>
                  <a:srgbClr val="009999"/>
                </a:solidFill>
                <a:latin typeface="华文新魏"/>
                <a:ea typeface="华文新魏"/>
              </a:rPr>
              <a:t>_____</a:t>
            </a:r>
            <a:r>
              <a:rPr b="1" lang="zh-CN" sz="3200" spc="-1" strike="noStrike">
                <a:solidFill>
                  <a:srgbClr val="009999"/>
                </a:solidFill>
                <a:latin typeface="华文新魏"/>
                <a:ea typeface="华文新魏"/>
              </a:rPr>
              <a:t>走出家门，冒着</a:t>
            </a:r>
            <a:r>
              <a:rPr b="1" lang="en-US" sz="3200" spc="-1" strike="noStrike">
                <a:solidFill>
                  <a:srgbClr val="009999"/>
                </a:solidFill>
                <a:latin typeface="华文新魏"/>
                <a:ea typeface="华文新魏"/>
              </a:rPr>
              <a:t>_______</a:t>
            </a:r>
            <a:r>
              <a:rPr b="1" lang="zh-CN" sz="3200" spc="-1" strike="noStrike">
                <a:solidFill>
                  <a:srgbClr val="009999"/>
                </a:solidFill>
                <a:latin typeface="华文新魏"/>
                <a:ea typeface="华文新魏"/>
              </a:rPr>
              <a:t>的春寒，顶着</a:t>
            </a:r>
            <a:r>
              <a:rPr b="1" lang="en-US" sz="3200" spc="-1" strike="noStrike">
                <a:solidFill>
                  <a:srgbClr val="009999"/>
                </a:solidFill>
                <a:latin typeface="华文新魏"/>
                <a:ea typeface="华文新魏"/>
              </a:rPr>
              <a:t>_______</a:t>
            </a:r>
            <a:r>
              <a:rPr b="1" lang="zh-CN" sz="3200" spc="-1" strike="noStrike">
                <a:solidFill>
                  <a:srgbClr val="009999"/>
                </a:solidFill>
                <a:latin typeface="华文新魏"/>
                <a:ea typeface="华文新魏"/>
              </a:rPr>
              <a:t>的大雪，踏着冻得坚硬的山路，</a:t>
            </a:r>
            <a:r>
              <a:rPr b="1" lang="en-US" sz="3200" spc="-1" strike="noStrike">
                <a:solidFill>
                  <a:srgbClr val="009999"/>
                </a:solidFill>
                <a:latin typeface="华文新魏"/>
                <a:ea typeface="华文新魏"/>
              </a:rPr>
              <a:t>_______</a:t>
            </a:r>
            <a:r>
              <a:rPr b="1" lang="zh-CN" sz="3200" spc="-1" strike="noStrike">
                <a:solidFill>
                  <a:srgbClr val="009999"/>
                </a:solidFill>
                <a:latin typeface="华文新魏"/>
                <a:ea typeface="华文新魏"/>
              </a:rPr>
              <a:t>寻找冻僵的燕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华文新魏"/>
                <a:ea typeface="华文新魏"/>
              </a:rPr>
              <a:t>(2)</a:t>
            </a:r>
            <a:r>
              <a:rPr b="1" lang="zh-CN" sz="3600" spc="-1" strike="noStrike">
                <a:solidFill>
                  <a:srgbClr val="0066ff"/>
                </a:solidFill>
                <a:latin typeface="华文新魏"/>
                <a:ea typeface="华文新魏"/>
              </a:rPr>
              <a:t>想想从横线上的词语读懂了什么？</a:t>
            </a:r>
            <a:br>
              <a:rPr sz="3600"/>
            </a:br>
            <a:r>
              <a:rPr b="1" lang="zh-CN" sz="3200" spc="-1" strike="noStrike">
                <a:solidFill>
                  <a:srgbClr val="333399"/>
                </a:solidFill>
                <a:latin typeface="华文新魏"/>
                <a:ea typeface="华文新魏"/>
              </a:rPr>
              <a:t>　　</a:t>
            </a:r>
            <a:r>
              <a:rPr b="1" lang="zh-CN" sz="3200" spc="-1" strike="noStrike">
                <a:solidFill>
                  <a:srgbClr val="009999"/>
                </a:solidFill>
                <a:latin typeface="华文新魏"/>
                <a:ea typeface="华文新魏"/>
              </a:rPr>
              <a:t>（透过</a:t>
            </a:r>
            <a:r>
              <a:rPr b="1" lang="zh-CN" sz="3200" spc="-1" strike="noStrike">
                <a:solidFill>
                  <a:srgbClr val="009999"/>
                </a:solidFill>
                <a:latin typeface="华文中宋"/>
                <a:ea typeface="华文新魏"/>
              </a:rPr>
              <a:t>“</a:t>
            </a:r>
            <a:r>
              <a:rPr b="1" lang="zh-CN" sz="3200" spc="-1" strike="noStrike">
                <a:solidFill>
                  <a:srgbClr val="009999"/>
                </a:solidFill>
                <a:latin typeface="华文新魏"/>
                <a:ea typeface="华文新魏"/>
              </a:rPr>
              <a:t>纷纷</a:t>
            </a:r>
            <a:r>
              <a:rPr b="1" lang="zh-CN" sz="3200" spc="-1" strike="noStrike">
                <a:solidFill>
                  <a:srgbClr val="009999"/>
                </a:solidFill>
                <a:latin typeface="华文中宋"/>
                <a:ea typeface="华文新魏"/>
              </a:rPr>
              <a:t>”“</a:t>
            </a:r>
            <a:r>
              <a:rPr b="1" lang="zh-CN" sz="3200" spc="-1" strike="noStrike">
                <a:solidFill>
                  <a:srgbClr val="009999"/>
                </a:solidFill>
                <a:latin typeface="华文新魏"/>
                <a:ea typeface="华文新魏"/>
              </a:rPr>
              <a:t>满天飞舞</a:t>
            </a:r>
            <a:r>
              <a:rPr b="1" lang="zh-CN" sz="3200" spc="-1" strike="noStrike">
                <a:solidFill>
                  <a:srgbClr val="009999"/>
                </a:solidFill>
                <a:latin typeface="华文中宋"/>
                <a:ea typeface="华文新魏"/>
              </a:rPr>
              <a:t>”“</a:t>
            </a:r>
            <a:r>
              <a:rPr b="1" lang="zh-CN" sz="3200" spc="-1" strike="noStrike">
                <a:solidFill>
                  <a:srgbClr val="009999"/>
                </a:solidFill>
                <a:latin typeface="华文新魏"/>
                <a:ea typeface="华文新魏"/>
              </a:rPr>
              <a:t>四处</a:t>
            </a:r>
            <a:r>
              <a:rPr b="1" lang="zh-CN" sz="3200" spc="-1" strike="noStrike">
                <a:solidFill>
                  <a:srgbClr val="009999"/>
                </a:solidFill>
                <a:latin typeface="华文中宋"/>
                <a:ea typeface="华文新魏"/>
              </a:rPr>
              <a:t>”</a:t>
            </a:r>
            <a:r>
              <a:rPr b="1" lang="zh-CN" sz="3200" spc="-1" strike="noStrike">
                <a:solidFill>
                  <a:srgbClr val="009999"/>
                </a:solidFill>
                <a:latin typeface="华文新魏"/>
                <a:ea typeface="华文新魏"/>
              </a:rPr>
              <a:t>等词语，体会人们得知燕子的危险情况后的焦急心情和不畏严寒、不辞辛苦拯救燕子的博大爱心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华文新魏"/>
                <a:ea typeface="华文新魏"/>
              </a:rPr>
              <a:t>(3)</a:t>
            </a:r>
            <a:r>
              <a:rPr b="1" lang="zh-CN" sz="3600" spc="-1" strike="noStrike">
                <a:solidFill>
                  <a:srgbClr val="0066ff"/>
                </a:solidFill>
                <a:latin typeface="华文新魏"/>
                <a:ea typeface="华文新魏"/>
              </a:rPr>
              <a:t>读句子，想象成百上千的居民丢焦急而又耐心地四处寻找燕子的感人三场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1332000" y="1268280"/>
            <a:ext cx="734544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隶书"/>
              </a:rPr>
              <a:t>        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听到消息后，居民们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走出家门，   料峭的春寒，   满天飞舞的大雪，                                             冻得坚硬的山路，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寻找冻僵的燕子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648800" y="19875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Arial"/>
                <a:ea typeface="隶书"/>
              </a:rPr>
              <a:t>纷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139760" y="4148280"/>
            <a:ext cx="1722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Arial"/>
                <a:ea typeface="隶书"/>
              </a:rPr>
              <a:t>四处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5538240" y="19875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Arial"/>
                <a:ea typeface="隶书"/>
              </a:rPr>
              <a:t>冒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2992320" y="270828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Arial"/>
                <a:ea typeface="隶书"/>
              </a:rPr>
              <a:t>顶着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219240" y="3429000"/>
            <a:ext cx="140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Arial"/>
                <a:ea typeface="隶书"/>
              </a:rPr>
              <a:t>踏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1"/>
          <p:cNvSpPr/>
          <p:nvPr/>
        </p:nvSpPr>
        <p:spPr>
          <a:xfrm>
            <a:off x="992160" y="5835600"/>
            <a:ext cx="528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237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242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247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252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257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3"/>
          <p:cNvSpPr/>
          <p:nvPr/>
        </p:nvSpPr>
        <p:spPr>
          <a:xfrm>
            <a:off x="1887480" y="408312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1476360" y="2276640"/>
            <a:ext cx="201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66960" y="0"/>
            <a:ext cx="484128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一个叫贝蒂的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姑娘，听到广播后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和爸爸妈妈一起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在覆盖着皑皑白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的山间岩缝里，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找冻僵的檐子。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天下来，她一个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就救护了十几只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子。她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但她一点也           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2556000" y="6040440"/>
            <a:ext cx="170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不在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179280" y="4869000"/>
            <a:ext cx="4248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隶书"/>
              </a:rPr>
              <a:t>            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  <a:ea typeface="隶书"/>
              </a:rPr>
              <a:t>脸冻得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  <a:ea typeface="隶书"/>
              </a:rPr>
              <a:t>红，手冻得僵硬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263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268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E7B98-D459-4728-BD8E-9EDBFB48D6F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空调列车光"/>
          <p:cNvPicPr/>
          <p:nvPr/>
        </p:nvPicPr>
        <p:blipFill>
          <a:blip r:embed="rId1"/>
          <a:stretch/>
        </p:blipFill>
        <p:spPr>
          <a:xfrm>
            <a:off x="1258920" y="1773360"/>
            <a:ext cx="727380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1027"/>
          <p:cNvSpPr/>
          <p:nvPr/>
        </p:nvSpPr>
        <p:spPr>
          <a:xfrm>
            <a:off x="826920" y="4114800"/>
            <a:ext cx="7925040" cy="15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一年春天，在欧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ōu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洲（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hōu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瑞（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  士的一个车站，一列漂亮舒适的空调列  车正准备启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程，站台上站满了送行的人。他们送的是一批特殊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的客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燕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029">
            <a:hlinkClick r:id="rId1" action="ppaction://hlinksldjump"/>
          </p:cNvPr>
          <p:cNvSpPr/>
          <p:nvPr/>
        </p:nvSpPr>
        <p:spPr>
          <a:xfrm>
            <a:off x="7010280" y="5867280"/>
            <a:ext cx="2362320" cy="990720"/>
          </a:xfrm>
          <a:custGeom>
            <a:avLst/>
            <a:gdLst>
              <a:gd name="textAreaLeft" fmla="*/ 64080 w 2362320"/>
              <a:gd name="textAreaRight" fmla="*/ 2298240 w 23623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51493" h="21600">
                <a:moveTo>
                  <a:pt x="0" y="0"/>
                </a:moveTo>
                <a:lnTo>
                  <a:pt x="51493" y="0"/>
                </a:lnTo>
                <a:lnTo>
                  <a:pt x="51493" y="21600"/>
                </a:lnTo>
                <a:lnTo>
                  <a:pt x="0" y="21600"/>
                </a:lnTo>
                <a:close/>
              </a:path>
              <a:path fill="lightenLess" w="51493" h="21600">
                <a:moveTo>
                  <a:pt x="0" y="0"/>
                </a:moveTo>
                <a:lnTo>
                  <a:pt x="51493" y="0"/>
                </a:lnTo>
                <a:lnTo>
                  <a:pt x="50093" y="1400"/>
                </a:lnTo>
                <a:lnTo>
                  <a:pt x="1400" y="1400"/>
                </a:lnTo>
                <a:close/>
              </a:path>
              <a:path fill="darken" w="51493" h="21600">
                <a:moveTo>
                  <a:pt x="51493" y="0"/>
                </a:moveTo>
                <a:lnTo>
                  <a:pt x="51493" y="21600"/>
                </a:lnTo>
                <a:lnTo>
                  <a:pt x="50093" y="20200"/>
                </a:lnTo>
                <a:lnTo>
                  <a:pt x="50093" y="1400"/>
                </a:lnTo>
                <a:close/>
              </a:path>
              <a:path fill="darkenLess" w="51493" h="21600">
                <a:moveTo>
                  <a:pt x="514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093" y="20200"/>
                </a:lnTo>
                <a:close/>
              </a:path>
              <a:path fill="lighten" w="514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493" h="21600">
                <a:moveTo>
                  <a:pt x="18740" y="10800"/>
                </a:moveTo>
                <a:lnTo>
                  <a:pt x="32753" y="3794"/>
                </a:lnTo>
                <a:lnTo>
                  <a:pt x="3275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030">
            <a:hlinkClick r:id="" action="ppaction://hlinkshowjump?jump=nextslide"/>
          </p:cNvPr>
          <p:cNvSpPr/>
          <p:nvPr/>
        </p:nvSpPr>
        <p:spPr>
          <a:xfrm>
            <a:off x="4495680" y="4114800"/>
            <a:ext cx="3505320" cy="457200"/>
          </a:xfrm>
          <a:custGeom>
            <a:avLst/>
            <a:gdLst>
              <a:gd name="textAreaLeft" fmla="*/ 29520 w 3505320"/>
              <a:gd name="textAreaRight" fmla="*/ 3475800 w 35053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65492" h="21600">
                <a:moveTo>
                  <a:pt x="0" y="0"/>
                </a:moveTo>
                <a:lnTo>
                  <a:pt x="165492" y="0"/>
                </a:lnTo>
                <a:lnTo>
                  <a:pt x="165492" y="21600"/>
                </a:lnTo>
                <a:lnTo>
                  <a:pt x="0" y="21600"/>
                </a:lnTo>
                <a:close/>
              </a:path>
              <a:path fill="lightenLess" w="165492" h="21600">
                <a:moveTo>
                  <a:pt x="0" y="0"/>
                </a:moveTo>
                <a:lnTo>
                  <a:pt x="165492" y="0"/>
                </a:lnTo>
                <a:lnTo>
                  <a:pt x="164092" y="1400"/>
                </a:lnTo>
                <a:lnTo>
                  <a:pt x="1400" y="1400"/>
                </a:lnTo>
                <a:close/>
              </a:path>
              <a:path fill="darken" w="165492" h="21600">
                <a:moveTo>
                  <a:pt x="165492" y="0"/>
                </a:moveTo>
                <a:lnTo>
                  <a:pt x="165492" y="21600"/>
                </a:lnTo>
                <a:lnTo>
                  <a:pt x="164092" y="20200"/>
                </a:lnTo>
                <a:lnTo>
                  <a:pt x="164092" y="1400"/>
                </a:lnTo>
                <a:close/>
              </a:path>
              <a:path fill="darkenLess" w="165492" h="21600">
                <a:moveTo>
                  <a:pt x="165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4092" y="20200"/>
                </a:lnTo>
                <a:close/>
              </a:path>
              <a:path fill="lighten" w="165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032">
            <a:hlinkClick r:id="rId2" action="ppaction://hlinksldjump"/>
          </p:cNvPr>
          <p:cNvSpPr/>
          <p:nvPr/>
        </p:nvSpPr>
        <p:spPr>
          <a:xfrm>
            <a:off x="2514600" y="4952880"/>
            <a:ext cx="1752480" cy="457200"/>
          </a:xfrm>
          <a:custGeom>
            <a:avLst/>
            <a:gdLst>
              <a:gd name="textAreaLeft" fmla="*/ 29520 w 1752480"/>
              <a:gd name="textAreaRight" fmla="*/ 1722960 w 1752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2746" h="21600">
                <a:moveTo>
                  <a:pt x="0" y="0"/>
                </a:moveTo>
                <a:lnTo>
                  <a:pt x="82746" y="0"/>
                </a:lnTo>
                <a:lnTo>
                  <a:pt x="82746" y="21600"/>
                </a:lnTo>
                <a:lnTo>
                  <a:pt x="0" y="21600"/>
                </a:lnTo>
                <a:close/>
              </a:path>
              <a:path fill="lightenLess" w="82746" h="21600">
                <a:moveTo>
                  <a:pt x="0" y="0"/>
                </a:moveTo>
                <a:lnTo>
                  <a:pt x="82746" y="0"/>
                </a:lnTo>
                <a:lnTo>
                  <a:pt x="81346" y="1400"/>
                </a:lnTo>
                <a:lnTo>
                  <a:pt x="1400" y="1400"/>
                </a:lnTo>
                <a:close/>
              </a:path>
              <a:path fill="darken" w="82746" h="21600">
                <a:moveTo>
                  <a:pt x="82746" y="0"/>
                </a:moveTo>
                <a:lnTo>
                  <a:pt x="82746" y="21600"/>
                </a:lnTo>
                <a:lnTo>
                  <a:pt x="81346" y="20200"/>
                </a:lnTo>
                <a:lnTo>
                  <a:pt x="81346" y="1400"/>
                </a:lnTo>
                <a:close/>
              </a:path>
              <a:path fill="darkenLess" w="82746" h="21600">
                <a:moveTo>
                  <a:pt x="827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46" y="20200"/>
                </a:lnTo>
                <a:close/>
              </a:path>
              <a:path fill="lighten" w="827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34" descr="空调列车光"/>
          <p:cNvPicPr/>
          <p:nvPr/>
        </p:nvPicPr>
        <p:blipFill>
          <a:blip r:embed="rId3"/>
          <a:stretch/>
        </p:blipFill>
        <p:spPr>
          <a:xfrm>
            <a:off x="1219320" y="907920"/>
            <a:ext cx="67690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空调列车光"/>
          <p:cNvPicPr/>
          <p:nvPr/>
        </p:nvPicPr>
        <p:blipFill>
          <a:blip r:embed="rId1"/>
          <a:stretch/>
        </p:blipFill>
        <p:spPr>
          <a:xfrm>
            <a:off x="755640" y="907920"/>
            <a:ext cx="7881840" cy="33670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95280" y="4365360"/>
            <a:ext cx="835344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隶书"/>
                <a:ea typeface="隶书"/>
              </a:rPr>
              <a:t>          </a:t>
            </a: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燕子专列是专门把燕子从（       ）送到（     ）的火车。</a:t>
            </a:r>
            <a:r>
              <a:rPr b="0" lang="zh-CN" sz="4800" spc="-1" strike="noStrike">
                <a:solidFill>
                  <a:srgbClr val="ff3300"/>
                </a:solidFill>
                <a:latin typeface="隶书"/>
                <a:ea typeface="隶书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6934320" y="3200400"/>
            <a:ext cx="47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6">
            <a:hlinkClick r:id="rId1" action="ppaction://hlinksldjump"/>
          </p:cNvPr>
          <p:cNvSpPr/>
          <p:nvPr/>
        </p:nvSpPr>
        <p:spPr>
          <a:xfrm>
            <a:off x="7010280" y="5867280"/>
            <a:ext cx="2133720" cy="990720"/>
          </a:xfrm>
          <a:custGeom>
            <a:avLst/>
            <a:gdLst>
              <a:gd name="textAreaLeft" fmla="*/ 64080 w 2133720"/>
              <a:gd name="textAreaRight" fmla="*/ 2069640 w 21337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6511" h="21600">
                <a:moveTo>
                  <a:pt x="0" y="0"/>
                </a:moveTo>
                <a:lnTo>
                  <a:pt x="46511" y="0"/>
                </a:lnTo>
                <a:lnTo>
                  <a:pt x="46511" y="21600"/>
                </a:lnTo>
                <a:lnTo>
                  <a:pt x="0" y="21600"/>
                </a:lnTo>
                <a:close/>
              </a:path>
              <a:path fill="lightenLess" w="46511" h="21600">
                <a:moveTo>
                  <a:pt x="0" y="0"/>
                </a:moveTo>
                <a:lnTo>
                  <a:pt x="46511" y="0"/>
                </a:lnTo>
                <a:lnTo>
                  <a:pt x="45111" y="1400"/>
                </a:lnTo>
                <a:lnTo>
                  <a:pt x="1400" y="1400"/>
                </a:lnTo>
                <a:close/>
              </a:path>
              <a:path fill="darken" w="46511" h="21600">
                <a:moveTo>
                  <a:pt x="46511" y="0"/>
                </a:moveTo>
                <a:lnTo>
                  <a:pt x="46511" y="21600"/>
                </a:lnTo>
                <a:lnTo>
                  <a:pt x="45111" y="20200"/>
                </a:lnTo>
                <a:lnTo>
                  <a:pt x="45111" y="1400"/>
                </a:lnTo>
                <a:close/>
              </a:path>
              <a:path fill="darkenLess" w="46511" h="21600">
                <a:moveTo>
                  <a:pt x="465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111" y="20200"/>
                </a:lnTo>
                <a:close/>
              </a:path>
              <a:path fill="lighten" w="465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511" h="21600">
                <a:moveTo>
                  <a:pt x="16249" y="10800"/>
                </a:moveTo>
                <a:lnTo>
                  <a:pt x="30262" y="3794"/>
                </a:lnTo>
                <a:lnTo>
                  <a:pt x="3026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世界地图"/>
          <p:cNvPicPr/>
          <p:nvPr/>
        </p:nvPicPr>
        <p:blipFill>
          <a:blip r:embed="rId2"/>
          <a:stretch/>
        </p:blipFill>
        <p:spPr>
          <a:xfrm>
            <a:off x="990720" y="1523880"/>
            <a:ext cx="7200720" cy="4079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10"/>
          <p:cNvGrpSpPr/>
          <p:nvPr/>
        </p:nvGrpSpPr>
        <p:grpSpPr>
          <a:xfrm>
            <a:off x="2286000" y="762120"/>
            <a:ext cx="6019920" cy="5519520"/>
            <a:chOff x="2286000" y="762120"/>
            <a:chExt cx="6019920" cy="5519520"/>
          </a:xfrm>
        </p:grpSpPr>
        <p:pic>
          <p:nvPicPr>
            <p:cNvPr id="71" name="Picture 2" descr="欧洲"/>
            <p:cNvPicPr/>
            <p:nvPr/>
          </p:nvPicPr>
          <p:blipFill>
            <a:blip r:embed="rId1"/>
            <a:srcRect l="0" t="8370" r="0" b="0"/>
            <a:stretch/>
          </p:blipFill>
          <p:spPr>
            <a:xfrm>
              <a:off x="2286000" y="762120"/>
              <a:ext cx="4816440" cy="551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 Box 3"/>
            <p:cNvSpPr/>
            <p:nvPr/>
          </p:nvSpPr>
          <p:spPr>
            <a:xfrm>
              <a:off x="7451640" y="2514600"/>
              <a:ext cx="8542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欧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AutoShape 5">
            <a:hlinkClick r:id="rId2" action="ppaction://hlinksldjump"/>
          </p:cNvPr>
          <p:cNvSpPr/>
          <p:nvPr/>
        </p:nvSpPr>
        <p:spPr>
          <a:xfrm>
            <a:off x="7010280" y="5867280"/>
            <a:ext cx="2133720" cy="990720"/>
          </a:xfrm>
          <a:custGeom>
            <a:avLst/>
            <a:gdLst>
              <a:gd name="textAreaLeft" fmla="*/ 64080 w 2133720"/>
              <a:gd name="textAreaRight" fmla="*/ 2069640 w 21337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6511" h="21600">
                <a:moveTo>
                  <a:pt x="0" y="0"/>
                </a:moveTo>
                <a:lnTo>
                  <a:pt x="46511" y="0"/>
                </a:lnTo>
                <a:lnTo>
                  <a:pt x="46511" y="21600"/>
                </a:lnTo>
                <a:lnTo>
                  <a:pt x="0" y="21600"/>
                </a:lnTo>
                <a:close/>
              </a:path>
              <a:path fill="lightenLess" w="46511" h="21600">
                <a:moveTo>
                  <a:pt x="0" y="0"/>
                </a:moveTo>
                <a:lnTo>
                  <a:pt x="46511" y="0"/>
                </a:lnTo>
                <a:lnTo>
                  <a:pt x="45111" y="1400"/>
                </a:lnTo>
                <a:lnTo>
                  <a:pt x="1400" y="1400"/>
                </a:lnTo>
                <a:close/>
              </a:path>
              <a:path fill="darken" w="46511" h="21600">
                <a:moveTo>
                  <a:pt x="46511" y="0"/>
                </a:moveTo>
                <a:lnTo>
                  <a:pt x="46511" y="21600"/>
                </a:lnTo>
                <a:lnTo>
                  <a:pt x="45111" y="20200"/>
                </a:lnTo>
                <a:lnTo>
                  <a:pt x="45111" y="1400"/>
                </a:lnTo>
                <a:close/>
              </a:path>
              <a:path fill="darkenLess" w="46511" h="21600">
                <a:moveTo>
                  <a:pt x="465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111" y="20200"/>
                </a:lnTo>
                <a:close/>
              </a:path>
              <a:path fill="lighten" w="465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511" h="21600">
                <a:moveTo>
                  <a:pt x="16249" y="10800"/>
                </a:moveTo>
                <a:lnTo>
                  <a:pt x="30262" y="3794"/>
                </a:lnTo>
                <a:lnTo>
                  <a:pt x="3026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8"/>
          <p:cNvSpPr/>
          <p:nvPr/>
        </p:nvSpPr>
        <p:spPr>
          <a:xfrm>
            <a:off x="3708360" y="562608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7"/>
          <p:cNvGrpSpPr/>
          <p:nvPr/>
        </p:nvGrpSpPr>
        <p:grpSpPr>
          <a:xfrm>
            <a:off x="2286000" y="762120"/>
            <a:ext cx="6019920" cy="5519520"/>
            <a:chOff x="2286000" y="762120"/>
            <a:chExt cx="6019920" cy="5519520"/>
          </a:xfrm>
        </p:grpSpPr>
        <p:pic>
          <p:nvPicPr>
            <p:cNvPr id="76" name="Picture 8" descr="欧洲"/>
            <p:cNvPicPr/>
            <p:nvPr/>
          </p:nvPicPr>
          <p:blipFill>
            <a:blip r:embed="rId1"/>
            <a:srcRect l="0" t="8370" r="0" b="0"/>
            <a:stretch/>
          </p:blipFill>
          <p:spPr>
            <a:xfrm>
              <a:off x="2286000" y="762120"/>
              <a:ext cx="4816440" cy="551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9"/>
            <p:cNvSpPr/>
            <p:nvPr/>
          </p:nvSpPr>
          <p:spPr>
            <a:xfrm>
              <a:off x="7451640" y="2514600"/>
              <a:ext cx="8542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欧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AutoShape 4">
            <a:hlinkClick r:id="rId2" action="ppaction://hlinksldjump"/>
          </p:cNvPr>
          <p:cNvSpPr/>
          <p:nvPr/>
        </p:nvSpPr>
        <p:spPr>
          <a:xfrm>
            <a:off x="7010280" y="5867280"/>
            <a:ext cx="2133720" cy="990720"/>
          </a:xfrm>
          <a:custGeom>
            <a:avLst/>
            <a:gdLst>
              <a:gd name="textAreaLeft" fmla="*/ 64080 w 2133720"/>
              <a:gd name="textAreaRight" fmla="*/ 2069640 w 21337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6511" h="21600">
                <a:moveTo>
                  <a:pt x="0" y="0"/>
                </a:moveTo>
                <a:lnTo>
                  <a:pt x="46511" y="0"/>
                </a:lnTo>
                <a:lnTo>
                  <a:pt x="46511" y="21600"/>
                </a:lnTo>
                <a:lnTo>
                  <a:pt x="0" y="21600"/>
                </a:lnTo>
                <a:close/>
              </a:path>
              <a:path fill="lightenLess" w="46511" h="21600">
                <a:moveTo>
                  <a:pt x="0" y="0"/>
                </a:moveTo>
                <a:lnTo>
                  <a:pt x="46511" y="0"/>
                </a:lnTo>
                <a:lnTo>
                  <a:pt x="45111" y="1400"/>
                </a:lnTo>
                <a:lnTo>
                  <a:pt x="1400" y="1400"/>
                </a:lnTo>
                <a:close/>
              </a:path>
              <a:path fill="darken" w="46511" h="21600">
                <a:moveTo>
                  <a:pt x="46511" y="0"/>
                </a:moveTo>
                <a:lnTo>
                  <a:pt x="46511" y="21600"/>
                </a:lnTo>
                <a:lnTo>
                  <a:pt x="45111" y="20200"/>
                </a:lnTo>
                <a:lnTo>
                  <a:pt x="45111" y="1400"/>
                </a:lnTo>
                <a:close/>
              </a:path>
              <a:path fill="darkenLess" w="46511" h="21600">
                <a:moveTo>
                  <a:pt x="465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111" y="20200"/>
                </a:lnTo>
                <a:close/>
              </a:path>
              <a:path fill="lighten" w="465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511" h="21600">
                <a:moveTo>
                  <a:pt x="16249" y="10800"/>
                </a:moveTo>
                <a:lnTo>
                  <a:pt x="30262" y="3794"/>
                </a:lnTo>
                <a:lnTo>
                  <a:pt x="3026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446400" y="3809880"/>
            <a:ext cx="12776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瑞  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0"/>
          <p:cNvSpPr/>
          <p:nvPr/>
        </p:nvSpPr>
        <p:spPr>
          <a:xfrm>
            <a:off x="1676520" y="4267080"/>
            <a:ext cx="2666880" cy="304920"/>
          </a:xfrm>
          <a:prstGeom prst="rightArrow">
            <a:avLst>
              <a:gd name="adj1" fmla="val 50000"/>
              <a:gd name="adj2" fmla="val 218654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8"/>
          <p:cNvGrpSpPr/>
          <p:nvPr/>
        </p:nvGrpSpPr>
        <p:grpSpPr>
          <a:xfrm>
            <a:off x="3511440" y="2276640"/>
            <a:ext cx="2736720" cy="2820960"/>
            <a:chOff x="3511440" y="2276640"/>
            <a:chExt cx="2736720" cy="2820960"/>
          </a:xfrm>
        </p:grpSpPr>
        <p:sp>
          <p:nvSpPr>
            <p:cNvPr id="82" name="Rectangle 4"/>
            <p:cNvSpPr/>
            <p:nvPr/>
          </p:nvSpPr>
          <p:spPr>
            <a:xfrm>
              <a:off x="3582720" y="3357720"/>
              <a:ext cx="26654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启 程　　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5"/>
            <p:cNvSpPr/>
            <p:nvPr/>
          </p:nvSpPr>
          <p:spPr>
            <a:xfrm>
              <a:off x="3511440" y="2276640"/>
              <a:ext cx="1425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qǐ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AutoShape 10">
            <a:hlinkClick r:id="rId1" action="ppaction://hlinksldjump"/>
          </p:cNvPr>
          <p:cNvSpPr/>
          <p:nvPr/>
        </p:nvSpPr>
        <p:spPr>
          <a:xfrm>
            <a:off x="7010280" y="5867280"/>
            <a:ext cx="2133720" cy="990720"/>
          </a:xfrm>
          <a:custGeom>
            <a:avLst/>
            <a:gdLst>
              <a:gd name="textAreaLeft" fmla="*/ 64080 w 2133720"/>
              <a:gd name="textAreaRight" fmla="*/ 2069640 w 21337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6511" h="21600">
                <a:moveTo>
                  <a:pt x="0" y="0"/>
                </a:moveTo>
                <a:lnTo>
                  <a:pt x="46511" y="0"/>
                </a:lnTo>
                <a:lnTo>
                  <a:pt x="46511" y="21600"/>
                </a:lnTo>
                <a:lnTo>
                  <a:pt x="0" y="21600"/>
                </a:lnTo>
                <a:close/>
              </a:path>
              <a:path fill="lightenLess" w="46511" h="21600">
                <a:moveTo>
                  <a:pt x="0" y="0"/>
                </a:moveTo>
                <a:lnTo>
                  <a:pt x="46511" y="0"/>
                </a:lnTo>
                <a:lnTo>
                  <a:pt x="45111" y="1400"/>
                </a:lnTo>
                <a:lnTo>
                  <a:pt x="1400" y="1400"/>
                </a:lnTo>
                <a:close/>
              </a:path>
              <a:path fill="darken" w="46511" h="21600">
                <a:moveTo>
                  <a:pt x="46511" y="0"/>
                </a:moveTo>
                <a:lnTo>
                  <a:pt x="46511" y="21600"/>
                </a:lnTo>
                <a:lnTo>
                  <a:pt x="45111" y="20200"/>
                </a:lnTo>
                <a:lnTo>
                  <a:pt x="45111" y="1400"/>
                </a:lnTo>
                <a:close/>
              </a:path>
              <a:path fill="darkenLess" w="46511" h="21600">
                <a:moveTo>
                  <a:pt x="465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111" y="20200"/>
                </a:lnTo>
                <a:close/>
              </a:path>
              <a:path fill="lighten" w="465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511" h="21600">
                <a:moveTo>
                  <a:pt x="16249" y="10800"/>
                </a:moveTo>
                <a:lnTo>
                  <a:pt x="30262" y="3794"/>
                </a:lnTo>
                <a:lnTo>
                  <a:pt x="3026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2:55:0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52:41Z</dcterms:modified>
  <cp:revision>15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