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49D8-611D-4CFD-97F9-32E0575B82A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588B-48F0-42C3-A82B-1232536E29F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23BD-39A5-41CD-976F-3365035E6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0FCF-467A-4F6A-937A-2A0F1E30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0C39-1A51-4507-8D74-76770216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B37F-1FBA-4730-B7A2-AE7B8BA90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866A-8188-4C74-935C-C078A316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D103-919C-4AE5-A1FE-432005A8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AA94-7CFB-48C3-9A26-26D70A00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8092-5F7D-4ADD-9C4A-03044CED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2FE9-5CF3-4FF6-BE91-1283212D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FB0B-2645-49A9-8227-02B8B9F8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AF00-D0EB-46EE-82AA-4627C788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22D0-CBA3-4C58-8366-B0535DE1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C080-A959-45D3-B187-C0358D135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6.xml"/><Relationship Id="rId6" Type="http://schemas.openxmlformats.org/officeDocument/2006/relationships/slide" Target="slide17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836800" y="838080"/>
            <a:ext cx="345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2060"/>
                </a:solidFill>
                <a:latin typeface="华文隶书"/>
                <a:ea typeface="华文隶书"/>
              </a:rPr>
              <a:t>一 字 之 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矩形 5" descr=""/>
          <p:cNvPicPr/>
          <p:nvPr/>
        </p:nvPicPr>
        <p:blipFill>
          <a:blip r:embed="rId2"/>
          <a:stretch/>
        </p:blipFill>
        <p:spPr>
          <a:xfrm>
            <a:off x="1771560" y="6172200"/>
            <a:ext cx="56721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1982880" y="2666880"/>
            <a:ext cx="162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前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982880" y="3581280"/>
            <a:ext cx="162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箭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4344840" y="2666880"/>
            <a:ext cx="162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昨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4344840" y="3581280"/>
            <a:ext cx="162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作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7012080" y="2666880"/>
            <a:ext cx="162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题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7012080" y="3581280"/>
            <a:ext cx="162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提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1665360" y="1136520"/>
            <a:ext cx="58957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  梅  致  鸿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371600" y="74304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zé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102280" y="743040"/>
            <a:ext cx="993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zh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7062480" y="762120"/>
            <a:ext cx="9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hó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2627280" y="3935520"/>
            <a:ext cx="41814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箭  餐  哇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2438280" y="3581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ji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4365360" y="350532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ā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3276720" y="762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mé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6341760" y="350532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w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ShockwaveFlash1" descr=""/>
          <p:cNvPicPr/>
          <p:nvPr/>
        </p:nvPicPr>
        <p:blipFill>
          <a:blip r:embed="rId2"/>
          <a:stretch/>
        </p:blipFill>
        <p:spPr>
          <a:xfrm>
            <a:off x="1523880" y="23623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15" name="ShockwaveFlash2" descr=""/>
          <p:cNvPicPr/>
          <p:nvPr/>
        </p:nvPicPr>
        <p:blipFill>
          <a:blip r:embed="rId3"/>
          <a:stretch/>
        </p:blipFill>
        <p:spPr>
          <a:xfrm>
            <a:off x="3429000" y="23623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16" name="ShockwaveFlash3" descr=""/>
          <p:cNvPicPr/>
          <p:nvPr/>
        </p:nvPicPr>
        <p:blipFill>
          <a:blip r:embed="rId4"/>
          <a:stretch/>
        </p:blipFill>
        <p:spPr>
          <a:xfrm>
            <a:off x="5334120" y="23623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17" name="ShockwaveFlash4" descr=""/>
          <p:cNvPicPr/>
          <p:nvPr/>
        </p:nvPicPr>
        <p:blipFill>
          <a:blip r:embed="rId5"/>
          <a:stretch/>
        </p:blipFill>
        <p:spPr>
          <a:xfrm>
            <a:off x="7238880" y="23623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18" name="ShockwaveFlash6" descr=""/>
          <p:cNvPicPr/>
          <p:nvPr/>
        </p:nvPicPr>
        <p:blipFill>
          <a:blip r:embed="rId6"/>
          <a:stretch/>
        </p:blipFill>
        <p:spPr>
          <a:xfrm>
            <a:off x="2590920" y="51055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19" name="ShockwaveFlash7" descr=""/>
          <p:cNvPicPr/>
          <p:nvPr/>
        </p:nvPicPr>
        <p:blipFill>
          <a:blip r:embed="rId7"/>
          <a:stretch/>
        </p:blipFill>
        <p:spPr>
          <a:xfrm>
            <a:off x="4419720" y="51055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20" name="ShockwaveFlash8" descr=""/>
          <p:cNvPicPr/>
          <p:nvPr/>
        </p:nvPicPr>
        <p:blipFill>
          <a:blip r:embed="rId8"/>
          <a:stretch/>
        </p:blipFill>
        <p:spPr>
          <a:xfrm>
            <a:off x="6400800" y="510552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DC6F-6E04-4A84-84A0-A3C2B217159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777960" y="1752480"/>
            <a:ext cx="292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   ）心（   ）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777960" y="2666880"/>
            <a:ext cx="292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   ）干（   ）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777960" y="3581280"/>
            <a:ext cx="292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   ）头（   ）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77960" y="4495680"/>
            <a:ext cx="292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   ）平（   ）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5197680" y="1752480"/>
            <a:ext cx="292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   ）湖（   ）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5197680" y="2666880"/>
            <a:ext cx="292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   ）上（   ）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5197680" y="3581280"/>
            <a:ext cx="292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   ）牛（   ）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5197680" y="4495680"/>
            <a:ext cx="292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   ）全（   ）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字之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457200" y="3657600"/>
            <a:ext cx="82296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古时候，有一个和尚叫齐己。他喜欢写诗。有一天，他拿着自己写的诗，去拜访郑谷。郑谷看到一首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tí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梅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诗中有这样两句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前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qián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村深雪里，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zuó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夜数枝开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郑谷微笑着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梅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méi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开了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 action="ppaction://hlinksldjump"/>
              </a:rPr>
              <a:t>数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shù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枝，就不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6" action="ppaction://hlinksldjump"/>
              </a:rPr>
              <a:t>算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suàn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了，不如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‘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’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改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‘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’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齐己听了，觉得很有道理，连忙向郑谷道谢，称郑谷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字之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424320" y="2666880"/>
            <a:ext cx="2900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 字 之 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1"/>
          <p:cNvSpPr/>
          <p:nvPr/>
        </p:nvSpPr>
        <p:spPr>
          <a:xfrm>
            <a:off x="2619360" y="5940360"/>
            <a:ext cx="57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52280" y="388944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古时候，有一个和尚叫齐己。他喜欢写诗。有一天，他拿着自己写的诗，去拜访郑谷。郑谷看到一首题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梅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诗中有这样两句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村深雪里，昨夜数枝开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郑谷微笑着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梅花开了数枝，就不算早了，不如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‘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’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改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‘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’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齐己听了，觉得很有道理，连忙向郑谷道谢，称郑谷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字之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3424320" y="2666880"/>
            <a:ext cx="3052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 字 之 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380880" y="1752480"/>
            <a:ext cx="2895840" cy="1524240"/>
          </a:xfrm>
          <a:prstGeom prst="cloudCallout">
            <a:avLst>
              <a:gd name="adj1" fmla="val -43254"/>
              <a:gd name="adj2" fmla="val 69791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这篇课文讲了一件什么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>
            <a:off x="4952880" y="5410080"/>
            <a:ext cx="25146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5638680" y="1752480"/>
            <a:ext cx="3048120" cy="1676520"/>
          </a:xfrm>
          <a:prstGeom prst="cloudCallout">
            <a:avLst>
              <a:gd name="adj1" fmla="val 40157"/>
              <a:gd name="adj2" fmla="val 60037"/>
            </a:avLst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为什么说“昨夜一枝开”比“昨夜数枝开”好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4291200" y="685800"/>
            <a:ext cx="5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一字之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500560" y="215280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齐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6066000" y="215280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郑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1890720" y="3219480"/>
            <a:ext cx="178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昨夜（数）枝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5716440" y="3219480"/>
            <a:ext cx="178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昨夜（一）枝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3170160" y="44956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谦虚好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5106960" y="44956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用字准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1"/>
          <p:cNvSpPr/>
          <p:nvPr/>
        </p:nvSpPr>
        <p:spPr>
          <a:xfrm>
            <a:off x="3733920" y="2438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2"/>
          <p:cNvSpPr/>
          <p:nvPr/>
        </p:nvSpPr>
        <p:spPr>
          <a:xfrm>
            <a:off x="609480" y="304920"/>
            <a:ext cx="2895840" cy="1523880"/>
          </a:xfrm>
          <a:prstGeom prst="cloudCallout">
            <a:avLst>
              <a:gd name="adj1" fmla="val -57347"/>
              <a:gd name="adj2" fmla="val 97398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一字之师”告诉我们什么道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6"/>
          <p:cNvSpPr/>
          <p:nvPr/>
        </p:nvSpPr>
        <p:spPr>
          <a:xfrm>
            <a:off x="2590920" y="281952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457200" y="2000160"/>
            <a:ext cx="82296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从前，有一个叫秋的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" action="ppaction://hlinksldjump"/>
              </a:rPr>
              <a:t>棋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qí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师，棋艺非常高。秋有两个学生。一个学生非常专心，集中精神听老师讲课。另一个学生却不这样，他坐在那里，眼睛看着棋子，心里却在想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天空中飞来了鸿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hónɡ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雁，我就用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弓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ɡōnɡ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箭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jiàn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它们射下来，美餐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cān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顿，该多好哇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wɑ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后来，这两个学生，一个成了棋艺高超的棋手，另一个却什么也没有学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265560" y="990720"/>
            <a:ext cx="29934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专心致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(zhì)</a:t>
            </a:r>
            <a:r>
              <a:rPr b="0" lang="zh-CN" sz="3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志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(zhì)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457200" y="19810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从前，有一个叫秋的棋师，棋艺非常高。秋有两个学生。一个学生非常专心，集中精神听老师讲课。另一个学生却不这样，他坐在那里，眼睛看着棋子，心里却在想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天空中飞来了鸿雁，我就用弓箭把它们射下来，美餐一顿，该多好哇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后来，这两个学生，一个成了棋艺高超的棋手，另一个却什么也没有学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4024440" y="82224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专心致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5410080" y="4495680"/>
            <a:ext cx="2895840" cy="1524240"/>
          </a:xfrm>
          <a:prstGeom prst="cloudCallout">
            <a:avLst>
              <a:gd name="adj1" fmla="val 44791"/>
              <a:gd name="adj2" fmla="val 53231"/>
            </a:avLst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这篇课文讲了一件什么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304920" y="228600"/>
            <a:ext cx="3429000" cy="1676520"/>
          </a:xfrm>
          <a:prstGeom prst="cloudCallout">
            <a:avLst>
              <a:gd name="adj1" fmla="val -44305"/>
              <a:gd name="adj2" fmla="val 58902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两个学生在学棋的过程中表现有什么不同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609480" y="2743200"/>
            <a:ext cx="54864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>
            <a:off x="6477120" y="2743200"/>
            <a:ext cx="13716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3276720" y="3124080"/>
            <a:ext cx="17906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"/>
          <p:cNvSpPr/>
          <p:nvPr/>
        </p:nvSpPr>
        <p:spPr>
          <a:xfrm>
            <a:off x="5486400" y="3124080"/>
            <a:ext cx="15238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3352680" y="3505320"/>
            <a:ext cx="43434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994200" y="103176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专心致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830240" y="24415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非常专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776920" y="24415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棋艺高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7"/>
          <p:cNvSpPr/>
          <p:nvPr/>
        </p:nvSpPr>
        <p:spPr>
          <a:xfrm>
            <a:off x="3368520" y="272736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754280" y="348948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不专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6005520" y="3489480"/>
            <a:ext cx="178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什么也没有学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0"/>
          <p:cNvSpPr/>
          <p:nvPr/>
        </p:nvSpPr>
        <p:spPr>
          <a:xfrm>
            <a:off x="3368520" y="377496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2668680" y="1812960"/>
            <a:ext cx="338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一字之师　一则　　鸿雁　下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363760" y="2895480"/>
            <a:ext cx="399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专心致志　梅花　　从前　昨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630520" y="4175280"/>
            <a:ext cx="3457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美餐一顿　恰当　　不算　拜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04:27:5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19:33Z</dcterms:modified>
  <cp:revision>7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