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54F0-2483-468A-AFE3-E58AD2354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4214-CE72-4868-8AF3-59033E2CB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B78-095B-4BA1-A71F-0D5A235B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E08-C7A5-44D7-8064-CA40F657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F5F-2C52-4DB0-B03C-E69D4EDD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CA12-6047-432F-B038-26E0BC983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D1C7F-F0F8-4B0F-AF4C-ADB8DF8E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4E99-2540-41CD-8142-56EF7932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914B-EC92-47C7-9C48-71C7DA6B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59CE-B884-4E17-83F4-7142FC16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88CD-8F75-43C0-9F3A-BF44EB16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7938-0EB9-4683-ABE4-1FC7F561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87DA-C75D-457C-93EC-1B826E7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16E0-43AC-4F97-8E53-3CB2B2A3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DB5D-6E4E-4E2F-B0BE-15B4A3CC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745C5-2533-48BD-A49A-EBFD90FE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1E62-0888-455A-A973-F8FE69F7E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1927-24F1-43C7-80F3-68BBE284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64FF-DF0F-43C1-B131-1BEB6BD2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0A5-FEA0-46A8-B5D0-2C3706ACF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894D-260E-4E9F-B622-E3FA4348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5E4E-C7A0-4E4B-8704-8697F44F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15A-7719-4582-8593-B292A023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7708-1D41-4331-A762-2AC58DF3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477E-AEF7-4684-9719-115CA1E9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6E2-DB1A-4F2C-9E95-A544AB39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210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1211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12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213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214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215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216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17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218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219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20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221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222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223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224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225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226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227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228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1229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1230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1231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1232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1233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234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235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36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1237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1238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1239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1240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1241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1242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1243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1244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1245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1246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1247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1248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1249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1250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1251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1252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253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254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1255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1256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57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258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259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60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61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62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63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64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265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66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67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268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269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70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271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272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273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274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275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276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277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278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279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80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81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282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283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284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85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286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287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288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289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290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291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292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293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294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295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1296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297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298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299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00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01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02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03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04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05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06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07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308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309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310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311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312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313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314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315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16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317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318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319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320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321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22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323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324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325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326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327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328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329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30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331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332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333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34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335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336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37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38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39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40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41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2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43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44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45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46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47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48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49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50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51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52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53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354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55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126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127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128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129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130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31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32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133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134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35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136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137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138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139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140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141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142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43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44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145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146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147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48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149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150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151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152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153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154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155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56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157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158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159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160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161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162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163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164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165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166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167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168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169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70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71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72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73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74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75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76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7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78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79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180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181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182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1183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184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185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186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187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188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189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190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191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192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193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194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95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196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1197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98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99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200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201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202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03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204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5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06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07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08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09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371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1356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1357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1358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359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360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361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362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363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364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365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366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367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368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369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370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EA1B-F97F-427C-8AF2-1A730B26B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359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546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360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361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362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63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64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65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66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67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68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9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0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71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72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548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373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374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375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376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377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378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379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380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381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82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83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384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85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86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87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88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89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90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91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92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93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4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395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396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397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398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399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00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01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02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03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04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05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406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407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408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409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10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11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12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13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14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15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16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17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18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19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420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421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422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423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424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425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426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427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428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429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430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431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32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33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434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435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36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437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438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9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0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41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42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43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44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45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446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447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448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449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450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451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452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453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454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455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56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457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458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59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60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61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62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63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64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5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66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67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468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469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470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471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472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473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474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475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476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477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78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79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480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481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82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83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84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85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6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87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88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89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90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91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492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93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94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95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96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97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98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99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500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1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02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3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504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05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06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07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08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09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10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11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512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513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514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515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516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517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549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550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551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552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553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554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555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556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557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558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559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560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561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562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AA44-B7EF-4495-9DA7-8E056CE6A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未命名3"/>
          <p:cNvPicPr/>
          <p:nvPr/>
        </p:nvPicPr>
        <p:blipFill>
          <a:blip r:embed="rId1"/>
          <a:srcRect l="6269" t="6480" r="6448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24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484280" y="476280"/>
            <a:ext cx="4022640" cy="42498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hong"/>
          <p:cNvPicPr/>
          <p:nvPr/>
        </p:nvPicPr>
        <p:blipFill>
          <a:blip r:embed="rId3"/>
          <a:stretch/>
        </p:blipFill>
        <p:spPr>
          <a:xfrm>
            <a:off x="6554880" y="836640"/>
            <a:ext cx="1360440" cy="4464000"/>
          </a:xfrm>
          <a:prstGeom prst="rect">
            <a:avLst/>
          </a:prstGeom>
          <a:ln w="0">
            <a:noFill/>
          </a:ln>
        </p:spPr>
      </p:pic>
      <p:sp>
        <p:nvSpPr>
          <p:cNvPr id="513" name="矩形 5"/>
          <p:cNvSpPr/>
          <p:nvPr/>
        </p:nvSpPr>
        <p:spPr>
          <a:xfrm>
            <a:off x="1827000" y="59500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21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3" name="Rectangle 5"/>
          <p:cNvSpPr/>
          <p:nvPr/>
        </p:nvSpPr>
        <p:spPr>
          <a:xfrm>
            <a:off x="539640" y="2126520"/>
            <a:ext cx="78487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鹬用尽力气，还是拔不出嘴来，便   蚌说：“你不松开壳儿，就等着瞧吧。今天不下雨，明天不下雨，没有了水，你就会干死在这河滩上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河蚌         ，        地说：“我就这样夹住你的嘴不放。今天拔不出来，明天拔不出来，吃不到东西，你也会饿死在这河滩上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7236000" y="1125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楷体"/>
              </a:rPr>
              <a:t>威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1979640" y="321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楷体"/>
              </a:rPr>
              <a:t>毫不示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4140360" y="321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0000"/>
                </a:solidFill>
                <a:latin typeface="Arial"/>
                <a:ea typeface="楷体"/>
              </a:rPr>
              <a:t>得意洋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4932360" y="2060640"/>
            <a:ext cx="2016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 ●         ●         ●         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3419640" y="2635200"/>
            <a:ext cx="12236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●         ●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1044720" y="2633760"/>
            <a:ext cx="12236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●         ●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5219640" y="2635200"/>
            <a:ext cx="2016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 ●         ●         ●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1044720" y="3211560"/>
            <a:ext cx="12236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●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14"/>
          <p:cNvSpPr/>
          <p:nvPr/>
        </p:nvSpPr>
        <p:spPr>
          <a:xfrm>
            <a:off x="684360" y="4221000"/>
            <a:ext cx="12236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●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1476360" y="4221000"/>
            <a:ext cx="1224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  ●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924360" y="4221000"/>
            <a:ext cx="1224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●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7"/>
          <p:cNvSpPr/>
          <p:nvPr/>
        </p:nvSpPr>
        <p:spPr>
          <a:xfrm>
            <a:off x="5940360" y="4218120"/>
            <a:ext cx="2016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 ●         ●         ●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1476360" y="4794120"/>
            <a:ext cx="2016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 ●         ●         ●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9"/>
          <p:cNvSpPr/>
          <p:nvPr/>
        </p:nvSpPr>
        <p:spPr>
          <a:xfrm>
            <a:off x="3492360" y="4795920"/>
            <a:ext cx="2016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 ●         ●         ●         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7164360" y="4794120"/>
            <a:ext cx="1224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40000"/>
                </a:solidFill>
                <a:latin typeface="Arial"/>
              </a:rPr>
              <a:t>●         ●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5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"/>
          <p:cNvSpPr/>
          <p:nvPr/>
        </p:nvSpPr>
        <p:spPr>
          <a:xfrm>
            <a:off x="1476360" y="3284640"/>
            <a:ext cx="626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00"/>
                </a:solidFill>
                <a:latin typeface="Arial"/>
                <a:ea typeface="楷体"/>
              </a:rPr>
              <a:t>踩、甩、砸、拔、撞、敲</a:t>
            </a:r>
            <a:r>
              <a:rPr b="0" lang="en-US" sz="3600" spc="-1" strike="noStrike">
                <a:solidFill>
                  <a:srgbClr val="e40000"/>
                </a:solidFill>
                <a:latin typeface="楷体"/>
                <a:ea typeface="楷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7" descr="鹬蚌相争图2"/>
          <p:cNvPicPr/>
          <p:nvPr/>
        </p:nvPicPr>
        <p:blipFill>
          <a:blip r:embed="rId2"/>
          <a:stretch/>
        </p:blipFill>
        <p:spPr>
          <a:xfrm>
            <a:off x="611280" y="907920"/>
            <a:ext cx="2087640" cy="17859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鹬蚌相争图"/>
          <p:cNvPicPr/>
          <p:nvPr/>
        </p:nvPicPr>
        <p:blipFill>
          <a:blip r:embed="rId3"/>
          <a:stretch/>
        </p:blipFill>
        <p:spPr>
          <a:xfrm>
            <a:off x="2916360" y="907920"/>
            <a:ext cx="2233440" cy="18003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988159468743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5364000" y="907920"/>
            <a:ext cx="2376720" cy="180036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11"/>
          <p:cNvSpPr/>
          <p:nvPr/>
        </p:nvSpPr>
        <p:spPr>
          <a:xfrm>
            <a:off x="7702560" y="2212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4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5"/>
          <p:cNvSpPr/>
          <p:nvPr/>
        </p:nvSpPr>
        <p:spPr>
          <a:xfrm>
            <a:off x="539640" y="1271520"/>
            <a:ext cx="482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就这样，鹬和蚌相持着，谁也不让谁。正当双方筋疲力尽的时候，有个渔夫看见了，不禁喜笑颜开。他没费一点力气，就把它们一齐捉住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9" descr="sjb06_139"/>
          <p:cNvPicPr/>
          <p:nvPr/>
        </p:nvPicPr>
        <p:blipFill>
          <a:blip r:embed="rId2"/>
          <a:stretch/>
        </p:blipFill>
        <p:spPr>
          <a:xfrm>
            <a:off x="5311800" y="787320"/>
            <a:ext cx="33764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3"/>
          <p:cNvSpPr/>
          <p:nvPr/>
        </p:nvSpPr>
        <p:spPr>
          <a:xfrm>
            <a:off x="1042920" y="2157840"/>
            <a:ext cx="66978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鹬蚌相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双方相持不下，互不相让，结果会两败俱伤，让第三者得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10" descr="战国图"/>
          <p:cNvPicPr/>
          <p:nvPr/>
        </p:nvPicPr>
        <p:blipFill>
          <a:blip r:embed="rId2"/>
          <a:stretch/>
        </p:blipFill>
        <p:spPr>
          <a:xfrm>
            <a:off x="1403280" y="423720"/>
            <a:ext cx="6553440" cy="6005520"/>
          </a:xfrm>
          <a:prstGeom prst="rect">
            <a:avLst/>
          </a:prstGeom>
          <a:ln w="0">
            <a:noFill/>
          </a:ln>
        </p:spPr>
      </p:pic>
      <p:sp>
        <p:nvSpPr>
          <p:cNvPr id="582" name="Line 9"/>
          <p:cNvSpPr/>
          <p:nvPr/>
        </p:nvSpPr>
        <p:spPr>
          <a:xfrm flipV="1">
            <a:off x="4429080" y="1484280"/>
            <a:ext cx="792360" cy="432000"/>
          </a:xfrm>
          <a:prstGeom prst="line">
            <a:avLst/>
          </a:prstGeom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6"/>
          <p:cNvSpPr/>
          <p:nvPr/>
        </p:nvSpPr>
        <p:spPr>
          <a:xfrm>
            <a:off x="3651120" y="1844640"/>
            <a:ext cx="648000" cy="628560"/>
          </a:xfrm>
          <a:prstGeom prst="ellipse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7"/>
          <p:cNvSpPr/>
          <p:nvPr/>
        </p:nvSpPr>
        <p:spPr>
          <a:xfrm>
            <a:off x="5489640" y="927000"/>
            <a:ext cx="647640" cy="630360"/>
          </a:xfrm>
          <a:prstGeom prst="ellipse">
            <a:avLst/>
          </a:pr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5" descr="未命名"/>
          <p:cNvPicPr/>
          <p:nvPr/>
        </p:nvPicPr>
        <p:blipFill>
          <a:blip r:embed="rId3"/>
          <a:stretch/>
        </p:blipFill>
        <p:spPr>
          <a:xfrm>
            <a:off x="1403280" y="404640"/>
            <a:ext cx="792360" cy="20876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2"/>
          <p:cNvSpPr/>
          <p:nvPr/>
        </p:nvSpPr>
        <p:spPr>
          <a:xfrm>
            <a:off x="684360" y="2708280"/>
            <a:ext cx="64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"/>
              </a:rPr>
              <a:t>秦最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5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战国策"/>
          <p:cNvPicPr/>
          <p:nvPr/>
        </p:nvPicPr>
        <p:blipFill>
          <a:blip r:embed="rId2"/>
          <a:stretch/>
        </p:blipFill>
        <p:spPr>
          <a:xfrm>
            <a:off x="1476360" y="1052640"/>
            <a:ext cx="3040200" cy="463212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6"/>
          <p:cNvSpPr/>
          <p:nvPr/>
        </p:nvSpPr>
        <p:spPr>
          <a:xfrm>
            <a:off x="5148360" y="1341360"/>
            <a:ext cx="2808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画蛇添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亡羊补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狐假虎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狡兔三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南辕北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5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4"/>
          <p:cNvSpPr/>
          <p:nvPr/>
        </p:nvSpPr>
        <p:spPr>
          <a:xfrm>
            <a:off x="1258920" y="1413000"/>
            <a:ext cx="712944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作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默读补充资料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两只狗熊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完成练习。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①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文中，谁是鹬蚌？谁是渔翁？</a:t>
            </a:r>
            <a:r>
              <a:rPr b="0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读了以后，你一定有话想说，请你用上 “鹬蚌相争，渔翁得利”说一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完成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补充习题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四大题第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小题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文本框 1"/>
          <p:cNvSpPr/>
          <p:nvPr/>
        </p:nvSpPr>
        <p:spPr>
          <a:xfrm>
            <a:off x="1428840" y="5110200"/>
            <a:ext cx="678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6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684360" y="1863360"/>
            <a:ext cx="7993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狗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两只狗熊，一只叫大黑，一只叫小黑。一天，哥儿俩在路边捡到了一块面包，怎么吃呢？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黑说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咱们分了吃，可是要分得公平，我的不能比你的小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黑说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，要分得公平，你的不能比我的大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儿俩正闹着呢，狐狸来了，她看见面包，眼珠骨碌碌一转，说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噢，你们是怕分得不公平吧，让我来帮你们分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哥儿俩同意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接过面包，把它分成两块，哥儿俩一看，连忙叫起来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行！不行！一块大，一块小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说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别着急，瞧，这一块大一点吧，我咬它一口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张开大嘴巴咬了一口。哥儿俩一看，又叫起来了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行，不行，这块大的被你咬了一口，又变成小的了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狐狸说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块大的我再咬它一口吧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张开大嘴巴又咬了一口，哥儿俩一看，急得叫起来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块大的被你咬一口，又变成小的了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这样，狐狸这块咬一口，那块咬一口，面包只剩下小手指头那么一点儿了。她把面包分给哥儿俩，说：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在两块面包都一样大小了，吃吧，吃吧，吃得饱饱的。</a:t>
            </a: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1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黑和小黑你看看我，我看看你，一句话也说不出来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662B-46DE-4530-B084-377E74C075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6" descr="未命名3"/>
          <p:cNvPicPr/>
          <p:nvPr/>
        </p:nvPicPr>
        <p:blipFill>
          <a:blip r:embed="rId1"/>
          <a:srcRect l="6269" t="6480" r="6448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鹬2"/>
          <p:cNvPicPr/>
          <p:nvPr/>
        </p:nvPicPr>
        <p:blipFill>
          <a:blip r:embed="rId2"/>
          <a:stretch/>
        </p:blipFill>
        <p:spPr>
          <a:xfrm>
            <a:off x="1619280" y="404640"/>
            <a:ext cx="5280120" cy="60487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8"/>
          <p:cNvSpPr/>
          <p:nvPr/>
        </p:nvSpPr>
        <p:spPr>
          <a:xfrm>
            <a:off x="7020000" y="3699000"/>
            <a:ext cx="100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6" descr="未命名3"/>
          <p:cNvPicPr/>
          <p:nvPr/>
        </p:nvPicPr>
        <p:blipFill>
          <a:blip r:embed="rId1"/>
          <a:srcRect l="6269" t="6480" r="6448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0" descr="蚌2"/>
          <p:cNvPicPr/>
          <p:nvPr/>
        </p:nvPicPr>
        <p:blipFill>
          <a:blip r:embed="rId2"/>
          <a:stretch/>
        </p:blipFill>
        <p:spPr>
          <a:xfrm>
            <a:off x="1332000" y="1125360"/>
            <a:ext cx="6408720" cy="427536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11"/>
          <p:cNvSpPr/>
          <p:nvPr/>
        </p:nvSpPr>
        <p:spPr>
          <a:xfrm>
            <a:off x="7308720" y="3789360"/>
            <a:ext cx="10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" descr="未命名3"/>
          <p:cNvPicPr/>
          <p:nvPr/>
        </p:nvPicPr>
        <p:blipFill>
          <a:blip r:embed="rId1"/>
          <a:srcRect l="6269" t="6480" r="6448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4"/>
          <p:cNvSpPr/>
          <p:nvPr/>
        </p:nvSpPr>
        <p:spPr>
          <a:xfrm>
            <a:off x="1908000" y="2060640"/>
            <a:ext cx="4535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1447920" y="901800"/>
            <a:ext cx="655308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啄肉       夹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威胁       毫不示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相持       </a:t>
            </a:r>
            <a:r>
              <a:rPr b="0" lang="zh-CN" sz="4800" spc="-1" strike="noStrike">
                <a:solidFill>
                  <a:srgbClr val="0000ff"/>
                </a:solidFill>
                <a:latin typeface="楷体"/>
                <a:ea typeface="楷体"/>
              </a:rPr>
              <a:t>筋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疲力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1447920" y="69048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0000"/>
                </a:solidFill>
                <a:latin typeface="Arial"/>
              </a:rPr>
              <a:t>zhuó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4976640" y="685800"/>
            <a:ext cx="100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0000"/>
                </a:solidFill>
                <a:latin typeface="Arial"/>
              </a:rPr>
              <a:t>jiā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4943520" y="286056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40000"/>
                </a:solidFill>
                <a:latin typeface="Arial"/>
              </a:rPr>
              <a:t>jī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6848640" y="3549600"/>
            <a:ext cx="49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0000"/>
                </a:solidFill>
                <a:latin typeface="Arial"/>
                <a:ea typeface="楷体_GB2312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1"/>
          <p:cNvSpPr/>
          <p:nvPr/>
        </p:nvSpPr>
        <p:spPr>
          <a:xfrm>
            <a:off x="838080" y="4343400"/>
            <a:ext cx="8055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尽：① 完；② 全，都；③ 全部用出；④ 死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同归于</a:t>
            </a:r>
            <a:r>
              <a:rPr b="0" lang="zh-CN" sz="2800" spc="-1" strike="noStrike">
                <a:solidFill>
                  <a:srgbClr val="e40000"/>
                </a:solidFill>
                <a:latin typeface="楷体"/>
                <a:ea typeface="楷体"/>
              </a:rPr>
              <a:t>尽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）     </a:t>
            </a:r>
            <a:r>
              <a:rPr b="0" lang="zh-CN" sz="2800" spc="-1" strike="noStrike">
                <a:solidFill>
                  <a:srgbClr val="e40000"/>
                </a:solidFill>
                <a:latin typeface="楷体"/>
                <a:ea typeface="楷体"/>
              </a:rPr>
              <a:t>尽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</a:t>
            </a:r>
            <a:r>
              <a:rPr b="0" lang="zh-CN" sz="2800" spc="-1" strike="noStrike">
                <a:solidFill>
                  <a:srgbClr val="e40000"/>
                </a:solidFill>
                <a:latin typeface="楷体"/>
                <a:ea typeface="楷体"/>
              </a:rPr>
              <a:t>尽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力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应有</a:t>
            </a:r>
            <a:r>
              <a:rPr b="0" lang="zh-CN" sz="2800" spc="-1" strike="noStrike">
                <a:solidFill>
                  <a:srgbClr val="e40000"/>
                </a:solidFill>
                <a:latin typeface="楷体"/>
                <a:ea typeface="楷体"/>
              </a:rPr>
              <a:t>尽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有（   ）     筋疲力</a:t>
            </a:r>
            <a:r>
              <a:rPr b="0" lang="zh-CN" sz="2800" spc="-1" strike="noStrike">
                <a:solidFill>
                  <a:srgbClr val="e40000"/>
                </a:solidFill>
                <a:latin typeface="楷体"/>
                <a:ea typeface="楷体"/>
              </a:rPr>
              <a:t>尽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2"/>
          <p:cNvSpPr/>
          <p:nvPr/>
        </p:nvSpPr>
        <p:spPr>
          <a:xfrm>
            <a:off x="7380360" y="32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Picture 3" descr="未命名3"/>
          <p:cNvPicPr/>
          <p:nvPr/>
        </p:nvPicPr>
        <p:blipFill>
          <a:blip r:embed="rId1"/>
          <a:srcRect l="6269" t="6480" r="6448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4"/>
          <p:cNvSpPr/>
          <p:nvPr/>
        </p:nvSpPr>
        <p:spPr>
          <a:xfrm>
            <a:off x="900000" y="1484280"/>
            <a:ext cx="7488360" cy="40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鹬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河蚌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它们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渔夫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4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539640" y="1323000"/>
            <a:ext cx="8136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e40000"/>
                </a:solidFill>
                <a:latin typeface="楷体"/>
                <a:ea typeface="楷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鹬用尽力气，还是拔不出嘴来，便威胁蚌说：“你不松开壳儿，就等瞧吧。今天不下雨，明天不下雨，没有了水，你就会干死在这河滩上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en-US" sz="2800" spc="-1" strike="noStrike">
                <a:solidFill>
                  <a:srgbClr val="e40000"/>
                </a:solidFill>
                <a:latin typeface="楷体"/>
                <a:ea typeface="楷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河蚌毫不示弱，得意洋洋地说：“我就这样夹住你的嘴不放。今天拔不出来，明天拔不出来，吃不到东西，你也会饿死在这河滩上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468360" y="4428000"/>
            <a:ext cx="784872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正当双方筋疲力尽的时候，有个渔夫看见了，不禁喜笑颜开。他没费一点力气，就把它们一齐捉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7"/>
          <p:cNvSpPr/>
          <p:nvPr/>
        </p:nvSpPr>
        <p:spPr>
          <a:xfrm>
            <a:off x="1135080" y="4797360"/>
            <a:ext cx="5688000" cy="0"/>
          </a:xfrm>
          <a:prstGeom prst="line">
            <a:avLst/>
          </a:prstGeom>
          <a:ln w="22320">
            <a:solidFill>
              <a:srgbClr val="e4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539640" y="4149720"/>
            <a:ext cx="727236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e40000"/>
                </a:solidFill>
                <a:latin typeface="楷体"/>
                <a:ea typeface="楷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就这样，鹬和蚌相持着，谁也不让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2"/>
          <p:cNvSpPr/>
          <p:nvPr/>
        </p:nvSpPr>
        <p:spPr>
          <a:xfrm rot="10800000">
            <a:off x="3492360" y="5876640"/>
            <a:ext cx="1440000" cy="647640"/>
          </a:xfrm>
          <a:prstGeom prst="wedgeRoundRectCallout">
            <a:avLst>
              <a:gd name="adj1" fmla="val -39087"/>
              <a:gd name="adj2" fmla="val 202694"/>
              <a:gd name="adj3" fmla="val 16667"/>
            </a:avLst>
          </a:prstGeom>
          <a:solidFill>
            <a:srgbClr val="00ccff">
              <a:alpha val="3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0000"/>
                </a:solidFill>
                <a:latin typeface="Arial"/>
                <a:ea typeface="楷体"/>
              </a:rPr>
              <a:t>过渡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4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12"/>
          <p:cNvSpPr/>
          <p:nvPr/>
        </p:nvSpPr>
        <p:spPr>
          <a:xfrm>
            <a:off x="1332000" y="1816200"/>
            <a:ext cx="734544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鹬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去啄河蚌的肉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河蚌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夹住了鹬的嘴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它们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相持着，谁也不让谁       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渔夫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没费一点力气，就把他们一齐捉住了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3"/>
          <p:cNvSpPr/>
          <p:nvPr/>
        </p:nvSpPr>
        <p:spPr>
          <a:xfrm>
            <a:off x="468360" y="18874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  <a:ea typeface="黑体"/>
              </a:rPr>
              <a:t>起因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4"/>
          <p:cNvSpPr/>
          <p:nvPr/>
        </p:nvSpPr>
        <p:spPr>
          <a:xfrm>
            <a:off x="468360" y="282420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  <a:ea typeface="黑体"/>
              </a:rPr>
              <a:t>经过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5"/>
          <p:cNvSpPr/>
          <p:nvPr/>
        </p:nvSpPr>
        <p:spPr>
          <a:xfrm>
            <a:off x="468360" y="375912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  <a:ea typeface="黑体"/>
              </a:rPr>
              <a:t>结果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6"/>
          <p:cNvSpPr/>
          <p:nvPr/>
        </p:nvSpPr>
        <p:spPr>
          <a:xfrm>
            <a:off x="7524720" y="1959120"/>
            <a:ext cx="432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①</a:t>
            </a:r>
            <a:r>
              <a:rPr b="0" lang="en-US" sz="18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7"/>
          <p:cNvSpPr/>
          <p:nvPr/>
        </p:nvSpPr>
        <p:spPr>
          <a:xfrm>
            <a:off x="8244000" y="3759120"/>
            <a:ext cx="43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④</a:t>
            </a:r>
            <a:r>
              <a:rPr b="0" lang="en-US" sz="2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8"/>
          <p:cNvSpPr/>
          <p:nvPr/>
        </p:nvSpPr>
        <p:spPr>
          <a:xfrm>
            <a:off x="7596360" y="27511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－③</a:t>
            </a:r>
            <a:r>
              <a:rPr b="0" lang="zh-CN" sz="2400" spc="-1" strike="noStrike">
                <a:solidFill>
                  <a:srgbClr val="e4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 Box 3"/>
          <p:cNvSpPr/>
          <p:nvPr/>
        </p:nvSpPr>
        <p:spPr>
          <a:xfrm>
            <a:off x="971640" y="907920"/>
            <a:ext cx="7272360" cy="26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表演小贴士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练读他们的对话，想一想读好他们的对话，要注意什么？语气怎么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加上动作，反复练读对话并熟记于心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13" descr="未命名3"/>
          <p:cNvPicPr/>
          <p:nvPr/>
        </p:nvPicPr>
        <p:blipFill>
          <a:blip r:embed="rId1"/>
          <a:srcRect l="8601" t="6480" r="8792" b="63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5"/>
          <p:cNvSpPr/>
          <p:nvPr/>
        </p:nvSpPr>
        <p:spPr>
          <a:xfrm>
            <a:off x="539640" y="2126520"/>
            <a:ext cx="78487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鹬用尽力气，还是拔不出嘴来，便   蚌说：“你不松开壳儿，就等着瞧吧。今天不下雨，明天不下雨，没有了水，你就会干死在这河滩上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河蚌         ，        地说：“我就这样夹住你的嘴不放。今天拔不出来，明天拔不出来，吃不到东西，你也会饿死在这河滩上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7236000" y="1125360"/>
            <a:ext cx="122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威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1979640" y="321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毫不示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10"/>
          <p:cNvSpPr/>
          <p:nvPr/>
        </p:nvSpPr>
        <p:spPr>
          <a:xfrm>
            <a:off x="4140360" y="3213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得意洋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7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8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9" dur="1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4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65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66" dur="10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4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1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2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3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74" dur="10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4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" dur="1" fill="hold"/>
                                  <p:tgtEl>
                                    <p:spTgt spid="5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4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0:45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4:18Z</dcterms:modified>
  <cp:revision>1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2</vt:r8>
  </property>
</Properties>
</file>