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laser.wav" ContentType="audio/x-wav"/>
  <Override PartName="/ppt/media/image5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camera.wav" ContentType="audio/x-wav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AF77-8289-464A-8B12-7830EB5477E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420D-DF22-40ED-9A4E-78B389086F4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F3D-4D07-4582-9DC3-C35D6EA1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AA97-63EE-4C60-A30C-C62D21CE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FE6-633A-4A8B-8482-D584B753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8380-EF0C-464F-ABE2-AA738405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9C3C-6DE1-4337-B76F-19EE5124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93F9-6A17-4E5B-9315-3965B082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4A7D-D07D-4D98-B5D7-72FBC9DA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EA3B-FBD1-4156-9FB2-D3F3E5D4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2F89-1B38-4BD6-83AB-4514BD0B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A8F8-F51F-4279-A565-9D1F3AF2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4316-C8FB-41ED-9130-49BD619D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87B-F8BA-4050-8DAE-189AF613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35F1-B587-41B0-9155-15BA2232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31FA-D980-428B-8BE3-6277BA51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B4B5-D63B-48D9-87C0-E8471EE5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965E-5F48-4001-A1FF-044157B2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39AF-782F-4DFE-B035-ED021A0E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849D-9C17-41C7-BC20-E844FF51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FE63-4F67-48FA-954C-E4FABACE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F06C-096D-48AA-B8B9-18B9E0D5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B5B-73E2-4ED6-A39C-3CF829D8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948-1C95-4652-A5E2-28250A14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F02-CE68-40D9-8AD9-26C63220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B29-521A-49DC-AA49-114E6020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6079-A303-4B0C-A010-F7D09EEA2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官方logo副本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小学语文低年级封"/>
          <p:cNvPicPr/>
          <p:nvPr/>
        </p:nvPicPr>
        <p:blipFill>
          <a:blip r:embed="rId4"/>
          <a:srcRect l="0" t="740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4F91-8E00-47F4-ABF9-A40D11EF4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27280" y="1196640"/>
            <a:ext cx="595800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33"/>
                </a:solidFill>
                <a:latin typeface="Arial"/>
                <a:ea typeface="华文彩云"/>
              </a:rPr>
              <a:t>捉不住的蝉声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3382560" y="59180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3027600" y="507600"/>
            <a:ext cx="22377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自己喜欢的方式读第一段思考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课文是怎样描写蝉声的？用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画出有关词句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“四面楚歌、击鼓鸣金”在文中指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79280" y="3213000"/>
            <a:ext cx="9401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“四面楚歌”：比喻四面受敌，处于孤立无援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境地。文中指被蝉声包围着。“鸣金击鼓”：“金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和“鼓”都是指古代的乐器。古时两军作战时用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和金发号施令，击鼓则进，鸣金则退。文中把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的叫声比作鸣金击鼓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53964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“我”听到蝉声有什么反应？此时的心情怎样？从那句话可以看出来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484360" y="1341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惊喜）</a:t>
            </a: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9640" y="1916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们认为这一自然段写得好吗？为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11280" y="2637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作者用比喻的修辞手法写了自己听到蝉声后欣喜若狂的心情。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50920" y="3789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文章在写蝉声之前为什么要先写自己听到了许多“车声、敲打声、售票小姐不耐烦的喊声、低低哑哑的窃窃私语声”？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468360" y="537372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写这些声音，目的是为了将其与蝉声进行对比，从而反衬出蝉声的鲜活。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971640" y="6922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由朗读课文第二段思考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042920" y="1628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夏日，“我们”最兴奋的是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042920" y="2852640"/>
            <a:ext cx="568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042920" y="27050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从文中那些地方可以看出作者喜欢捉蝉？找出来读一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187280" y="4570560"/>
            <a:ext cx="61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2081160" y="3860640"/>
            <a:ext cx="432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你能想象一群小学生，书包搁在路边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不怕掉到河里，也不怕勾破衣服，更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怕破皮流血，就一脚上一脚下地直往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的怀里钻的那股猛劲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3132000" y="1413000"/>
            <a:ext cx="1224000" cy="6426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方正卡通简体"/>
              </a:rPr>
              <a:t>紧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135800" y="1413000"/>
            <a:ext cx="668520" cy="58140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Times New Roman"/>
                <a:ea typeface="方正卡通简体"/>
              </a:rPr>
              <a:t>兴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364000" y="1413000"/>
            <a:ext cx="1152720" cy="6426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方正卡通简体"/>
              </a:rPr>
              <a:t>小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2268360" y="1557360"/>
            <a:ext cx="503280" cy="287280"/>
          </a:xfrm>
          <a:prstGeom prst="rightArrow">
            <a:avLst>
              <a:gd name="adj1" fmla="val 50000"/>
              <a:gd name="adj2" fmla="val 43781"/>
            </a:avLst>
          </a:prstGeom>
          <a:solidFill>
            <a:srgbClr val="cc0000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4500720" y="1557360"/>
            <a:ext cx="502920" cy="287280"/>
          </a:xfrm>
          <a:prstGeom prst="rightArrow">
            <a:avLst>
              <a:gd name="adj1" fmla="val 50000"/>
              <a:gd name="adj2" fmla="val 43749"/>
            </a:avLst>
          </a:prstGeom>
          <a:solidFill>
            <a:srgbClr val="cc0000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539640" y="1989000"/>
            <a:ext cx="2087640" cy="3384720"/>
            <a:chOff x="539640" y="1989000"/>
            <a:chExt cx="2087640" cy="3384720"/>
          </a:xfrm>
        </p:grpSpPr>
        <p:sp>
          <p:nvSpPr>
            <p:cNvPr id="143" name="AutoShape 13"/>
            <p:cNvSpPr/>
            <p:nvPr/>
          </p:nvSpPr>
          <p:spPr>
            <a:xfrm>
              <a:off x="539640" y="1989000"/>
              <a:ext cx="1871640" cy="3384720"/>
            </a:xfrm>
            <a:prstGeom prst="upArrowCallout">
              <a:avLst>
                <a:gd name="adj1" fmla="val 25002"/>
                <a:gd name="adj2" fmla="val 25000"/>
                <a:gd name="adj3" fmla="val 30124"/>
                <a:gd name="adj4" fmla="val 66660"/>
              </a:avLst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Text Box 14"/>
            <p:cNvSpPr/>
            <p:nvPr/>
          </p:nvSpPr>
          <p:spPr>
            <a:xfrm>
              <a:off x="611280" y="3357720"/>
              <a:ext cx="2016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方正魏碑简体"/>
                </a:rPr>
                <a:t>“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方正魏碑简体"/>
                </a:rPr>
                <a:t>抓到了！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方正魏碑简体"/>
                </a:rPr>
                <a:t>抓到了！”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Group 20"/>
          <p:cNvGrpSpPr/>
          <p:nvPr/>
        </p:nvGrpSpPr>
        <p:grpSpPr>
          <a:xfrm>
            <a:off x="2700360" y="2066760"/>
            <a:ext cx="1871640" cy="3384720"/>
            <a:chOff x="2700360" y="2066760"/>
            <a:chExt cx="1871640" cy="3384720"/>
          </a:xfrm>
        </p:grpSpPr>
        <p:sp>
          <p:nvSpPr>
            <p:cNvPr id="146" name="AutoShape 15"/>
            <p:cNvSpPr/>
            <p:nvPr/>
          </p:nvSpPr>
          <p:spPr>
            <a:xfrm>
              <a:off x="2700360" y="2066760"/>
              <a:ext cx="1871640" cy="3384720"/>
            </a:xfrm>
            <a:prstGeom prst="upArrowCallout">
              <a:avLst>
                <a:gd name="adj1" fmla="val 25002"/>
                <a:gd name="adj2" fmla="val 25000"/>
                <a:gd name="adj3" fmla="val 30124"/>
                <a:gd name="adj4" fmla="val 66660"/>
              </a:avLst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Text Box 17"/>
            <p:cNvSpPr/>
            <p:nvPr/>
          </p:nvSpPr>
          <p:spPr>
            <a:xfrm>
              <a:off x="2771640" y="3290760"/>
              <a:ext cx="172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Times New Roman"/>
                  <a:ea typeface="方正魏碑简体"/>
                </a:rPr>
                <a:t>那种紧张就像</a:t>
              </a:r>
              <a:r>
                <a:rPr b="1" lang="en-US" sz="2000" spc="-1" strike="noStrike">
                  <a:solidFill>
                    <a:srgbClr val="990033"/>
                  </a:solidFill>
                  <a:latin typeface="Times New Roman"/>
                  <a:ea typeface="方正魏碑简体"/>
                </a:rPr>
                <a:t>《</a:t>
              </a:r>
              <a:r>
                <a:rPr b="1" lang="zh-CN" sz="2000" spc="-1" strike="noStrike">
                  <a:solidFill>
                    <a:srgbClr val="990033"/>
                  </a:solidFill>
                  <a:latin typeface="Times New Roman"/>
                  <a:ea typeface="方正魏碑简体"/>
                </a:rPr>
                <a:t>天方夜谭</a:t>
              </a:r>
              <a:r>
                <a:rPr b="1" lang="en-US" sz="2000" spc="-1" strike="noStrike">
                  <a:solidFill>
                    <a:srgbClr val="990033"/>
                  </a:solidFill>
                  <a:latin typeface="Times New Roman"/>
                  <a:ea typeface="方正魏碑简体"/>
                </a:rPr>
                <a:t>》</a:t>
              </a:r>
              <a:r>
                <a:rPr b="1" lang="zh-CN" sz="2000" spc="-1" strike="noStrike">
                  <a:solidFill>
                    <a:srgbClr val="990033"/>
                  </a:solidFill>
                  <a:latin typeface="Times New Roman"/>
                  <a:ea typeface="方正魏碑简体"/>
                </a:rPr>
                <a:t>里的渔夫用计把巨魔骗进古坛之后，赶忙封好咒符再不敢去碰它一般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" name="Group 21"/>
          <p:cNvGrpSpPr/>
          <p:nvPr/>
        </p:nvGrpSpPr>
        <p:grpSpPr>
          <a:xfrm>
            <a:off x="4859280" y="2066760"/>
            <a:ext cx="1944720" cy="3384720"/>
            <a:chOff x="4859280" y="2066760"/>
            <a:chExt cx="1944720" cy="3384720"/>
          </a:xfrm>
        </p:grpSpPr>
        <p:sp>
          <p:nvSpPr>
            <p:cNvPr id="149" name="AutoShape 16"/>
            <p:cNvSpPr/>
            <p:nvPr/>
          </p:nvSpPr>
          <p:spPr>
            <a:xfrm>
              <a:off x="4859280" y="2066760"/>
              <a:ext cx="1871640" cy="3384720"/>
            </a:xfrm>
            <a:prstGeom prst="upArrowCallout">
              <a:avLst>
                <a:gd name="adj1" fmla="val 25002"/>
                <a:gd name="adj2" fmla="val 25000"/>
                <a:gd name="adj3" fmla="val 30124"/>
                <a:gd name="adj4" fmla="val 66660"/>
              </a:avLst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4932360" y="329076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cc"/>
                  </a:solidFill>
                  <a:latin typeface="Times New Roman"/>
                  <a:ea typeface="方正魏碑简体"/>
                </a:rPr>
                <a:t>就像打开保险柜一般小心，心里痒痒的时候，也只敢凑一只眼睛开一条小缝去瞄几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Rectangle 22"/>
          <p:cNvSpPr/>
          <p:nvPr/>
        </p:nvSpPr>
        <p:spPr>
          <a:xfrm>
            <a:off x="0" y="260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捉住蝉后，孩子们是怎么做的？心情怎么样？要打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铅笔盒时，孩子们又是怎么做的？心情又是怎样的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39640" y="47628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齐读最后一句话，想一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这句话在文中起什么作用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68360" y="162864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与文章开头相呼应，捉蝉乐趣无穷，蝉声悦耳，勾起了我们美好的回忆。是对全文忆蝉、捉蝉、玩蝉的总结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39640" y="335772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为什么说“捉得住蝉，却捉不住蝉声”？你从中感悟到了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84360" y="4508640"/>
            <a:ext cx="71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意思是孩子们能捉到蝉，但离开了大自然的蝉，不再动听地鸣叫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短短一句话，让人感悟到：美的事物要让其自然呈现，而不可以人为的束缚来掌控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1258920" y="1268280"/>
            <a:ext cx="59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4211640" y="404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整体感悟，体会情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48360" y="1341360"/>
            <a:ext cx="31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后小练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5219640" y="2276640"/>
            <a:ext cx="25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学们，你们有过捕蝉的经历吗？请联系生活实际，说一说，写一写夏日捕蝉的乐趣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9" descr="JRZB20080805A10b005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835280" y="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板书设计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755640" y="1557360"/>
            <a:ext cx="80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听到久违的蚕声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心驰神往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屏气凝神地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755640" y="2997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追思童年的乐趣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3924360" y="2133720"/>
            <a:ext cx="403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捡回童年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捡回蚕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喜欢捉蚕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专走僻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上树捉蚕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勇猛快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相互炫耀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爱如宝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整个夏天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兴高采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826920" y="443700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独特的理解感受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捉得住蚕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却捉不住蚕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-277200" y="1916280"/>
            <a:ext cx="11552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捉不住 的蚕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文本框 1"/>
          <p:cNvSpPr/>
          <p:nvPr/>
        </p:nvSpPr>
        <p:spPr>
          <a:xfrm>
            <a:off x="1104840" y="5699160"/>
            <a:ext cx="61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395280" y="1844640"/>
            <a:ext cx="856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这是一篇优美的抒情散文，全文围绕情感发展中“寻找蝉声”的线索构思全文：久违的蝉声突然到来，回忆童年捉蝉养蝉的乐趣，最后以这里感悟到美的事物要让其自然呈现，而不可以人为的束缚体验结束，作者借蝉声勾起了往事，勾出了纯真的童心，领悟掌控的道理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611280" y="873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心思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EBD6-94C1-4397-847A-9FCBBA60A8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200606231015564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5" descr="a0bab07fc2da002629388af4"/>
          <p:cNvPicPr/>
          <p:nvPr/>
        </p:nvPicPr>
        <p:blipFill>
          <a:blip r:embed="rId1"/>
          <a:stretch/>
        </p:blipFill>
        <p:spPr>
          <a:xfrm>
            <a:off x="826920" y="404640"/>
            <a:ext cx="76201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5" descr="1e1d532899173303d52af100"/>
          <p:cNvPicPr/>
          <p:nvPr/>
        </p:nvPicPr>
        <p:blipFill>
          <a:blip r:embed="rId1"/>
          <a:stretch/>
        </p:blipFill>
        <p:spPr>
          <a:xfrm>
            <a:off x="684360" y="404640"/>
            <a:ext cx="7775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4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5" descr="a0ed4d3f18812de99e3d6207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4788000" y="0"/>
            <a:ext cx="31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蝉，又名知了，是一种昆虫。最大的蝉体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—4﹒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厘米，翅膀基部黑褐色，夏天在树上叫声响亮。用针刺口器吸取树汁，幼虫栖息土中吸取树根液汁，对树木有害。蝉蜕下的壳可以做药材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0" y="1125360"/>
            <a:ext cx="810108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窃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私语         天方夜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谭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着翅膀 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喜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耀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瞄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95280" y="692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i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059280" y="692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067280" y="69228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ǎ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300720" y="620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79280" y="34290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ù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3429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uà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924360" y="3429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á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324000" y="1906560"/>
            <a:ext cx="122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盗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窃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411280" y="1916280"/>
            <a:ext cx="122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姓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3924360" y="1700280"/>
            <a:ext cx="23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敛  敛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敛钱  敛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6443640" y="1773360"/>
            <a:ext cx="11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颇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偏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0" y="4797360"/>
            <a:ext cx="151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转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瞬息万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1979640" y="4797360"/>
            <a:ext cx="129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炫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眩晕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3995640" y="4869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瞄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6"/>
          <p:cNvSpPr/>
          <p:nvPr/>
        </p:nvSpPr>
        <p:spPr>
          <a:xfrm>
            <a:off x="324000" y="1052640"/>
            <a:ext cx="8424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方正粗圆简体"/>
                <a:ea typeface="方正粗圆简体"/>
              </a:rPr>
              <a:t>窃窃私语    四面楚歌    鸣金击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方正粗圆简体"/>
                <a:ea typeface="方正粗圆简体"/>
              </a:rPr>
              <a:t>屏气凝神    不约而同    天方夜谭</a:t>
            </a:r>
            <a:r>
              <a:rPr b="1" lang="zh-CN" sz="3200" spc="-1" strike="noStrike">
                <a:solidFill>
                  <a:srgbClr val="660066"/>
                </a:solidFill>
                <a:latin typeface="方正粗圆简体"/>
                <a:ea typeface="方正粗圆简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方正粗圆简体"/>
                <a:ea typeface="方正粗圆简体"/>
              </a:rPr>
              <a:t>高树浓荫    田园农舍    </a:t>
            </a:r>
            <a:r>
              <a:rPr b="1" lang="zh-CN" sz="3200" spc="-1" strike="noStrike">
                <a:solidFill>
                  <a:srgbClr val="ff3399"/>
                </a:solidFill>
                <a:latin typeface="方正粗圆简体"/>
                <a:ea typeface="方正粗圆简体"/>
              </a:rPr>
              <a:t>人迹罕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方正粗圆简体"/>
                <a:ea typeface="方正粗圆简体"/>
              </a:rPr>
              <a:t>呼朋引伴</a:t>
            </a:r>
            <a:r>
              <a:rPr b="1" lang="zh-CN" sz="3200" spc="-1" strike="noStrike">
                <a:solidFill>
                  <a:srgbClr val="660066"/>
                </a:solidFill>
                <a:latin typeface="方正粗圆简体"/>
                <a:ea typeface="方正粗圆简体"/>
              </a:rPr>
              <a:t>    兴高采烈     低低哑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方正粗圆简体"/>
                <a:ea typeface="方正粗圆简体"/>
              </a:rPr>
              <a:t>门槛    幽深    符咒     </a:t>
            </a:r>
            <a:r>
              <a:rPr b="1" lang="zh-CN" sz="3200" spc="-1" strike="noStrike">
                <a:solidFill>
                  <a:srgbClr val="ff3399"/>
                </a:solidFill>
                <a:latin typeface="方正粗圆简体"/>
                <a:ea typeface="方正粗圆简体"/>
              </a:rPr>
              <a:t>敛着翅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方正粗圆简体"/>
                <a:ea typeface="方正粗圆简体"/>
              </a:rPr>
              <a:t>乞求         强迫          闪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39640" y="4046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认真读下面的词语，理解红色词语的意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7"/>
          <p:cNvSpPr/>
          <p:nvPr/>
        </p:nvSpPr>
        <p:spPr>
          <a:xfrm>
            <a:off x="1006560" y="333360"/>
            <a:ext cx="81374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窃窃私语：</a:t>
            </a:r>
            <a:r>
              <a:rPr b="1" lang="zh-CN" sz="28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悄悄地、小声地说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四面楚歌：</a:t>
            </a:r>
            <a:r>
              <a:rPr b="1" lang="zh-CN" sz="28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比喻四面受敌、孤立无援的境地。本文指被蝉声包围着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敛着翅：</a:t>
            </a:r>
            <a:r>
              <a:rPr b="1" lang="zh-CN" sz="28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收着翅膀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0119"/>
                </a:solidFill>
                <a:latin typeface="Times New Roman"/>
                <a:ea typeface="楷体_GB2312"/>
              </a:rPr>
              <a:t>不约而同：</a:t>
            </a:r>
            <a:r>
              <a:rPr b="1" lang="zh-CN" sz="28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事先没有经过商量而彼此的言行一致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0119"/>
                </a:solidFill>
                <a:latin typeface="Times New Roman"/>
                <a:ea typeface="楷体_GB2312"/>
              </a:rPr>
              <a:t>人迹罕至：</a:t>
            </a:r>
            <a:r>
              <a:rPr b="1" lang="zh-CN" sz="28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罕，少。人很到的地方。指偏僻荒凉的地方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0119"/>
                </a:solidFill>
                <a:latin typeface="Times New Roman"/>
                <a:ea typeface="楷体_GB2312"/>
              </a:rPr>
              <a:t>天方夜谭：</a:t>
            </a:r>
            <a:r>
              <a:rPr b="1" lang="zh-CN" sz="28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比喻虚妄荒诞的言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0119"/>
                </a:solidFill>
                <a:latin typeface="Times New Roman"/>
                <a:ea typeface="楷体_GB2312"/>
              </a:rPr>
              <a:t>呼朋引伴：</a:t>
            </a:r>
            <a:r>
              <a:rPr b="1" lang="zh-CN" sz="28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引，招引，牵引。呼唤朋友，招引同伴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（鸟儿呼朋引伴地卖弄清脆的歌喉，唱出婉转的曲子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文章结构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9640" y="2276640"/>
            <a:ext cx="7993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方正卡通简体"/>
                <a:ea typeface="方正卡通简体"/>
              </a:rPr>
              <a:t>第一部分（</a:t>
            </a:r>
            <a:r>
              <a:rPr b="1" lang="en-US" sz="3200" spc="-1" strike="noStrike">
                <a:solidFill>
                  <a:srgbClr val="660066"/>
                </a:solidFill>
                <a:latin typeface="方正卡通简体"/>
                <a:ea typeface="方正卡通简体"/>
              </a:rPr>
              <a:t>1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方正卡通简体"/>
              </a:rPr>
              <a:t>—</a:t>
            </a:r>
            <a:r>
              <a:rPr b="1" lang="en-US" sz="3200" spc="-1" strike="noStrike">
                <a:solidFill>
                  <a:srgbClr val="660066"/>
                </a:solidFill>
                <a:latin typeface="方正卡通简体"/>
                <a:ea typeface="方正卡通简体"/>
              </a:rPr>
              <a:t>3</a:t>
            </a:r>
            <a:r>
              <a:rPr b="1" lang="zh-CN" sz="3200" spc="-1" strike="noStrike">
                <a:solidFill>
                  <a:srgbClr val="660066"/>
                </a:solidFill>
                <a:latin typeface="方正卡通简体"/>
                <a:ea typeface="方正卡通简体"/>
              </a:rPr>
              <a:t>）：写久违的蝉声让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方正卡通简体"/>
              </a:rPr>
              <a:t>“</a:t>
            </a:r>
            <a:r>
              <a:rPr b="1" lang="zh-CN" sz="3200" spc="-1" strike="noStrike">
                <a:solidFill>
                  <a:srgbClr val="660066"/>
                </a:solidFill>
                <a:latin typeface="方正卡通简体"/>
                <a:ea typeface="方正卡通简体"/>
              </a:rPr>
              <a:t>我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方正卡通简体"/>
              </a:rPr>
              <a:t>”</a:t>
            </a:r>
            <a:r>
              <a:rPr b="1" lang="zh-CN" sz="3200" spc="-1" strike="noStrike">
                <a:solidFill>
                  <a:srgbClr val="660066"/>
                </a:solidFill>
                <a:latin typeface="方正卡通简体"/>
                <a:ea typeface="方正卡通简体"/>
              </a:rPr>
              <a:t>感觉到夏天的到来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方正卡通简体"/>
                <a:ea typeface="方正卡通简体"/>
              </a:rPr>
              <a:t>第二部分（</a:t>
            </a:r>
            <a:r>
              <a:rPr b="1" lang="en-US" sz="3200" spc="-1" strike="noStrike">
                <a:solidFill>
                  <a:srgbClr val="660066"/>
                </a:solidFill>
                <a:latin typeface="方正卡通简体"/>
                <a:ea typeface="方正卡通简体"/>
              </a:rPr>
              <a:t>4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方正卡通简体"/>
              </a:rPr>
              <a:t>—</a:t>
            </a:r>
            <a:r>
              <a:rPr b="1" lang="en-US" sz="3200" spc="-1" strike="noStrike">
                <a:solidFill>
                  <a:srgbClr val="660066"/>
                </a:solidFill>
                <a:latin typeface="方正卡通简体"/>
                <a:ea typeface="方正卡通简体"/>
              </a:rPr>
              <a:t>9</a:t>
            </a:r>
            <a:r>
              <a:rPr b="1" lang="zh-CN" sz="3200" spc="-1" strike="noStrike">
                <a:solidFill>
                  <a:srgbClr val="660066"/>
                </a:solidFill>
                <a:latin typeface="方正卡通简体"/>
                <a:ea typeface="方正卡通简体"/>
              </a:rPr>
              <a:t>）：回忆梦幻般捉蝉捕蝉的孩童时代的快乐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方正卡通简体"/>
                <a:ea typeface="方正卡通简体"/>
              </a:rPr>
              <a:t>第三部分（</a:t>
            </a:r>
            <a:r>
              <a:rPr b="1" lang="en-US" sz="3200" spc="-1" strike="noStrike">
                <a:solidFill>
                  <a:srgbClr val="660066"/>
                </a:solidFill>
                <a:latin typeface="方正卡通简体"/>
                <a:ea typeface="方正卡通简体"/>
              </a:rPr>
              <a:t>10</a:t>
            </a:r>
            <a:r>
              <a:rPr b="1" lang="zh-CN" sz="3200" spc="-1" strike="noStrike">
                <a:solidFill>
                  <a:srgbClr val="660066"/>
                </a:solidFill>
                <a:latin typeface="方正卡通简体"/>
                <a:ea typeface="方正卡通简体"/>
              </a:rPr>
              <a:t>）：对捉蝉捕蝉独特的理解和感受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dur="indefinite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3:40:3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3:37Z</dcterms:modified>
  <cp:revision>3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_TemplateID">
    <vt:lpwstr>TC011586392052</vt:lpwstr>
  </property>
</Properties>
</file>