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186C-DB95-46A0-A886-87854BDEFD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B6C-6620-475A-B2B9-F4EBA7D5CA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737-2440-4C86-A197-55F9D082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E34-647B-43EB-9C2F-0EFB9E7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471-F014-4538-8B02-CBFCCE90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B9B-4A78-4E03-98D0-3EF5FB0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769-7232-47FE-95C7-F63D18F5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22F-A1C4-47C3-8A26-D965A34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E3C-697C-457D-8362-DDF5CFF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D31-92F9-4666-B7EB-6411C74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5EA-0DA7-4886-B5AE-6AED652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21C-2E1C-4132-96AF-2CC755D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209-E547-40C1-B9B3-928FED24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F79-05C7-4EE8-B5CA-5297BC4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4BF-0034-4818-85C1-5167A3A8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gif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" Target="slide1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979640" y="1341360"/>
            <a:ext cx="516420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种窗帘</a:t>
            </a:r>
            <a:endParaRPr b="1" lang="en-US" sz="8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197280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2007415195118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95280" y="404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会写的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95280" y="836640"/>
            <a:ext cx="81374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两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  爬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唱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华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龙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会读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窗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陶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花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绿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 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喜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596360" y="6021360"/>
            <a:ext cx="129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2007030504093978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403280" y="1413000"/>
            <a:ext cx="4032360" cy="133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句子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211640" y="3500280"/>
            <a:ext cx="338472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句子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291636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007415195124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11280" y="981000"/>
            <a:ext cx="7921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读课文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-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想一想：为什么全家人都喜欢这彩色的窗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找出表示颜色的词语标上自己喜欢的记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这三段是按什么顺序写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00741719055223"/>
          <p:cNvPicPr/>
          <p:nvPr/>
        </p:nvPicPr>
        <p:blipFill>
          <a:blip r:embed="rId1"/>
          <a:stretch/>
        </p:blipFill>
        <p:spPr>
          <a:xfrm>
            <a:off x="0" y="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24000" y="620640"/>
            <a:ext cx="8459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绿绿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五颜六色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红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  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白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  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蓝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叶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了   藤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了  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金黄金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金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380360" y="6308640"/>
            <a:ext cx="1079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20070305040939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11280" y="907920"/>
            <a:ext cx="76327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按如下顺序写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春天       夏天          秋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2124000" y="3789360"/>
            <a:ext cx="863640" cy="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164360" y="616572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847880" y="558180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2852640"/>
            <a:ext cx="792000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绿藤上开出一朵小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绿藤上开出一朵朵小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5724360" y="5013360"/>
            <a:ext cx="1429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549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一比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279170031"/>
          <p:cNvPicPr/>
          <p:nvPr/>
        </p:nvPicPr>
        <p:blipFill>
          <a:blip r:embed="rId1"/>
          <a:stretch/>
        </p:blipFill>
        <p:spPr>
          <a:xfrm>
            <a:off x="0" y="3284640"/>
            <a:ext cx="529272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279146265"/>
          <p:cNvPicPr/>
          <p:nvPr/>
        </p:nvPicPr>
        <p:blipFill>
          <a:blip r:embed="rId2"/>
          <a:stretch/>
        </p:blipFill>
        <p:spPr>
          <a:xfrm>
            <a:off x="5580000" y="0"/>
            <a:ext cx="3240000" cy="3573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7524720" y="6165720"/>
            <a:ext cx="107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279170031"/>
          <p:cNvPicPr/>
          <p:nvPr/>
        </p:nvPicPr>
        <p:blipFill>
          <a:blip r:embed="rId4"/>
          <a:stretch/>
        </p:blipFill>
        <p:spPr>
          <a:xfrm>
            <a:off x="0" y="3298680"/>
            <a:ext cx="529272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26028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565360"/>
            <a:ext cx="820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家的窗帘是陶陶种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家的窗帘呢，是陶陶种的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419640" y="422100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7380360" y="422100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279146265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5157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279170031"/>
          <p:cNvPicPr/>
          <p:nvPr/>
        </p:nvPicPr>
        <p:blipFill>
          <a:blip r:embed="rId2"/>
          <a:stretch/>
        </p:blipFill>
        <p:spPr>
          <a:xfrm>
            <a:off x="0" y="4508640"/>
            <a:ext cx="5867280" cy="2349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7308720" y="5805360"/>
            <a:ext cx="9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09F-3E97-426F-859A-9B92A6825E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2:12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5:5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