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6FFC-C935-46FE-B792-7906B23125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33F-D109-4373-97EB-A79B58165C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16B-A6B9-4D07-822E-FF8F100D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6D8-A810-45DA-99CF-2D1359A9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2BF-D6D2-47B5-B5CA-2E315A7E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9FE-F6EF-4A52-8B05-2EE1EC05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B4A-9BEC-47EB-9659-84008D95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AC5-CA57-4864-8912-7B1E8BA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FA5-FEEB-4075-B230-4D37CDE7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65C-5F10-4841-91B3-77834426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13E-3FD1-4D2A-99B8-5AA3E82B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13C-F0C3-4E58-86E1-A6E0CFB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D89-FDFA-4F8A-8D7A-510E6EF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42B-F0BF-4858-9745-E9E185B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45C-48DB-4C36-9B61-65EBEAC90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51424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华文彩云"/>
                <a:ea typeface="华文彩云"/>
              </a:rPr>
              <a:t>早晨真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85800" y="971640"/>
            <a:ext cx="647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湘教版小学语文三年级上册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2852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课文，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朗读时要读出韵味来，通过朗读，激发出爱鸟的思想感情，要注意读出比喻句子的语调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节要用轻松愉快的语气来读，体现早晨的美丽景色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节速度要较快，体现出高兴的心情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2"/>
          <p:cNvPicPr/>
          <p:nvPr/>
        </p:nvPicPr>
        <p:blipFill>
          <a:blip r:embed="rId2"/>
          <a:stretch/>
        </p:blipFill>
        <p:spPr>
          <a:xfrm>
            <a:off x="460836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早晨"/>
          <p:cNvPicPr/>
          <p:nvPr/>
        </p:nvPicPr>
        <p:blipFill>
          <a:blip r:embed="rId2"/>
          <a:stretch/>
        </p:blipFill>
        <p:spPr>
          <a:xfrm>
            <a:off x="1828800" y="457200"/>
            <a:ext cx="5256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早晨2"/>
          <p:cNvPicPr/>
          <p:nvPr/>
        </p:nvPicPr>
        <p:blipFill>
          <a:blip r:embed="rId2"/>
          <a:stretch/>
        </p:blipFill>
        <p:spPr>
          <a:xfrm>
            <a:off x="1371600" y="838080"/>
            <a:ext cx="64771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课后生字，说说自己能记住哪些生字？用什么方法识记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（这些字可以用换偏旁法，形近字法进行比较识记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点掌握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捧：右边的下面只有两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领：左边是个“令：右边是“页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飘：注意与“漂”进行比较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嘴：右边不要写错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蹦：“足”字旁，右边是个“朋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闪：第一笔是“点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始：左边是“女”，右边不要写成“合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课文，深入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朗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自由读，说说通过朗读知道了什么？（我们高高兴兴上学校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质疑问难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什么是一同？他们在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同桌共同讨论交流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小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学习了这篇课文以后，你有什么感受？我们应该怎样来爱护环境，珍惜大好时光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986120" y="574560"/>
            <a:ext cx="53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身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句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快乐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奔跑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找朋友的游戏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7F0-4007-4D11-A5E4-53382E9681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认，会写本课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借助词典理解生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朗读体会语言的美感，培养积极向上的情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图说话，理解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仔细看看以下的几张图，说说图画内容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描述的内容和它们相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早晨3"/>
          <p:cNvPicPr/>
          <p:nvPr/>
        </p:nvPicPr>
        <p:blipFill>
          <a:blip r:embed="rId2"/>
          <a:stretch/>
        </p:blipFill>
        <p:spPr>
          <a:xfrm>
            <a:off x="2362320" y="380880"/>
            <a:ext cx="4114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2057400" y="2590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校2"/>
          <p:cNvPicPr/>
          <p:nvPr/>
        </p:nvPicPr>
        <p:blipFill>
          <a:blip r:embed="rId2"/>
          <a:stretch/>
        </p:blipFill>
        <p:spPr>
          <a:xfrm>
            <a:off x="1219320" y="91440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校园的早晨"/>
          <p:cNvPicPr/>
          <p:nvPr/>
        </p:nvPicPr>
        <p:blipFill>
          <a:blip r:embed="rId2"/>
          <a:stretch/>
        </p:blipFill>
        <p:spPr>
          <a:xfrm>
            <a:off x="762120" y="76212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211526460625"/>
          <p:cNvPicPr/>
          <p:nvPr/>
        </p:nvPicPr>
        <p:blipFill>
          <a:blip r:embed="rId2"/>
          <a:stretch/>
        </p:blipFill>
        <p:spPr>
          <a:xfrm>
            <a:off x="990720" y="762120"/>
            <a:ext cx="7086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440" y="762120"/>
            <a:ext cx="74674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字词认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捧   操  艳   领  飘   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奔   符  蹦   吟  闪   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560" y="18288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捧着  鲜艳   飘飘  奔跑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闪耀  开始   小嘴儿  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28:10Z</dcterms:modified>
  <cp:revision>1</cp:revision>
  <dc:subject/>
  <dc:title>早晨真好</dc:title>
</cp:coreProperties>
</file>