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62F3-1FF0-4FB6-9E9C-EBC14EC2D0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BBC2-440D-440A-B0F3-D527AC1123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C84-3F2B-43D9-B42E-D182C4F6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F83-5289-43CA-85F1-5B1662A7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A73-A45F-4AB0-A6E6-51DDBDB8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ECD-8122-470A-B49D-CE5451D0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44D-01F9-4CD6-AC74-A6F042E6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F94-2680-42FB-901B-502AA359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B76-9E4F-40AA-B4B0-41956043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CE1-7BC8-4BF6-994B-681FFF38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DA6-7428-461B-9D08-41C26DFC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DDD-348C-4C8D-8B13-B4328E26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B2E-C17F-428F-A5E1-61C64463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9C3-8CFF-4992-9A2C-CB0BD29E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5114-A39C-49F7-A9E4-E11C83D26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51424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华文彩云"/>
                <a:ea typeface="华文彩云"/>
              </a:rPr>
              <a:t>早晨真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28520" y="5638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读课文，整体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朗读时要读出韵味来，通过朗读，激发出爱鸟的思想感情，要注意读出比喻句子的语调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节要用轻松愉快的语气来读，体现早晨的美丽景色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节速度要较快，体现出高兴的心情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2"/>
          <p:cNvPicPr/>
          <p:nvPr/>
        </p:nvPicPr>
        <p:blipFill>
          <a:blip r:embed="rId2"/>
          <a:stretch/>
        </p:blipFill>
        <p:spPr>
          <a:xfrm>
            <a:off x="4608360" y="0"/>
            <a:ext cx="4535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1"/>
          <p:cNvSpPr/>
          <p:nvPr/>
        </p:nvSpPr>
        <p:spPr>
          <a:xfrm>
            <a:off x="1190520" y="263520"/>
            <a:ext cx="53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早晨"/>
          <p:cNvPicPr/>
          <p:nvPr/>
        </p:nvPicPr>
        <p:blipFill>
          <a:blip r:embed="rId2"/>
          <a:stretch/>
        </p:blipFill>
        <p:spPr>
          <a:xfrm>
            <a:off x="1828800" y="457200"/>
            <a:ext cx="5256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早晨2"/>
          <p:cNvPicPr/>
          <p:nvPr/>
        </p:nvPicPr>
        <p:blipFill>
          <a:blip r:embed="rId2"/>
          <a:stretch/>
        </p:blipFill>
        <p:spPr>
          <a:xfrm>
            <a:off x="1371600" y="838080"/>
            <a:ext cx="647712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352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读课后生字，说说自己能记住哪些生字？用什么方法识记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（这些字可以用换偏旁法，形近字法进行比较识记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重点掌握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捧：右边的下面只有两横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领：左边是个“令：右边是“页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飘：注意与“漂”进行比较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嘴：右边不要写错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蹦：“足”字旁，右边是个“朋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闪：第一笔是“点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　　始：左边是“女”，右边不要写成“合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读课文，深入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朗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自由读，说说通过朗读知道了什么？（我们高高兴兴上学校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质疑问难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什么是一同？他们在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同桌共同讨论交流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142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小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学习了这篇课文以后，你有什么感受？我们应该怎样来爱护环境，珍惜大好时光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0948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试身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句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快乐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奔跑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找朋友的游戏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33DF-0AB4-438E-9D30-E3F185306B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认，会写本课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借助词典理解生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朗读体会语言的美感，培养积极向上的情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360" y="19810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图说话，理解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仔细看看以下的几张图，说说图画内容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描述的内容和它们相关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早晨3"/>
          <p:cNvPicPr/>
          <p:nvPr/>
        </p:nvPicPr>
        <p:blipFill>
          <a:blip r:embed="rId2"/>
          <a:stretch/>
        </p:blipFill>
        <p:spPr>
          <a:xfrm>
            <a:off x="2362320" y="380880"/>
            <a:ext cx="4114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"/>
          <p:cNvSpPr/>
          <p:nvPr/>
        </p:nvSpPr>
        <p:spPr>
          <a:xfrm>
            <a:off x="2057400" y="25909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校2"/>
          <p:cNvPicPr/>
          <p:nvPr/>
        </p:nvPicPr>
        <p:blipFill>
          <a:blip r:embed="rId2"/>
          <a:stretch/>
        </p:blipFill>
        <p:spPr>
          <a:xfrm>
            <a:off x="1219320" y="914400"/>
            <a:ext cx="66294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校园的早晨"/>
          <p:cNvPicPr/>
          <p:nvPr/>
        </p:nvPicPr>
        <p:blipFill>
          <a:blip r:embed="rId2"/>
          <a:stretch/>
        </p:blipFill>
        <p:spPr>
          <a:xfrm>
            <a:off x="762120" y="76212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211526460625"/>
          <p:cNvPicPr/>
          <p:nvPr/>
        </p:nvPicPr>
        <p:blipFill>
          <a:blip r:embed="rId2"/>
          <a:stretch/>
        </p:blipFill>
        <p:spPr>
          <a:xfrm>
            <a:off x="990720" y="762120"/>
            <a:ext cx="7086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440" y="762120"/>
            <a:ext cx="74674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字词认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捧   操  艳   领  飘   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奔   符  蹦   吟  闪   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04560" y="18288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捧着  鲜艳   飘飘  奔跑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闪耀  开始   小嘴儿  红领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28:21Z</dcterms:modified>
  <cp:revision>1</cp:revision>
  <dc:subject/>
  <dc:title>早晨真好</dc:title>
</cp:coreProperties>
</file>