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8.gif" ContentType="image/gif"/>
  <Override PartName="/ppt/media/image18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12.wmf" ContentType="image/x-wmf"/>
  <Override PartName="/ppt/media/image1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10BB-E50A-4839-A7E5-1DB8CF964C57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112E-0E24-4DF3-BBA8-5091E1228595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9A4-216F-49DA-B776-DFFC2A8B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7F5-10AC-473B-B73E-D8CDFF5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216-4ECF-43DC-AAA9-18C608AC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874-42D2-49AF-843D-486781AA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AD3-FA46-4CD8-805A-E3F65B01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666-442D-4950-B624-790410B5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3CB-0895-4497-975F-AC6E5BE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C1D-DEBB-4393-AC78-B847055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A3B-F0FC-49A5-A762-9FDDABAA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EFD-CB87-4095-B838-4E07681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345-4E5D-4346-99EC-8B48784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C19-F27B-4ECA-AD5E-76A0CA5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ED90-0236-48FC-88AB-ACACEA8032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16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17.png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523880" y="1676520"/>
            <a:ext cx="609624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0033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微软雅黑"/>
              </a:rPr>
              <a:t>字的敬畏</a:t>
            </a:r>
            <a:endParaRPr b="1" lang="en-US" sz="6600" spc="1" strike="noStrike">
              <a:ln w="18360">
                <a:solidFill>
                  <a:srgbClr val="ffffff"/>
                </a:solidFill>
                <a:round/>
              </a:ln>
              <a:solidFill>
                <a:srgbClr val="003300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85320" y="5784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 flipH="1">
            <a:off x="1676520" y="2712960"/>
            <a:ext cx="4876560" cy="1676520"/>
          </a:xfrm>
          <a:prstGeom prst="cloudCallout">
            <a:avLst>
              <a:gd name="adj1" fmla="val -54689"/>
              <a:gd name="adj2" fmla="val -147731"/>
            </a:avLst>
          </a:prstGeom>
          <a:solidFill>
            <a:srgbClr val="ffffff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71240" y="1066680"/>
            <a:ext cx="60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1.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小时候受大人的影响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“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敬惜字纸</a:t>
            </a:r>
            <a:r>
              <a:rPr b="1" lang="zh-CN" sz="3600" spc="-1" strike="noStrike">
                <a:solidFill>
                  <a:srgbClr val="ffef66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62120" y="5029200"/>
            <a:ext cx="7467480" cy="520560"/>
          </a:xfrm>
          <a:prstGeom prst="rect">
            <a:avLst/>
          </a:prstGeom>
          <a:solidFill>
            <a:srgbClr val="0af65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古时候人们对字的敬重，崇拜同时也是对文化的敬重！对生命的敬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083040" y="3002760"/>
            <a:ext cx="26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f659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你对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敬惜字纸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有何理解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7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304920" y="141696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2. 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小时候读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《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聊斋志异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》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的情景，初步感受方块字的神奇。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5303160"/>
            <a:ext cx="91440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f659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af659"/>
                </a:solidFill>
                <a:latin typeface="宋体"/>
              </a:rPr>
              <a:t>方块字啊，你不是神仙，用得好，却也具背呼风唤雨的本领啊。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7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533520" y="1497960"/>
            <a:ext cx="83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3.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回忆自己读古诗的经历，感受方块字创造出的奇迹。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7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3520" y="33980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af659"/>
                </a:solidFill>
                <a:latin typeface="仿宋_GB2312"/>
                <a:ea typeface="仿宋_GB2312"/>
              </a:rPr>
              <a:t>写出了女歌唱家月光下不绝如缕的歌唱，凄婉苍凉，从一个世纪</a:t>
            </a:r>
            <a:r>
              <a:rPr b="1" lang="zh-CN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af659"/>
                </a:solidFill>
                <a:latin typeface="仿宋_GB2312"/>
                <a:ea typeface="仿宋_GB2312"/>
              </a:rPr>
              <a:t>响</a:t>
            </a:r>
            <a:r>
              <a:rPr b="1" lang="zh-CN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af659"/>
                </a:solidFill>
                <a:latin typeface="仿宋_GB2312"/>
                <a:ea typeface="仿宋_GB2312"/>
              </a:rPr>
              <a:t>进另一个世纪，余音总不会在字里行间消散。</a:t>
            </a:r>
            <a:r>
              <a:rPr b="1" lang="zh-CN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6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3"/>
          <p:cNvGrpSpPr/>
          <p:nvPr/>
        </p:nvGrpSpPr>
        <p:grpSpPr>
          <a:xfrm>
            <a:off x="0" y="5257800"/>
            <a:ext cx="9144000" cy="1128960"/>
            <a:chOff x="0" y="5257800"/>
            <a:chExt cx="9144000" cy="1128960"/>
          </a:xfrm>
        </p:grpSpPr>
        <p:sp>
          <p:nvSpPr>
            <p:cNvPr id="153" name="Rectangle 9"/>
            <p:cNvSpPr/>
            <p:nvPr/>
          </p:nvSpPr>
          <p:spPr>
            <a:xfrm>
              <a:off x="0" y="5257800"/>
              <a:ext cx="914400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多么神奇的方块字啊！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0" y="5805360"/>
              <a:ext cx="914400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这是生命的延续，它承载的是女歌唱家的灵魂啊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210640"/>
            <a:ext cx="9144000" cy="581400"/>
          </a:xfrm>
          <a:prstGeom prst="rect">
            <a:avLst/>
          </a:prstGeom>
          <a:solidFill>
            <a:srgbClr val="ff66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正是作者层层深入的介绍中国汉字神奇的生命力的，所以作者最后感慨道：汉字，在我的眼里是有生命的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22240" y="1019160"/>
            <a:ext cx="20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4. </a:t>
            </a:r>
            <a:r>
              <a:rPr b="1" lang="zh-CN" sz="4000" spc="-1" strike="noStrike">
                <a:solidFill>
                  <a:srgbClr val="ffef66"/>
                </a:solidFill>
                <a:latin typeface="Comic Sans MS"/>
              </a:rPr>
              <a:t>谈自己对中国文字的认识。（</a:t>
            </a: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8</a:t>
            </a:r>
            <a:r>
              <a:rPr b="1" lang="zh-CN" sz="4000" spc="-1" strike="noStrike">
                <a:solidFill>
                  <a:srgbClr val="ffef66"/>
                </a:solidFill>
                <a:latin typeface="Comic Sans MS"/>
              </a:rPr>
              <a:t>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685800" y="3124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如何理解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汉字，在我的眼里是有生命的。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马字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4419720" y="228600"/>
            <a:ext cx="3733560" cy="2743200"/>
          </a:xfrm>
          <a:prstGeom prst="irregularSeal1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0" y="1143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汉字好美啊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gz118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Comic Sans MS"/>
                <a:ea typeface="华文行楷"/>
              </a:rPr>
              <a:t>这篇文章告诉了我们什么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仿宋"/>
                <a:ea typeface="华文仿宋"/>
              </a:rPr>
              <a:t>中国的汉字有着含藏不尽的意蕴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仿宋"/>
                <a:ea typeface="华文仿宋"/>
              </a:rPr>
              <a:t>我们应该热爱祖国的语言文字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仿宋"/>
                <a:ea typeface="华文仿宋"/>
              </a:rPr>
              <a:t>汉字值得敬畏！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6CA-7844-4607-9D6F-074502FF17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ef66"/>
                </a:solidFill>
                <a:latin typeface="Comic Sans MS"/>
                <a:ea typeface="华文新魏"/>
              </a:rPr>
              <a:t>汉字：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895480"/>
            <a:ext cx="7391520" cy="3657600"/>
          </a:xfrm>
          <a:prstGeom prst="rect">
            <a:avLst/>
          </a:prstGeom>
          <a:solidFill>
            <a:srgbClr val="0af65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那就是汉字。我们中华民族有着悠久灿烂的历史文化，而记录并推动这文化发展的重要工具就是汉字。据考古探测了汉字距今有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左右的历史，可以断定古汉字是世界上较早出现的文字之一。现在全球在使用汉字作交流工具的有近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亿人，可见汉字在传播人类文明，弘扬中国文化方面有其独特的魅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5" descr="图片7"/>
          <p:cNvPicPr/>
          <p:nvPr/>
        </p:nvPicPr>
        <p:blipFill>
          <a:blip r:embed="rId2"/>
          <a:stretch/>
        </p:blipFill>
        <p:spPr>
          <a:xfrm>
            <a:off x="7130880" y="0"/>
            <a:ext cx="201312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图片1"/>
          <p:cNvPicPr/>
          <p:nvPr/>
        </p:nvPicPr>
        <p:blipFill>
          <a:blip r:embed="rId3"/>
          <a:stretch/>
        </p:blipFill>
        <p:spPr>
          <a:xfrm>
            <a:off x="0" y="0"/>
            <a:ext cx="1676520" cy="99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990720" y="1981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恒量一个民族历史的标志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书卷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图片9"/>
          <p:cNvPicPr/>
          <p:nvPr/>
        </p:nvPicPr>
        <p:blipFill>
          <a:blip r:embed="rId2"/>
          <a:stretch/>
        </p:blipFill>
        <p:spPr>
          <a:xfrm>
            <a:off x="0" y="0"/>
            <a:ext cx="139716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1676520" y="304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乔传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8" descr="219-150"/>
          <p:cNvPicPr/>
          <p:nvPr/>
        </p:nvPicPr>
        <p:blipFill>
          <a:blip r:embed="rId3"/>
          <a:stretch/>
        </p:blipFill>
        <p:spPr>
          <a:xfrm>
            <a:off x="1523880" y="1828800"/>
            <a:ext cx="2013120" cy="2543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3505320" y="1981080"/>
            <a:ext cx="4267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939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年生，云南宣威人。                 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964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年云南大学中文系毕业后留校任教至今，现为教授。中国作家协会会员，云南省作家协会常务理事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955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年开始发表作品，主要从事散文和小说创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676520" y="4343400"/>
            <a:ext cx="6095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出版有散文集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星星寨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、小说集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哨猴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和长篇纪实文学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寻找英雄的足迹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等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星星寨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金竹筐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先后获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儿童文学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优秀作品奖；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挑柴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童年纪事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获第一届冰心儿童图书新作奖佳作奖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读读下列生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敬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畏       积淀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肥沃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         焚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烧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萌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生     震慑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4" descr="图片11111"/>
          <p:cNvPicPr/>
          <p:nvPr/>
        </p:nvPicPr>
        <p:blipFill>
          <a:blip r:embed="rId2"/>
          <a:stretch/>
        </p:blipFill>
        <p:spPr>
          <a:xfrm>
            <a:off x="762120" y="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2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3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8380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告诫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警告劝戒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积淀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积累、沉淀</a:t>
            </a:r>
            <a:r>
              <a:rPr b="1" lang="zh-CN" sz="3200" spc="-1" strike="noStrike">
                <a:solidFill>
                  <a:srgbClr val="33cc33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杳无人影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空旷辽远得不见人影</a:t>
            </a:r>
            <a:r>
              <a:rPr b="1" lang="zh-CN" sz="3200" spc="-1" strike="noStrike">
                <a:solidFill>
                  <a:srgbClr val="33cc33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意蕴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内在的意义、含义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言简意赅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言语简单而意思概括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渲染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国画的一种画法，用水墨或淡的色彩涂抹画面，以加强艺术效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气象万千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形容景色和事物多种多样，非常壮观。 </a:t>
            </a:r>
            <a:br>
              <a:rPr sz="3200"/>
            </a:br>
            <a:r>
              <a:rPr b="1" lang="zh-CN" sz="3200" spc="-1" strike="noStrike">
                <a:solidFill>
                  <a:srgbClr val="33cc33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6" descr="理解词语 1"/>
          <p:cNvPicPr/>
          <p:nvPr/>
        </p:nvPicPr>
        <p:blipFill>
          <a:blip r:embed="rId1"/>
          <a:stretch/>
        </p:blipFill>
        <p:spPr>
          <a:xfrm>
            <a:off x="6521400" y="0"/>
            <a:ext cx="2622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2004122916585732212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xin_2705062811587811096819"/>
          <p:cNvPicPr/>
          <p:nvPr/>
        </p:nvPicPr>
        <p:blipFill>
          <a:blip r:embed="rId2"/>
          <a:stretch/>
        </p:blipFill>
        <p:spPr>
          <a:xfrm>
            <a:off x="0" y="0"/>
            <a:ext cx="67215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838080" y="3962520"/>
            <a:ext cx="5486400" cy="5814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敬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敬重、畏惧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的意思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" descr="图片1一"/>
          <p:cNvPicPr/>
          <p:nvPr/>
        </p:nvPicPr>
        <p:blipFill>
          <a:blip r:embed="rId3"/>
          <a:stretch/>
        </p:blipFill>
        <p:spPr>
          <a:xfrm>
            <a:off x="914400" y="533520"/>
            <a:ext cx="3376440" cy="966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838080" y="2209680"/>
            <a:ext cx="5407200" cy="764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敬畏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是什么意思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复件 小女孩"/>
          <p:cNvPicPr/>
          <p:nvPr/>
        </p:nvPicPr>
        <p:blipFill>
          <a:blip r:embed="rId2"/>
          <a:stretch/>
        </p:blipFill>
        <p:spPr>
          <a:xfrm>
            <a:off x="0" y="304920"/>
            <a:ext cx="3701880" cy="617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复件 整体感知"/>
          <p:cNvPicPr/>
          <p:nvPr/>
        </p:nvPicPr>
        <p:blipFill>
          <a:blip r:embed="rId3"/>
          <a:stretch/>
        </p:blipFill>
        <p:spPr>
          <a:xfrm>
            <a:off x="2743200" y="685800"/>
            <a:ext cx="3200400" cy="6620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/>
          <p:cNvSpPr/>
          <p:nvPr/>
        </p:nvSpPr>
        <p:spPr>
          <a:xfrm>
            <a:off x="3809880" y="1523880"/>
            <a:ext cx="5029200" cy="2286000"/>
          </a:xfrm>
          <a:prstGeom prst="wedgeRectCallout">
            <a:avLst>
              <a:gd name="adj1" fmla="val -87500"/>
              <a:gd name="adj2" fmla="val -19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809880" y="21031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作者是从哪几个方面写出自己的对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字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的敬畏之情的？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4" descr="复件 读一读"/>
          <p:cNvPicPr/>
          <p:nvPr/>
        </p:nvPicPr>
        <p:blipFill>
          <a:blip r:embed="rId4"/>
          <a:stretch/>
        </p:blipFill>
        <p:spPr>
          <a:xfrm>
            <a:off x="6400800" y="3962520"/>
            <a:ext cx="2114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2"/>
          <p:cNvSpPr/>
          <p:nvPr/>
        </p:nvSpPr>
        <p:spPr>
          <a:xfrm flipH="1">
            <a:off x="1676520" y="2712960"/>
            <a:ext cx="4876560" cy="1676520"/>
          </a:xfrm>
          <a:prstGeom prst="cloudCallout">
            <a:avLst>
              <a:gd name="adj1" fmla="val -54689"/>
              <a:gd name="adj2" fmla="val -147731"/>
            </a:avLst>
          </a:prstGeom>
          <a:solidFill>
            <a:srgbClr val="ffffff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371240" y="1066680"/>
            <a:ext cx="60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1.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小时候受大人的影响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“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敬惜字纸</a:t>
            </a:r>
            <a:r>
              <a:rPr b="1" lang="zh-CN" sz="3600" spc="-1" strike="noStrike">
                <a:solidFill>
                  <a:srgbClr val="ffef66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118320" y="2936880"/>
            <a:ext cx="25592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f659"/>
                </a:solidFill>
                <a:latin typeface="Comic Sans MS"/>
              </a:rPr>
              <a:t>     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你对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hlinkClick r:id="rId3" action="ppaction://hlinksldjump"/>
              </a:rPr>
              <a:t>“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hlinkClick r:id="rId4" action="ppaction://hlinksldjump"/>
              </a:rPr>
              <a:t>敬惜字纸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hlinkClick r:id="rId5" action="ppaction://hlinksldjump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有何理解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15" descr="复件 细读感悟"/>
          <p:cNvPicPr/>
          <p:nvPr/>
        </p:nvPicPr>
        <p:blipFill>
          <a:blip r:embed="rId7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6">
            <a:hlinkClick r:id="rId8" action="ppaction://hlinksldjump"/>
          </p:cNvPr>
          <p:cNvSpPr/>
          <p:nvPr/>
        </p:nvSpPr>
        <p:spPr>
          <a:xfrm>
            <a:off x="6781680" y="5562720"/>
            <a:ext cx="205740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f66"/>
                </a:solidFill>
                <a:latin typeface="Comic Sans MS"/>
              </a:rPr>
              <a:t>敬惜字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41200" y="4607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是圣人造的，纸是能成全圣人的。没有写字的纸不能随意丢弃，写了字的纸就更不能糟践 。一本书写得好，被称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纸风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不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书风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见，纸是文字的载体。幸哉有纸，文化才得以传承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8600" y="22989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生世间，所资以成德达才，建功立业，以及一才一艺，养活身家者，皆由文字主持之力，而得成就。字为世间至宝，能使凡者圣，愚者智，贫贱者富贵，疾病者康宁。圣贤道脉，得之于千古，身家经营，遗之于子孙，莫不仗字之力。使世无字，则一切事理，皆不成立，而人与禽兽无异矣。既有如是功力，固宜珍重爱惜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88120" y="380880"/>
            <a:ext cx="37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敬惜字纸</a:t>
            </a:r>
            <a:r>
              <a:rPr b="1" lang="zh-CN" sz="4800" spc="-1" strike="noStrike">
                <a:solidFill>
                  <a:srgbClr val="703dff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阅读链接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9" descr="200952052426781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>
            <a:hlinkClick r:id="rId2" action="ppaction://hlinksldjump"/>
          </p:cNvPr>
          <p:cNvSpPr/>
          <p:nvPr/>
        </p:nvSpPr>
        <p:spPr>
          <a:xfrm>
            <a:off x="6095880" y="627228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10800"/>
                </a:moveTo>
                <a:lnTo>
                  <a:pt x="19213" y="3794"/>
                </a:lnTo>
                <a:lnTo>
                  <a:pt x="1921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2063880" y="6272280"/>
            <a:ext cx="51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33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39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