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6108-F5B1-4FD3-A941-A5BACB377EC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7.xml"/><Relationship Id="rId24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50FF-14C1-4D36-B8AD-592E37AD32BA}" type="slidenum">
              <a:rPr b="1" lang="zh-CN" sz="12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477F2-6DB1-4DAD-889A-15A850DF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23098-3833-474F-B6C0-29898033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A28AB-CD2A-4A04-909A-F2A7B785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A625B-92D3-4E72-8395-03AC6F9D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56F64-4734-4042-AD1D-C011B1EF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A237D-3FE0-4D3A-986B-1A7470E5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C854D-0D8E-4D4E-9237-0DC8ECE1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75C25-5DC6-4FC6-ABD2-327C116FF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F410A-A797-4EDE-8604-2231D3B35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5AA3E-26A4-48D9-954B-4C3062C9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5404B-1E88-4EDB-82A9-B8B4F79A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5B642-D8AB-49DA-A1A7-E18DF362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AB0BC-AEA1-4779-91CE-DFF7501A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ED1F0-7F29-4BE0-9F5E-30C6EB25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36B02-BF12-4090-AEB9-B6B6F196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17FD2-4701-40B0-BDF8-FE91CC49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91FEB-793E-4822-B35D-36274509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E5522-0415-4568-B52E-862DC961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50DA3-0818-42D5-965D-EEE45907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BD289-C1F9-4A74-A4A4-B2A54CA47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6E953-7A29-4124-BE1E-6682AFA5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28D16-47BE-47D5-BCB8-D155C31A4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971FC-08C7-462D-B01C-784E216B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DA09C-ECFF-4708-8564-8C63CAE1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8217A-A841-4FCA-99B2-5D5B7035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810E0-9DCA-4EC2-9D5A-21C32056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79327-5D97-4E86-834B-712F8311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97295-66F6-4D08-91F8-D8552A19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839D4-8E45-46EA-AF83-39F15DAF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5EF5D-639D-4FA4-B240-99648BC2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5125D-FA15-4E7A-BEF5-D25ABAEB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D5D24-9C49-4A65-9C6C-FAD6A3F2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4981C-896D-4589-B8E9-872232B0E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10291-84B0-4268-AB72-F453B8442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2833D4-E241-4F97-953A-943B4EB0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A05E4-3B0B-415D-AAEC-6EA26A92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49426-B520-4B2D-B59E-B02F30E6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DCC377-D946-4B07-B5CA-6B520449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38581-301F-4080-865F-5231C3E1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00209-7DD7-4AA1-88BB-9AEE41EB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644E2-0961-4AF3-9E50-68790B24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9C874-67DC-465C-BFBC-0FA45EB9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46E01-0B30-4C0B-B4BB-921B7997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D75C5-F742-437E-8A46-4677A7DC2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C71D2-8498-477C-BD53-5739079E8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6B1A-BDDF-41F9-A083-8A1292670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A5BA-1AAE-43BA-AA2E-B09D85E8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2473-1325-4B5F-B45A-2CD0D0CA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FC9B-6C28-4626-809B-16E663D6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156F-9D3C-42DD-A335-7A2B0EB4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0202-6E89-438D-AB95-2D86853E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7430-FE45-4A4C-8CF1-1E78C248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4119-4850-4A67-A4E1-F6D10E4A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F7F4-709F-4F46-9386-43D00E91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D732-FFB5-4792-BAA0-2FBF5471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BA49-6ED6-42B6-A034-A140D63C1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CFB8-2694-4D67-A334-B8ADD3CB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46EA-CBD8-4776-B169-05324CAB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200E-E13F-4CDD-B78B-E747AFED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81D2-9D39-4FA2-90A0-9317C8C7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DA1D-E6A2-481A-B49D-7C52DB3E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7C3F-B4A8-49D3-BA9A-5C819675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E5B9-A814-4256-B56D-CB1E7E1E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4127-6F93-42D4-BEBB-B2B8F057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9D06-E442-4942-907B-E2632E0F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C43C-7C08-4E02-A62F-310FC0A1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32C9-4BEA-4663-8D06-C784F0C0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8DB1-F000-44EB-8377-BDFE64F19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6095-06B7-4644-B700-0422CAC13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7D84F-3BBE-4A73-972D-997EB873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CED9B-0AD5-4628-9131-93F93BBD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388FD-6819-4DE0-B19A-FA953438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C0DEB-8DDF-47C7-A213-B90D91C0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160CA-B392-45B6-B1B4-3B76B8EE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F962C-0710-4529-8866-54144405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72607-E25D-47AD-B186-730F71CB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30754-EE01-42C0-AC59-6074AD93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75635-CE4E-4B26-9298-67794D74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66F09-C196-4E94-BD89-AA548D92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8ADBF-B245-4F77-A192-D6F25509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36F5B-855C-4CAB-BBAF-15A3A1A7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56519-75E2-4B81-98BF-A57CCA28F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7B0A2-E019-4C2C-8E6F-D660DF84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15695-9080-46A1-870D-072DDC0B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8990A-9AB3-46F5-A94F-DFF2B05B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5006F-CE9B-43CF-9C3C-9D6A0158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974BD-E621-46EF-A913-3BDD972E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55F75-696D-41BD-B3FF-504521D7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AACD5-D599-4094-A771-952DBC6D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BEA9C-DF52-4443-858B-FEDC286B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70599-15CB-4231-9BE6-616D35D4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DE728-FCE7-4229-8C12-DEE520D89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98919-95C3-40FB-BE8D-4F5DD9123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11F34-4300-4D40-93BA-CBAE27D6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B1359-3A9C-454F-AD11-5068FE1A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B2A0F-B622-40DC-ADEC-E1BF5232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73D6E-BC0D-4DB3-9F66-D1E54ECB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19CC6-1AA3-48AB-9A5C-FA7761D4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F9D80-709B-4046-8A50-B6C5DBBB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08971-3836-4C93-8505-C7D91EF1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9CA9A-05B0-4A58-9788-A5D70C9B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74A3C-3794-45F7-AAA0-BB093DE9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093BF-39AB-4D66-B418-88333082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F71FB-AC01-4732-8AE2-F59F6E2E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B32A3-35C0-45FF-90F8-C185436E0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E898F-E181-4860-AFFF-DC953F092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325BD-BCF4-4A1B-B8A1-78A38947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57581-60F1-4C5F-A802-7C8B2747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B1691-D5B5-4BDD-9DEF-5080179C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D2291-2D37-4E09-9FDE-EAA92CED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6527A-62A3-43FB-847E-87BAC7E7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62747-B317-426D-B4AE-FCE14691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F397E-D1E1-410B-B70D-0C5F95AC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40409-A346-49F7-94F5-55AEE6F4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4ECD3-0C2E-475D-AC6B-067B1985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FF4B1-8167-4881-A2FB-805A22E84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ADCFE-7C5D-4F43-A96D-6D6768016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CC634-7855-4FD1-84F5-5A4072B6F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D378D-CF74-4A2D-9A4C-F3BDC29A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12000-1309-4189-BF04-8FB8F236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6D8F-946F-4A5F-B890-4F5EFE3128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AF8C-DAD0-41D1-A561-93DF732ECC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61CF-164C-4E04-8061-AE24D2D876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6387-0B3E-403E-99D9-AD25AAE48F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1661-95A0-44BE-82F3-11FAA39C30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1986-5BFD-410C-8637-55F6113D1F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5D4E-1A6E-4406-B186-0B18816FAC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0AE4-CD9F-4C71-A357-2A2013CF35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FCFD-6342-4205-8BB2-8F764F28B0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AFFA-C91A-4BE8-80DC-FDD4049B41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19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2" name="矩形 4" descr=""/>
          <p:cNvPicPr/>
          <p:nvPr/>
        </p:nvPicPr>
        <p:blipFill>
          <a:blip r:embed="rId2"/>
          <a:stretch/>
        </p:blipFill>
        <p:spPr>
          <a:xfrm>
            <a:off x="1581120" y="6029280"/>
            <a:ext cx="6573960" cy="571680"/>
          </a:xfrm>
          <a:prstGeom prst="rect">
            <a:avLst/>
          </a:prstGeom>
          <a:ln w="0">
            <a:noFill/>
          </a:ln>
        </p:spPr>
      </p:pic>
      <p:pic>
        <p:nvPicPr>
          <p:cNvPr id="473" name="TextBox 3" descr=""/>
          <p:cNvPicPr/>
          <p:nvPr/>
        </p:nvPicPr>
        <p:blipFill>
          <a:blip r:embed="rId3"/>
          <a:stretch/>
        </p:blipFill>
        <p:spPr>
          <a:xfrm>
            <a:off x="1257480" y="568440"/>
            <a:ext cx="662940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5"/>
          <p:cNvSpPr/>
          <p:nvPr/>
        </p:nvSpPr>
        <p:spPr>
          <a:xfrm>
            <a:off x="0" y="1676520"/>
            <a:ext cx="9601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没有（     ），就（                     ）；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没有（     ），就（                   ）；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没有（     ），就（             ）；最困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难的是一直没有（  ），（              ）。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1447920" y="16002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桌椅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5055480" y="167652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坐在地上，把小板凳当桌椅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Rectangle 8"/>
          <p:cNvSpPr/>
          <p:nvPr/>
        </p:nvSpPr>
        <p:spPr>
          <a:xfrm>
            <a:off x="1371600" y="27432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黑板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Rectangle 10"/>
          <p:cNvSpPr/>
          <p:nvPr/>
        </p:nvSpPr>
        <p:spPr>
          <a:xfrm>
            <a:off x="4267080" y="27432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用锅灰在墙上刷一块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Rectangle 11"/>
          <p:cNvSpPr/>
          <p:nvPr/>
        </p:nvSpPr>
        <p:spPr>
          <a:xfrm>
            <a:off x="1447920" y="38336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粉笔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Rectangle 12"/>
          <p:cNvSpPr/>
          <p:nvPr/>
        </p:nvSpPr>
        <p:spPr>
          <a:xfrm>
            <a:off x="4267080" y="388620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拿黄土块代替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3657600" y="4952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书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Rectangle 14"/>
          <p:cNvSpPr/>
          <p:nvPr/>
        </p:nvSpPr>
        <p:spPr>
          <a:xfrm>
            <a:off x="5410080" y="502920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只能抄一课学一课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Text Box 15"/>
          <p:cNvSpPr/>
          <p:nvPr/>
        </p:nvSpPr>
        <p:spPr>
          <a:xfrm>
            <a:off x="533520" y="83808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排比句说明了当时的学习条件极差。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omic Sans MS"/>
                <a:ea typeface="幼圆"/>
              </a:rPr>
              <a:t>读课文，填一填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0" y="1294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00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因为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我们只能抄一课学一课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00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所以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我们多么渴望有一本教科书啊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00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因为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我们多么渴望有一本教科书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00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所以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，当我们的老师张指导员（     ）地对我们说：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幼圆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告诉大家一个好消息，咱们有书啦！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幼圆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对我们来说，这是个（           ）的消息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00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所以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，我们（     ）得（    ）了起来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00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所以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，我们（         ）地喊着要和指导员去取书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00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所以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，领到书后，我们（      ）（    ）赶回村子，把书发给同学们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2" name="Picture 6" descr="ED00317_"/>
          <p:cNvPicPr/>
          <p:nvPr/>
        </p:nvPicPr>
        <p:blipFill>
          <a:blip r:embed="rId1"/>
          <a:stretch/>
        </p:blipFill>
        <p:spPr>
          <a:xfrm>
            <a:off x="7236000" y="189000"/>
            <a:ext cx="162684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4"/>
          <p:cNvSpPr/>
          <p:nvPr/>
        </p:nvSpPr>
        <p:spPr>
          <a:xfrm>
            <a:off x="380880" y="1600200"/>
            <a:ext cx="8001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我们多么渴望有一本印好的教科书哇！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如果把“多么”去掉，有什么不一样？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240" y="853560"/>
            <a:ext cx="2514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比一比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AutoShape 17"/>
          <p:cNvSpPr/>
          <p:nvPr/>
        </p:nvSpPr>
        <p:spPr>
          <a:xfrm>
            <a:off x="1447920" y="1676520"/>
            <a:ext cx="838080" cy="53316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Text Box 18"/>
          <p:cNvSpPr/>
          <p:nvPr/>
        </p:nvSpPr>
        <p:spPr>
          <a:xfrm>
            <a:off x="533520" y="35053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多么”一词加重了语气，表明我们非常希望能获得教科书。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7" name="Picture 20" descr="2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9436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8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" descr="66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0" y="5791320"/>
            <a:ext cx="9144000" cy="8380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Text Box 3"/>
          <p:cNvSpPr/>
          <p:nvPr/>
        </p:nvSpPr>
        <p:spPr>
          <a:xfrm>
            <a:off x="0" y="5715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—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自然段：主要写在战争环境中，“我们”渴望每人能有一本教科书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——</a:t>
            </a:r>
            <a:r>
              <a:rPr b="1" lang="zh-CN" sz="2800" spc="-1" strike="noStrike">
                <a:solidFill>
                  <a:srgbClr val="0066ff"/>
                </a:solidFill>
                <a:latin typeface="Comic Sans MS"/>
                <a:ea typeface="宋体"/>
              </a:rPr>
              <a:t>盼书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4"/>
          <p:cNvSpPr/>
          <p:nvPr/>
        </p:nvSpPr>
        <p:spPr>
          <a:xfrm>
            <a:off x="304920" y="1143000"/>
            <a:ext cx="8229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宋体"/>
              </a:rPr>
              <a:t>同学们知道这书是怎么来的吗？是在毛主席的关怀下印出来的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”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宋体"/>
              </a:rPr>
              <a:t>这里指导员先问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宋体"/>
              </a:rPr>
              <a:t>同学们知道书是怎么来的吗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宋体"/>
              </a:rPr>
              <a:t>，然后自己回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宋体"/>
              </a:rPr>
              <a:t>是在毛主席的关怀下印出来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”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宋体"/>
              </a:rPr>
              <a:t>，这种自问自答的形式叫做设问。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2895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设问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304920" y="1066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为了引起别人注意，故意先提出问题，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宋体"/>
              </a:rPr>
              <a:t>自问自答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，或明知故问，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宋体"/>
              </a:rPr>
              <a:t>不需别人回答答案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的修辞方式叫做设问。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　　运用设问，能引人注意，启发思考；有助于层次分明，结构紧凑；可以更好地描写人物的思想活动。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228600" y="43434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例如：谁是最可爱的人呢？我们的战士，我觉得他们是最可爱的人。（魏巍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谁是最可爱的人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Text Box 7"/>
          <p:cNvSpPr/>
          <p:nvPr/>
        </p:nvSpPr>
        <p:spPr>
          <a:xfrm>
            <a:off x="230040" y="47242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本句中，作者先   提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谁是最可爱的人呢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这一问题，然后自己回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我们的战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”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4"/>
          <p:cNvSpPr/>
          <p:nvPr/>
        </p:nvSpPr>
        <p:spPr>
          <a:xfrm>
            <a:off x="419040" y="40384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宋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3-7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宋体"/>
              </a:rPr>
              <a:t>自然段：主要写情况紧急，“我”和指导员去取书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——</a:t>
            </a:r>
            <a:r>
              <a:rPr b="1" lang="zh-CN" sz="4000" spc="-1" strike="noStrike">
                <a:solidFill>
                  <a:srgbClr val="0066ff"/>
                </a:solidFill>
                <a:latin typeface="Comic Sans MS"/>
                <a:ea typeface="宋体"/>
              </a:rPr>
              <a:t>取书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宋体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304920" y="198108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宋体"/>
              </a:rPr>
              <a:t>振奋人心”“争先恐后”两个词语表现了“我们”想尽快得到书的急切心情。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8" name="Picture 7" descr="2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609840" cy="53352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8"/>
          <p:cNvSpPr/>
          <p:nvPr/>
        </p:nvSpPr>
        <p:spPr>
          <a:xfrm>
            <a:off x="533520" y="9907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节省”一词体现了党对“我们的关怀”。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幼圆"/>
                <a:ea typeface="幼圆"/>
              </a:rPr>
              <a:t>小组合作，研读第</a:t>
            </a:r>
            <a:r>
              <a:rPr b="0" lang="en-US" sz="4400" spc="-1" strike="noStrike">
                <a:solidFill>
                  <a:srgbClr val="ff0000"/>
                </a:solidFill>
                <a:latin typeface="幼圆"/>
                <a:ea typeface="幼圆"/>
              </a:rPr>
              <a:t>10</a:t>
            </a:r>
            <a:r>
              <a:rPr b="0" lang="zh-CN" sz="4400" spc="-1" strike="noStrike">
                <a:solidFill>
                  <a:srgbClr val="ff0000"/>
                </a:solidFill>
                <a:latin typeface="幼圆"/>
                <a:ea typeface="幼圆"/>
              </a:rPr>
              <a:t>、</a:t>
            </a:r>
            <a:r>
              <a:rPr b="0" lang="en-US" sz="4400" spc="-1" strike="noStrike">
                <a:solidFill>
                  <a:srgbClr val="ff0000"/>
                </a:solidFill>
                <a:latin typeface="幼圆"/>
                <a:ea typeface="幼圆"/>
              </a:rPr>
              <a:t>11</a:t>
            </a:r>
            <a:r>
              <a:rPr b="0" lang="zh-CN" sz="4400" spc="-1" strike="noStrike">
                <a:solidFill>
                  <a:srgbClr val="ff0000"/>
                </a:solidFill>
                <a:latin typeface="幼圆"/>
                <a:ea typeface="幼圆"/>
              </a:rPr>
              <a:t>自然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读第一遍，用“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——”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勾出直接写张指导员护书的句子，用“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~~~~”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勾出写张指导员语言的句子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读第二遍，想象张指导员当时的想法；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读第三遍，琢磨张指导员说话的语气，想象张指导员没说完的话的意思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2" name="Picture 6" descr="ED00317_"/>
          <p:cNvPicPr/>
          <p:nvPr/>
        </p:nvPicPr>
        <p:blipFill>
          <a:blip r:embed="rId1"/>
          <a:stretch/>
        </p:blipFill>
        <p:spPr>
          <a:xfrm>
            <a:off x="7380360" y="5445000"/>
            <a:ext cx="154764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971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想一想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304920" y="10666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在指导员说“快卧倒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……”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这句话时，他想到的是什么？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380880" y="2590920"/>
            <a:ext cx="8153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从指导员醒来的第一句话“书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书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……”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可以看出爆炸的那一刹那，指导员想到的是一定要好好保护那捆“我们”渴望已久、而且是在毛主席的关怀下印出来的教科书。表明了指导员对“我们”殷切的关爱和希望。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AutoShape 8"/>
          <p:cNvSpPr/>
          <p:nvPr/>
        </p:nvSpPr>
        <p:spPr>
          <a:xfrm>
            <a:off x="7772400" y="6248520"/>
            <a:ext cx="380880" cy="304560"/>
          </a:xfrm>
          <a:custGeom>
            <a:avLst/>
            <a:gdLst>
              <a:gd name="textAreaLeft" fmla="*/ 47520 w 380880"/>
              <a:gd name="textAreaRight" fmla="*/ 333360 w 3808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Text Box 9"/>
          <p:cNvSpPr/>
          <p:nvPr/>
        </p:nvSpPr>
        <p:spPr>
          <a:xfrm>
            <a:off x="7772400" y="6019920"/>
            <a:ext cx="9144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&gt;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Text Box 10"/>
          <p:cNvSpPr/>
          <p:nvPr/>
        </p:nvSpPr>
        <p:spPr>
          <a:xfrm>
            <a:off x="7162920" y="6095880"/>
            <a:ext cx="685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-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8" descr="珍贵的教科书"/>
          <p:cNvPicPr/>
          <p:nvPr/>
        </p:nvPicPr>
        <p:blipFill>
          <a:blip r:embed="rId1"/>
          <a:stretch/>
        </p:blipFill>
        <p:spPr>
          <a:xfrm>
            <a:off x="0" y="0"/>
            <a:ext cx="7620120" cy="464832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5"/>
          <p:cNvSpPr/>
          <p:nvPr/>
        </p:nvSpPr>
        <p:spPr>
          <a:xfrm>
            <a:off x="228600" y="46483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指导员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  <a:ea typeface="宋体"/>
              </a:rPr>
              <a:t>趴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在离我不远的地方，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  <a:ea typeface="宋体"/>
              </a:rPr>
              <a:t>一动也不动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。那捆书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  <a:ea typeface="宋体"/>
              </a:rPr>
              <a:t>完整无缺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地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  <a:ea typeface="宋体"/>
              </a:rPr>
              <a:t>压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在他的身下，已经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  <a:ea typeface="宋体"/>
              </a:rPr>
              <a:t>被鲜血染红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了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说明了什么？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1752480" y="5484960"/>
            <a:ext cx="701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指导员为了让“我们”拥有教科书，不顾自己的性命          ，表现了指导员对“我们”的爱和期望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4251600" y="5911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Comic Sans MS"/>
                <a:ea typeface="宋体"/>
              </a:rPr>
              <a:t>舍身护书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3" name="Picture 11" descr="25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534520" y="2286000"/>
            <a:ext cx="6094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8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63400" y="914040"/>
            <a:ext cx="2895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小知识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Text Box 5"/>
          <p:cNvSpPr/>
          <p:nvPr/>
        </p:nvSpPr>
        <p:spPr>
          <a:xfrm>
            <a:off x="584280" y="1676520"/>
            <a:ext cx="8229600" cy="22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在我爷爷的时代，没有书本，没有笔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在我爸爸的时代，只有小黑板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在我们的时代，不仅有各种各样的书本，还有计算机大教室”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这是新学期开学，一位学生写下的入学感言。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008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年春天，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个省区市和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个计划单列市进行免除城市义务教育学杂费试点。到了秋季，全国所有城市免除义务教育学杂费。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008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日，一个必将被历史所铭记的日子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在这一天，中国实现了城乡义务教育全部免除学杂费。这是几十年前甚至几年前，许多人连想都不敢想的事情。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4"/>
          <p:cNvSpPr/>
          <p:nvPr/>
        </p:nvSpPr>
        <p:spPr>
          <a:xfrm>
            <a:off x="627120" y="1179360"/>
            <a:ext cx="655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员说的话：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“快卧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”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“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”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“你们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好好儿学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将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”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588960" y="2374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这里的省略号表明：敌机突然轰炸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情况紧急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张指导员说的话被打断。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Rectangle 6"/>
          <p:cNvSpPr/>
          <p:nvPr/>
        </p:nvSpPr>
        <p:spPr>
          <a:xfrm>
            <a:off x="703440" y="4017960"/>
            <a:ext cx="82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这里的省略号表明：张指导员伤势太重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生命垂危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说话断断续续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。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2604960" y="3833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Rectangle 9"/>
          <p:cNvSpPr/>
          <p:nvPr/>
        </p:nvSpPr>
        <p:spPr>
          <a:xfrm>
            <a:off x="779400" y="53341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这里的省略号表明：指导员已经牺牲了，言尽而意未尽。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Text Box 12"/>
          <p:cNvSpPr/>
          <p:nvPr/>
        </p:nvSpPr>
        <p:spPr>
          <a:xfrm>
            <a:off x="398520" y="319716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4437000" y="3121200"/>
            <a:ext cx="685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&lt;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幼圆"/>
              </a:rPr>
              <a:t>补充句子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你们要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……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好好学习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……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将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________________________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3" name="Picture 4" descr="ED00317_"/>
          <p:cNvPicPr/>
          <p:nvPr/>
        </p:nvPicPr>
        <p:blipFill>
          <a:blip r:embed="rId1"/>
          <a:stretch/>
        </p:blipFill>
        <p:spPr>
          <a:xfrm>
            <a:off x="7020000" y="5013360"/>
            <a:ext cx="1935000" cy="1612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1-1-99659_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5" name="神秘花园.wma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9" dur="1" fill="hold"/>
                                        <p:tgtEl>
                                          <p:spTgt spid="5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7" name="内容占位符 3" descr="0130000029771712284743328128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转移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1-1-99261_33"/>
          <p:cNvPicPr/>
          <p:nvPr/>
        </p:nvPicPr>
        <p:blipFill>
          <a:blip r:embed="rId1"/>
          <a:stretch/>
        </p:blipFill>
        <p:spPr>
          <a:xfrm>
            <a:off x="0" y="0"/>
            <a:ext cx="9144000" cy="715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4" descr="战机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2" descr="埋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4"/>
          <p:cNvSpPr/>
          <p:nvPr/>
        </p:nvSpPr>
        <p:spPr>
          <a:xfrm>
            <a:off x="0" y="0"/>
            <a:ext cx="8991720" cy="1068840"/>
          </a:xfrm>
          <a:prstGeom prst="rect">
            <a:avLst/>
          </a:prstGeom>
          <a:solidFill>
            <a:srgbClr val="ffff99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8—1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自然段：主要写在回村的路上，指导员用生命和鲜血保护教科书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——</a:t>
            </a:r>
            <a:r>
              <a:rPr b="1" lang="zh-CN" sz="3200" spc="-1" strike="noStrike">
                <a:solidFill>
                  <a:srgbClr val="0066ff"/>
                </a:solidFill>
                <a:latin typeface="Comic Sans MS"/>
                <a:ea typeface="宋体"/>
              </a:rPr>
              <a:t>护书。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4"/>
          <p:cNvSpPr/>
          <p:nvPr/>
        </p:nvSpPr>
        <p:spPr>
          <a:xfrm>
            <a:off x="457200" y="1981080"/>
            <a:ext cx="8458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教科书的珍贵主要体现在下面两方面：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方面是来之不易，当时的条件非常艰苦，它是用党中央印文件节省下来的纸印刷的；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另一方面这捆教科书是指导员用生命保护下来的，凝聚着指导员的鲜血，也寄托着指导员的期望。这个期望还将永远激励着我们后代发愤学习，为实现人类和平的美好理想而奋斗！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533520" y="11206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为什么说教科书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  <a:ea typeface="宋体"/>
              </a:rPr>
              <a:t>珍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的？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6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4"/>
          <p:cNvSpPr/>
          <p:nvPr/>
        </p:nvSpPr>
        <p:spPr>
          <a:xfrm flipH="1">
            <a:off x="-686520" y="114300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Rectangle 5"/>
          <p:cNvSpPr/>
          <p:nvPr/>
        </p:nvSpPr>
        <p:spPr>
          <a:xfrm>
            <a:off x="1676520" y="129528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移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（转移）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Rectangle 6"/>
          <p:cNvSpPr/>
          <p:nvPr/>
        </p:nvSpPr>
        <p:spPr>
          <a:xfrm>
            <a:off x="3124080" y="129528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环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（环境）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4724280" y="12952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境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（处境）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Rectangle 8"/>
          <p:cNvSpPr/>
          <p:nvPr/>
        </p:nvSpPr>
        <p:spPr>
          <a:xfrm>
            <a:off x="6400800" y="129528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顽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（顽强）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Rectangle 9"/>
          <p:cNvSpPr/>
          <p:nvPr/>
        </p:nvSpPr>
        <p:spPr>
          <a:xfrm>
            <a:off x="304920" y="312408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强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（坚强）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Rectangle 10"/>
          <p:cNvSpPr/>
          <p:nvPr/>
        </p:nvSpPr>
        <p:spPr>
          <a:xfrm>
            <a:off x="2057400" y="312408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艰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（艰苦）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Rectangle 11"/>
          <p:cNvSpPr/>
          <p:nvPr/>
        </p:nvSpPr>
        <p:spPr>
          <a:xfrm>
            <a:off x="3733920" y="31240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椅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（桌椅）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5334120" y="312408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席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（主席）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Rectangle 13"/>
          <p:cNvSpPr/>
          <p:nvPr/>
        </p:nvSpPr>
        <p:spPr>
          <a:xfrm>
            <a:off x="6858000" y="312408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党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（党派）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Rectangle 14"/>
          <p:cNvSpPr/>
          <p:nvPr/>
        </p:nvSpPr>
        <p:spPr>
          <a:xfrm>
            <a:off x="457200" y="44956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省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Rectangle 15"/>
          <p:cNvSpPr/>
          <p:nvPr/>
        </p:nvSpPr>
        <p:spPr>
          <a:xfrm>
            <a:off x="3657600" y="449568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况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（情况）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Rectangle 16"/>
          <p:cNvSpPr/>
          <p:nvPr/>
        </p:nvSpPr>
        <p:spPr>
          <a:xfrm>
            <a:off x="5257800" y="449568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恨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（悔恨）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Rectangle 17"/>
          <p:cNvSpPr/>
          <p:nvPr/>
        </p:nvSpPr>
        <p:spPr>
          <a:xfrm>
            <a:off x="228600" y="12952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珍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（珍贵）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Rectangle 18"/>
          <p:cNvSpPr/>
          <p:nvPr/>
        </p:nvSpPr>
        <p:spPr>
          <a:xfrm>
            <a:off x="685800" y="914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zhē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Rectangle 20"/>
          <p:cNvSpPr/>
          <p:nvPr/>
        </p:nvSpPr>
        <p:spPr>
          <a:xfrm>
            <a:off x="3733920" y="8618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huá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Rectangle 21"/>
          <p:cNvSpPr/>
          <p:nvPr/>
        </p:nvSpPr>
        <p:spPr>
          <a:xfrm>
            <a:off x="2362320" y="817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yí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Rectangle 22"/>
          <p:cNvSpPr/>
          <p:nvPr/>
        </p:nvSpPr>
        <p:spPr>
          <a:xfrm>
            <a:off x="5181480" y="838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jìng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Rectangle 24"/>
          <p:cNvSpPr/>
          <p:nvPr/>
        </p:nvSpPr>
        <p:spPr>
          <a:xfrm>
            <a:off x="7010280" y="8175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wá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Rectangle 25"/>
          <p:cNvSpPr/>
          <p:nvPr/>
        </p:nvSpPr>
        <p:spPr>
          <a:xfrm>
            <a:off x="762120" y="27432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qiáng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Rectangle 26"/>
          <p:cNvSpPr/>
          <p:nvPr/>
        </p:nvSpPr>
        <p:spPr>
          <a:xfrm>
            <a:off x="259092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jiā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Rectangle 27"/>
          <p:cNvSpPr/>
          <p:nvPr/>
        </p:nvSpPr>
        <p:spPr>
          <a:xfrm>
            <a:off x="4419720" y="2666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yǐ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Rectangle 28"/>
          <p:cNvSpPr/>
          <p:nvPr/>
        </p:nvSpPr>
        <p:spPr>
          <a:xfrm>
            <a:off x="60199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xí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Rectangle 29"/>
          <p:cNvSpPr/>
          <p:nvPr/>
        </p:nvSpPr>
        <p:spPr>
          <a:xfrm>
            <a:off x="7391520" y="2666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ǎng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Rectangle 30"/>
          <p:cNvSpPr/>
          <p:nvPr/>
        </p:nvSpPr>
        <p:spPr>
          <a:xfrm>
            <a:off x="4038480" y="419112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kuàng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Rectangle 31"/>
          <p:cNvSpPr/>
          <p:nvPr/>
        </p:nvSpPr>
        <p:spPr>
          <a:xfrm flipV="1" rot="10738200">
            <a:off x="5788800" y="4187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hè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Rectangle 32"/>
          <p:cNvSpPr/>
          <p:nvPr/>
        </p:nvSpPr>
        <p:spPr>
          <a:xfrm>
            <a:off x="1143000" y="4800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Xíng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反省） 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Rectangle 33"/>
          <p:cNvSpPr/>
          <p:nvPr/>
        </p:nvSpPr>
        <p:spPr>
          <a:xfrm>
            <a:off x="1268280" y="4267080"/>
            <a:ext cx="20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hěng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省会）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Text Box 34"/>
          <p:cNvSpPr/>
          <p:nvPr/>
        </p:nvSpPr>
        <p:spPr>
          <a:xfrm>
            <a:off x="1981080" y="5791320"/>
            <a:ext cx="6324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延（延长）  锅（锅底）  刷（粉刷）  替（代替）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捆（捆绑）   卧（卧倒）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4"/>
          <p:cNvSpPr/>
          <p:nvPr/>
        </p:nvSpPr>
        <p:spPr>
          <a:xfrm>
            <a:off x="914400" y="7621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自然段：主要写指导员的精神一直激励着我前进。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0" y="22096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本文以书为线索，主要写了“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盼书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——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取书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——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护书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”三个部分，表现了指导员舍身护书的英勇品格也体现了他对后辈的关爱和希望。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AutoShape 6">
            <a:hlinkClick r:id="rId1" action="ppaction://hlinksldjump"/>
          </p:cNvPr>
          <p:cNvSpPr/>
          <p:nvPr/>
        </p:nvSpPr>
        <p:spPr>
          <a:xfrm>
            <a:off x="8001000" y="5943600"/>
            <a:ext cx="228600" cy="380880"/>
          </a:xfrm>
          <a:custGeom>
            <a:avLst/>
            <a:gdLst>
              <a:gd name="textAreaLeft" fmla="*/ 94320 w 228600"/>
              <a:gd name="textAreaRight" fmla="*/ 134280 w 22860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你能说说课文题目中为什么说教科书是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珍贵的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吗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1" name="Picture 4" descr="ED00317_"/>
          <p:cNvPicPr/>
          <p:nvPr/>
        </p:nvPicPr>
        <p:blipFill>
          <a:blip r:embed="rId1"/>
          <a:stretch/>
        </p:blipFill>
        <p:spPr>
          <a:xfrm>
            <a:off x="7020000" y="5013360"/>
            <a:ext cx="1935000" cy="1612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324000" y="11970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希望这用生命换来的教科书和指导员没说完的话也激励着我们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3" name="Picture 4" descr="ED00317_"/>
          <p:cNvPicPr/>
          <p:nvPr/>
        </p:nvPicPr>
        <p:blipFill>
          <a:blip r:embed="rId1"/>
          <a:stretch/>
        </p:blipFill>
        <p:spPr>
          <a:xfrm>
            <a:off x="7020000" y="5013360"/>
            <a:ext cx="1935000" cy="1612800"/>
          </a:xfrm>
          <a:prstGeom prst="rect">
            <a:avLst/>
          </a:prstGeom>
          <a:ln w="0">
            <a:noFill/>
          </a:ln>
        </p:spPr>
      </p:pic>
      <p:sp>
        <p:nvSpPr>
          <p:cNvPr id="604" name="WordArt 6"/>
          <p:cNvSpPr txBox="1"/>
          <p:nvPr/>
        </p:nvSpPr>
        <p:spPr>
          <a:xfrm>
            <a:off x="2484360" y="3429000"/>
            <a:ext cx="505800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珍惜今天的幸福生活</a:t>
            </a:r>
            <a:endParaRPr b="1" lang="en-US" sz="4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5" name="WordArt 7"/>
          <p:cNvSpPr txBox="1"/>
          <p:nvPr/>
        </p:nvSpPr>
        <p:spPr>
          <a:xfrm>
            <a:off x="3419640" y="4653000"/>
            <a:ext cx="2476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发奋学习</a:t>
            </a:r>
            <a:endParaRPr b="1" lang="en-US" sz="4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6" name="文本框 1"/>
          <p:cNvSpPr/>
          <p:nvPr/>
        </p:nvSpPr>
        <p:spPr>
          <a:xfrm>
            <a:off x="577800" y="5419800"/>
            <a:ext cx="815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67760" y="823680"/>
            <a:ext cx="2667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小练习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320760" y="219564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我只觉得两耳一阵轰鸣，就什么也不知道了</a:t>
            </a:r>
            <a:r>
              <a:rPr b="1" lang="en-US" sz="2800" spc="-1" strike="noStrike">
                <a:solidFill>
                  <a:srgbClr val="0066ff"/>
                </a:solidFill>
                <a:latin typeface="Comic Sans MS"/>
              </a:rPr>
              <a:t>……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Text Box 6"/>
          <p:cNvSpPr/>
          <p:nvPr/>
        </p:nvSpPr>
        <p:spPr>
          <a:xfrm>
            <a:off x="396720" y="150984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说说下列句子中的省略号有什么意义？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Text Box 7"/>
          <p:cNvSpPr/>
          <p:nvPr/>
        </p:nvSpPr>
        <p:spPr>
          <a:xfrm>
            <a:off x="320760" y="288144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指导员，指导员</a:t>
            </a:r>
            <a:r>
              <a:rPr b="1" lang="en-US" sz="2800" spc="-1" strike="noStrike">
                <a:solidFill>
                  <a:srgbClr val="ffb800"/>
                </a:solidFill>
                <a:latin typeface="Comic Sans MS"/>
              </a:rPr>
              <a:t>……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Text Box 8"/>
          <p:cNvSpPr/>
          <p:nvPr/>
        </p:nvSpPr>
        <p:spPr>
          <a:xfrm>
            <a:off x="320760" y="34909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你们要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好好儿学习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将来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……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Text Box 9"/>
          <p:cNvSpPr/>
          <p:nvPr/>
        </p:nvSpPr>
        <p:spPr>
          <a:xfrm>
            <a:off x="341280" y="411480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表示呼喊重复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表示事情经过的省略     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表示重伤，说话断断续续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表示牺牲了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Text Box 10"/>
          <p:cNvSpPr/>
          <p:nvPr/>
        </p:nvSpPr>
        <p:spPr>
          <a:xfrm>
            <a:off x="7635960" y="1890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Rectangle 11"/>
          <p:cNvSpPr/>
          <p:nvPr/>
        </p:nvSpPr>
        <p:spPr>
          <a:xfrm>
            <a:off x="3302280" y="280512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Rectangle 12"/>
          <p:cNvSpPr/>
          <p:nvPr/>
        </p:nvSpPr>
        <p:spPr>
          <a:xfrm>
            <a:off x="4125960" y="326232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Rectangle 13"/>
          <p:cNvSpPr/>
          <p:nvPr/>
        </p:nvSpPr>
        <p:spPr>
          <a:xfrm>
            <a:off x="5349960" y="326232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AutoShape 14">
            <a:hlinkClick r:id="rId1" action="ppaction://hlinksldjump"/>
          </p:cNvPr>
          <p:cNvSpPr/>
          <p:nvPr/>
        </p:nvSpPr>
        <p:spPr>
          <a:xfrm>
            <a:off x="7620120" y="6324480"/>
            <a:ext cx="533160" cy="228600"/>
          </a:xfrm>
          <a:custGeom>
            <a:avLst/>
            <a:gdLst>
              <a:gd name="textAreaLeft" fmla="*/ 133200 w 533160"/>
              <a:gd name="textAreaRight" fmla="*/ 399960 w 533160"/>
              <a:gd name="textAreaTop" fmla="*/ 648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r>
              <a:rPr b="0" lang="zh-CN" sz="14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omic Sans MS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A063-AC76-4B9C-B615-B9624331FC6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4"/>
          <p:cNvSpPr/>
          <p:nvPr/>
        </p:nvSpPr>
        <p:spPr>
          <a:xfrm>
            <a:off x="1219320" y="21337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炮火连天：形容炮火非常猛烈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1219320" y="419112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争先恐后：争着向前，唯恐落后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1219320" y="487692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盘旋：来回往复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2666880" y="61722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激励：激发勉励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Text Box 8"/>
          <p:cNvSpPr/>
          <p:nvPr/>
        </p:nvSpPr>
        <p:spPr>
          <a:xfrm>
            <a:off x="1219320" y="35053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振奋人心：使人们为之兴奋振作。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1219320" y="28195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渴望：急切地盼望就像很渴的时候没水喝一样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我来学生词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Text Box 11"/>
          <p:cNvSpPr/>
          <p:nvPr/>
        </p:nvSpPr>
        <p:spPr>
          <a:xfrm>
            <a:off x="1981080" y="556272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完整无缺：完整没有一点儿缺损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AutoShape 12">
            <a:hlinkClick r:id="rId1" action="ppaction://hlinksldjump"/>
          </p:cNvPr>
          <p:cNvSpPr/>
          <p:nvPr/>
        </p:nvSpPr>
        <p:spPr>
          <a:xfrm>
            <a:off x="8001000" y="5867280"/>
            <a:ext cx="60948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Text Box 13"/>
          <p:cNvSpPr/>
          <p:nvPr/>
        </p:nvSpPr>
        <p:spPr>
          <a:xfrm>
            <a:off x="1219320" y="137160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转移：迁移，移动。   顽强：非常坚强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4" descr="炮火连天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AutoShape 5">
            <a:hlinkClick r:id="rId2" action="ppaction://hlinksldjump"/>
          </p:cNvPr>
          <p:cNvSpPr/>
          <p:nvPr/>
        </p:nvSpPr>
        <p:spPr>
          <a:xfrm>
            <a:off x="8534520" y="6248520"/>
            <a:ext cx="38088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4" descr="蘑菇云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矩形 5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1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1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1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1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1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1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1" lang="en-US" sz="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9" name="Picture 4" descr="埋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AutoShape 5">
            <a:hlinkClick r:id="rId2" action="ppaction://hlinksldjump"/>
          </p:cNvPr>
          <p:cNvSpPr/>
          <p:nvPr/>
        </p:nvSpPr>
        <p:spPr>
          <a:xfrm>
            <a:off x="8534520" y="6172200"/>
            <a:ext cx="304560" cy="457200"/>
          </a:xfrm>
          <a:custGeom>
            <a:avLst/>
            <a:gdLst>
              <a:gd name="textAreaLeft" fmla="*/ 37800 w 304560"/>
              <a:gd name="textAreaRight" fmla="*/ 266760 w 3045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1" name="Picture 6" descr="2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53280" y="58672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omic Sans MS"/>
                <a:ea typeface="幼圆"/>
              </a:rPr>
              <a:t>说一说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250560" y="1988640"/>
            <a:ext cx="86756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这篇课文讲的是战争年代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_________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的学生在艰苦环境下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地坚持学习，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为保护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而英勇牺牲的事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4" name="Picture 4" descr="ED00317_"/>
          <p:cNvPicPr/>
          <p:nvPr/>
        </p:nvPicPr>
        <p:blipFill>
          <a:blip r:embed="rId1"/>
          <a:stretch/>
        </p:blipFill>
        <p:spPr>
          <a:xfrm>
            <a:off x="6948360" y="189000"/>
            <a:ext cx="1935360" cy="1612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457200"/>
          </a:xfrm>
          <a:custGeom>
            <a:avLst/>
            <a:gdLst>
              <a:gd name="textAreaLeft" fmla="*/ 37800 w 304560"/>
              <a:gd name="textAreaRight" fmla="*/ 266760 w 3045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6" name="Picture 6" descr="5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7"/>
          <p:cNvSpPr/>
          <p:nvPr/>
        </p:nvSpPr>
        <p:spPr>
          <a:xfrm>
            <a:off x="152280" y="5867280"/>
            <a:ext cx="8991720" cy="6098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Text Box 8"/>
          <p:cNvSpPr/>
          <p:nvPr/>
        </p:nvSpPr>
        <p:spPr>
          <a:xfrm>
            <a:off x="304920" y="649116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Text Box 9"/>
          <p:cNvSpPr/>
          <p:nvPr/>
        </p:nvSpPr>
        <p:spPr>
          <a:xfrm>
            <a:off x="152280" y="5943600"/>
            <a:ext cx="9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  <a:ea typeface="宋体"/>
              </a:rPr>
              <a:t>想一想：当时延安小学有什么困难？这些困难中哪个是最困难的？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3T12:46:3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7:50Z</dcterms:modified>
  <cp:revision>2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