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wmf" ContentType="image/x-wmf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39B7-568C-4EAD-9A1B-6F2A7260E1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321E-C686-48EA-9E40-7A0A6873F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320-624B-4E17-AB22-D0D00EE9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CF5-7EFB-4482-A0B0-BB81F4F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901-BF96-4C8D-99E3-158F9544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E5D-54EF-41F6-81AC-542E52DB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994-37BF-4057-A9F4-C79CECD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A5D-36FA-417C-BB31-67705D9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EB3-F833-43BD-8027-81A1793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9FD-5B46-4C6C-83BA-696A8AB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6CE-555E-49D5-B32A-D2AD52A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D84-1654-4F9C-8587-AE83892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86A-C7EC-461B-A35A-62336D87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E7C-9D27-42F5-B276-6D8823C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361-978B-4686-A9D4-46C17F134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01ab469767e10d99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3" descr=""/>
          <p:cNvPicPr/>
          <p:nvPr/>
        </p:nvPicPr>
        <p:blipFill>
          <a:blip r:embed="rId2"/>
          <a:stretch/>
        </p:blipFill>
        <p:spPr>
          <a:xfrm>
            <a:off x="1123920" y="765000"/>
            <a:ext cx="7039080" cy="24307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18270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3b"/>
          <p:cNvPicPr/>
          <p:nvPr/>
        </p:nvPicPr>
        <p:blipFill>
          <a:blip r:embed="rId1"/>
          <a:srcRect l="12500" t="5405" r="8929" b="8110"/>
          <a:stretch/>
        </p:blipFill>
        <p:spPr>
          <a:xfrm>
            <a:off x="-287280" y="0"/>
            <a:ext cx="38685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听 读 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61960" y="1981080"/>
            <a:ext cx="6172200" cy="32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98000" rIns="234000" tIns="190800" bIns="190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还能从哪里感受到最后一片树叶的不快乐的心情？它不快乐的原因是什么？拿出小笔来在书上画一画。（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-5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211640" y="692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924360" y="117360"/>
            <a:ext cx="511344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只鸟儿飞来了，停在枝头。它听到树叶正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叹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就问：“你发什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告诉我，我是一只快乐的鸟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树叶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“你很快乐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可不快乐，我快要死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鸟儿笑了：“你应该快乐才对呀。你知道那些已经飘落在地上的树叶在哪里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叶说：“不是掉在地上烂掉了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0" y="907920"/>
            <a:ext cx="3851280" cy="4249800"/>
            <a:chOff x="0" y="907920"/>
            <a:chExt cx="3851280" cy="4249800"/>
          </a:xfrm>
        </p:grpSpPr>
        <p:pic>
          <p:nvPicPr>
            <p:cNvPr id="115" name="Picture 6" descr="一片叶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3851280" cy="42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落叶8"/>
            <p:cNvPicPr/>
            <p:nvPr/>
          </p:nvPicPr>
          <p:blipFill>
            <a:blip r:embed="rId2"/>
            <a:stretch/>
          </p:blipFill>
          <p:spPr>
            <a:xfrm>
              <a:off x="1734120" y="2155320"/>
              <a:ext cx="37224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8" descr="niao"/>
          <p:cNvPicPr/>
          <p:nvPr/>
        </p:nvPicPr>
        <p:blipFill>
          <a:blip r:embed="rId3"/>
          <a:stretch/>
        </p:blipFill>
        <p:spPr>
          <a:xfrm>
            <a:off x="2411280" y="1341360"/>
            <a:ext cx="100836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211640" y="692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35280" y="1484280"/>
            <a:ext cx="5113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鸟儿笑了：“你应该快乐才对呀。你知道那些已经飘落在地上的树叶在哪里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叶说：“不是掉在地上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烂掉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0" y="907920"/>
            <a:ext cx="3708360" cy="4176720"/>
            <a:chOff x="0" y="907920"/>
            <a:chExt cx="3708360" cy="4176720"/>
          </a:xfrm>
        </p:grpSpPr>
        <p:pic>
          <p:nvPicPr>
            <p:cNvPr id="121" name="Picture 5" descr="一片叶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3708360" cy="41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落叶8"/>
            <p:cNvPicPr/>
            <p:nvPr/>
          </p:nvPicPr>
          <p:blipFill>
            <a:blip r:embed="rId2"/>
            <a:stretch/>
          </p:blipFill>
          <p:spPr>
            <a:xfrm>
              <a:off x="1670040" y="2134080"/>
              <a:ext cx="358560" cy="55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7" descr="niao"/>
          <p:cNvPicPr/>
          <p:nvPr/>
        </p:nvPicPr>
        <p:blipFill>
          <a:blip r:embed="rId3"/>
          <a:stretch/>
        </p:blipFill>
        <p:spPr>
          <a:xfrm>
            <a:off x="2340000" y="1773360"/>
            <a:ext cx="1008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0189646d69f41f2f8c"/>
          <p:cNvPicPr/>
          <p:nvPr/>
        </p:nvPicPr>
        <p:blipFill>
          <a:blip r:embed="rId1"/>
          <a:stretch/>
        </p:blipFill>
        <p:spPr>
          <a:xfrm>
            <a:off x="0" y="0"/>
            <a:ext cx="9120240" cy="6878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724360" y="117360"/>
            <a:ext cx="31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微软雅黑"/>
              </a:rPr>
              <a:t>小朋友们，你们知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树叶是怎么玩这个游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微软雅黑"/>
              </a:rPr>
              <a:t>吗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4500720" y="5300640"/>
            <a:ext cx="44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只要要你仔细读文就能够看出树叶正在玩一场有趣的捉迷藏游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最后一片树叶"/>
          <p:cNvPicPr/>
          <p:nvPr/>
        </p:nvPicPr>
        <p:blipFill>
          <a:blip r:embed="rId1"/>
          <a:stretch/>
        </p:blipFill>
        <p:spPr>
          <a:xfrm>
            <a:off x="250920" y="1700280"/>
            <a:ext cx="2936880" cy="3598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716360" y="1916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6720" y="260280"/>
            <a:ext cx="586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是烂掉的叶子都变成了肥料，藏进了树妈妈的身子里。”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鸟儿望着树叶说，“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们在那里等着，等到春天一来，就会再长出来，变成一片片又新又绿的叶子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吗？”树叶听得出了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“是的，它们只不过是藏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，躲过冬天罢了！”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一片叶"/>
          <p:cNvPicPr/>
          <p:nvPr/>
        </p:nvPicPr>
        <p:blipFill>
          <a:blip r:embed="rId1"/>
          <a:stretch/>
        </p:blipFill>
        <p:spPr>
          <a:xfrm>
            <a:off x="-181080" y="2060640"/>
            <a:ext cx="3554640" cy="44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落叶8"/>
          <p:cNvPicPr/>
          <p:nvPr/>
        </p:nvPicPr>
        <p:blipFill>
          <a:blip r:embed="rId2"/>
          <a:stretch/>
        </p:blipFill>
        <p:spPr>
          <a:xfrm>
            <a:off x="2340000" y="3141720"/>
            <a:ext cx="547560" cy="691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928960" y="404640"/>
            <a:ext cx="6215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啊，一场多么有趣的捉迷藏游戏呀！树叶听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得像鸟儿一样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微软雅黑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微软雅黑"/>
              </a:rPr>
              <a:t>这时，一阵秋风吹来，那最后一片树叶轻轻地飞下来，看上去就像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微软雅黑"/>
              </a:rPr>
              <a:t>跳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5580000" y="3068640"/>
            <a:ext cx="1943280" cy="504720"/>
            <a:chOff x="5580000" y="3068640"/>
            <a:chExt cx="1943280" cy="504720"/>
          </a:xfrm>
        </p:grpSpPr>
        <p:sp>
          <p:nvSpPr>
            <p:cNvPr id="134" name="Line 7"/>
            <p:cNvSpPr/>
            <p:nvPr/>
          </p:nvSpPr>
          <p:spPr>
            <a:xfrm>
              <a:off x="5651640" y="3068640"/>
              <a:ext cx="1871640" cy="36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5580000" y="3572640"/>
              <a:ext cx="1151640" cy="72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-0.01198 0.00602 L -0.01788 0.01829 L -0.02968 0.03056 L -0.03576 0.0426 L -0.04757 0.05788 L -0.05937 0.07014 L -0.06527 0.08241 L -0.07118 0.09445 L -0.07725 0.10672 L -0.0802 0.11875 L -0.08316 0.13102 L -0.08628 0.14329 L -0.08906 0.15533 L -0.08906 0.16783 L -0.08906 0.17987 L -0.08906 0.19213 L -0.08628 0.2044 L -0.07725 0.21667 L -0.0684 0.22871 L -0.05937 0.24399 L -0.04757 0.25325 L -0.03854 0.26528 L -0.02673 0.27454 L -0.02083 0.28681 L -0.01788 0.29885 L -0.01198 0.31112 L -0.01198 0.32338 L -0.01198 0.33565 L -0.01198 0.34769 L -0.02083 0.35996 L -0.02673 0.37223 L -0.03576 0.3845 L -0.04757 0.39075 L -0.05937 0.39676 L -0.07118 0.40278 L -0.08316 0.40579 L -0.09513 0.4088 L -0.10694 0.41181 L -0.11892 0.41181 L -0.13073 0.41181 L -0.1427 0.41505 L -0.15451 0.41806 L -0.16632 0.42408 L -0.17222 0.43635 L -0.18107 0.44838 L -0.18107 0.46065 L -0.18107 0.47292 L -0.17222 0.48519 L -0.16024 0.49144 E">
                                      <p:cBhvr>
                                        <p:cTn id="171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HUHSLLJSAG"/>
          <p:cNvPicPr/>
          <p:nvPr/>
        </p:nvPicPr>
        <p:blipFill>
          <a:blip r:embed="rId1"/>
          <a:stretch/>
        </p:blipFill>
        <p:spPr>
          <a:xfrm rot="196800">
            <a:off x="394920" y="693720"/>
            <a:ext cx="3024360" cy="4824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619280" y="98100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35280" y="1916280"/>
            <a:ext cx="547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秋风秋风吹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小小树叶飞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就像一只蝴蝶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ú dié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张开翅膀美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最后一片树叶"/>
          <p:cNvPicPr/>
          <p:nvPr/>
        </p:nvPicPr>
        <p:blipFill>
          <a:blip r:embed="rId2"/>
          <a:stretch/>
        </p:blipFill>
        <p:spPr>
          <a:xfrm>
            <a:off x="0" y="-23760"/>
            <a:ext cx="1440000" cy="19414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>
            <a:hlinkClick r:id="rId3" action="ppaction://hlinksldjump"/>
          </p:cNvPr>
          <p:cNvSpPr/>
          <p:nvPr/>
        </p:nvSpPr>
        <p:spPr>
          <a:xfrm>
            <a:off x="8101080" y="573408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f4f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957320" y="6141960"/>
            <a:ext cx="52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大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-103320" y="3933720"/>
            <a:ext cx="52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第二年春天，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79280" y="5086440"/>
            <a:ext cx="8929800" cy="10688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树叶宝宝藏在树妈妈的怀抱，终于躲过了寒冷的冬天，第二年春天，又发生了怎样的故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33B3-AEBB-48F0-BF94-66FAB74B8D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2"/>
          <p:cNvSpPr/>
          <p:nvPr/>
        </p:nvSpPr>
        <p:spPr>
          <a:xfrm>
            <a:off x="686160" y="15048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2682360" y="15415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3997440" y="151128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5621040" y="1484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7300440" y="14842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ā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972720" y="34257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2557080" y="34005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39680" y="488880"/>
            <a:ext cx="356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楷体"/>
                <a:ea typeface="华文楷体"/>
              </a:rPr>
              <a:t>学习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生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4284720" y="34005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930960" y="1982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2"/>
          <p:cNvSpPr/>
          <p:nvPr/>
        </p:nvSpPr>
        <p:spPr>
          <a:xfrm>
            <a:off x="5892840" y="200484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        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4244400" y="198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2660040" y="1982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5"/>
          <p:cNvSpPr/>
          <p:nvPr/>
        </p:nvSpPr>
        <p:spPr>
          <a:xfrm>
            <a:off x="1075680" y="392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6"/>
          <p:cNvSpPr/>
          <p:nvPr/>
        </p:nvSpPr>
        <p:spPr>
          <a:xfrm>
            <a:off x="2660040" y="39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7"/>
          <p:cNvSpPr/>
          <p:nvPr/>
        </p:nvSpPr>
        <p:spPr>
          <a:xfrm>
            <a:off x="4460040" y="395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23b"/>
          <p:cNvPicPr/>
          <p:nvPr/>
        </p:nvPicPr>
        <p:blipFill>
          <a:blip r:embed="rId1"/>
          <a:srcRect l="12699" t="32652" r="19408" b="139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409760" y="1739880"/>
            <a:ext cx="6691320" cy="2289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自读课文，借助拼音读准生字、读通句子，遇到不好读的地方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想一想，你读懂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0480"/>
            <a:ext cx="9067680" cy="62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上只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了最后一片树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鸟听到树叶正在叹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就问：“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什么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儿笑了：“你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应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乐才对呀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烂掉的叶子都变成了肥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叶只不过是藏起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躲过冬天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，一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么有趣的捉</a:t>
            </a:r>
            <a:r>
              <a:rPr b="1" lang="zh-CN" sz="4000" spc="-1" strike="noStrike">
                <a:solidFill>
                  <a:srgbClr val="da2a00"/>
                </a:solidFill>
                <a:latin typeface="Times New Roman"/>
                <a:ea typeface="楷体_GB2312"/>
              </a:rPr>
              <a:t>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藏游戏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8686800" y="57150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efa9"/>
          </a:solidFill>
          <a:ln w="9360">
            <a:solidFill>
              <a:srgbClr val="ffe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8839080" y="6324480"/>
            <a:ext cx="304920" cy="53352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3"/>
          <p:cNvSpPr/>
          <p:nvPr/>
        </p:nvSpPr>
        <p:spPr>
          <a:xfrm>
            <a:off x="1592280" y="472428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0045"/>
                </a:solidFill>
                <a:latin typeface="Arial"/>
                <a:ea typeface="楷体_GB2312"/>
              </a:rPr>
              <a:t>你认识我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267080" y="243828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剩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267080" y="2514600"/>
            <a:ext cx="2362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23b"/>
          <p:cNvPicPr/>
          <p:nvPr/>
        </p:nvPicPr>
        <p:blipFill>
          <a:blip r:embed="rId1"/>
          <a:srcRect l="12500" t="5405" r="8929" b="8110"/>
          <a:stretch/>
        </p:blipFill>
        <p:spPr>
          <a:xfrm>
            <a:off x="0" y="3276720"/>
            <a:ext cx="318276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4114800" y="23623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343400" y="24382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343400" y="251460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该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267080" y="2438280"/>
            <a:ext cx="221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4191120" y="251460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343400" y="2438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343400" y="25909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143000" y="277344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2286000" y="2514600"/>
            <a:ext cx="1143000" cy="914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286000" y="342900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3505320" y="2133360"/>
            <a:ext cx="2286000" cy="657720"/>
            <a:chOff x="3505320" y="2133360"/>
            <a:chExt cx="2286000" cy="657720"/>
          </a:xfrm>
        </p:grpSpPr>
        <p:sp>
          <p:nvSpPr>
            <p:cNvPr id="88" name="Text Box 6"/>
            <p:cNvSpPr/>
            <p:nvPr/>
          </p:nvSpPr>
          <p:spPr>
            <a:xfrm>
              <a:off x="3505320" y="22096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entury Gothic"/>
                </a:rPr>
                <a:t>cha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7"/>
            <p:cNvGrpSpPr/>
            <p:nvPr/>
          </p:nvGrpSpPr>
          <p:grpSpPr>
            <a:xfrm>
              <a:off x="4114800" y="2133360"/>
              <a:ext cx="380880" cy="152640"/>
              <a:chOff x="4114800" y="2133360"/>
              <a:chExt cx="380880" cy="152640"/>
            </a:xfrm>
          </p:grpSpPr>
          <p:sp>
            <p:nvSpPr>
              <p:cNvPr id="90" name="Line 8"/>
              <p:cNvSpPr/>
              <p:nvPr/>
            </p:nvSpPr>
            <p:spPr>
              <a:xfrm>
                <a:off x="4114800" y="21337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 flipV="1">
                <a:off x="4267080" y="2133360"/>
                <a:ext cx="22860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10"/>
          <p:cNvSpPr/>
          <p:nvPr/>
        </p:nvSpPr>
        <p:spPr>
          <a:xfrm>
            <a:off x="4724280" y="19810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（广场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3581280" y="3413160"/>
            <a:ext cx="3268440" cy="1008360"/>
            <a:chOff x="3581280" y="3413160"/>
            <a:chExt cx="3268440" cy="1008360"/>
          </a:xfrm>
        </p:grpSpPr>
        <p:sp>
          <p:nvSpPr>
            <p:cNvPr id="94" name="Text Box 11"/>
            <p:cNvSpPr/>
            <p:nvPr/>
          </p:nvSpPr>
          <p:spPr>
            <a:xfrm>
              <a:off x="3581280" y="36874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entury Gothic"/>
                </a:rPr>
                <a:t>cha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 flipV="1">
              <a:off x="4343040" y="365724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5906880" y="34131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一场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1550160" y="4149720"/>
            <a:ext cx="6189480" cy="1938600"/>
            <a:chOff x="1550160" y="4149720"/>
            <a:chExt cx="6189480" cy="1938600"/>
          </a:xfrm>
        </p:grpSpPr>
        <p:sp>
          <p:nvSpPr>
            <p:cNvPr id="98" name="Text Box 14"/>
            <p:cNvSpPr/>
            <p:nvPr/>
          </p:nvSpPr>
          <p:spPr>
            <a:xfrm>
              <a:off x="2640960" y="4653720"/>
              <a:ext cx="5098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</a:t>
              </a:r>
              <a:r>
                <a:rPr b="1" lang="zh-CN" sz="44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场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么有趣的捉</a:t>
              </a:r>
              <a:r>
                <a:rPr b="1" lang="zh-CN" sz="44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迷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藏游戏呀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7"/>
            <p:cNvSpPr/>
            <p:nvPr/>
          </p:nvSpPr>
          <p:spPr>
            <a:xfrm>
              <a:off x="1550160" y="4149720"/>
              <a:ext cx="122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chά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8"/>
          <p:cNvSpPr/>
          <p:nvPr/>
        </p:nvSpPr>
        <p:spPr>
          <a:xfrm>
            <a:off x="3437280" y="5589720"/>
            <a:ext cx="19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场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532114520314"/>
          <p:cNvPicPr/>
          <p:nvPr/>
        </p:nvPicPr>
        <p:blipFill>
          <a:blip r:embed="rId1"/>
          <a:stretch/>
        </p:blipFill>
        <p:spPr>
          <a:xfrm>
            <a:off x="0" y="46080"/>
            <a:ext cx="9253440" cy="6954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484360" y="3141720"/>
            <a:ext cx="63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微软雅黑"/>
              </a:rPr>
              <a:t>       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微软雅黑"/>
              </a:rPr>
              <a:t>秋风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紧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微软雅黑"/>
              </a:rPr>
              <a:t>了。树上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只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微软雅黑"/>
              </a:rPr>
              <a:t>剩下了最后一片叶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落叶8"/>
          <p:cNvPicPr/>
          <p:nvPr/>
        </p:nvPicPr>
        <p:blipFill>
          <a:blip r:embed="rId1"/>
          <a:stretch/>
        </p:blipFill>
        <p:spPr>
          <a:xfrm>
            <a:off x="127080" y="5410080"/>
            <a:ext cx="95724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52280" y="146160"/>
            <a:ext cx="899172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只鸟儿飞来了，停在枝头。它听到树叶正在叹息，就问：“你发什么愁？告诉我，我是一只快乐的鸟儿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叶说：“你很快乐，我可不快乐，我快要死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儿笑了：“你应该快乐才对呀。你知道那些已经飘落在地上的树叶在哪里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叶说：“不是掉在地上烂掉了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6991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219320" y="2895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609480"/>
            <a:ext cx="8610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吗？”树叶听得出了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鸟儿笑着说：“是的，他们只不过是藏起来，躲过冬天罢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啊，一场多么有趣的捉迷藏游戏呀！树叶听了，变得像鸟儿一样快乐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时，一阵秋风吹来，那最后一片树叶轻轻的飞下来，看上去就像在跳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落叶8"/>
          <p:cNvPicPr/>
          <p:nvPr/>
        </p:nvPicPr>
        <p:blipFill>
          <a:blip r:embed="rId1"/>
          <a:stretch/>
        </p:blipFill>
        <p:spPr>
          <a:xfrm>
            <a:off x="2286000" y="5334120"/>
            <a:ext cx="127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34:52Z</dcterms:modified>
  <cp:revision>1</cp:revision>
  <dc:subject/>
  <dc:title>幻灯片 1</dc:title>
</cp:coreProperties>
</file>