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chimes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DF2B-A5AC-4974-AE48-E685F9E919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8CC-B445-4C01-A2AD-7AE963020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165-F081-4F8C-AF9A-2B233C94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835-FB9F-44F0-8C30-4A1550B9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F7D-2AED-4C5F-AC85-B69B9110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455-E746-41A5-8A58-53E48C55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C68-057A-46CE-9539-1733968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9D0-5218-42E5-BFAB-FA9AB44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A6B-92D5-45BE-B2FA-88C602C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2B1-3277-439E-9AE2-1A08FDC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C45-3524-43F2-8893-3566A83F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0D7-C410-4460-9B43-752B0C2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E98-D7A1-4774-9D60-5602A812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337-FC10-4FCC-862E-ECEF85D0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BD15-3526-4023-8DF9-19F02A0FD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6" descr=""/>
          <p:cNvPicPr/>
          <p:nvPr/>
        </p:nvPicPr>
        <p:blipFill>
          <a:blip r:embed="rId2"/>
          <a:stretch/>
        </p:blipFill>
        <p:spPr>
          <a:xfrm>
            <a:off x="571680" y="2654280"/>
            <a:ext cx="8001000" cy="1569960"/>
          </a:xfrm>
          <a:prstGeom prst="rect">
            <a:avLst/>
          </a:prstGeom>
          <a:ln w="0">
            <a:noFill/>
          </a:ln>
        </p:spPr>
      </p:pic>
      <p:pic>
        <p:nvPicPr>
          <p:cNvPr id="52" name="矩形 9" descr=""/>
          <p:cNvPicPr/>
          <p:nvPr/>
        </p:nvPicPr>
        <p:blipFill>
          <a:blip r:embed="rId3"/>
          <a:stretch/>
        </p:blipFill>
        <p:spPr>
          <a:xfrm>
            <a:off x="1428840" y="5616720"/>
            <a:ext cx="640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819520" y="175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小朋友们，当你看到最后一片树叶轻轻飞下来的时候，你是不是也像它一样高兴呢？现在，请你展开想象，第二年春天到了，会发生什么样的故事呢？聪明的你一定会想出来的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ai对话1"/>
          <p:cNvPicPr/>
          <p:nvPr/>
        </p:nvPicPr>
        <p:blipFill>
          <a:blip r:embed="rId2"/>
          <a:stretch/>
        </p:blipFill>
        <p:spPr>
          <a:xfrm>
            <a:off x="0" y="4030560"/>
            <a:ext cx="2971800" cy="28274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8"/>
          <p:cNvSpPr txBox="1"/>
          <p:nvPr/>
        </p:nvSpPr>
        <p:spPr>
          <a:xfrm>
            <a:off x="304920" y="380880"/>
            <a:ext cx="8534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续编故事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FF21-F1DF-4156-9529-47B99CB941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0045"/>
                </a:solidFill>
                <a:latin typeface="Arial"/>
                <a:ea typeface="楷体_GB2312"/>
              </a:rPr>
              <a:t>你认识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67080" y="243828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67080" y="2514600"/>
            <a:ext cx="2362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23b"/>
          <p:cNvPicPr/>
          <p:nvPr/>
        </p:nvPicPr>
        <p:blipFill>
          <a:blip r:embed="rId2"/>
          <a:srcRect l="12500" t="5405" r="8929" b="8110"/>
          <a:stretch/>
        </p:blipFill>
        <p:spPr>
          <a:xfrm>
            <a:off x="-30492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4114800" y="23623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343400" y="24382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343400" y="251460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4267080" y="2438280"/>
            <a:ext cx="221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91120" y="251460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4343400" y="2438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4343400" y="25909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4" descr="111"/>
          <p:cNvPicPr/>
          <p:nvPr/>
        </p:nvPicPr>
        <p:blipFill>
          <a:blip r:embed="rId1"/>
          <a:stretch/>
        </p:blipFill>
        <p:spPr>
          <a:xfrm>
            <a:off x="0" y="457200"/>
            <a:ext cx="5410080" cy="640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241957904KeTvBDNbTHG5GHt5"/>
          <p:cNvPicPr/>
          <p:nvPr/>
        </p:nvPicPr>
        <p:blipFill>
          <a:blip r:embed="rId2"/>
          <a:srcRect l="0" t="0" r="9329" b="0"/>
          <a:stretch/>
        </p:blipFill>
        <p:spPr>
          <a:xfrm>
            <a:off x="3505320" y="609480"/>
            <a:ext cx="1552320" cy="1695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502320" y="762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1241957904KeTvBDNbTHG5GHt5"/>
          <p:cNvPicPr/>
          <p:nvPr/>
        </p:nvPicPr>
        <p:blipFill>
          <a:blip r:embed="rId3"/>
          <a:srcRect l="0" t="0" r="0" b="9327"/>
          <a:stretch/>
        </p:blipFill>
        <p:spPr>
          <a:xfrm rot="7023000">
            <a:off x="690480" y="1976400"/>
            <a:ext cx="1695240" cy="1552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6502320" y="144792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叹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1241957904KeTvBDNbTHG5GHt5"/>
          <p:cNvPicPr/>
          <p:nvPr/>
        </p:nvPicPr>
        <p:blipFill>
          <a:blip r:embed="rId4"/>
          <a:srcRect l="0" t="0" r="9329" b="0"/>
          <a:stretch/>
        </p:blipFill>
        <p:spPr>
          <a:xfrm>
            <a:off x="3124080" y="2819520"/>
            <a:ext cx="1552680" cy="1695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502320" y="2209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发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1241957904KeTvBDNbTHG5GHt5"/>
          <p:cNvPicPr/>
          <p:nvPr/>
        </p:nvPicPr>
        <p:blipFill>
          <a:blip r:embed="rId5"/>
          <a:srcRect l="0" t="0" r="0" b="9327"/>
          <a:stretch/>
        </p:blipFill>
        <p:spPr>
          <a:xfrm rot="7419600">
            <a:off x="523440" y="3514320"/>
            <a:ext cx="169560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 flipV="1">
            <a:off x="5638680" y="5334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553080" y="3632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1241957904KeTvBDNbTHG5GHt5"/>
          <p:cNvPicPr/>
          <p:nvPr/>
        </p:nvPicPr>
        <p:blipFill>
          <a:blip r:embed="rId6"/>
          <a:srcRect l="0" t="0" r="0" b="9327"/>
          <a:stretch/>
        </p:blipFill>
        <p:spPr>
          <a:xfrm rot="18217200">
            <a:off x="2823840" y="1976040"/>
            <a:ext cx="1695240" cy="1552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7"/>
          <p:cNvSpPr/>
          <p:nvPr/>
        </p:nvSpPr>
        <p:spPr>
          <a:xfrm>
            <a:off x="6527880" y="2895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肥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8" descr="1241957904KeTvBDNbTHG5GHt5"/>
          <p:cNvPicPr/>
          <p:nvPr/>
        </p:nvPicPr>
        <p:blipFill>
          <a:blip r:embed="rId7"/>
          <a:srcRect l="0" t="0" r="0" b="9327"/>
          <a:stretch/>
        </p:blipFill>
        <p:spPr>
          <a:xfrm rot="10166400">
            <a:off x="1752120" y="1599840"/>
            <a:ext cx="1695600" cy="1552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654048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1241957904KeTvBDNbTHG5GHt5"/>
          <p:cNvPicPr/>
          <p:nvPr/>
        </p:nvPicPr>
        <p:blipFill>
          <a:blip r:embed="rId8"/>
          <a:srcRect l="0" t="0" r="0" b="9327"/>
          <a:stretch/>
        </p:blipFill>
        <p:spPr>
          <a:xfrm rot="18051600">
            <a:off x="3967200" y="3804840"/>
            <a:ext cx="169524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1"/>
          <p:cNvSpPr/>
          <p:nvPr/>
        </p:nvSpPr>
        <p:spPr>
          <a:xfrm>
            <a:off x="6553080" y="5105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迷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23b"/>
          <p:cNvPicPr/>
          <p:nvPr/>
        </p:nvPicPr>
        <p:blipFill>
          <a:blip r:embed="rId1"/>
          <a:srcRect l="12699" t="32652" r="19408" b="13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4800600" y="29210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3b"/>
          <p:cNvPicPr/>
          <p:nvPr/>
        </p:nvPicPr>
        <p:blipFill>
          <a:blip r:embed="rId1"/>
          <a:srcRect l="12699" t="32652" r="19408" b="13963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23a"/>
          <p:cNvPicPr/>
          <p:nvPr/>
        </p:nvPicPr>
        <p:blipFill>
          <a:blip r:embed="rId2"/>
          <a:srcRect l="11113" t="12223" r="12698" b="6666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哭脸"/>
          <p:cNvPicPr/>
          <p:nvPr/>
        </p:nvPicPr>
        <p:blipFill>
          <a:blip r:embed="rId3"/>
          <a:stretch/>
        </p:blipFill>
        <p:spPr>
          <a:xfrm>
            <a:off x="914400" y="2362320"/>
            <a:ext cx="144792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哭脸"/>
          <p:cNvPicPr/>
          <p:nvPr/>
        </p:nvPicPr>
        <p:blipFill>
          <a:blip r:embed="rId4"/>
          <a:stretch/>
        </p:blipFill>
        <p:spPr>
          <a:xfrm>
            <a:off x="6095880" y="228600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3b"/>
          <p:cNvPicPr/>
          <p:nvPr/>
        </p:nvPicPr>
        <p:blipFill>
          <a:blip r:embed="rId2"/>
          <a:srcRect l="12500" t="5405" r="8929" b="8110"/>
          <a:stretch/>
        </p:blipFill>
        <p:spPr>
          <a:xfrm>
            <a:off x="19080" y="-144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5280" y="304560"/>
            <a:ext cx="52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边 读 边 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68200" y="2057400"/>
            <a:ext cx="6172200" cy="3230640"/>
          </a:xfrm>
          <a:prstGeom prst="rect">
            <a:avLst/>
          </a:prstGeom>
          <a:noFill/>
          <a:ln w="0">
            <a:noFill/>
          </a:ln>
        </p:spPr>
        <p:txBody>
          <a:bodyPr lIns="198000" rIns="234000" tIns="190800" bIns="190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从哪里感受到最后一片树叶的快乐和不快乐的心情的？心情变化的原因是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914400" y="265104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树叶说：“你很快乐，我可不快乐，我快要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14400" y="42670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这时，一阵秋风吹来，那最后一片树叶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轻轻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飞下来，看上去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就像在跳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gai对话1"/>
          <p:cNvPicPr/>
          <p:nvPr/>
        </p:nvPicPr>
        <p:blipFill>
          <a:blip r:embed="rId2"/>
          <a:stretch/>
        </p:blipFill>
        <p:spPr>
          <a:xfrm>
            <a:off x="457200" y="380880"/>
            <a:ext cx="2057400" cy="195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2209680" y="228600"/>
            <a:ext cx="6248520" cy="1752480"/>
          </a:xfrm>
          <a:prstGeom prst="cloudCallout">
            <a:avLst>
              <a:gd name="adj1" fmla="val -49009"/>
              <a:gd name="adj2" fmla="val 56342"/>
            </a:avLst>
          </a:prstGeom>
          <a:noFill/>
          <a:ln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0045"/>
                </a:solidFill>
                <a:latin typeface="Arial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971800" y="380880"/>
            <a:ext cx="4419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0045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ed0045"/>
                </a:solidFill>
                <a:latin typeface="Arial"/>
                <a:ea typeface="楷体_GB2312"/>
              </a:rPr>
              <a:t>试着一边读一边想象树叶此时的心情，你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0045"/>
                </a:solidFill>
                <a:latin typeface="Arial"/>
                <a:ea typeface="楷体_GB2312"/>
              </a:rPr>
              <a:t>会读得很有感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gai老师刊头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2671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094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小朋友们，你们从哪里看出这是一场有趣的捉迷藏游戏呢？只要你用心读文，一定会找到的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143000" y="3517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0045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d0045"/>
                </a:solidFill>
                <a:latin typeface="楷体_GB2312"/>
                <a:ea typeface="楷体_GB2312"/>
              </a:rPr>
              <a:t>啊，一场多么有趣的捉迷藏游戏呀！</a:t>
            </a:r>
            <a:r>
              <a:rPr b="1" lang="zh-CN" sz="4000" spc="-1" strike="noStrike">
                <a:solidFill>
                  <a:srgbClr val="ed0045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143000" y="35053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0045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d0045"/>
                </a:solidFill>
                <a:latin typeface="楷体_GB2312"/>
                <a:ea typeface="楷体_GB2312"/>
              </a:rPr>
              <a:t>啊，一场多么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趣的捉迷藏游戏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呀！</a:t>
            </a:r>
            <a:r>
              <a:rPr b="1" lang="zh-CN" sz="4000" spc="-1" strike="noStrike">
                <a:solidFill>
                  <a:srgbClr val="ed0045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833400" y="637848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3b"/>
          <p:cNvPicPr/>
          <p:nvPr/>
        </p:nvPicPr>
        <p:blipFill>
          <a:blip r:embed="rId1"/>
          <a:srcRect l="65547" t="54850" r="8873" b="24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066680" y="1828800"/>
            <a:ext cx="7239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但是烂掉的叶子都变成了肥料，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藏进了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树妈妈的身子里。”鸟儿望着树叶说，“它们在那里等着，等到春天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一来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，就会再长出来，变成一片片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又新又绿</a:t>
            </a:r>
            <a:r>
              <a:rPr b="1" lang="zh-CN" sz="4000" spc="-1" strike="noStrike">
                <a:solidFill>
                  <a:srgbClr val="ed0045"/>
                </a:solidFill>
                <a:latin typeface="Arial"/>
                <a:ea typeface="楷体_GB2312"/>
              </a:rPr>
              <a:t>的叶子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0" y="0"/>
            <a:ext cx="8610480" cy="2671920"/>
            <a:chOff x="0" y="0"/>
            <a:chExt cx="8610480" cy="2671920"/>
          </a:xfrm>
        </p:grpSpPr>
        <p:pic>
          <p:nvPicPr>
            <p:cNvPr id="106" name="Picture 7" descr="gai老师刊头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5740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8"/>
            <p:cNvSpPr/>
            <p:nvPr/>
          </p:nvSpPr>
          <p:spPr>
            <a:xfrm>
              <a:off x="1676520" y="380880"/>
              <a:ext cx="69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32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小朋友们，你们一定找到了这句话，试着读一读，注意鸟儿说话时的心情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08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4:47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