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5.jpeg" ContentType="image/jpeg"/>
  <Override PartName="/ppt/media/image6.gif" ContentType="image/gif"/>
  <Override PartName="/ppt/media/image7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2835-B0E0-4B45-98D0-AFBDED41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A3B4-E34D-4E57-BB2A-4C1EF4CAE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258-AA00-453A-9E36-24187E13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49C-0B19-472F-9080-9DADC852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E31-6AF8-4872-84BE-2B966708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08D-329C-43BD-8077-229E20B6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C315-AFF1-493B-9A6D-92C8F28D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845C-8780-4431-832A-AB57B6CA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DB15-06A9-49C9-BFEE-2520919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C227-8B3E-46EE-9970-5737BDF3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81AA-25F5-42DA-8B4F-0E3A4B2E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5070-E5FF-4832-92F5-4126046D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8564-FC5C-4934-98D9-E0772677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454E-3FCB-46FB-A816-1CCE93D7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CAB9-7185-4901-B392-CE75BBF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73E2-ADB5-4DD0-ACEC-50896776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8B53-382B-4B1D-B6E2-0A985996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2C7D-238D-4161-A850-CB71116C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9D4B-64C8-40BF-A117-C4266913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707-4EB6-4675-A4E1-B1C6B2F7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994-F327-4923-8963-0590937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0AF-9C23-443B-9EED-E99EE2CA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FD5-071E-41EE-98A0-64438CD6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897-966D-4BBC-B75D-5BD0EF40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199-A759-4DCE-B457-67ECEC9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5E9-9FD8-465C-A532-BF59AAB2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D43A-0345-4EDA-AC60-99B248719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EE8B-638B-4D46-AE35-9443FA48DE8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206;%D7%D3&amp;in=3&amp;cl=2&amp;cm=1&amp;sc=0&amp;lm=-1&amp;pn=2&amp;rn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m077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4"/>
          <p:cNvSpPr txBox="1"/>
          <p:nvPr/>
        </p:nvSpPr>
        <p:spPr>
          <a:xfrm>
            <a:off x="1033560" y="1509840"/>
            <a:ext cx="72104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最后一片叶子</a:t>
            </a:r>
            <a:endParaRPr b="1" i="1" lang="en-US" sz="8000" spc="1" strike="noStrike">
              <a:ln w="12600">
                <a:solidFill>
                  <a:srgbClr val="eaeaea"/>
                </a:solidFill>
                <a:round/>
              </a:ln>
              <a:solidFill>
                <a:srgbClr val="00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8" name="矩形 9" descr=""/>
          <p:cNvPicPr/>
          <p:nvPr/>
        </p:nvPicPr>
        <p:blipFill>
          <a:blip r:embed="rId2"/>
          <a:stretch/>
        </p:blipFill>
        <p:spPr>
          <a:xfrm>
            <a:off x="1060560" y="5715000"/>
            <a:ext cx="7302240" cy="628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BJ_035"/>
          <p:cNvPicPr/>
          <p:nvPr/>
        </p:nvPicPr>
        <p:blipFill>
          <a:blip r:embed="rId1"/>
          <a:stretch/>
        </p:blipFill>
        <p:spPr>
          <a:xfrm>
            <a:off x="0" y="480060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0" y="2362320"/>
            <a:ext cx="9144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希望是生命的灵魂</a:t>
            </a:r>
            <a:r>
              <a:rPr b="1" lang="en-US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心灵的灯塔</a:t>
            </a:r>
            <a:r>
              <a:rPr b="1" lang="en-US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成功的向导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                                              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歌德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希望是生命的源泉</a:t>
            </a:r>
            <a:r>
              <a:rPr b="1" lang="en-US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失去它的生命就会枯萎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                                             </a:t>
            </a:r>
            <a:r>
              <a:rPr b="1" lang="zh-CN" sz="3600" spc="-1" strike="noStrike">
                <a:solidFill>
                  <a:srgbClr val="ff3399"/>
                </a:solidFill>
                <a:latin typeface="Tahoma"/>
                <a:ea typeface="华文行楷"/>
              </a:rPr>
              <a:t>富兰克林</a:t>
            </a:r>
            <a:r>
              <a:rPr b="0" lang="zh-CN" sz="3200" spc="-1" strike="noStrike">
                <a:solidFill>
                  <a:srgbClr val="ff3399"/>
                </a:solidFill>
                <a:latin typeface="Tahoma"/>
                <a:ea typeface="华文行楷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5" descr="line05"/>
          <p:cNvPicPr/>
          <p:nvPr/>
        </p:nvPicPr>
        <p:blipFill>
          <a:blip r:embed="rId2"/>
          <a:stretch/>
        </p:blipFill>
        <p:spPr>
          <a:xfrm>
            <a:off x="1447920" y="1371600"/>
            <a:ext cx="7315200" cy="344520"/>
          </a:xfrm>
          <a:prstGeom prst="rect">
            <a:avLst/>
          </a:prstGeom>
          <a:ln w="0">
            <a:noFill/>
          </a:ln>
        </p:spPr>
      </p:pic>
      <p:sp>
        <p:nvSpPr>
          <p:cNvPr id="137" name="WordArt 6"/>
          <p:cNvSpPr txBox="1"/>
          <p:nvPr/>
        </p:nvSpPr>
        <p:spPr>
          <a:xfrm>
            <a:off x="2819520" y="380880"/>
            <a:ext cx="289548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152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与大家共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答应你,什么"/>
          <p:cNvPicPr/>
          <p:nvPr/>
        </p:nvPicPr>
        <p:blipFill>
          <a:blip r:embed="rId1"/>
          <a:stretch/>
        </p:blipFill>
        <p:spPr>
          <a:xfrm>
            <a:off x="6875640" y="476424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213000" y="36504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带着问题走出课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4920" y="2276640"/>
            <a:ext cx="910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你的身边有没有贝尔曼式的人物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写一写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有条件的学生读一读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麦琪的礼物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警察与赞美诗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，进一步体会欧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结尾风格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CE87-FD6A-4330-80D3-3E052305CB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u=3886390266,2642969897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684360" y="47628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习目标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60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</a:rPr>
              <a:t>分析人物形象，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</a:rPr>
              <a:t>感悟人间真情。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BJ_014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97164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5050"/>
                </a:solidFill>
                <a:latin typeface="Times New Roman"/>
                <a:ea typeface="隶书"/>
              </a:rPr>
              <a:t>方法指导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08040" y="64440"/>
            <a:ext cx="261828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华文行楷"/>
                <a:ea typeface="华文行楷"/>
              </a:rPr>
              <a:t>众里寻他千百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华文行楷"/>
                <a:ea typeface="华文行楷"/>
              </a:rPr>
              <a:t>蓦然回首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华文行楷"/>
                <a:ea typeface="华文行楷"/>
              </a:rPr>
              <a:t>那人却在灯火阑珊处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806920" y="1700280"/>
            <a:ext cx="94896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从语言、外貌、动作、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态、心理方面进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析人物形象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2556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image0445"/>
          <p:cNvPicPr/>
          <p:nvPr/>
        </p:nvPicPr>
        <p:blipFill>
          <a:blip r:embed="rId2"/>
          <a:stretch/>
        </p:blipFill>
        <p:spPr>
          <a:xfrm>
            <a:off x="6248520" y="380880"/>
            <a:ext cx="88884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BJ_042"/>
          <p:cNvPicPr/>
          <p:nvPr/>
        </p:nvPicPr>
        <p:blipFill>
          <a:blip r:embed="rId3"/>
          <a:stretch/>
        </p:blipFill>
        <p:spPr>
          <a:xfrm>
            <a:off x="7391520" y="38088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3362400" y="293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Tahoma"/>
              </a:rPr>
              <a:t>合作探究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362680" y="1851120"/>
            <a:ext cx="439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贝尔曼完成了杰作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救了乔安西的性命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让我们相信吗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找找你的理由，赞成或者反对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6"/>
          <p:cNvSpPr/>
          <p:nvPr/>
        </p:nvSpPr>
        <p:spPr>
          <a:xfrm>
            <a:off x="291636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问题探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为什么说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最后一片叶子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是贝尔曼的杰作？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99"/>
                </a:solidFill>
                <a:latin typeface="Tahoma"/>
              </a:rPr>
              <a:t>说一说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ahoma"/>
              </a:rPr>
              <a:t>现在你站在贝尔曼的墓前，你有什么话要说？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990720" y="3048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出乎意料之外，又在情理之中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1066680" y="1143000"/>
            <a:ext cx="2133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结局：</a:t>
            </a:r>
            <a:endParaRPr b="1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Sm077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066680" y="121932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00"/>
                </a:solidFill>
                <a:latin typeface="Times New Roman"/>
                <a:ea typeface="隶书"/>
              </a:rPr>
              <a:t>小说的主人公是乔安西，还是贝尔曼，还是这两个人？为什么？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教你一招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判断小说的主人公要看人物在小说情节、结构、矛盾冲突中是否占中心地位 ，是否通过他来表现小说的主题思想，而不是以作墨的多少判断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436680" y="617400"/>
            <a:ext cx="72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7:15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4:42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