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4D3AE-194D-4CBB-BF77-EC183C953D1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0751B-A5B0-436C-87E9-8DA1B03049E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33C4-1BC2-48BB-8DAD-640D869E1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B522-3EA9-402D-A62E-BCF8D9246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1447-B879-46BD-9BA3-852734BA1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764A-5980-43EB-A3DE-883814666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3342-B7B0-47DE-AC78-4EAC7F4B5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EB3A-A4B9-49EC-B97D-4D38093C1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3CCF-8117-40E6-ABFC-5E12509B3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5717-F129-46CF-BFBE-6D0648011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B4E0-C13C-441F-8734-B22B2E66F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B7B2-A389-44FE-B049-EFB306144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C5B1-7C3A-4767-B40E-0A96CDB4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5204-09DA-4E9A-B8EF-431D9267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D2F50-970B-4DD4-88B5-295CEA8F2E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20051026235917761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矩形 1" descr=""/>
          <p:cNvPicPr/>
          <p:nvPr/>
        </p:nvPicPr>
        <p:blipFill>
          <a:blip r:embed="rId2"/>
          <a:stretch/>
        </p:blipFill>
        <p:spPr>
          <a:xfrm>
            <a:off x="1393920" y="1413000"/>
            <a:ext cx="6356160" cy="1568160"/>
          </a:xfrm>
          <a:prstGeom prst="rect">
            <a:avLst/>
          </a:prstGeom>
          <a:ln w="0">
            <a:noFill/>
          </a:ln>
        </p:spPr>
      </p:pic>
      <p:pic>
        <p:nvPicPr>
          <p:cNvPr id="50" name="矩形 6" descr=""/>
          <p:cNvPicPr/>
          <p:nvPr/>
        </p:nvPicPr>
        <p:blipFill>
          <a:blip r:embed="rId3"/>
          <a:stretch/>
        </p:blipFill>
        <p:spPr>
          <a:xfrm>
            <a:off x="1779480" y="5805360"/>
            <a:ext cx="5672160" cy="49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F27C9-22F8-4C74-ACBD-4B4702168C7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OOOPI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文本框 1"/>
          <p:cNvSpPr/>
          <p:nvPr/>
        </p:nvSpPr>
        <p:spPr>
          <a:xfrm>
            <a:off x="1932120" y="577800"/>
            <a:ext cx="52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6221c7f64883b2eff2d385d1"/>
          <p:cNvPicPr/>
          <p:nvPr/>
        </p:nvPicPr>
        <p:blipFill>
          <a:blip r:embed="rId1"/>
          <a:stretch/>
        </p:blipFill>
        <p:spPr>
          <a:xfrm>
            <a:off x="0" y="0"/>
            <a:ext cx="9325080" cy="7101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我能读下列词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39280" y="177300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èi lán                     xié shǒ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蔚   蓝                       携   手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uàn lì                      chōng jǐ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绚    丽                        憧     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6"/>
          <p:cNvSpPr/>
          <p:nvPr/>
        </p:nvSpPr>
        <p:spPr>
          <a:xfrm>
            <a:off x="1692360" y="436572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懂词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五彩斑斓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指多种颜色错杂而繁多耀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蔚蓝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像晴朗的天空那样的颜色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憧憬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向往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绚丽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灿烂美丽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会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915920"/>
            <a:ext cx="8305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自由朗读课文，思考“小路”指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（理想、梦想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能懂得小节意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第一小节：每个孩子心中都有一条自己的小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第二小节：每个路口都有希望，等着我们一同走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第三小节：我们美好的理想将会实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五彩斑斓的人生风景线”、“心灵的明灯”分别指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理想的星光、心灵的明灯是人生的航标，在成长的道路上要好好努力，携着友谊同行，每个人都能走好自己的小路，谱写未来的诗篇。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高山、草原、蔚蓝的海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化成绚丽的诗篇和未来的诗篇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5"/>
          <p:cNvSpPr/>
          <p:nvPr/>
        </p:nvSpPr>
        <p:spPr>
          <a:xfrm>
            <a:off x="3995640" y="4365720"/>
            <a:ext cx="0" cy="100656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6"/>
          <p:cNvSpPr/>
          <p:nvPr/>
        </p:nvSpPr>
        <p:spPr>
          <a:xfrm>
            <a:off x="3995640" y="2565360"/>
            <a:ext cx="0" cy="100656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4:43:2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26:58Z</dcterms:modified>
  <cp:revision>2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