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9.wmf" ContentType="image/x-wmf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dt" idx="2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ftr" idx="2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 type="sldNum" idx="2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23A5-866B-4378-A3AB-328BBC539F5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D1BF-3BEB-4E60-B204-F8D7D9CFDAA8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4AE4-195F-4A5A-84E9-7750540F9C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8A969-C090-45C9-8FEC-59E8B373712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586DDC-01ED-4E92-9B47-B104E0353FA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C9748-0F76-4450-BC8E-6633A432C88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F55691-FA5F-4EFC-B70C-CB213EC3E89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63A49F-542F-41EC-94AD-8309D0728A9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88FC27-D3CF-425D-80D2-480C0BB6E2F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987A83A-68D6-4500-AE0A-9F6932E5B73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BBCC0-188E-46BA-A168-E402ABD17A3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80874E-0FC5-422F-9645-409180FB6697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8D45EB-D144-4B3F-BC87-4BC2F5181F9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BF015-B95A-42AA-B111-52FC90323C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73F7E-4360-4234-96FF-48064D8688A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4A441A-9D66-4C84-BCFA-6A713F717FA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FC1FA75-0FB8-402E-97D5-95C7E166C09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CB2181-0D33-40A2-B110-DBBBF0088AF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C2A821-11C3-4958-B6EA-1010C3B3A1C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AE747CC-A158-40E8-BB6C-F74EEAE3390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E8845E0-6E2B-4372-958B-A91EDE704F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DC6B8F-0C0D-4B5C-A526-C170432CBBF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09366BC-0E26-4A45-A42E-03C2CC45B88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72C8C6-CBBF-484B-940D-AD5E2ADE264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824458-2A2A-4DCF-A047-156A12A2AB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F3EB6-1432-4E17-91DA-AA1454D6CD6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73F496-FC08-49C6-8526-CAFDE29BA4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9C0-5101-4080-8DA3-47DC79EAC5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A9BC-0893-4AB0-AA01-DAB38CF549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BD30-1A8E-4452-951C-F941B9E68CD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70CD-256C-4BF8-9D0E-669C726A5A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3446-E36D-42B4-B775-60EEAD8C822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1EAF-6462-475A-85B7-FA5AE596A8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1FB1-D8C2-4FFB-8688-EF98D2D40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F1328-E48C-4EBF-ABEA-0CC5A3491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4C2D-DA93-4D03-86B1-D3CE6D1F7CF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B521-8D2B-404A-9A58-C238F98EF1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B323-C974-470D-A820-A57798D063A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79C2-16AB-45AA-90CF-A9749275D6A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3011-A67A-4862-872E-B69F2B375E4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04E88-8543-4953-A05A-63A62C9041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E52BD8-DDCB-4556-8AEC-0D0A120FF29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5F5AB2-7409-457F-B358-27715F2F4BD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08696-8075-41F9-88FF-F584BB6A3D0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55CFF-542C-43FB-8551-57B5A11CAC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AD2AE-7CDA-4181-B911-61011B4515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6D69E-9E03-4097-9592-93BE26419C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152DA1-82A7-40DB-A4C7-333B4B78D5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1194B-661C-48BB-98D4-AC0B493CEA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0D1D2-3571-4B03-93C4-4F0E6F42C1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686E8-1D0C-4FBA-AC12-8BA16EE0F7F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58359-B191-4ACE-9562-A63C5F59BD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945594-53BA-473E-8029-846F6784062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9B2300-6349-4917-86CB-8940EA3E4E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81F9DE-F7A3-4C91-97C4-FB5D45E3840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ECD734-9439-4593-A2D8-88AE871A78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DEB5-EBE5-46A4-A60B-D27EF8F63FD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1F9279-699A-45F9-A9D5-C493A93B811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41A8F6-917D-4371-9FF4-674E09924D9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49879B-4A1A-45AC-80CD-F2A56A9617B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6E428-092A-4D11-99D9-7890A6F7BE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5F287B-5810-49F2-B682-E32486DC06B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FE854F-547A-4BDE-9699-760F84BE535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13D514-CF39-422C-BDDA-D02E4AA4AB3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75EA97-A236-47B3-BFA0-EBBB6FD7C8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FAC08B-68E4-4686-9DFE-DAD9660DE0A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943D-9A73-4455-AF0F-A01D921F4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CC70A-2868-4C62-9B80-DCEE3818A69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D601D-9C23-48BE-82F3-8787E9600AF5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A7F2A-3ADA-4CE6-8CC7-8B6DB05D7ED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6D0F9-E23D-4076-B699-0B5F652862A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F51ED-DB5E-49F9-ADAE-1CE5F5DBA93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113C5-9001-46BE-9775-0FCED9CC6D3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32F36-5A03-4184-8E21-8DC36679CA9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B00DA-CFFC-4EF6-AB03-A7260090032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8248C-F7F8-4512-A897-28EEA1CAA7B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A8DE0-3DED-4A7C-A769-08FEBE2AB54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53DB7-1BE3-4F79-BD86-B63544ECC7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6FA13-D02C-46F1-BB95-3C34723938A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737AD-8B9D-4381-A436-BD68D3B27B0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7C0B79-71D1-434E-97F3-5112D89CDDE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AC25B5-899B-42DF-ADEA-0A5F6D43A1E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8BD187-F10B-4EA2-A252-85370E96499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9316D-55CA-4C97-B55D-80B5D60B469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21CC25-A9C1-46DC-BAFA-3C5209BB6D4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05F9BE-C39B-4E2B-B436-1BB3103FE2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B2E701-C375-4FC3-BC8A-B6FA28E6416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660685-C44F-4354-9B5C-A91C3F353AE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264B67-CA0F-4C6D-AD43-CF476549E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5FCD8-7ACC-4115-B2F7-142B3AA8358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A74D7A-58C0-4A98-80FD-E2C6DBE354B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382495-DEA9-4C84-8A94-FADE96FE710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9D9F63-C72C-4EF5-8C6C-454B723309A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2C5118-955C-4B35-AD39-5925ADC26E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254CAC-0DB4-4E4A-9512-A6F86D5E27F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AFBD496-9107-4BCB-84C8-A075D05051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0FFD172-0C15-4084-9158-142721D55D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B783FD-6B7C-4400-BD39-13D9C7BBEC4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BCFD2CB-38D4-4CBB-B8C3-8840A8C6865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3C865C-AC4F-45B8-8EDA-0CA1E93CD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BBB82-E91A-4F4F-84E8-EF31D8FBAB5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7B9590E-EAA6-44CB-8240-D041EC6497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FB524E-C0E4-4E9D-B65E-46669DB294C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7CCC1-25C7-4708-AD1A-C2252C755B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7B843B-DFC4-4D2C-9060-76996D3F85F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B57DE4-D3A7-4E10-83E8-6ECA23AF83C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21B4D-1233-43F7-BCE8-CD0EAFD93C7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8215B-537D-4630-BCEA-DBC4F886B3A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77980-281D-4E28-B036-C4DB7E813DE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AB86D-FE36-46B4-ACA0-23EFE23B35F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81DAA-924A-46BB-800E-612FA05AE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12FC-4057-4DAB-85FF-2D40E1C0C5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9280" y="981000"/>
            <a:ext cx="82090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92095-4011-47DA-B233-0639576C96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A5333-5CEC-4ED4-9AB5-EA8950F1553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5041D-0443-49A5-8D23-0557ADFE923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7423-2EA3-4AE4-93C3-687E4D55D30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121640"/>
            <a:ext cx="821520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500F7-4D73-45EB-ADC3-29397A30176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743360" y="1628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743360" y="4121640"/>
            <a:ext cx="400896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69E63-DD70-4D44-AC52-3D1012DA951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092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88680" y="1628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092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88680" y="4121640"/>
            <a:ext cx="2644920" cy="22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2C83C-76FA-4698-82AF-27EB37883D6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E76316-EF08-4D87-BDD5-DB458CE5679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B29390-0F9B-4277-A926-1E14604335F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280" y="934200"/>
            <a:ext cx="8209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91A39D5-90C2-4093-BBD1-263D69BFA9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3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ldNum" idx="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4D5E-EA87-4F57-A750-5F5D8CF6454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695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6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ftr" idx="18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sldNum" idx="19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48521-EFD7-4890-8F19-56457533269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79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ftr" idx="2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sldNum" idx="3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FA1D-9EB0-43F8-80F4-23356F304EC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156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ftr" idx="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4BDC-5157-433E-87A3-B2AD8D45D9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233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ftr" idx="6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sldNum" idx="7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2D5ED-14EB-4570-AD78-A19DE786DAC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310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ftr" idx="8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sldNum" idx="9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248D-D233-4093-A859-B1720AC754E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387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ftr" idx="10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11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C5EDB-3A23-4A13-9364-34CD4AF51C5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464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ftr" idx="12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sldNum" idx="13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9690-328E-485A-99B3-EE95C125EFD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541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2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14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15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F4D1-1CD4-4FE2-A065-1AC573E04C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118"/>
          <p:cNvSpPr/>
          <p:nvPr/>
        </p:nvSpPr>
        <p:spPr>
          <a:xfrm>
            <a:off x="8010360" y="0"/>
            <a:ext cx="1133640" cy="836640"/>
          </a:xfrm>
          <a:prstGeom prst="rect">
            <a:avLst/>
          </a:prstGeom>
          <a:solidFill>
            <a:srgbClr val="93c0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19"/>
          <p:cNvSpPr/>
          <p:nvPr/>
        </p:nvSpPr>
        <p:spPr>
          <a:xfrm>
            <a:off x="0" y="0"/>
            <a:ext cx="8008920" cy="836640"/>
          </a:xfrm>
          <a:prstGeom prst="rect">
            <a:avLst/>
          </a:prstGeom>
          <a:solidFill>
            <a:srgbClr val="4ea7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120"/>
          <p:cNvGrpSpPr/>
          <p:nvPr/>
        </p:nvGrpSpPr>
        <p:grpSpPr>
          <a:xfrm>
            <a:off x="6983280" y="44280"/>
            <a:ext cx="1726920" cy="690840"/>
            <a:chOff x="6983280" y="44280"/>
            <a:chExt cx="1726920" cy="690840"/>
          </a:xfrm>
        </p:grpSpPr>
        <p:sp>
          <p:nvSpPr>
            <p:cNvPr id="618" name="Rectangle 121"/>
            <p:cNvSpPr/>
            <p:nvPr/>
          </p:nvSpPr>
          <p:spPr>
            <a:xfrm>
              <a:off x="7280280" y="192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122"/>
            <p:cNvSpPr/>
            <p:nvPr/>
          </p:nvSpPr>
          <p:spPr>
            <a:xfrm>
              <a:off x="7280280" y="48924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123"/>
            <p:cNvSpPr/>
            <p:nvPr/>
          </p:nvSpPr>
          <p:spPr>
            <a:xfrm>
              <a:off x="72802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124"/>
            <p:cNvSpPr/>
            <p:nvPr/>
          </p:nvSpPr>
          <p:spPr>
            <a:xfrm>
              <a:off x="742716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25"/>
            <p:cNvSpPr/>
            <p:nvPr/>
          </p:nvSpPr>
          <p:spPr>
            <a:xfrm>
              <a:off x="742716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26"/>
            <p:cNvSpPr/>
            <p:nvPr/>
          </p:nvSpPr>
          <p:spPr>
            <a:xfrm>
              <a:off x="742716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7"/>
            <p:cNvSpPr/>
            <p:nvPr/>
          </p:nvSpPr>
          <p:spPr>
            <a:xfrm>
              <a:off x="757548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28"/>
            <p:cNvSpPr/>
            <p:nvPr/>
          </p:nvSpPr>
          <p:spPr>
            <a:xfrm>
              <a:off x="75754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129"/>
            <p:cNvSpPr/>
            <p:nvPr/>
          </p:nvSpPr>
          <p:spPr>
            <a:xfrm>
              <a:off x="757548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130"/>
            <p:cNvSpPr/>
            <p:nvPr/>
          </p:nvSpPr>
          <p:spPr>
            <a:xfrm>
              <a:off x="7723440" y="192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131"/>
            <p:cNvSpPr/>
            <p:nvPr/>
          </p:nvSpPr>
          <p:spPr>
            <a:xfrm>
              <a:off x="7723440" y="339120"/>
              <a:ext cx="98640" cy="99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132"/>
            <p:cNvSpPr/>
            <p:nvPr/>
          </p:nvSpPr>
          <p:spPr>
            <a:xfrm>
              <a:off x="77234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133"/>
            <p:cNvSpPr/>
            <p:nvPr/>
          </p:nvSpPr>
          <p:spPr>
            <a:xfrm>
              <a:off x="7723440" y="63648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134"/>
            <p:cNvSpPr/>
            <p:nvPr/>
          </p:nvSpPr>
          <p:spPr>
            <a:xfrm>
              <a:off x="78724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135"/>
            <p:cNvSpPr/>
            <p:nvPr/>
          </p:nvSpPr>
          <p:spPr>
            <a:xfrm>
              <a:off x="7872480" y="636480"/>
              <a:ext cx="9828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136"/>
            <p:cNvSpPr/>
            <p:nvPr/>
          </p:nvSpPr>
          <p:spPr>
            <a:xfrm>
              <a:off x="80193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137"/>
            <p:cNvSpPr/>
            <p:nvPr/>
          </p:nvSpPr>
          <p:spPr>
            <a:xfrm>
              <a:off x="80193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138"/>
            <p:cNvSpPr/>
            <p:nvPr/>
          </p:nvSpPr>
          <p:spPr>
            <a:xfrm>
              <a:off x="80193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139"/>
            <p:cNvSpPr/>
            <p:nvPr/>
          </p:nvSpPr>
          <p:spPr>
            <a:xfrm>
              <a:off x="816768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140"/>
            <p:cNvSpPr/>
            <p:nvPr/>
          </p:nvSpPr>
          <p:spPr>
            <a:xfrm>
              <a:off x="816768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141"/>
            <p:cNvSpPr/>
            <p:nvPr/>
          </p:nvSpPr>
          <p:spPr>
            <a:xfrm>
              <a:off x="8315640" y="4428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142"/>
            <p:cNvSpPr/>
            <p:nvPr/>
          </p:nvSpPr>
          <p:spPr>
            <a:xfrm>
              <a:off x="831564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143"/>
            <p:cNvSpPr/>
            <p:nvPr/>
          </p:nvSpPr>
          <p:spPr>
            <a:xfrm>
              <a:off x="831564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144"/>
            <p:cNvSpPr/>
            <p:nvPr/>
          </p:nvSpPr>
          <p:spPr>
            <a:xfrm>
              <a:off x="831564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145"/>
            <p:cNvSpPr/>
            <p:nvPr/>
          </p:nvSpPr>
          <p:spPr>
            <a:xfrm>
              <a:off x="8464680" y="44280"/>
              <a:ext cx="9828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146"/>
            <p:cNvSpPr/>
            <p:nvPr/>
          </p:nvSpPr>
          <p:spPr>
            <a:xfrm>
              <a:off x="8464680" y="339120"/>
              <a:ext cx="9828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147"/>
            <p:cNvSpPr/>
            <p:nvPr/>
          </p:nvSpPr>
          <p:spPr>
            <a:xfrm>
              <a:off x="8611560" y="192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148"/>
            <p:cNvSpPr/>
            <p:nvPr/>
          </p:nvSpPr>
          <p:spPr>
            <a:xfrm>
              <a:off x="8611560" y="339120"/>
              <a:ext cx="98640" cy="9972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149"/>
            <p:cNvSpPr/>
            <p:nvPr/>
          </p:nvSpPr>
          <p:spPr>
            <a:xfrm>
              <a:off x="8611560" y="489240"/>
              <a:ext cx="98640" cy="98640"/>
            </a:xfrm>
            <a:prstGeom prst="rect">
              <a:avLst/>
            </a:prstGeom>
            <a:solidFill>
              <a:srgbClr val="ffffff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150"/>
            <p:cNvSpPr/>
            <p:nvPr/>
          </p:nvSpPr>
          <p:spPr>
            <a:xfrm>
              <a:off x="713124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151"/>
            <p:cNvSpPr/>
            <p:nvPr/>
          </p:nvSpPr>
          <p:spPr>
            <a:xfrm>
              <a:off x="6983280" y="489240"/>
              <a:ext cx="98640" cy="986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Rectangle 152"/>
          <p:cNvSpPr/>
          <p:nvPr/>
        </p:nvSpPr>
        <p:spPr>
          <a:xfrm>
            <a:off x="6659640" y="76320"/>
            <a:ext cx="228600" cy="3808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153"/>
          <p:cNvSpPr/>
          <p:nvPr/>
        </p:nvSpPr>
        <p:spPr>
          <a:xfrm>
            <a:off x="6811920" y="228600"/>
            <a:ext cx="228600" cy="15228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54"/>
          <p:cNvSpPr/>
          <p:nvPr/>
        </p:nvSpPr>
        <p:spPr>
          <a:xfrm>
            <a:off x="6964200" y="304920"/>
            <a:ext cx="304920" cy="304560"/>
          </a:xfrm>
          <a:prstGeom prst="rect">
            <a:avLst/>
          </a:prstGeom>
          <a:noFill/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39280" y="981000"/>
            <a:ext cx="8209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533520" y="1628640"/>
            <a:ext cx="821520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4ea7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3c05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 type="ftr" idx="16"/>
          </p:nvPr>
        </p:nvSpPr>
        <p:spPr>
          <a:xfrm>
            <a:off x="5292720" y="6381360"/>
            <a:ext cx="34704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专注教育，服务教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 type="sldNum" idx="17"/>
          </p:nvPr>
        </p:nvSpPr>
        <p:spPr>
          <a:xfrm>
            <a:off x="4191120" y="6505560"/>
            <a:ext cx="838080" cy="2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0FD5-3239-494F-8335-375646B268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5"/>
          <p:cNvSpPr/>
          <p:nvPr/>
        </p:nvSpPr>
        <p:spPr>
          <a:xfrm>
            <a:off x="1828800" y="281952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66ff"/>
                </a:solidFill>
                <a:latin typeface="Arial"/>
                <a:ea typeface="楷体_GB2312"/>
              </a:rPr>
              <a:t>走进大自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矩形 3"/>
          <p:cNvSpPr/>
          <p:nvPr/>
        </p:nvSpPr>
        <p:spPr>
          <a:xfrm>
            <a:off x="1950840" y="586728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3366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4"/>
          <p:cNvSpPr/>
          <p:nvPr/>
        </p:nvSpPr>
        <p:spPr>
          <a:xfrm>
            <a:off x="1371600" y="1219320"/>
            <a:ext cx="6172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追着小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走进密林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追着小溪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走进深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追着会飞的花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  <a:ea typeface="楷体_GB2312"/>
              </a:rPr>
              <a:t>我们走进大自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4"/>
          <p:cNvSpPr/>
          <p:nvPr/>
        </p:nvSpPr>
        <p:spPr>
          <a:xfrm>
            <a:off x="1066680" y="1676520"/>
            <a:ext cx="54864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让小锤去叩醒每一块山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让画笔去访问每一片花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高高举起洁白的昆虫网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ff"/>
                </a:solidFill>
                <a:latin typeface="Arial"/>
                <a:ea typeface="楷体_GB2312"/>
              </a:rPr>
              <a:t>网住一个斑斓的秋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1" name="Picture 5" descr="0680360188"/>
          <p:cNvPicPr/>
          <p:nvPr/>
        </p:nvPicPr>
        <p:blipFill>
          <a:blip r:embed="rId1"/>
          <a:stretch/>
        </p:blipFill>
        <p:spPr>
          <a:xfrm>
            <a:off x="5791320" y="3962520"/>
            <a:ext cx="1809720" cy="12859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4"/>
          <p:cNvSpPr/>
          <p:nvPr/>
        </p:nvSpPr>
        <p:spPr>
          <a:xfrm>
            <a:off x="1143000" y="1219320"/>
            <a:ext cx="6400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把自己变成大树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去体验大地的深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把自己变成白云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去感受蓝天的辽远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把自己融进大自然吧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这样，会发现生活更加灿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5" descr="0680360199"/>
          <p:cNvPicPr/>
          <p:nvPr/>
        </p:nvPicPr>
        <p:blipFill>
          <a:blip r:embed="rId1"/>
          <a:stretch/>
        </p:blipFill>
        <p:spPr>
          <a:xfrm>
            <a:off x="5715000" y="2133720"/>
            <a:ext cx="1809720" cy="12859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小女孩"/>
          <p:cNvPicPr/>
          <p:nvPr/>
        </p:nvPicPr>
        <p:blipFill>
          <a:blip r:embed="rId1"/>
          <a:stretch/>
        </p:blipFill>
        <p:spPr>
          <a:xfrm>
            <a:off x="0" y="3581280"/>
            <a:ext cx="1587600" cy="190512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图片2"/>
          <p:cNvPicPr/>
          <p:nvPr/>
        </p:nvPicPr>
        <p:blipFill>
          <a:blip r:embed="rId2"/>
          <a:stretch/>
        </p:blipFill>
        <p:spPr>
          <a:xfrm>
            <a:off x="1143000" y="1371600"/>
            <a:ext cx="6324480" cy="2495520"/>
          </a:xfrm>
          <a:prstGeom prst="rect">
            <a:avLst/>
          </a:prstGeom>
          <a:ln w="0">
            <a:noFill/>
          </a:ln>
        </p:spPr>
      </p:pic>
      <p:sp>
        <p:nvSpPr>
          <p:cNvPr id="806" name="Text Box 7"/>
          <p:cNvSpPr/>
          <p:nvPr/>
        </p:nvSpPr>
        <p:spPr>
          <a:xfrm>
            <a:off x="2209680" y="17524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Arial"/>
                <a:ea typeface="楷体_GB2312"/>
              </a:rPr>
              <a:t>我喜欢“叩醒”这个词，我好像听到小锤打山石的叮当声了</a:t>
            </a:r>
            <a:r>
              <a:rPr b="1" lang="en-US" sz="3200" spc="-1" strike="noStrike">
                <a:solidFill>
                  <a:srgbClr val="3366ff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文本框 1"/>
          <p:cNvSpPr/>
          <p:nvPr/>
        </p:nvSpPr>
        <p:spPr>
          <a:xfrm>
            <a:off x="1812960" y="512136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4"/>
          <p:cNvSpPr/>
          <p:nvPr/>
        </p:nvSpPr>
        <p:spPr>
          <a:xfrm>
            <a:off x="685800" y="198108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ff"/>
                </a:solidFill>
                <a:latin typeface="Arial"/>
                <a:ea typeface="楷体_GB2312"/>
              </a:rPr>
              <a:t>找出课文中你喜欢的词句，谈谈体会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9999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9999ff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FF1C-B36D-4627-9204-B0F5B466A9F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5" descr="mhzl_83u43271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4864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Picture 5" descr="2006110910022936150"/>
          <p:cNvPicPr/>
          <p:nvPr/>
        </p:nvPicPr>
        <p:blipFill>
          <a:blip r:embed="rId1"/>
          <a:stretch/>
        </p:blipFill>
        <p:spPr>
          <a:xfrm>
            <a:off x="1447920" y="9907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Picture 5" descr="14"/>
          <p:cNvPicPr/>
          <p:nvPr/>
        </p:nvPicPr>
        <p:blipFill>
          <a:blip r:embed="rId1"/>
          <a:stretch/>
        </p:blipFill>
        <p:spPr>
          <a:xfrm>
            <a:off x="1441440" y="1219320"/>
            <a:ext cx="6019920" cy="44323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矩形 3"/>
          <p:cNvSpPr/>
          <p:nvPr/>
        </p:nvSpPr>
        <p:spPr>
          <a:xfrm>
            <a:off x="3733920" y="43434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Picture 9" descr="705da36410cb21d8f6365438"/>
          <p:cNvPicPr/>
          <p:nvPr/>
        </p:nvPicPr>
        <p:blipFill>
          <a:blip r:embed="rId1"/>
          <a:stretch/>
        </p:blipFill>
        <p:spPr>
          <a:xfrm>
            <a:off x="1523880" y="838080"/>
            <a:ext cx="6477120" cy="477540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5" descr="DSC04120"/>
          <p:cNvPicPr/>
          <p:nvPr/>
        </p:nvPicPr>
        <p:blipFill>
          <a:blip r:embed="rId1"/>
          <a:stretch/>
        </p:blipFill>
        <p:spPr>
          <a:xfrm>
            <a:off x="1523880" y="13716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4"/>
          <p:cNvSpPr/>
          <p:nvPr/>
        </p:nvSpPr>
        <p:spPr>
          <a:xfrm>
            <a:off x="2133720" y="1905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41911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k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6"/>
          <p:cNvSpPr/>
          <p:nvPr/>
        </p:nvSpPr>
        <p:spPr>
          <a:xfrm>
            <a:off x="6172200" y="1905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7"/>
          <p:cNvSpPr/>
          <p:nvPr/>
        </p:nvSpPr>
        <p:spPr>
          <a:xfrm>
            <a:off x="4191120" y="19051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  <a:ea typeface="楷体_GB2312"/>
              </a:rPr>
              <a:t>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8"/>
          <p:cNvSpPr/>
          <p:nvPr/>
        </p:nvSpPr>
        <p:spPr>
          <a:xfrm>
            <a:off x="20574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9"/>
          <p:cNvSpPr/>
          <p:nvPr/>
        </p:nvSpPr>
        <p:spPr>
          <a:xfrm>
            <a:off x="5943600" y="1371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ff"/>
                </a:solidFill>
                <a:latin typeface="Arial"/>
                <a:ea typeface="楷体_GB2312"/>
              </a:rPr>
              <a:t>fǎ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0"/>
          <p:cNvSpPr/>
          <p:nvPr/>
        </p:nvSpPr>
        <p:spPr>
          <a:xfrm>
            <a:off x="2209680" y="3962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1"/>
          <p:cNvSpPr/>
          <p:nvPr/>
        </p:nvSpPr>
        <p:spPr>
          <a:xfrm>
            <a:off x="6248520" y="3962520"/>
            <a:ext cx="106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2"/>
          <p:cNvSpPr/>
          <p:nvPr/>
        </p:nvSpPr>
        <p:spPr>
          <a:xfrm>
            <a:off x="4267080" y="3962520"/>
            <a:ext cx="106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楷体_GB2312"/>
              </a:rPr>
              <a:t>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3"/>
          <p:cNvSpPr/>
          <p:nvPr/>
        </p:nvSpPr>
        <p:spPr>
          <a:xfrm>
            <a:off x="4114800" y="3352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b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14"/>
          <p:cNvSpPr/>
          <p:nvPr/>
        </p:nvSpPr>
        <p:spPr>
          <a:xfrm>
            <a:off x="2057400" y="3352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k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5"/>
          <p:cNvSpPr/>
          <p:nvPr/>
        </p:nvSpPr>
        <p:spPr>
          <a:xfrm>
            <a:off x="6248520" y="33526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66ff"/>
                </a:solidFill>
                <a:latin typeface="Arial"/>
                <a:ea typeface="楷体_GB2312"/>
              </a:rPr>
              <a:t>l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8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4"/>
          <p:cNvSpPr/>
          <p:nvPr/>
        </p:nvSpPr>
        <p:spPr>
          <a:xfrm>
            <a:off x="990720" y="1752480"/>
            <a:ext cx="6858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密林  叩醒  访问  花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网住  深沉  感受  融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7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/>
          </p:nvPr>
        </p:nvSpPr>
        <p:spPr>
          <a:xfrm>
            <a:off x="533520" y="2514600"/>
            <a:ext cx="807696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什么是大自然，我们怎样走进大自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走进大自然后我们该怎样体验、感受大自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cc00ff"/>
                </a:solidFill>
                <a:latin typeface="楷体_GB2312"/>
                <a:ea typeface="楷体_GB2312"/>
              </a:rPr>
              <a:t>从大自然中我们能得到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WordArt 6"/>
          <p:cNvSpPr txBox="1"/>
          <p:nvPr/>
        </p:nvSpPr>
        <p:spPr>
          <a:xfrm>
            <a:off x="6019920" y="1065240"/>
            <a:ext cx="2057400" cy="75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思考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cover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7" dur="2000"/>
                                        <p:tgtEl>
                                          <p:spTgt spid="7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29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1:40Z</dcterms:modified>
  <cp:revision>1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