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applause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7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7092-F73A-4D78-A84A-A8B29E69AE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4F2F-66BF-4A53-80B0-CFA6FF907F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0547-1FC7-4E3C-BE1F-64907D01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9646-79D1-41FF-B6EA-76C8CCB7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926F-C3E5-4E2F-9D87-9706B346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6709-18C1-416E-BB92-AEA0FB59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269E-3E77-4C89-B9E8-FE320834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D52-454F-46C0-86EB-39B4E96E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FB3-A349-4933-A498-4440A9F8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DC77-2C40-4A1E-AD67-6840F94E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908E-FBB9-4D1C-851C-80033AFE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BE7-BFED-4D8D-A0AE-FCF1386D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3985-615B-4FD8-A4D9-4BE4D131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8F3F-E701-4281-9BBD-71B5B290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953F-F363-4197-9546-99CBC881D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87640" y="1676520"/>
            <a:ext cx="2312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华文彩云"/>
                <a:ea typeface="华文彩云"/>
              </a:rPr>
              <a:t>招 牌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-82080" y="5732640"/>
            <a:ext cx="48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1" descr="t0149bdd54460ea599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"/>
          <p:cNvSpPr/>
          <p:nvPr/>
        </p:nvSpPr>
        <p:spPr>
          <a:xfrm>
            <a:off x="3898800" y="6094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招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585600" y="19051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本店出售美丽鲜艳的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927600" y="3124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本店出售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4572000" y="3809880"/>
            <a:ext cx="0" cy="381240"/>
          </a:xfrm>
          <a:prstGeom prst="line">
            <a:avLst/>
          </a:prstGeom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284360" y="4267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卖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4572000" y="4952880"/>
            <a:ext cx="0" cy="381240"/>
          </a:xfrm>
          <a:prstGeom prst="line">
            <a:avLst/>
          </a:prstGeom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353120" y="541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3520" y="380880"/>
            <a:ext cx="8092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过了一天，本城的一个官员也来光临敦特的花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来到这儿，感到很荣幸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官员说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花店位置适中，店铺宽敞明亮，橱窗布置得幽雅大方，你是一个很善于经营的人。不过，我对于你的招牌有些想法。你的橱窗里摆满了美丽的花，那么你的招牌就是多余的了。人们看见这花，就会知道你出售花。所以最好是让你的花自己去说话吧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敦特听从了官员的忠告，索性摘去了招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6400800" y="58672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3" descr="20090618081529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"/>
          <p:cNvSpPr/>
          <p:nvPr/>
        </p:nvSpPr>
        <p:spPr>
          <a:xfrm>
            <a:off x="4051440" y="380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招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585600" y="15238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本店出售美丽鲜艳的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4572000" y="21337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003560" y="2514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本店出售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4572000" y="3048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284360" y="3352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卖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4572000" y="388620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4429440" y="4267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4572000" y="48769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071600" y="5257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挂招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2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525600" y="838080"/>
            <a:ext cx="8092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过花店的人们一看到橱窗里摆放着的鲜花，总是不由自主地停下来。最后，敦特的鲜花远近闻名，盛誉不衰，离花店很远的人，也来这儿买花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许多年过去了。随着岁月的流逝，敦特渐渐变得苍老，对经营花店已经有些力不从心了。这时，他的儿子约翰大学毕业了。儿子也像父亲一样爱花，他提出要帮这个花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80880" y="762120"/>
            <a:ext cx="809316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敦特高兴极了。他问儿子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翰，现在，你要为花店做的第一件事是什么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哦，爸爸，我们首先要挂个招牌。在商业化的今天，它尤其是必不可少的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子回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挂个招牌，孩子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(2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么，招牌上写什么呢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2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嗯，让我想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店出售美丽鲜艳的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吧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5638680" y="5410080"/>
            <a:ext cx="289584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457200" y="5943600"/>
            <a:ext cx="289548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5" descr="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"/>
          <p:cNvSpPr/>
          <p:nvPr/>
        </p:nvSpPr>
        <p:spPr>
          <a:xfrm>
            <a:off x="3975120" y="380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招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204360" y="16002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本店出售美丽鲜艳的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4572000" y="21337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951360" y="2514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本店出售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4572000" y="297180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308480" y="3352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卖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572000" y="3809880"/>
            <a:ext cx="0" cy="381240"/>
          </a:xfrm>
          <a:prstGeom prst="line">
            <a:avLst/>
          </a:prstGeom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4419360" y="4191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4572000" y="46483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4182480" y="5029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挂招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4572000" y="548640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280680" y="5867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本店出售美丽鲜艳的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2" descr="2010032008351352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1447920" y="2438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从招牌的内容变化中，你觉得敦特先生是一个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1676520" y="39625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说说你从招牌内容的变化中想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2" descr="3eb40b0ba704fcc9097d9e01d69f0f6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1371600" y="11430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俗语说：好酒不怕巷子深。这句话告诉我们，只要商品质量好，没招牌也不怕推销不出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1143000" y="41911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华文行楷"/>
                <a:ea typeface="华文行楷"/>
              </a:rPr>
              <a:t>（以此为正反两方观点，进行辩论吧！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  <p:sndAc>
      <p:stSnd>
        <p:snd r:embed="rId2" name="applause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219320" y="2286000"/>
            <a:ext cx="27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称（   ）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219320" y="53352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择正确的读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219320" y="3276720"/>
            <a:ext cx="27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称（   ）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219320" y="441972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称（   ）兄道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105520" y="2286000"/>
            <a:ext cx="27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称（   ）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5105520" y="3276720"/>
            <a:ext cx="27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称（   ）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5105520" y="4419720"/>
            <a:ext cx="312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称（   ）心如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4"/>
          <p:cNvSpPr/>
          <p:nvPr/>
        </p:nvSpPr>
        <p:spPr>
          <a:xfrm>
            <a:off x="2514600" y="1303200"/>
            <a:ext cx="1828800" cy="677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chēn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5"/>
          <p:cNvSpPr/>
          <p:nvPr/>
        </p:nvSpPr>
        <p:spPr>
          <a:xfrm>
            <a:off x="4572000" y="1303200"/>
            <a:ext cx="1828800" cy="677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chè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"/>
          <p:cNvSpPr/>
          <p:nvPr/>
        </p:nvSpPr>
        <p:spPr>
          <a:xfrm>
            <a:off x="1219320" y="53352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填写适当的词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164040" y="198108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苦心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164040" y="320040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欣然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64040" y="441972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月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3eb40b0ba704fcc9097d9e01d69f0f6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905120" y="198108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你能概括课文的内容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矩形 3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4006800" cy="645840"/>
          </a:xfrm>
          <a:prstGeom prst="rect">
            <a:avLst/>
          </a:prstGeom>
          <a:ln w="0">
            <a:noFill/>
          </a:ln>
        </p:spPr>
      </p:pic>
      <p:sp>
        <p:nvSpPr>
          <p:cNvPr id="53" name="虚尾箭头 4"/>
          <p:cNvSpPr/>
          <p:nvPr/>
        </p:nvSpPr>
        <p:spPr>
          <a:xfrm>
            <a:off x="838080" y="2743200"/>
            <a:ext cx="6705720" cy="3886200"/>
          </a:xfrm>
          <a:prstGeom prst="pie">
            <a:avLst/>
          </a:prstGeom>
          <a:solidFill>
            <a:srgbClr val="d1d1f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琥珀"/>
                <a:ea typeface="华文琥珀"/>
              </a:rPr>
              <a:t>默读课文，小组合作：招牌内容有什么变化，为什么有这样的变化？找一找吧！     </a:t>
            </a:r>
            <a:r>
              <a:rPr b="1" lang="en-US" sz="2800" spc="-1" strike="noStrike">
                <a:solidFill>
                  <a:srgbClr val="ff0000"/>
                </a:solidFill>
                <a:latin typeface="华文琥珀"/>
                <a:ea typeface="华文琥珀"/>
              </a:rPr>
              <a:t>⌒ </a:t>
            </a:r>
            <a:r>
              <a:rPr b="1" lang="zh-CN" sz="2800" spc="-1" strike="noStrike">
                <a:solidFill>
                  <a:srgbClr val="ff0000"/>
                </a:solidFill>
                <a:latin typeface="华文琥珀"/>
                <a:ea typeface="华文琥珀"/>
              </a:rPr>
              <a:t>。</a:t>
            </a:r>
            <a:r>
              <a:rPr b="1" lang="en-US" sz="2800" spc="-1" strike="noStrike">
                <a:solidFill>
                  <a:srgbClr val="ff0000"/>
                </a:solidFill>
                <a:latin typeface="华文琥珀"/>
                <a:ea typeface="华文琥珀"/>
              </a:rPr>
              <a:t> 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3605400" y="129528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Arial"/>
                <a:ea typeface="楷体_GB2312"/>
              </a:rPr>
              <a:t>翰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809880" y="609480"/>
            <a:ext cx="1524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hà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ShockwaveFlash1" descr=""/>
          <p:cNvPicPr/>
          <p:nvPr/>
        </p:nvPicPr>
        <p:blipFill>
          <a:blip r:embed="rId3"/>
          <a:stretch/>
        </p:blipFill>
        <p:spPr>
          <a:xfrm>
            <a:off x="6324480" y="9907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605400" y="129528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Arial"/>
                <a:ea typeface="楷体_GB2312"/>
              </a:rPr>
              <a:t>售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581280" y="609480"/>
            <a:ext cx="1905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shòu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ShockwaveFlash1" descr=""/>
          <p:cNvPicPr/>
          <p:nvPr/>
        </p:nvPicPr>
        <p:blipFill>
          <a:blip r:embed="rId3"/>
          <a:stretch/>
        </p:blipFill>
        <p:spPr>
          <a:xfrm>
            <a:off x="6324480" y="9907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605400" y="129528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Arial"/>
                <a:ea typeface="楷体_GB2312"/>
              </a:rPr>
              <a:t>删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695760" y="685800"/>
            <a:ext cx="1752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shā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ShockwaveFlash1" descr=""/>
          <p:cNvPicPr/>
          <p:nvPr/>
        </p:nvPicPr>
        <p:blipFill>
          <a:blip r:embed="rId3"/>
          <a:stretch/>
        </p:blipFill>
        <p:spPr>
          <a:xfrm>
            <a:off x="6324480" y="9907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3605400" y="129528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Arial"/>
                <a:ea typeface="楷体_GB2312"/>
              </a:rPr>
              <a:t>橱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962520" y="609480"/>
            <a:ext cx="1143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chú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ShockwaveFlash1" descr=""/>
          <p:cNvPicPr/>
          <p:nvPr/>
        </p:nvPicPr>
        <p:blipFill>
          <a:blip r:embed="rId3"/>
          <a:stretch/>
        </p:blipFill>
        <p:spPr>
          <a:xfrm>
            <a:off x="6324480" y="9907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3605400" y="129528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Arial"/>
                <a:ea typeface="楷体_GB2312"/>
              </a:rPr>
              <a:t>衰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581280" y="609480"/>
            <a:ext cx="198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shuāi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ShockwaveFlash1" descr=""/>
          <p:cNvPicPr/>
          <p:nvPr/>
        </p:nvPicPr>
        <p:blipFill>
          <a:blip r:embed="rId3"/>
          <a:stretch/>
        </p:blipFill>
        <p:spPr>
          <a:xfrm>
            <a:off x="6324480" y="9907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3605400" y="129528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Arial"/>
                <a:ea typeface="楷体_GB2312"/>
              </a:rPr>
              <a:t>逝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962520" y="609480"/>
            <a:ext cx="1143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Shì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ShockwaveFlash1" descr=""/>
          <p:cNvPicPr/>
          <p:nvPr/>
        </p:nvPicPr>
        <p:blipFill>
          <a:blip r:embed="rId3"/>
          <a:stretch/>
        </p:blipFill>
        <p:spPr>
          <a:xfrm>
            <a:off x="6324480" y="9907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750120" y="2604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"/>
          <p:cNvSpPr/>
          <p:nvPr/>
        </p:nvSpPr>
        <p:spPr>
          <a:xfrm>
            <a:off x="1216080" y="5487840"/>
            <a:ext cx="58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D0E8-F462-4346-A7AD-78CF711937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3520" y="990720"/>
            <a:ext cx="8169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敦特一向非常喜欢花，他经营花店已经很多年了。他工作非常勤奋，并且生活得也很美满，有足够的钱供他的儿子约翰上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翰也像父亲一样喜欢花，他的理想是毕业后帮助父亲经营这个花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店坐落在一个十字路口旁。尽管店门口没有挂招牌，但由于敦特多年的苦心经营，城里的人们谁都知道这儿出售的鲜花是全城最美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店刚开业时，挂着一块很大的招牌，上面写着：本店出售美丽鲜艳的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2819520" y="6400800"/>
            <a:ext cx="38862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28320" y="-2286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招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5" descr="t01874e68ea9df920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3898800" y="2286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招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585600" y="16002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本店出售美丽鲜艳的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  <p:sndAc>
      <p:stSnd>
        <p:snd r:embed="rId2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25600" y="1523880"/>
            <a:ext cx="8092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⑸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个来到花店的顾客对敦特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很喜欢你的花店，可不喜欢你的招牌。美丽鲜艳的花，难道你会卖丑陋、枯萎的花吗？你为什么不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丽鲜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掉呢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敦特欣然同意，认为这样很好，于是把招牌改为：本店出售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200400" y="5029200"/>
            <a:ext cx="1905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7" descr="1_101114170332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4051440" y="3049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招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585600" y="14479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本店出售美丽鲜艳的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4572000" y="21337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851280" y="2514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本店出售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  <p:sndAc>
      <p:stSnd>
        <p:snd r:embed="rId2" name="chimes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33520" y="990720"/>
            <a:ext cx="809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天，又一个顾客来到花店，他认为这个新开业的花店很使他称心如意，但他不喜欢花店的招牌。他说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如你不在这儿卖花，又在哪里卖呢？你应该把招牌上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‘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字去掉，这样更简单明了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，敦特又把招牌改为：卖花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"/>
          <p:cNvSpPr/>
          <p:nvPr/>
        </p:nvSpPr>
        <p:spPr>
          <a:xfrm>
            <a:off x="7620120" y="5486400"/>
            <a:ext cx="9144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9" descr="ff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3975120" y="2286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招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585600" y="15238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本店出售美丽鲜艳的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4572000" y="21337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003560" y="2514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本店出售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4572000" y="320040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208400" y="3581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卖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  <p:sndAc>
      <p:stSnd>
        <p:snd r:embed="rId2" name="chimes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25600" y="1143000"/>
            <a:ext cx="8092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⑼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天，敦特的叔叔来到花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这个花店很漂亮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说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招牌太啰唆了。花当然是卖的，这样写，给人一种不愉快的感觉，你为什么不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去掉呢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⑾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，花店的招牌上只剩下一个字：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609480" y="5562720"/>
            <a:ext cx="5335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5:51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3:20Z</dcterms:modified>
  <cp:revision>7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