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8410-8772-4B0F-881B-6AC6A45E7F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C70D-6AB8-406E-8766-8151790985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2D5-C79E-4454-B926-AA888168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0A5-3A4A-4375-A34E-711BE95E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E25-241D-4B85-9B8A-78086E8A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1D0-7DD7-4925-9448-38898491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CD3-AD24-4EC1-AC4E-A3A1193E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37B-3227-4280-ADC6-FA7351AA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D44-5712-4C73-AF28-FB750260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127-15FC-493F-A3FB-A85E9C62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A6C-F3A0-45F8-8CE8-790EDA8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022-A3D1-4F97-997E-34A840FB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A7D-522D-4654-BF05-30B19AC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5D5-23BA-4B60-9D3C-71DB39D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363-2EE7-4567-AF06-3D019F6CB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中秋寻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480" y="199512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黑体"/>
              </a:rPr>
              <a:t>中秋寻月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2700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读课文，自学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，要求读准生字的音，把课文的句子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读以下生字词，老师要检查你们的掌握情况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蓝猫"/>
          <p:cNvPicPr/>
          <p:nvPr/>
        </p:nvPicPr>
        <p:blipFill>
          <a:blip r:embed="rId1"/>
          <a:stretch/>
        </p:blipFill>
        <p:spPr>
          <a:xfrm>
            <a:off x="609480" y="409680"/>
            <a:ext cx="2857680" cy="22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52"/>
          <p:cNvPicPr/>
          <p:nvPr/>
        </p:nvPicPr>
        <p:blipFill>
          <a:blip r:embed="rId1"/>
          <a:stretch/>
        </p:blipFill>
        <p:spPr>
          <a:xfrm>
            <a:off x="1590840" y="571680"/>
            <a:ext cx="596232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53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54"/>
          <p:cNvPicPr/>
          <p:nvPr/>
        </p:nvPicPr>
        <p:blipFill>
          <a:blip r:embed="rId2"/>
          <a:stretch/>
        </p:blipFill>
        <p:spPr>
          <a:xfrm>
            <a:off x="4419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42640" y="380880"/>
            <a:ext cx="7543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认识、会写生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款  镜  央  桂  乎  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执  配  壶  刚  趣  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注意辨别多音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累    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米老鼠"/>
          <p:cNvPicPr/>
          <p:nvPr/>
        </p:nvPicPr>
        <p:blipFill>
          <a:blip r:embed="rId1"/>
          <a:stretch/>
        </p:blipFill>
        <p:spPr>
          <a:xfrm>
            <a:off x="380880" y="304920"/>
            <a:ext cx="182880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3413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认读词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款款地　　累累　　清清晰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玉砌　　争执　　兴趣　　沙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人物"/>
          <p:cNvPicPr/>
          <p:nvPr/>
        </p:nvPicPr>
        <p:blipFill>
          <a:blip r:embed="rId1"/>
          <a:stretch/>
        </p:blipFill>
        <p:spPr>
          <a:xfrm>
            <a:off x="4952880" y="304920"/>
            <a:ext cx="3283200" cy="308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熟读课文，质疑问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书写生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　  １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请同学们认真看老师示范书写生字，着重掌握字形结构、书写规律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  ２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范写：款、配、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人物"/>
          <p:cNvPicPr/>
          <p:nvPr/>
        </p:nvPicPr>
        <p:blipFill>
          <a:blip r:embed="rId1"/>
          <a:stretch/>
        </p:blipFill>
        <p:spPr>
          <a:xfrm>
            <a:off x="5334120" y="380880"/>
            <a:ext cx="3282840" cy="308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组讨论课文的其本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提示：屋中之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院中之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沙滩之月　　寻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赏月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组讨论课文内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在讨论过程中要解决下面问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奶奶说“月亮进来了！”这是为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２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月亮是属于我们女孩儿的了。”妹妹说的这句话如何理解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３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理解“看着天上白光光的月亮，我觉得，那无边无际的天空也是我的了，那月亮不就是我们按在天上的印章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解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中秋寻月寻到了什么？你又寻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（讨论交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叮当"/>
          <p:cNvPicPr/>
          <p:nvPr/>
        </p:nvPicPr>
        <p:blipFill>
          <a:blip r:embed="rId1"/>
          <a:stretch/>
        </p:blipFill>
        <p:spPr>
          <a:xfrm>
            <a:off x="3429000" y="380880"/>
            <a:ext cx="2533680" cy="26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90720"/>
            <a:ext cx="86868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、把下面的字换个偏旁组成新的字再组词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境（　　）（　　　　　）　娃（　　）（　　　　　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钢（　　）（　　　　　）　摊（　　）（　　　　　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二、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盼着（　　　　）　　　望着（　　　　）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瞧着（　　　　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、我会填量词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一（　　）街　　一（　　）大牌子　一（　　）公园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一（　　）游人　一（　　）电脑　　一（　　）自行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贾平凹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开始发表作品。著有小说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贾平凹获奖中篇小说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贾平凹自选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长篇小说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夜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自传体长篇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农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腊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中国作协第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届全国优秀中篇小说奖；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国优秀短篇小说奖；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腔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第七届茅盾文学奖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贾平凹"/>
          <p:cNvPicPr/>
          <p:nvPr/>
        </p:nvPicPr>
        <p:blipFill>
          <a:blip r:embed="rId1"/>
          <a:stretch/>
        </p:blipFill>
        <p:spPr>
          <a:xfrm>
            <a:off x="141120" y="25560"/>
            <a:ext cx="2678400" cy="4012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895480" y="167652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贾平凹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原名贾平娃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出生 ，中国当代作家。陕西省商洛市丹凤县人。贾平凹出生于并不富裕的农村，并非书香门第，家中世代是农民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毕业于西北大学中文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2133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阅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自由阅读与月亮有关的文学作品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人物"/>
          <p:cNvPicPr/>
          <p:nvPr/>
        </p:nvPicPr>
        <p:blipFill>
          <a:blip r:embed="rId1"/>
          <a:stretch/>
        </p:blipFill>
        <p:spPr>
          <a:xfrm>
            <a:off x="5334120" y="2438280"/>
            <a:ext cx="3282840" cy="308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B11B-763A-49FC-AD12-B3AB88CF4B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秋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50749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秋夜晚，皓月当空，清辉洒满大地，人们把月圆当作是团圆的象征，把八月十五这一天当作亲人团聚的日子，因此，也称中秋节为团圆节。中秋节时，我国人民有赛龙船、祭月、赏月、吃月饼、敬老等习俗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50(3)"/>
          <p:cNvPicPr/>
          <p:nvPr/>
        </p:nvPicPr>
        <p:blipFill>
          <a:blip r:embed="rId1"/>
          <a:stretch/>
        </p:blipFill>
        <p:spPr>
          <a:xfrm>
            <a:off x="101520" y="520560"/>
            <a:ext cx="5613480" cy="4508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5867280" y="15238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每年农历八月十五日，是我国传统的中秋佳节。“中秋”一词最早见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周礼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按照我国古代历法解释，农历八月在秋季当中，而十五又是这月中间的一天，所以八月十五被称为中秋。一年分为四季，每季又分为孟、仲、季三个部分，所以中秋也称“仲秋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88416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掌握本课生字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２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感情地朗读课文，背诵自己喜欢的部分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３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理解课文内容，感受孩子丰富的心灵世界，体味清新的语言，体会其中蕴含的哲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叮当"/>
          <p:cNvPicPr/>
          <p:nvPr/>
        </p:nvPicPr>
        <p:blipFill>
          <a:blip r:embed="rId1"/>
          <a:stretch/>
        </p:blipFill>
        <p:spPr>
          <a:xfrm>
            <a:off x="5105520" y="96840"/>
            <a:ext cx="2533680" cy="26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352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设情境，引入课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曾经读过许多描写月亮的诗歌和文章，唱过许多与月亮有关的歌。现在我想请同学们回忆一下与月亮有关的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亮姑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夜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3"/>
          <p:cNvSpPr/>
          <p:nvPr/>
        </p:nvSpPr>
        <p:spPr>
          <a:xfrm>
            <a:off x="2362320" y="47242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无标题"/>
          <p:cNvPicPr/>
          <p:nvPr/>
        </p:nvPicPr>
        <p:blipFill>
          <a:blip r:embed="rId1"/>
          <a:stretch/>
        </p:blipFill>
        <p:spPr>
          <a:xfrm>
            <a:off x="2057400" y="609480"/>
            <a:ext cx="4800600" cy="533412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"/>
          <p:cNvSpPr/>
          <p:nvPr/>
        </p:nvSpPr>
        <p:spPr>
          <a:xfrm>
            <a:off x="1593720" y="618984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我们将跟随贾平凹去寻找美丽的月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月迹 1"/>
          <p:cNvPicPr/>
          <p:nvPr/>
        </p:nvPicPr>
        <p:blipFill>
          <a:blip r:embed="rId1"/>
          <a:stretch/>
        </p:blipFill>
        <p:spPr>
          <a:xfrm>
            <a:off x="1905120" y="2438280"/>
            <a:ext cx="4876560" cy="34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月亮"/>
          <p:cNvPicPr/>
          <p:nvPr/>
        </p:nvPicPr>
        <p:blipFill>
          <a:blip r:embed="rId1"/>
          <a:stretch/>
        </p:blipFill>
        <p:spPr>
          <a:xfrm>
            <a:off x="2190600" y="181080"/>
            <a:ext cx="4762800" cy="649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82a0dc4a82485d138db4939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3:53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5:0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