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suction.wav" ContentType="audio/x-wav"/>
  <Override PartName="/ppt/media/image6.jpeg" ContentType="image/jpeg"/>
  <Override PartName="/ppt/media/type.wav" ContentType="audio/x-wav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35C-F09C-480C-8FDB-03EC2F5252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ECD2-B9CD-4D9E-AA4C-4C71EE701E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047-0C13-4F73-B4EB-2AD68442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A0D-74A5-4F8F-921B-12B3C73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92F-5D2D-4204-AD65-EA8987C7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6F-1775-4069-9870-D504766E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C58-60A4-4FB0-97AD-3BAC0DE8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A3-4924-4EC1-B780-6A33FA4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E1A-6C3A-4CC1-A2BD-9E7774B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C1F-579D-44C0-AAF2-A038EE5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9D4-02D9-4FEC-88BC-459F63C0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EFC-688A-435D-8A10-8364E2D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C07-9231-4476-AA7F-4D1AFD9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342-CF09-4F2A-9D7E-34BDAF2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634-0302-4A79-A916-5352C4ED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suction.wav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981080"/>
            <a:ext cx="735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准时的登录表演</a:t>
            </a:r>
            <a:endParaRPr b="1" lang="en-US" sz="6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53720" y="519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322-A747-4AB3-87CF-11D8A20256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"/>
          <p:cNvPicPr/>
          <p:nvPr/>
        </p:nvPicPr>
        <p:blipFill>
          <a:blip r:embed="rId1"/>
          <a:stretch/>
        </p:blipFill>
        <p:spPr>
          <a:xfrm>
            <a:off x="380880" y="15228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2280" y="1066680"/>
            <a:ext cx="8991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仙企鹅，属于企目，鹅科，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俗称“小鹅”，身体轻巧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得名。它是一种比较著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企鹅，在全世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种企鹅中，是除了南极的帝企鹅和阿德利企鹅之外最负盛名的企鹅。生活在澳大利亚东南部海岸和新西兰西海岸，动作既轻盈敏捷，走起来飘飘欲仙，滑稽可爱。仙企鹅有很强的组织纪律性，经常排队前进。它最有名的地方就是它自带“生物钟”，能知道 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44756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澳大利亚墨尔本南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菲利浦岛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澳大利亚东南海岸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西兰西海岸。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=3005434678,2360381506&amp;fm=23&amp;gp=0"/>
          <p:cNvPicPr/>
          <p:nvPr/>
        </p:nvPicPr>
        <p:blipFill>
          <a:blip r:embed="rId1"/>
          <a:stretch/>
        </p:blipFill>
        <p:spPr>
          <a:xfrm>
            <a:off x="5562720" y="45720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304920" y="533520"/>
            <a:ext cx="5124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词语的认读、理解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46483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04920" y="3962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飘飘欲仙”、“小巧玲珑”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绝技”、“鱼贯上岸”、“秩序井然”、“步履蹒跚”、“绅士”、“如期而至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3360" y="3048120"/>
            <a:ext cx="8540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小巧玲珑：形容小而灵巧，精致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飘飘欲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欲”什么意思？（       ）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仙”呢？（                                  ）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仙企鹅“飘飘欲仙”的走是怎样走？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            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343400" y="4114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990720" y="5943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仙企鹅走起路来，动作轻盈，像仙女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124080" y="4724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仙、仙人、仙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676160"/>
            <a:ext cx="854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初来乍到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未免生疑、如醉如痴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赞叹不已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br>
              <a:rPr sz="32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组词又有什么共同之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u=278855757,2492679674&amp;fm=15&amp;gp=0"/>
          <p:cNvPicPr/>
          <p:nvPr/>
        </p:nvPicPr>
        <p:blipFill>
          <a:blip r:embed="rId1"/>
          <a:stretch/>
        </p:blipFill>
        <p:spPr>
          <a:xfrm>
            <a:off x="5791320" y="457200"/>
            <a:ext cx="308448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62120" y="5029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51920" y="685440"/>
            <a:ext cx="854100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抬眼望去，只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头的仙企鹅首先破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到岸边。接着紧跟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身后的几十只仙企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成长队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鱼贯上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全都站好以后，“领队”一声令下，队伍马上开拔，直扑金色沙滩。一队刚刚离开，另一队又扑上岸来。一队跟着一队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秩序井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71236544lwthkx86"/>
          <p:cNvPicPr/>
          <p:nvPr/>
        </p:nvPicPr>
        <p:blipFill>
          <a:blip r:embed="rId1"/>
          <a:stretch/>
        </p:blipFill>
        <p:spPr>
          <a:xfrm>
            <a:off x="4505400" y="51588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3480" y="3373560"/>
            <a:ext cx="895824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履蹒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赏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课时也遇到了这个词，那篇课文中写的是谁？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中写的是谁步履蹒跚呢？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仙企鹅“步履蹒跚”的走是怎样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76480" y="55832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仙企鹅走路时摇摇摆摆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91480" y="4440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仙企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986360" y="38307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盲人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10663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生物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钟就是能够在生命体内控制时间。生物钟有四点功能：提示时间，提示事件，维持状态和禁止功能。其中提示时间是指，你在一定的时间必须做某事，到了这个时间，你就自动会想起这件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689120" y="552924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1680" y="9140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讲述的是澳大利亚菲利浦岛上仙企鹅准时登陆表演的奇特景观，字里行间流露出作者对仙企鹅的喜爱、赞美之情。对神奇大自然的赞叹之情，点出仙企鹅的准时登陆表演是体内生物钟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762120" y="90504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中心思想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8:59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4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