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4DE-9B01-4406-B9E7-D237915A62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7437-4570-475F-B907-D65429F3B8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570-AC92-4498-AD1B-CC2D348D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937-0585-4366-9F1B-98871CF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908-57D7-45B5-BFE6-BD8A182B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C28-64BF-467B-8E04-2397CD40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78B-AE11-43C1-AF77-923F24B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142-244F-46DE-B4D2-60C6B0B2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4BC-860E-47BB-9844-3F859BAD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CCF-8693-42B0-9A57-807ADA2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B9E-C3B8-4A60-9F77-FDB0C20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017-A134-45D9-9A6F-798A316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2DC-43E5-4F26-8CE8-30C8D41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104-BF91-44AF-BCE5-D40571A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F510-39D8-4995-9935-3A14FD76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140360" y="822240"/>
            <a:ext cx="39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340000" y="2476440"/>
            <a:ext cx="45370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婷婷的画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6" descr="MCj04287950000[1]"/>
          <p:cNvPicPr/>
          <p:nvPr/>
        </p:nvPicPr>
        <p:blipFill>
          <a:blip r:embed="rId1"/>
          <a:stretch/>
        </p:blipFill>
        <p:spPr>
          <a:xfrm>
            <a:off x="7462800" y="5040360"/>
            <a:ext cx="1681200" cy="181764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224496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810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41800" y="1916280"/>
            <a:ext cx="914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爷（ 爷爷 ）画（      ） 爸（      ）鱼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匹（        ）  枝（      ） 四（      ）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拓展学习"/>
          <p:cNvPicPr/>
          <p:nvPr/>
        </p:nvPicPr>
        <p:blipFill>
          <a:blip r:embed="rId1"/>
          <a:stretch/>
        </p:blipFill>
        <p:spPr>
          <a:xfrm>
            <a:off x="179280" y="981000"/>
            <a:ext cx="2232000" cy="550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826920" y="31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55640" y="2736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课后大家将课文的故事讲给父母听，再请他们讲一个类似“坏事变成好事”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ACC0-E50B-481E-A969-320D659D1F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1197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198900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认“婷”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，积累对自己有启发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懂得生活中只要肯动脑筋，坏事也能变成好事的道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婷婷的画漂亮吗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QQ截图未命名"/>
          <p:cNvPicPr/>
          <p:nvPr/>
        </p:nvPicPr>
        <p:blipFill>
          <a:blip r:embed="rId1"/>
          <a:stretch/>
        </p:blipFill>
        <p:spPr>
          <a:xfrm>
            <a:off x="5076720" y="1413000"/>
            <a:ext cx="3581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187280" y="242100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画   爷     枝     干    粗    哈     结    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42920" y="191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huà  yé   zhī   gān  cū   hā  jié  t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16000" y="3716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áo gèng chì bǎng  dàn zhǎn děng ji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55640" y="9349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116000" y="443700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摇   更    翅    膀      蛋    展    等     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11280" y="1700280"/>
            <a:ext cx="80643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幅”字不要读成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ǔ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要读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ú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催”字要读平舌音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ī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”字要读翘舌音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uì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和目有关，因此是   目字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脏”字读平舌音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ān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还有一个字音是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àn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心脏的“脏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31840" y="9079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00000" y="13557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00000" y="2349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课文，想想课文讲了一些什么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？你有什么不懂的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826920" y="213372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婷婷是不是一个做事认真、爱动脑筋、聪明的孩子？从课文哪些句子可以体现出来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细读感悟"/>
          <p:cNvPicPr/>
          <p:nvPr/>
        </p:nvPicPr>
        <p:blipFill>
          <a:blip r:embed="rId1"/>
          <a:stretch/>
        </p:blipFill>
        <p:spPr>
          <a:xfrm>
            <a:off x="324000" y="836640"/>
            <a:ext cx="21049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多事情并不像我们想象的那么糟。只要肯动脑筋，坏事往往能变成好事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怎么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细读感悟"/>
          <p:cNvPicPr/>
          <p:nvPr/>
        </p:nvPicPr>
        <p:blipFill>
          <a:blip r:embed="rId1"/>
          <a:stretch/>
        </p:blipFill>
        <p:spPr>
          <a:xfrm>
            <a:off x="395280" y="981000"/>
            <a:ext cx="21049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细读感悟"/>
          <p:cNvPicPr/>
          <p:nvPr/>
        </p:nvPicPr>
        <p:blipFill>
          <a:blip r:embed="rId1"/>
          <a:stretch/>
        </p:blipFill>
        <p:spPr>
          <a:xfrm>
            <a:off x="0" y="836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68360" y="19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怎样做一个善于思考的好孩子呢？学完课文，说说你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1265400" y="4835520"/>
            <a:ext cx="55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31:0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53:03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