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B33A-03EB-4A8B-9935-FDDB13651C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4135-9D39-4F35-A76E-CB128965EE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C53-6EF7-4DAB-B3AB-C32FE578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BA4-D907-4D62-ABBE-313F1AF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93D-6546-4CDA-82B4-58A14352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C06-2C95-4E77-ACFD-2C799889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1CF-17DC-48F1-B23B-5789B30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BC1-FCFA-44FC-80CD-86D0C989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7C3-6171-4B4B-A4B1-8AF72DC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8FA-C1FA-4094-82F4-A59B27F9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0CD-5D42-400D-A1AC-83660278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8F5-D80C-4950-ABE6-5553B80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C55-0257-418F-8F43-E7E1FE67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2C3-4FC4-48FE-84B1-26BDA21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55B5-C35D-48E4-8CC2-F83AC925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802240" y="10666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唱歌的小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06200" y="6172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4920" y="10256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争先恐后地游到对面，爬到一片被太阳晒得发烫的大石板上，翻扑着身子，让太阳猛晒！晒够了，一个跟着一个，又往水里跳。扑通，扑通，歌溪里出现许多黑黑的小脑袋。我们一任自己高兴，在水里翻跟头，侧身游，仰面游，吼叫，欢笑，虽然被水呛得咳嗽，却还在撒欢地打水仗。本来就活蹦乱跳的歌溪，越发欢腾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歌溪啊，你给了我们多少欢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990720" y="32767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066680" y="3657600"/>
            <a:ext cx="3962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952880" y="4572000"/>
            <a:ext cx="2971800" cy="1447920"/>
          </a:xfrm>
          <a:prstGeom prst="cloudCallout">
            <a:avLst>
              <a:gd name="adj1" fmla="val -59828"/>
              <a:gd name="adj2" fmla="val -104384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歌溪带给了我们哪些欢乐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11280" y="31431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唱歌的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759040" y="160020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35360" y="1600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调皮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735360" y="2590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活泼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735360" y="38098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变得文静起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675240" y="48610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越发欢腾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5943600" y="1600200"/>
            <a:ext cx="152280" cy="3657600"/>
          </a:xfrm>
          <a:custGeom>
            <a:avLst/>
            <a:gdLst>
              <a:gd name="textAreaLeft" fmla="*/ 0 w 152280"/>
              <a:gd name="textAreaRight" fmla="*/ 55080 w 1522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734160" y="31431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带给我们欢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0" y="0"/>
            <a:ext cx="3352680" cy="1828800"/>
          </a:xfrm>
          <a:prstGeom prst="cloudCallout">
            <a:avLst>
              <a:gd name="adj1" fmla="val 99907"/>
              <a:gd name="adj2" fmla="val 4965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除了书中描述的，想象一下，歌溪还能给孩子们带来哪些欢乐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03480" y="105084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720800" y="11271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72480" y="1263600"/>
            <a:ext cx="106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yu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402240" y="105084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019920" y="11271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098320" y="1263600"/>
            <a:ext cx="63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tá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103480" y="298620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光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1720800" y="30621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80172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hu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6402240" y="298620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蛋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>
            <a:off x="6019920" y="30621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5234040" y="3186000"/>
            <a:ext cx="59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k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103480" y="47847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5"/>
          <p:cNvSpPr/>
          <p:nvPr/>
        </p:nvSpPr>
        <p:spPr>
          <a:xfrm>
            <a:off x="1720800" y="486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854280" y="4984920"/>
            <a:ext cx="76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fā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6402240" y="47847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）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6019920" y="486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5208120" y="4984920"/>
            <a:ext cx="6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d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640440" y="457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写同音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45625790200904272332276279910772366_008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329000" y="6248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329000" y="6248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02"/>
          <p:cNvPicPr/>
          <p:nvPr/>
        </p:nvPicPr>
        <p:blipFill>
          <a:blip r:embed="rId1"/>
          <a:stretch/>
        </p:blipFill>
        <p:spPr>
          <a:xfrm>
            <a:off x="581040" y="457200"/>
            <a:ext cx="7981920" cy="56624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"/>
          <p:cNvSpPr/>
          <p:nvPr/>
        </p:nvSpPr>
        <p:spPr>
          <a:xfrm>
            <a:off x="47520" y="6127920"/>
            <a:ext cx="68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329000" y="6248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200892125728889_2"/>
          <p:cNvPicPr/>
          <p:nvPr/>
        </p:nvPicPr>
        <p:blipFill>
          <a:blip r:embed="rId1"/>
          <a:stretch/>
        </p:blipFill>
        <p:spPr>
          <a:xfrm>
            <a:off x="419040" y="457200"/>
            <a:ext cx="8305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79F-352D-4361-9094-9C79BEE3A5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1025640"/>
            <a:ext cx="84582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条爱唱歌的溪流，村里的人叫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歌溪的水从很远的山涧里流出来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u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头的水是银亮的，闪着光，从长满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á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藓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山崖上跳下来，溅起一蓬蓬亮晶晶的水花。这时候，歌溪像一个调皮的孩子，它的歌声有点儿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顺着一条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石板，溪水急速地向下流淌。石板上披盖着长长的青苔，像鲜绿的丝线，又像姐姐的长发。这时候，歌溪像一个活泼的孩子，它的歌声充满了欢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795840" y="2286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唱歌的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533520"/>
            <a:ext cx="8732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渐渐地，歌溪变得文静起来。它静静地流着，流着。它的水变成绿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í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莹的了，它的歌声也变得非常美妙。溪边的树林里，无数的鸟儿在亮开自己的歌喉。这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喳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片欢歌！金翅鸟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鹃鸟、画眉鸟，这些有名的歌手，自然是最活跃的。嗓音浑厚的大山雀、白头翁，也少不了要表演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音独唱，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咕嘟噜、咕嘟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叫声，拖得老长老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更快乐的日子，是在夏天。这时歌溪涨水了，可还是那么清朗。它打着漩儿，在水面上泛着一圈一圈浮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i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般的花纹。我们脱光衣服，跳进水里，水花溅得老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025640"/>
            <a:ext cx="84582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争先恐后地游到对面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到一片被太阳晒得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大石板上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扑着身子，让太阳猛晒！晒够了，一个跟着一个，又往水里跳。扑通，扑通，歌溪里出现许多黑黑的小脑袋。我们一任自己高兴，在水里翻跟头，侧身游，仰面游，吼叫，欢笑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u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然被水呛得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嗽，却还在撒欢地打水仗。本来就活蹦乱跳的歌溪，越发欢腾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歌溪啊，你给了我们多少欢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5"/>
          <p:cNvSpPr/>
          <p:nvPr/>
        </p:nvSpPr>
        <p:spPr>
          <a:xfrm>
            <a:off x="6400800" y="5867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52280" y="1847880"/>
            <a:ext cx="880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条爱唱歌的溪流，村里的人叫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歌溪的水从很远的山涧里流出来。源头的水是银亮的，闪着光，从长满苔藓的山崖上跳下来，溅起一蓬蓬亮晶晶的水花。这时候，歌溪像一个调皮的孩子，它的歌声有点儿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顺着一条光滑的石板，溪水急速地向下流淌。石板上披盖着长长的青苔，像鲜绿的丝线，又像姐姐的长发。这时候，歌溪像一个活泼的孩子，它的歌声充满了欢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唱歌的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143000" y="3352680"/>
            <a:ext cx="5867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28600" y="4495680"/>
            <a:ext cx="5181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7848720" y="411480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5791320" y="152280"/>
            <a:ext cx="3352680" cy="1828800"/>
          </a:xfrm>
          <a:prstGeom prst="cloudCallout">
            <a:avLst>
              <a:gd name="adj1" fmla="val -64157"/>
              <a:gd name="adj2" fmla="val 4731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歌溪像调皮的孩子，从哪里可以看出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581280" y="2971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4876920" y="2971800"/>
            <a:ext cx="304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5410080" y="4800600"/>
            <a:ext cx="3048120" cy="1600200"/>
          </a:xfrm>
          <a:prstGeom prst="cloudCallout">
            <a:avLst>
              <a:gd name="adj1" fmla="val -82916"/>
              <a:gd name="adj2" fmla="val -5198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歌溪的活泼又从哪里得到体会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0" y="228600"/>
            <a:ext cx="3352680" cy="1828800"/>
          </a:xfrm>
          <a:prstGeom prst="cloudCallout">
            <a:avLst>
              <a:gd name="adj1" fmla="val 99907"/>
              <a:gd name="adj2" fmla="val 4965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条小溪为什么叫“歌溪”？它的歌声是什么样子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1128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唱歌的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743200" y="160020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35360" y="1600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调皮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35360" y="2590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活泼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111744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渐渐地，歌溪变得文静起来。它静静地流着，流着。它的水变成绿莹莹的了，它的歌声也变得非常美妙。溪边的树林里，无数的鸟儿在亮开自己的歌喉。这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喳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片欢歌！金翅鸟、杜鹃鸟、画眉鸟，这些有名的歌手，自然是最活跃的。嗓音浑厚的大山雀、白头翁，也少不了要表演一番低音独唱，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咕嘟噜、咕嘟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叫声，拖得老长老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更快乐的日子，是在夏天。这时歌溪涨水了，可还是那么清朗。它打着漩儿，在水面上泛着一圈一圈浮雕般的花纹。我们脱光衣服，跳进水里，水花溅得老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2209680" y="152388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562720" y="0"/>
            <a:ext cx="2971800" cy="1447920"/>
          </a:xfrm>
          <a:prstGeom prst="cloudCallout">
            <a:avLst>
              <a:gd name="adj1" fmla="val -68856"/>
              <a:gd name="adj2" fmla="val 50439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文静的歌溪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0" y="4800600"/>
            <a:ext cx="3200400" cy="1447920"/>
          </a:xfrm>
          <a:prstGeom prst="cloudCallout">
            <a:avLst>
              <a:gd name="adj1" fmla="val 83481"/>
              <a:gd name="adj2" fmla="val -6261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找找描写流水的象声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5105520" y="228600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828800" y="335268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0"/>
          <p:cNvSpPr/>
          <p:nvPr/>
        </p:nvSpPr>
        <p:spPr>
          <a:xfrm>
            <a:off x="1778400" y="228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词语，照样子再写几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1052640" y="2422440"/>
            <a:ext cx="70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突       喳喳       扑通       咕嘟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60948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4320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480060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7162920" y="380988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11280" y="31431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唱歌的小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759040" y="160020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735360" y="1600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调皮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735360" y="2590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活泼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35360" y="38098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变得文静起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47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14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