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733-D99E-4271-8DBD-2B7413C0EC7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0CBA7-7036-484A-90FD-392641ADF6C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EA2-DE44-49DF-A305-CA5C79DF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09DF-3E2E-4ECC-9649-408099A1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D65C-3B7B-40E8-B7CB-422794AC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C30-8F57-4A07-B401-5DE369F76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910D8-FAE9-477A-A5F7-5D37D899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9FD-2DC3-42A1-8CA9-5517B35C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E62D-A978-41F2-86B6-7FE885D2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6770-11A4-48F7-8D8F-9D0E8C1F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D16E-ECB0-4D34-9A4E-B42B2BF7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247-999D-4CE6-93B3-F62A97569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2EED-D2C8-4328-BDBD-4B8FA74C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6C1-3821-427B-A303-ED832764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8EC0-D4CF-4BA0-B6BE-D5A5AF717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624040"/>
            <a:ext cx="7340400" cy="8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*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爱国诗人屈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=3374892071,2762032561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4461840" y="90792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爱国诗人屈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矩形 7" descr=""/>
          <p:cNvPicPr/>
          <p:nvPr/>
        </p:nvPicPr>
        <p:blipFill>
          <a:blip r:embed="rId2"/>
          <a:stretch/>
        </p:blipFill>
        <p:spPr>
          <a:xfrm>
            <a:off x="3238560" y="5888160"/>
            <a:ext cx="576900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0041888a98111ca4283c0a05ddba9182"/>
          <p:cNvPicPr/>
          <p:nvPr/>
        </p:nvPicPr>
        <p:blipFill>
          <a:blip r:embed="rId1"/>
          <a:stretch/>
        </p:blipFill>
        <p:spPr>
          <a:xfrm>
            <a:off x="0" y="0"/>
            <a:ext cx="968364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0" y="189000"/>
            <a:ext cx="60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屈原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037520" y="11653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高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244880" y="22446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忧国忧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755640" y="426096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对祖国忠贞不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244880" y="32529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宁死不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"/>
          <p:cNvSpPr/>
          <p:nvPr/>
        </p:nvSpPr>
        <p:spPr>
          <a:xfrm>
            <a:off x="0" y="5570640"/>
            <a:ext cx="558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12051612530981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6693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441000" y="189000"/>
            <a:ext cx="1070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资料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370240" y="181080"/>
            <a:ext cx="677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战国时期，楚国诗人屈原以南方民歌为基础，采用楚国方言创作了一种新的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诗歌体裁</a:t>
            </a:r>
            <a:r>
              <a:rPr b="1" lang="en-US" sz="2800" spc="-1" strike="noStrike">
                <a:solidFill>
                  <a:srgbClr val="00cc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cc00"/>
                </a:solidFill>
                <a:latin typeface="Arial"/>
              </a:rPr>
              <a:t>楚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屈原的抒情长诗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离骚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是中国古代最长的抒情诗，具有浪漫主义风格，是楚辞的代表作，楚辞因此又称为“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离骚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。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楚辞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中国第一部浪漫主义诗歌总集和骚体类文章的总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18d8bc3eb13533fae8a5e532aad3fd1f41345b9e"/>
          <p:cNvPicPr/>
          <p:nvPr/>
        </p:nvPicPr>
        <p:blipFill>
          <a:blip r:embed="rId2"/>
          <a:stretch/>
        </p:blipFill>
        <p:spPr>
          <a:xfrm>
            <a:off x="4211640" y="3500280"/>
            <a:ext cx="4762440" cy="33577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6c224f4a20a4462369fd4a2d9922720e0cf3d74e"/>
          <p:cNvPicPr/>
          <p:nvPr/>
        </p:nvPicPr>
        <p:blipFill>
          <a:blip r:embed="rId3"/>
          <a:stretch/>
        </p:blipFill>
        <p:spPr>
          <a:xfrm>
            <a:off x="826920" y="3500280"/>
            <a:ext cx="25927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2012062509410753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922320" y="6922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有关爱国的诗句名言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3029040" y="1413000"/>
            <a:ext cx="2010960" cy="51588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破山河在，城春草木深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唐）杜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88240" y="2133360"/>
            <a:ext cx="1916280" cy="45504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生自古谁无死，留取丹心照汗青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宋）文天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3297960" y="2852280"/>
            <a:ext cx="1733400" cy="455040"/>
          </a:xfrm>
          <a:prstGeom prst="rect">
            <a:avLst/>
          </a:prstGeom>
          <a:solidFill>
            <a:srgbClr val="f1fe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粉身碎骨浑不怕，要留清白在人间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明）于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288240" y="35733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先天下之忧而忧，后天下之乐而乐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宋）范仲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0"/>
          <p:cNvSpPr/>
          <p:nvPr/>
        </p:nvSpPr>
        <p:spPr>
          <a:xfrm>
            <a:off x="3362040" y="4291560"/>
            <a:ext cx="2096280" cy="459720"/>
          </a:xfrm>
          <a:prstGeom prst="rect">
            <a:avLst/>
          </a:prstGeom>
          <a:solidFill>
            <a:srgbClr val="d1c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路漫漫其修远兮，吾将上下而求索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战国）屈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1"/>
          <p:cNvSpPr/>
          <p:nvPr/>
        </p:nvSpPr>
        <p:spPr>
          <a:xfrm>
            <a:off x="3268440" y="5012280"/>
            <a:ext cx="2489400" cy="459720"/>
          </a:xfrm>
          <a:prstGeom prst="rect">
            <a:avLst/>
          </a:prstGeom>
          <a:solidFill>
            <a:srgbClr val="d1cf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风萧萧兮易水寒，壮士一去兮不复还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战国）荆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2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4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6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BA077-587E-4FBD-9D36-1A2C3D0BC98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020130609391518027874"/>
          <p:cNvPicPr/>
          <p:nvPr/>
        </p:nvPicPr>
        <p:blipFill>
          <a:blip r:embed="rId1"/>
          <a:stretch/>
        </p:blipFill>
        <p:spPr>
          <a:xfrm>
            <a:off x="0" y="0"/>
            <a:ext cx="5616720" cy="3741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201442915493123"/>
          <p:cNvPicPr/>
          <p:nvPr/>
        </p:nvPicPr>
        <p:blipFill>
          <a:blip r:embed="rId2"/>
          <a:stretch/>
        </p:blipFill>
        <p:spPr>
          <a:xfrm>
            <a:off x="3635280" y="3359160"/>
            <a:ext cx="5508720" cy="34988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6607080" y="83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包粽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12899992_998932"/>
          <p:cNvPicPr/>
          <p:nvPr/>
        </p:nvPicPr>
        <p:blipFill>
          <a:blip r:embed="rId1"/>
          <a:stretch/>
        </p:blipFill>
        <p:spPr>
          <a:xfrm>
            <a:off x="0" y="0"/>
            <a:ext cx="5796000" cy="4083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u=2137354131,2855067135&amp;fm=23&amp;gp=0"/>
          <p:cNvPicPr/>
          <p:nvPr/>
        </p:nvPicPr>
        <p:blipFill>
          <a:blip r:embed="rId2"/>
          <a:stretch/>
        </p:blipFill>
        <p:spPr>
          <a:xfrm>
            <a:off x="3203640" y="3176640"/>
            <a:ext cx="5940360" cy="3681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6657840" y="771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赛龙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932000" y="0"/>
            <a:ext cx="4211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u=3416216906,3851155916&amp;fm=23&amp;gp=0"/>
          <p:cNvPicPr/>
          <p:nvPr/>
        </p:nvPicPr>
        <p:blipFill>
          <a:blip r:embed="rId1"/>
          <a:stretch/>
        </p:blipFill>
        <p:spPr>
          <a:xfrm>
            <a:off x="0" y="0"/>
            <a:ext cx="399564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QQ图片20150318111654"/>
          <p:cNvPicPr/>
          <p:nvPr/>
        </p:nvPicPr>
        <p:blipFill>
          <a:blip r:embed="rId2"/>
          <a:stretch/>
        </p:blipFill>
        <p:spPr>
          <a:xfrm>
            <a:off x="3995640" y="0"/>
            <a:ext cx="5148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200952916059710139512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0" y="0"/>
            <a:ext cx="72644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小组合作交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324000" y="1197000"/>
            <a:ext cx="7692840" cy="37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默读课文。用简洁的语言概括课文的主要内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自找画圈词，小组合作学习生字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“路漫漫其修远兮，吾将上下而求索”是什么意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“举世皆浊我独清，众人皆醉我独醒”什么意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ff"/>
                </a:solidFill>
                <a:latin typeface="Arial"/>
              </a:rPr>
              <a:t>、为什么司马迁说屈原的精神“与日月争光可也”？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pt4495"/>
          <p:cNvPicPr/>
          <p:nvPr/>
        </p:nvPicPr>
        <p:blipFill>
          <a:blip r:embed="rId1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755640" y="620640"/>
            <a:ext cx="754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4100" spc="-1" strike="noStrike">
                <a:solidFill>
                  <a:srgbClr val="ff0000"/>
                </a:solidFill>
                <a:latin typeface="Arial"/>
              </a:rPr>
              <a:t>、默读课文。用简洁的语言概括课文的主要内容。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13372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主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课文主要记叙了爱国诗人屈原开创了“楚辞”以及不肯同流合污，报国无望后投身汨罗江的事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7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70e1331dtd73e3d2c7707&amp;690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6"/>
          <p:cNvSpPr/>
          <p:nvPr/>
        </p:nvSpPr>
        <p:spPr>
          <a:xfrm>
            <a:off x="808200" y="7700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826920" y="836640"/>
            <a:ext cx="7129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“路漫漫其修远兮，吾将上下而求索”是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QQ图片20150318113837"/>
          <p:cNvPicPr/>
          <p:nvPr/>
        </p:nvPicPr>
        <p:blipFill>
          <a:blip r:embed="rId2"/>
          <a:stretch/>
        </p:blipFill>
        <p:spPr>
          <a:xfrm>
            <a:off x="539640" y="2565360"/>
            <a:ext cx="8137800" cy="30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51Z58PICVBG_10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1370160" y="549360"/>
            <a:ext cx="424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“举世皆浊我独清，众人皆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我独醒”什么意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QQ图片20150318114516"/>
          <p:cNvPicPr/>
          <p:nvPr/>
        </p:nvPicPr>
        <p:blipFill>
          <a:blip r:embed="rId2"/>
          <a:stretch/>
        </p:blipFill>
        <p:spPr>
          <a:xfrm>
            <a:off x="324000" y="2060640"/>
            <a:ext cx="7704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6112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"/>
          <p:cNvSpPr/>
          <p:nvPr/>
        </p:nvSpPr>
        <p:spPr>
          <a:xfrm>
            <a:off x="3734280" y="260280"/>
            <a:ext cx="289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为什么司马迁说屈原的精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与日月争光可也”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QQ图片20150318115042"/>
          <p:cNvPicPr/>
          <p:nvPr/>
        </p:nvPicPr>
        <p:blipFill>
          <a:blip r:embed="rId2"/>
          <a:stretch/>
        </p:blipFill>
        <p:spPr>
          <a:xfrm>
            <a:off x="1619280" y="1916280"/>
            <a:ext cx="7524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03:01:3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53:43Z</dcterms:modified>
  <cp:revision>1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