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84BB-BA5A-4107-ACCC-B198D24EA2E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15BC-7218-491E-A69F-0A73A897E18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211C-2BA5-4581-9A2E-606A444ED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F831-A46A-46EE-BBBF-EAA3E20D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C841-7440-479C-991E-ED0F1C69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E56D-FC5C-4FF2-9D10-900F76DB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8CB9-1D42-4C25-A309-D9882B6C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6377-D17E-4882-944D-A6E29AAC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96A5-BD6B-446F-A3B4-55C86937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652C-ED9D-4C1C-923A-A009DF1E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4D1F-8498-404F-9145-72A48A2E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2CAF-5721-4B35-B711-1E3F816F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575E-808A-4C37-8CE9-E9E8C0FF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7F84-2BE3-4F5F-A30E-EF19C2B1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6DF9-E644-4D1D-9A46-9C2217EBA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布达拉宫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3429000" y="1009800"/>
            <a:ext cx="4724280" cy="14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布达拉宫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50" name="矩形 6" descr=""/>
          <p:cNvPicPr/>
          <p:nvPr/>
        </p:nvPicPr>
        <p:blipFill>
          <a:blip r:embed="rId4"/>
          <a:stretch/>
        </p:blipFill>
        <p:spPr>
          <a:xfrm>
            <a:off x="1374840" y="5715000"/>
            <a:ext cx="6402240" cy="5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圣观音殿内法轮"/>
          <p:cNvPicPr/>
          <p:nvPr/>
        </p:nvPicPr>
        <p:blipFill>
          <a:blip r:embed="rId1"/>
          <a:stretch/>
        </p:blipFill>
        <p:spPr>
          <a:xfrm>
            <a:off x="1295280" y="457200"/>
            <a:ext cx="1911600" cy="25210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304920" y="5257800"/>
            <a:ext cx="50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乾隆帝给八世达赖的玉册， 刻有藏、汉、满、蒙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五世达赖喇嘛金印"/>
          <p:cNvPicPr/>
          <p:nvPr/>
        </p:nvPicPr>
        <p:blipFill>
          <a:blip r:embed="rId2"/>
          <a:stretch/>
        </p:blipFill>
        <p:spPr>
          <a:xfrm>
            <a:off x="5715000" y="3886200"/>
            <a:ext cx="2879640" cy="1663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清乾隆皇帝给八世达赖喇嘛的玉册， 刻有藏、汉、满、蒙文字"/>
          <p:cNvPicPr/>
          <p:nvPr/>
        </p:nvPicPr>
        <p:blipFill>
          <a:blip r:embed="rId3"/>
          <a:stretch/>
        </p:blipFill>
        <p:spPr>
          <a:xfrm>
            <a:off x="228600" y="3809880"/>
            <a:ext cx="5334120" cy="1505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西有革圆满大殿清乾隆皇帝御书匾额及达赖喇嘛宝座"/>
          <p:cNvPicPr/>
          <p:nvPr/>
        </p:nvPicPr>
        <p:blipFill>
          <a:blip r:embed="rId4"/>
          <a:stretch/>
        </p:blipFill>
        <p:spPr>
          <a:xfrm>
            <a:off x="6172200" y="609480"/>
            <a:ext cx="1960560" cy="2521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9"/>
          <p:cNvSpPr/>
          <p:nvPr/>
        </p:nvSpPr>
        <p:spPr>
          <a:xfrm>
            <a:off x="2514600" y="25146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ef6f1"/>
                </a:solidFill>
                <a:latin typeface="Tahoma"/>
              </a:rPr>
              <a:t>法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6172200" y="23623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ef6f1"/>
                </a:solidFill>
                <a:latin typeface="Tahoma"/>
              </a:rPr>
              <a:t>乾隆御书匾额及达赖宝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6629400" y="51814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ef6f1"/>
                </a:solidFill>
                <a:latin typeface="Tahoma"/>
              </a:rPr>
              <a:t>五世达赖金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71840" y="533160"/>
            <a:ext cx="228132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壁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白宫门廊内文成公主进藏图等壁画"/>
          <p:cNvPicPr/>
          <p:nvPr/>
        </p:nvPicPr>
        <p:blipFill>
          <a:blip r:embed="rId1"/>
          <a:stretch/>
        </p:blipFill>
        <p:spPr>
          <a:xfrm>
            <a:off x="395280" y="1341360"/>
            <a:ext cx="389556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457200" y="60199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文成公主进藏图壁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十三世达赖喇嘛靓见清光绪皇帝及慈禧太后壁画"/>
          <p:cNvPicPr/>
          <p:nvPr/>
        </p:nvPicPr>
        <p:blipFill>
          <a:blip r:embed="rId2"/>
          <a:stretch/>
        </p:blipFill>
        <p:spPr>
          <a:xfrm>
            <a:off x="4572000" y="1341360"/>
            <a:ext cx="4286160" cy="42958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4716360" y="573408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十三世达赖靓见光绪帝及慈禧太后壁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04920" y="533520"/>
            <a:ext cx="61722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布达拉宫的艺术珍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43240" y="609480"/>
            <a:ext cx="21286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唐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上师供养唐卡"/>
          <p:cNvPicPr/>
          <p:nvPr/>
        </p:nvPicPr>
        <p:blipFill>
          <a:blip r:embed="rId1"/>
          <a:stretch/>
        </p:blipFill>
        <p:spPr>
          <a:xfrm>
            <a:off x="1258920" y="1341360"/>
            <a:ext cx="2990880" cy="46087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1219320" y="59500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上师供养唐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殊胜三界殿内清乾隆皇帝肖像唐卡"/>
          <p:cNvPicPr/>
          <p:nvPr/>
        </p:nvPicPr>
        <p:blipFill>
          <a:blip r:embed="rId2"/>
          <a:stretch/>
        </p:blipFill>
        <p:spPr>
          <a:xfrm>
            <a:off x="4979880" y="1341360"/>
            <a:ext cx="3071880" cy="4608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5181480" y="6095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乾隆帝肖像唐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609480" y="549360"/>
            <a:ext cx="572796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布达拉宫的艺术珍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大昭寺 释迦牟尼鎏金铜像"/>
          <p:cNvPicPr/>
          <p:nvPr/>
        </p:nvPicPr>
        <p:blipFill>
          <a:blip r:embed="rId1"/>
          <a:stretch/>
        </p:blipFill>
        <p:spPr>
          <a:xfrm>
            <a:off x="152280" y="990720"/>
            <a:ext cx="4267440" cy="4081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文成公主进藏图"/>
          <p:cNvPicPr/>
          <p:nvPr/>
        </p:nvPicPr>
        <p:blipFill>
          <a:blip r:embed="rId2"/>
          <a:stretch/>
        </p:blipFill>
        <p:spPr>
          <a:xfrm>
            <a:off x="4495680" y="1066680"/>
            <a:ext cx="4419720" cy="40388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762120" y="54864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释迦牟尼鎏金铜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486400" y="5410080"/>
            <a:ext cx="29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文成公主进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金瓶2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4267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唐蕃会盟碑2"/>
          <p:cNvPicPr/>
          <p:nvPr/>
        </p:nvPicPr>
        <p:blipFill>
          <a:blip r:embed="rId2"/>
          <a:stretch/>
        </p:blipFill>
        <p:spPr>
          <a:xfrm>
            <a:off x="304920" y="762120"/>
            <a:ext cx="365760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6477120" y="46483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金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124080" y="304920"/>
            <a:ext cx="50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唐蕃会盟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"/>
          <p:cNvSpPr/>
          <p:nvPr/>
        </p:nvSpPr>
        <p:spPr>
          <a:xfrm>
            <a:off x="1938240" y="5961240"/>
            <a:ext cx="61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37AE-A358-48E6-9435-2E32E1F4188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20080120204736647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478944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布达拉宫的建筑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476360" y="1916280"/>
            <a:ext cx="468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477120" y="2819520"/>
            <a:ext cx="9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白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143000" y="1295280"/>
            <a:ext cx="13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白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657600" y="152388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红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1295280" y="137160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白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历代达赖从事    政治、宗教和生活起居的地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红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历代达赖的灵塔殿和佛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200801202048328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7813800" y="457200"/>
            <a:ext cx="1003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白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20051026110214532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6"/>
          <p:cNvSpPr/>
          <p:nvPr/>
        </p:nvSpPr>
        <p:spPr>
          <a:xfrm>
            <a:off x="4533840" y="35053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布达拉宫1"/>
          <p:cNvPicPr/>
          <p:nvPr/>
        </p:nvPicPr>
        <p:blipFill>
          <a:blip r:embed="rId1"/>
          <a:stretch/>
        </p:blipFill>
        <p:spPr>
          <a:xfrm>
            <a:off x="304920" y="0"/>
            <a:ext cx="8458200" cy="51577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52280" y="530064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布达拉宫按照红山的自然地形由南麓梯次修到山顶，主楼高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17.19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米，其中红宫外显十三层，宫内实有九层。东西白宫最高处达七层。布达拉宫东西长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6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米，南北宽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7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米，建筑群占地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6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万多平方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219320" y="198108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布达拉宫不仅外表令人叹为观止，还是一个宝物荟萃的博物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24360" y="189000"/>
            <a:ext cx="237672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-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珍贵文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贝叶经"/>
          <p:cNvPicPr/>
          <p:nvPr/>
        </p:nvPicPr>
        <p:blipFill>
          <a:blip r:embed="rId1"/>
          <a:stretch/>
        </p:blipFill>
        <p:spPr>
          <a:xfrm>
            <a:off x="533520" y="3657600"/>
            <a:ext cx="3240000" cy="2262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十三世达赖喇嘛灵塔殿内经书架"/>
          <p:cNvPicPr/>
          <p:nvPr/>
        </p:nvPicPr>
        <p:blipFill>
          <a:blip r:embed="rId2"/>
          <a:stretch/>
        </p:blipFill>
        <p:spPr>
          <a:xfrm>
            <a:off x="4267080" y="990720"/>
            <a:ext cx="3962520" cy="30636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9"/>
          <p:cNvSpPr/>
          <p:nvPr/>
        </p:nvSpPr>
        <p:spPr>
          <a:xfrm>
            <a:off x="1676520" y="556272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ef6f1"/>
                </a:solidFill>
                <a:latin typeface="Tahoma"/>
              </a:rPr>
              <a:t>贝叶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4876920" y="3505320"/>
            <a:ext cx="10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ef6f1"/>
                </a:solidFill>
                <a:latin typeface="Tahoma"/>
                <a:ea typeface="黑体"/>
              </a:rPr>
              <a:t>经书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0" y="333360"/>
            <a:ext cx="57610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布达拉宫的艺术珍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五世达赖喇嘛灵塔"/>
          <p:cNvPicPr/>
          <p:nvPr/>
        </p:nvPicPr>
        <p:blipFill>
          <a:blip r:embed="rId1"/>
          <a:stretch/>
        </p:blipFill>
        <p:spPr>
          <a:xfrm>
            <a:off x="4876920" y="533520"/>
            <a:ext cx="4100400" cy="5041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5638680" y="594360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五世达赖喇嘛灵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布达拉宫内历代达赖灵塔"/>
          <p:cNvPicPr/>
          <p:nvPr/>
        </p:nvPicPr>
        <p:blipFill>
          <a:blip r:embed="rId2"/>
          <a:stretch/>
        </p:blipFill>
        <p:spPr>
          <a:xfrm>
            <a:off x="228600" y="457200"/>
            <a:ext cx="4038480" cy="51814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1066680" y="59436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中宋"/>
              </a:rPr>
              <a:t>历代灵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7T12:28:3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0:04Z</dcterms:modified>
  <cp:revision>2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