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9642-A944-4204-8008-7D5D2C04A5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30C-80FC-4B74-A6AA-D5E73AC5A6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92A-8CCC-4A45-B611-694030A4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80F-7F0C-4881-9E02-9170839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0B6-7DE1-40DE-8B3B-84A75598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F3D-A2CD-429B-9F02-C052B748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425-1365-4C0E-97C9-7CC3FD7F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B8D4-E960-43A9-A6E8-D15A9E0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BF0-D210-47C5-B349-E29C01A5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13F7-298E-4B72-A72E-BD4E7E2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5AB-B582-4D81-B766-BB00307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434-3077-4C97-9BFB-CF7E17C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2FE4-F0E5-4621-86FD-0276BE1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2B8-EDA1-441E-99B4-D18D9B6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176-0FA9-4B1B-BBDA-5F3D3C9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F53-2F86-4A6F-B30C-0AE5A28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604-4E5A-4B64-8FA8-A843C60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C1CC-2B96-444C-80CA-951458EC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8F80-5D7D-4B7A-BC40-0CEAEF87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9517-B515-4AB5-88C3-ADC466D9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55D6-F13B-465A-86FA-3CF4D98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D22D-C89D-4C3A-8A0A-838C5816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7422-2DC5-45FC-9ED3-90FC10AF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F185-0C38-4A7D-86DC-C46F05C4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E4D-E88A-44D8-A864-AF99BC68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515F-3466-4F9B-B99B-5A44E139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9405-A100-4562-A849-83AC0D2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92D5-B1B8-40E8-B7F4-647F5F9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4D67-9A7D-4B82-93CB-182F728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67E7-0EF9-4E42-BE9C-D919661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9B15-2B61-4768-971F-7064C3A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A5FD-6ED8-4330-9559-5AC9447F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9CF-F086-46C8-A9E7-CA2D35AB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AF7-D373-41CE-80BD-B672070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CFB-E22A-4E08-A011-B452408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8D2-F7EE-4C3C-874C-2F34943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AD9-20BF-4A98-9446-0348CB4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073-71E7-4AFF-8062-9AFE48A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207C-9CB7-48C7-9510-73BA7F40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E8A-F737-4F19-B4FF-BC4962EF49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720" y="524520"/>
                  <a:ext cx="4276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68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60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61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232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960" y="4317840"/>
            <a:ext cx="981720" cy="1160640"/>
            <a:chOff x="7797960" y="4317840"/>
            <a:chExt cx="981720" cy="11606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960" y="4317840"/>
              <a:ext cx="981720" cy="1160640"/>
              <a:chOff x="7797960" y="4317840"/>
              <a:chExt cx="981720" cy="11606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9080" y="4649760"/>
                <a:ext cx="1058760" cy="496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7720" y="4756680"/>
                <a:ext cx="74952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280" y="4557600"/>
                <a:ext cx="100080" cy="188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F2E-55B2-40CE-A95F-538FFFB180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3280" y="1989000"/>
            <a:ext cx="6408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ppt25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539640" y="836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城堡上的大</a:t>
            </a:r>
            <a:r>
              <a:rPr b="1" lang="zh-CN" sz="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矩形 7" descr=""/>
          <p:cNvPicPr/>
          <p:nvPr/>
        </p:nvPicPr>
        <p:blipFill>
          <a:blip r:embed="rId2"/>
          <a:stretch/>
        </p:blipFill>
        <p:spPr>
          <a:xfrm>
            <a:off x="1779480" y="56610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psuCA7U53VC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0" lang="zh-CN" sz="6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989000"/>
            <a:ext cx="8229600" cy="34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看了表演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城堡上的大 炮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你想以“战争与和平”为主题说点什么？写写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提示：设想现在是战争年代，我们还能              坐在教室安心学习吗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psuCA7U53VC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时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640" y="213372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歌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新年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伴着歌曲狂欢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A51-2A21-467B-9CAD-750C633B9A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524360" y="1599840"/>
            <a:ext cx="136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大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20111279232773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6878520" y="-28440"/>
            <a:ext cx="22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"/>
                <a:ea typeface="楷体"/>
              </a:rPr>
              <a:t>大 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9"/>
          <p:cNvSpPr/>
          <p:nvPr/>
        </p:nvSpPr>
        <p:spPr>
          <a:xfrm>
            <a:off x="1258920" y="1989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们对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大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什么了解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0" y="2133720"/>
            <a:ext cx="532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当新年的钟声敲响的时候，城堡上的三尊大炮给人们带来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dabao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200891701947495"/>
          <p:cNvPicPr/>
          <p:nvPr/>
        </p:nvPicPr>
        <p:blipFill>
          <a:blip r:embed="rId2"/>
          <a:stretch/>
        </p:blipFill>
        <p:spPr>
          <a:xfrm>
            <a:off x="250920" y="33336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大炮战争声音.mp3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44748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5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2879_12566067234Z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>
            <a:hlinkClick r:id="rId2"/>
          </p:cNvPr>
          <p:cNvSpPr/>
          <p:nvPr/>
        </p:nvSpPr>
        <p:spPr>
          <a:xfrm>
            <a:off x="5219640" y="6237360"/>
            <a:ext cx="865080" cy="28728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989" h="21600">
                <a:moveTo>
                  <a:pt x="0" y="0"/>
                </a:moveTo>
                <a:lnTo>
                  <a:pt x="64989" y="0"/>
                </a:lnTo>
                <a:lnTo>
                  <a:pt x="64989" y="21600"/>
                </a:lnTo>
                <a:lnTo>
                  <a:pt x="0" y="21600"/>
                </a:lnTo>
                <a:close/>
              </a:path>
              <a:path fill="lightenLess" w="64989" h="21600">
                <a:moveTo>
                  <a:pt x="0" y="0"/>
                </a:moveTo>
                <a:lnTo>
                  <a:pt x="64989" y="0"/>
                </a:lnTo>
                <a:lnTo>
                  <a:pt x="63589" y="1400"/>
                </a:lnTo>
                <a:lnTo>
                  <a:pt x="1400" y="1400"/>
                </a:lnTo>
                <a:close/>
              </a:path>
              <a:path fill="darken" w="64989" h="21600">
                <a:moveTo>
                  <a:pt x="64989" y="0"/>
                </a:moveTo>
                <a:lnTo>
                  <a:pt x="64989" y="21600"/>
                </a:lnTo>
                <a:lnTo>
                  <a:pt x="63589" y="20200"/>
                </a:lnTo>
                <a:lnTo>
                  <a:pt x="63589" y="1400"/>
                </a:lnTo>
                <a:close/>
              </a:path>
              <a:path fill="darkenLess" w="64989" h="21600">
                <a:moveTo>
                  <a:pt x="6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89" y="20200"/>
                </a:lnTo>
                <a:close/>
              </a:path>
              <a:path fill="lighten" w="6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89" h="21600">
                <a:moveTo>
                  <a:pt x="25488" y="8406"/>
                </a:moveTo>
                <a:lnTo>
                  <a:pt x="29918" y="8406"/>
                </a:lnTo>
                <a:lnTo>
                  <a:pt x="34340" y="3794"/>
                </a:lnTo>
                <a:lnTo>
                  <a:pt x="34340" y="17806"/>
                </a:lnTo>
                <a:lnTo>
                  <a:pt x="29918" y="13194"/>
                </a:lnTo>
                <a:lnTo>
                  <a:pt x="25488" y="13194"/>
                </a:lnTo>
                <a:close/>
              </a:path>
              <a:path fill="darken" w="64989" h="21600">
                <a:moveTo>
                  <a:pt x="35994" y="10800"/>
                </a:moveTo>
                <a:lnTo>
                  <a:pt x="39501" y="10800"/>
                </a:lnTo>
              </a:path>
              <a:path fill="darken" w="64989" h="21600">
                <a:moveTo>
                  <a:pt x="35994" y="8406"/>
                </a:moveTo>
                <a:lnTo>
                  <a:pt x="39501" y="5639"/>
                </a:lnTo>
              </a:path>
              <a:path fill="darken" w="64989" h="21600">
                <a:moveTo>
                  <a:pt x="35994" y="13194"/>
                </a:moveTo>
                <a:lnTo>
                  <a:pt x="3950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psuCA7U53VC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68709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城堡上的三尊</a:t>
            </a: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大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560" y="620280"/>
            <a:ext cx="75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！”第一尊大炮向空中撒放了一万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！”第二尊大炮向空中撒放了一万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降落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降落伞上挂着铅笔和橡皮等小礼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！”第三尊大炮向空中撒放了一万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鲜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！”大炮向空中撒放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00b200"/>
                </a:solidFill>
                <a:latin typeface="楷体"/>
                <a:ea typeface="楷体"/>
              </a:rPr>
              <a:t>同样的大炮，同样的轰隆隆，带给大家的感觉就是不一样，战争年代的大炮带给人们的只能是痛苦，而和平年代的大炮带给人们的却是莫大的惊喜和快乐！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psuCA7U53VC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理解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640" y="1052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难忘的狂欢之夜，难忘的大炮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难忘的狂欢之夜和大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第二个难忘起到了强调突出的作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psuCA7U53VC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6"/>
          <p:cNvSpPr txBox="1"/>
          <p:nvPr/>
        </p:nvSpPr>
        <p:spPr>
          <a:xfrm>
            <a:off x="1042920" y="549360"/>
            <a:ext cx="56181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94117"/>
                      </a:srgbClr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才艺展示</a:t>
            </a:r>
            <a:endParaRPr b="1" lang="en-US" sz="6600" spc="1" strike="noStrike">
              <a:ln w="1908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>
                      <a:alpha val="94117"/>
                    </a:srgbClr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AutoShape 8">
            <a:hlinkClick r:id="rId3"/>
          </p:cNvPr>
          <p:cNvSpPr/>
          <p:nvPr/>
        </p:nvSpPr>
        <p:spPr>
          <a:xfrm>
            <a:off x="7885080" y="4508640"/>
            <a:ext cx="649440" cy="57600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52" h="21600">
                <a:moveTo>
                  <a:pt x="0" y="0"/>
                </a:moveTo>
                <a:lnTo>
                  <a:pt x="24352" y="0"/>
                </a:lnTo>
                <a:lnTo>
                  <a:pt x="24352" y="21600"/>
                </a:lnTo>
                <a:lnTo>
                  <a:pt x="0" y="21600"/>
                </a:lnTo>
                <a:close/>
              </a:path>
              <a:path fill="lightenLess" w="24352" h="21600">
                <a:moveTo>
                  <a:pt x="0" y="0"/>
                </a:moveTo>
                <a:lnTo>
                  <a:pt x="24352" y="0"/>
                </a:lnTo>
                <a:lnTo>
                  <a:pt x="22952" y="1400"/>
                </a:lnTo>
                <a:lnTo>
                  <a:pt x="1400" y="1400"/>
                </a:lnTo>
                <a:close/>
              </a:path>
              <a:path fill="darken" w="24352" h="21600">
                <a:moveTo>
                  <a:pt x="24352" y="0"/>
                </a:moveTo>
                <a:lnTo>
                  <a:pt x="24352" y="21600"/>
                </a:lnTo>
                <a:lnTo>
                  <a:pt x="22952" y="20200"/>
                </a:lnTo>
                <a:lnTo>
                  <a:pt x="22952" y="1400"/>
                </a:lnTo>
                <a:close/>
              </a:path>
              <a:path fill="darkenLess" w="24352" h="21600">
                <a:moveTo>
                  <a:pt x="24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2" y="20200"/>
                </a:lnTo>
                <a:close/>
              </a:path>
              <a:path fill="lighten" w="24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2" h="21600">
                <a:moveTo>
                  <a:pt x="5170" y="8406"/>
                </a:moveTo>
                <a:lnTo>
                  <a:pt x="9600" y="8406"/>
                </a:lnTo>
                <a:lnTo>
                  <a:pt x="14021" y="3794"/>
                </a:lnTo>
                <a:lnTo>
                  <a:pt x="14021" y="17806"/>
                </a:lnTo>
                <a:lnTo>
                  <a:pt x="9600" y="13194"/>
                </a:lnTo>
                <a:lnTo>
                  <a:pt x="5170" y="13194"/>
                </a:lnTo>
                <a:close/>
              </a:path>
              <a:path fill="darken" w="24352" h="21600">
                <a:moveTo>
                  <a:pt x="15675" y="10800"/>
                </a:moveTo>
                <a:lnTo>
                  <a:pt x="19183" y="10800"/>
                </a:lnTo>
              </a:path>
              <a:path fill="darken" w="24352" h="21600">
                <a:moveTo>
                  <a:pt x="15675" y="8406"/>
                </a:moveTo>
                <a:lnTo>
                  <a:pt x="19183" y="5639"/>
                </a:lnTo>
              </a:path>
              <a:path fill="darken" w="24352" h="21600">
                <a:moveTo>
                  <a:pt x="15675" y="13194"/>
                </a:moveTo>
                <a:lnTo>
                  <a:pt x="19183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1042920" y="4508640"/>
            <a:ext cx="56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4:52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47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