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type.wav" ContentType="audio/x-wav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suction.wav" ContentType="audio/x-wav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E2D8-3813-4CF6-8958-9D75DBADC5C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1.xml"/><Relationship Id="rId24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5D20-B1DA-424D-983F-FB7300A76F7D}" type="slidenum"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E71A-5119-46CB-9241-ED3EC65CEB9D}" type="slidenum"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3BE25-848C-4BE5-A61D-A8041D3CE9E7}" type="slidenum"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498-44D8-4C3A-8B20-400891305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DAA-CDC3-4577-BEBD-7836FBA3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433A9-FCF4-4B50-9877-20A5C232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D8D3C-29BE-473C-B0BB-A4C36EC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79C4-84DE-4D6B-9239-7EB3ECD0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FCAB9-C5AF-4B93-A64E-ACB72B7C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D01E5-0176-4C66-94AD-35CE9B9C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3A5AB-936F-4164-A067-9F5A93B70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26394-0B23-4CEC-8378-C310F33C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12166-BFC3-4759-AB9B-E4ABF3B4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41769-1A08-4273-93CE-CF2D7AB64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B95371-B143-47BB-8A31-40D030BF4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817-525A-46F0-B3DD-0CD574700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210A09-976A-46C6-A913-F504A4B9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1BDBE-ED54-4A9E-AD8F-75098DE8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8C1902-4DEC-409D-8586-D2BAC694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4358F-136D-4228-AAD7-038BA67A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F8514-ED74-4B9E-88C6-51A1D87EA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F7071-6AF4-4F08-A756-B1C02ADE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0121B-70A2-4D63-987F-5784C21B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EE2B6-B686-486B-BFC6-B3F9DDF1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3B275-CA08-4A74-A3CC-A167E5B3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C1BE7-D843-440A-9644-07AD09C7A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23C-FF18-4A54-8A7D-E60DB5CC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4BBF0-185D-4B03-A1D5-06555D49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0FBA2-C85B-418F-849C-E3D0EA2B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500AB-D040-47CF-BE11-1BF69FE25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7C78F-5093-431B-9902-89A893DE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995A1-460F-4507-983B-C0D45CDD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9F4F3F-B4B8-4A5E-9379-5C8A4013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D92E6-1CC6-443E-AB21-824D47B1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839F3-691A-4A5E-8FD4-518CB563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672F9-796E-40D8-BE47-CC440AA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EF796-9FE0-48C9-81E2-F74C4C13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08E9-84AF-4322-9BBF-4885DC5C3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95A1F-076E-4CA0-B7C6-1C2800BC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C98D3-0CB9-44C6-BB97-7C2AA83D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8D00-361F-415C-B793-F2E23A58F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EB180-43D8-4588-B3CA-1E843971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C31AC-97CA-4FD9-A1AB-BCE7C0B7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767F4-FDDA-4B22-8640-114717E3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7CD433-C58C-4E57-90FC-D8791B4B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5FA1F-2076-4137-BD49-084281B0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9FE19-CE46-416A-94EF-61DCB8CB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EF3A1-454D-4EDB-8BD2-C26088F2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730A-60F9-437C-A91F-9C9F8912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C99F7-665C-473A-83F1-618404EE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8D9FC-93F2-4FDD-8C3A-ED4AFA68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1955-3E2B-4F01-8398-A404D7AE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E9ACA-EBEB-46E7-931E-DB3D5BF5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090CDF-45E5-4C62-8472-7E02ECDA7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DF8D-34FD-4A70-BF27-87ACA7AB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E002-81CA-4F6C-A45F-28FFF94C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0B53-07EC-4B62-B736-06DD1885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E7E1-6AEA-4462-896A-D784D81F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AEFD-6B13-4812-9BDF-CB67659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AC4E-4FC3-497B-8344-A22ED81F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71D6-0942-49BC-90AC-13B93E8F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EB9F-EE95-4999-920A-19D53FD5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7DF4-3762-4547-AACF-BD8B32BCD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4FF5-7FEF-4EA1-8878-F3F5BC62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FA08-B4B3-4BA6-8B3C-F844C00CC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1A40-157E-4623-9C31-FB5C552AE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0C1A5-FA61-4647-94DD-F5A824B2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60913-D9B7-470C-A588-7A47D76A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22B9A-A96B-46EA-881A-331F357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F6FD-FAE6-4E63-AB58-33366E5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5436-3F0B-464C-AF83-AA6EF68B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39C7-EF43-4CAE-9C16-449F570B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9B0EF-2947-4044-B157-D655095A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17DB3-EC19-4CC3-B8C7-8053D82D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4214D-5351-4C86-985A-28885893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FE39-98F6-4BFD-97A3-83F76DD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D9A8-43CE-4097-A4C2-C935047B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C428-E884-4AD3-B407-C41568D30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D96E-0044-47DA-A4A9-9A722D19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9A4A-B831-451C-AF8D-DA621A7F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8695-9294-44E9-856B-CDE009CD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321-7703-430D-B47F-30255E36C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3E43C-DC7E-4636-8B97-CDA7B92A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5DD3C-DEEC-4B0B-91EE-EAE04A8C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BB5BC-736F-47E7-926B-B5ED3063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D7B6F-3D2F-4368-9093-173B381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B497-9A8F-4217-84C1-BE73A11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F0473-89A0-4312-9FC2-5B172AD6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D0D2B-A012-4501-8F6F-6417BC92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5915C-1A87-48AD-B201-8EC79334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C882-A73F-40EE-AACB-3352EA08B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13791-0F75-4CFD-A1B2-9B57F703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C174-867E-41CB-919C-A6D612BB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22663-C913-4E94-BF8A-6F3554CD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98071-2AD0-428D-BFD7-793C7ED8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4A7AA-5555-4418-8C42-EF255B67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5E37-8102-4F81-BC38-8893DECE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7219D-7891-4EA2-81B4-73A7F1E3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E990-DF06-42E7-9143-708A5562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F8E16-0706-4051-A79A-E2FC7C63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547E-BC1A-4A95-87E2-D872E9AA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BDC96-FA31-4E34-AB0C-751F2E55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7DA82-14BE-4DA5-BC0F-554C8AA3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8DAA-4577-4142-871F-C4C3501F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2A8E0-6FF9-4230-951E-8885BC04E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37B7C-7CC5-442D-94BF-AEE0E9F5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78404-916B-43EC-AC11-6B703AE1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FA6C8-F5D3-4FEC-A848-BA045C89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11C73-F94E-4809-8BA1-4465A1F9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B2114-B46A-4996-B70F-E6E34356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3A58F-70C8-4E61-965A-278B9983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B5731-9D82-4A71-B041-45024C72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09110-4AB9-4ECE-A1E4-CBCDA58C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4399F-C2B2-463E-A090-27340DBE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481F-0B20-4B4B-9940-D7BC1933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3648-C7CF-4E7F-9AB8-EDD0F0C0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A453-6B26-4B1E-9530-DEF7FCF3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C70AD-34E4-46EA-9093-CE6517482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62397-6F21-437B-A3D3-75DEA609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231D7-F1D9-49F0-8F6A-BCE35F8E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60F46-46BA-412E-8302-A5A2FE9E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297DF-B077-4115-9078-BB9C1C7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00CF6D-9CE8-4059-BF6F-AA219CD9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D2E89-D818-4A8D-91BD-EBE2E02B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ACFF-CF54-40A3-AAA8-80C61CD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DFD-8293-4F97-B960-662E2928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45EDB-7043-4DF2-9449-09FB6DA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AC385C-5F8D-4114-BD89-9C94EBD9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9430C-0646-4809-B2A4-E4855439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962D9-332A-4D42-A12A-C40E3F92F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1AD37-236F-4101-867D-4CE86DBAD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FCBB3-8A28-45CC-86BF-AAC9D8A2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52F8C-5C34-4933-8BCF-525B0491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6D928-B4E7-4F26-BA52-6D1150D2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EAF84-058D-4EDD-9C82-EC17990C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E0FE9-AF02-4A91-8C4A-031EDCF4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2DCD-AA01-4A4F-8313-CF37D0DC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63419-ED87-42ED-AEAB-7C0D0518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964F2-5DEC-447C-B959-720A2E6D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60D64-1FEA-4FDD-B104-3EA08B55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96F7F-B0C8-4CC3-A89F-A688A4EC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4002E-6CF8-43C6-92FB-75FFE8B2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8404F-805B-4A2B-B1C5-BB723172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5D7233-4A91-442A-B062-ECEF636A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B9359-C2E3-40E5-8DF6-E2463CFF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0F6C6-9105-4979-8A6D-7A2F426C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FAA36-0825-4B7B-B0BD-833A5704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6694-B5D9-4278-ABC8-F4E315E8E4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981A-44B8-4626-B833-9B608D9B9F9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05E1-70F1-4A52-8F4A-315953D3FA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0E8C-FFA0-4FF4-A0BB-73746ABA0AE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CC497-3A75-4319-A806-CA6C5E4DC08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38A7-D945-4509-96D3-75CE396781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F848-6C5F-4B7A-8E9D-465672C47C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FEF3-BBAA-4DA3-B243-F3183DAA60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51D5-FE82-4864-A8BB-4F9AC0E9522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2B72-05E2-4EAA-9413-3C127CB907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1B6-FA44-42E7-B76F-EF54524185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39E-8B8B-4C8C-AB69-5F2825FDC5E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1" descr="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2"/>
          <p:cNvSpPr/>
          <p:nvPr/>
        </p:nvSpPr>
        <p:spPr>
          <a:xfrm>
            <a:off x="1224000" y="90792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草虫的村落</a:t>
            </a:r>
            <a:endParaRPr b="0" lang="en-US" sz="8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01" name="矩形 5"/>
          <p:cNvSpPr/>
          <p:nvPr/>
        </p:nvSpPr>
        <p:spPr>
          <a:xfrm>
            <a:off x="1753920" y="57182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HJ_DD_6{Z{F9CPJR`K%{AI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拓展配乐.MP3" descr=""/>
          <p:cNvPicPr/>
          <p:nvPr/>
        </p:nvPicPr>
        <p:blipFill>
          <a:blip r:embed="rId1"/>
          <a:stretch/>
        </p:blipFill>
        <p:spPr>
          <a:xfrm>
            <a:off x="7093080" y="148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6"/>
          <p:cNvSpPr/>
          <p:nvPr/>
        </p:nvSpPr>
        <p:spPr>
          <a:xfrm>
            <a:off x="1384200" y="855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0" y="0"/>
            <a:ext cx="185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0" y="6480"/>
            <a:ext cx="9144000" cy="46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体感知课文，想一想：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1.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草虫的村落在（                ），这个森林是在作者的（     ）中通过（    ）构成的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2.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作者是怎样想象的？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空间在我的眼前放大，细小的草茎变成了粗大的树木，柔软的草地变成了茂密的森林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3.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随着作者的目光，你在“草虫的村落”里看到了什么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16" name="TextBox 9"/>
          <p:cNvSpPr/>
          <p:nvPr/>
        </p:nvSpPr>
        <p:spPr>
          <a:xfrm>
            <a:off x="3635280" y="90792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森林边缘的小丘上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17" name="TextBox 11"/>
          <p:cNvSpPr/>
          <p:nvPr/>
        </p:nvSpPr>
        <p:spPr>
          <a:xfrm>
            <a:off x="4453560" y="1476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想象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18" name="TextBox 15"/>
          <p:cNvSpPr/>
          <p:nvPr/>
        </p:nvSpPr>
        <p:spPr>
          <a:xfrm>
            <a:off x="7596360" y="1476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放大</a:t>
            </a: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拓展配乐.MP3" descr=""/>
          <p:cNvPicPr/>
          <p:nvPr/>
        </p:nvPicPr>
        <p:blipFill>
          <a:blip r:embed="rId1"/>
          <a:stretch/>
        </p:blipFill>
        <p:spPr>
          <a:xfrm>
            <a:off x="7093080" y="148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0" y="3645000"/>
            <a:ext cx="91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这句话我知道作者这次游历的环境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).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的心情：（                   ），游历的线索：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1" name="矩形 4"/>
          <p:cNvSpPr/>
          <p:nvPr/>
        </p:nvSpPr>
        <p:spPr>
          <a:xfrm>
            <a:off x="0" y="62064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4.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作者是怎样发现这个“草虫的村落”的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2" name="TextBox 5"/>
          <p:cNvSpPr/>
          <p:nvPr/>
        </p:nvSpPr>
        <p:spPr>
          <a:xfrm>
            <a:off x="4303440" y="1332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是跟随着一只爬行的小虫发现了草虫的村落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3" name="TextBox 6"/>
          <p:cNvSpPr/>
          <p:nvPr/>
        </p:nvSpPr>
        <p:spPr>
          <a:xfrm>
            <a:off x="0" y="1916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，我又躺在田野里，在无限的静谧中，忘了世界，也忘了自己。我的目光跟踪着爬行的小虫，作了一次奇异的游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395280" y="422100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那静谧的田野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5" name="TextBox 8"/>
          <p:cNvSpPr/>
          <p:nvPr/>
        </p:nvSpPr>
        <p:spPr>
          <a:xfrm>
            <a:off x="324000" y="472428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忘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了世界，也忘了自己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26" name="TextBox 9"/>
          <p:cNvSpPr/>
          <p:nvPr/>
        </p:nvSpPr>
        <p:spPr>
          <a:xfrm>
            <a:off x="1270080" y="53006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光跟踪着爬行的小虫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拓展配乐.MP3" descr=""/>
          <p:cNvPicPr/>
          <p:nvPr/>
        </p:nvPicPr>
        <p:blipFill>
          <a:blip r:embed="rId1"/>
          <a:stretch/>
        </p:blipFill>
        <p:spPr>
          <a:xfrm>
            <a:off x="7093080" y="148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u=1504215450,4219452525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4435560" cy="27082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9"/>
          <p:cNvSpPr/>
          <p:nvPr/>
        </p:nvSpPr>
        <p:spPr>
          <a:xfrm>
            <a:off x="581760" y="0"/>
            <a:ext cx="7898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来的游侠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0" y="2924280"/>
            <a:ext cx="9144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0" y="270828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的目光跟踪的又是一只怎样的虫子呢？为什么把黑甲虫称作“游侠”，从中你感受到了什么？你从哪里可以看出甲虫是勇敢的？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2" name="TextBox 12"/>
          <p:cNvSpPr/>
          <p:nvPr/>
        </p:nvSpPr>
        <p:spPr>
          <a:xfrm>
            <a:off x="4572000" y="83664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习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</a:rPr>
              <a:t>2-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自然段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拓展配乐.MP3" descr=""/>
          <p:cNvPicPr/>
          <p:nvPr/>
        </p:nvPicPr>
        <p:blipFill>
          <a:blip r:embed="rId1"/>
          <a:stretch/>
        </p:blipFill>
        <p:spPr>
          <a:xfrm>
            <a:off x="7093080" y="148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8" descr="u=1504215450,4219452525&amp;fm=52&amp;gp=0"/>
          <p:cNvPicPr/>
          <p:nvPr/>
        </p:nvPicPr>
        <p:blipFill>
          <a:blip r:embed="rId2"/>
          <a:stretch/>
        </p:blipFill>
        <p:spPr>
          <a:xfrm>
            <a:off x="0" y="0"/>
            <a:ext cx="4435560" cy="27082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9"/>
          <p:cNvSpPr/>
          <p:nvPr/>
        </p:nvSpPr>
        <p:spPr>
          <a:xfrm>
            <a:off x="581760" y="0"/>
            <a:ext cx="78984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来的游侠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6" name="Text Box 10"/>
          <p:cNvSpPr/>
          <p:nvPr/>
        </p:nvSpPr>
        <p:spPr>
          <a:xfrm>
            <a:off x="0" y="2924280"/>
            <a:ext cx="914400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，它一定是游侠吧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虽然迷了路，但仍有着傲然的气势。它不断地左冲又撞，终于走出了一条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7" name="TextBox 8"/>
          <p:cNvSpPr/>
          <p:nvPr/>
        </p:nvSpPr>
        <p:spPr>
          <a:xfrm>
            <a:off x="0" y="270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只小虫，一只生着一副坚硬黑甲的小虫迷失在这座森林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7"/>
          <p:cNvSpPr/>
          <p:nvPr/>
        </p:nvSpPr>
        <p:spPr>
          <a:xfrm>
            <a:off x="0" y="2430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游四方的黑甲虫，回到家乡，同伴们是怎么招呼游侠的？你感受它们的快乐了吗？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只娇小的虫子从洞里跑了出来，迎接远归者。它们意味深长地对视良久，然后一齐欢跃地走回了洞穴里去了。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39" name="TextBox 5"/>
          <p:cNvSpPr/>
          <p:nvPr/>
        </p:nvSpPr>
        <p:spPr>
          <a:xfrm>
            <a:off x="0" y="-27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的目光跟着虫子的脚步，走着，走着，一路上遇到了不少虫子，它们互相打着招呼。”请想想它们在说些什么呢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拓展配乐.MP3" descr=""/>
          <p:cNvPicPr/>
          <p:nvPr/>
        </p:nvPicPr>
        <p:blipFill>
          <a:blip r:embed="rId1"/>
          <a:stretch/>
        </p:blipFill>
        <p:spPr>
          <a:xfrm>
            <a:off x="7093080" y="1484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7"/>
          <p:cNvSpPr/>
          <p:nvPr/>
        </p:nvSpPr>
        <p:spPr>
          <a:xfrm>
            <a:off x="3059280" y="2421000"/>
            <a:ext cx="6109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2" name="Text Box 8"/>
          <p:cNvSpPr/>
          <p:nvPr/>
        </p:nvSpPr>
        <p:spPr>
          <a:xfrm>
            <a:off x="-788760" y="1197000"/>
            <a:ext cx="16426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村民的和谐生活</a:t>
            </a:r>
            <a:endParaRPr b="0" lang="en-US" sz="4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611280" y="1052640"/>
            <a:ext cx="77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子的大街小巷上，除了行客黑甲虫以外，还有哪些村民？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1547640" y="2637000"/>
            <a:ext cx="7596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5" name="Text Box 8"/>
          <p:cNvSpPr/>
          <p:nvPr/>
        </p:nvSpPr>
        <p:spPr>
          <a:xfrm>
            <a:off x="611280" y="242100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除了黑甲虫之外，还有花色斑斓的小圆虫，庞大的蜥蜴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6" name="Text Box 9"/>
          <p:cNvSpPr/>
          <p:nvPr/>
        </p:nvSpPr>
        <p:spPr>
          <a:xfrm>
            <a:off x="781200" y="3573360"/>
            <a:ext cx="8362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楷体_GB2312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哪些语句可以看出“村民的和谐生活”呢？它们在这个小天地中，生活得怎样？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5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大街小巷里</a:t>
            </a:r>
            <a:r>
              <a:rPr b="1" lang="en-US" sz="40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花色斑斓的小圆虫</a:t>
            </a:r>
            <a:r>
              <a:rPr b="1" lang="en-US" sz="40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披五彩的衣裳，在这些粗壮的黑甲虫之间</a:t>
            </a:r>
            <a:r>
              <a:rPr b="1" lang="en-US" sz="40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好像南国的少女</a:t>
            </a:r>
            <a:r>
              <a:rPr b="1" lang="en-US" sz="40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逗得不少虫子驻足痴望。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0" y="25606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这句话可以看出作者把小圆虫比作了南国的少女，它们那漂亮的装饰，娇小的姿态，吸引了许多虫子驻足痴望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550" name="Picture 7" descr="http://mimg.17xing.com/M/2009/1017/14/M20091017144820000abz3376026.jpg"/>
          <p:cNvPicPr/>
          <p:nvPr/>
        </p:nvPicPr>
        <p:blipFill>
          <a:blip r:embed="rId3"/>
          <a:stretch/>
        </p:blipFill>
        <p:spPr>
          <a:xfrm>
            <a:off x="4284720" y="4365720"/>
            <a:ext cx="4859280" cy="2492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4" descr="4757579_14050730604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" descr="2531170_100812361730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4" descr="Z$T`IWF}Y6_[9`YY2BJBNW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4" descr="6989242_050542200127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4" descr="1258160106957_mthum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" descr="hnfg00026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5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　　庞大的蜥蜴面前，围拢了一群黑甲虫</a:t>
            </a: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纷纷投以好奇的眼光。交流着</a:t>
            </a: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好像攀谈得很投机似的。看</a:t>
            </a: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!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蜥蜴好像忘记了旅途的劳倦</a:t>
            </a: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它背着几个小黑甲虫</a:t>
            </a: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到处参观这房远亲的住宅。 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557" name="Picture 5" descr="http://t1.baidu.com/it/u=2022598675,763565576&amp;fm=52&amp;gp=0.jpg"/>
          <p:cNvPicPr/>
          <p:nvPr/>
        </p:nvPicPr>
        <p:blipFill>
          <a:blip r:embed="rId1"/>
          <a:stretch/>
        </p:blipFill>
        <p:spPr>
          <a:xfrm>
            <a:off x="5651640" y="4476600"/>
            <a:ext cx="3492360" cy="23814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5"/>
          <p:cNvSpPr/>
          <p:nvPr/>
        </p:nvSpPr>
        <p:spPr>
          <a:xfrm>
            <a:off x="9360" y="2565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攀谈得很投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体会到了小甲虫们不但同类之间相处得很好，和异类的关系也十分的融洽，它们在这个小天地中，生活得真是其乐融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59" name="TextBox 6"/>
          <p:cNvSpPr/>
          <p:nvPr/>
        </p:nvSpPr>
        <p:spPr>
          <a:xfrm>
            <a:off x="142920" y="5121360"/>
            <a:ext cx="55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究竟在交流着什么呢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的目光被一群音乐演奏者所吸引。它们有十几个吧，散聚在两棵大树下面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两簇野灌丛，紫红的小果实，已经让阳光烘得熟透了。</a:t>
            </a:r>
            <a:endParaRPr b="0" lang="en-US" sz="4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1" name="TextBox 3"/>
          <p:cNvSpPr/>
          <p:nvPr/>
        </p:nvSpPr>
        <p:spPr>
          <a:xfrm>
            <a:off x="0" y="299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虫们散聚在两簇野灌丛就是它们演奏的地方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音乐厅，这个音乐厅很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天然的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2" name="TextBox 4"/>
          <p:cNvSpPr/>
          <p:nvPr/>
        </p:nvSpPr>
        <p:spPr>
          <a:xfrm>
            <a:off x="2715120" y="4437000"/>
            <a:ext cx="42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音乐演唱会的场地   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4" descr="1"/>
          <p:cNvPicPr/>
          <p:nvPr/>
        </p:nvPicPr>
        <p:blipFill>
          <a:blip r:embed="rId1"/>
          <a:stretch/>
        </p:blipFill>
        <p:spPr>
          <a:xfrm>
            <a:off x="0" y="4340160"/>
            <a:ext cx="3184560" cy="251784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7"/>
          <p:cNvSpPr/>
          <p:nvPr/>
        </p:nvSpPr>
        <p:spPr>
          <a:xfrm>
            <a:off x="468360" y="549360"/>
            <a:ext cx="828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甲虫音乐家们全神贯注地振着翅膀</a:t>
            </a:r>
            <a:r>
              <a:rPr b="1" lang="en-US" sz="3200" spc="-1" strike="noStrike">
                <a:solidFill>
                  <a:srgbClr val="001e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优美的音韵，像灵泉一般流了出来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5" name="Line 11"/>
          <p:cNvSpPr/>
          <p:nvPr/>
        </p:nvSpPr>
        <p:spPr>
          <a:xfrm>
            <a:off x="6095880" y="2362320"/>
            <a:ext cx="609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6" name="Line 16"/>
          <p:cNvSpPr/>
          <p:nvPr/>
        </p:nvSpPr>
        <p:spPr>
          <a:xfrm flipH="1">
            <a:off x="6324480" y="2438280"/>
            <a:ext cx="1526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7" name="Line 18"/>
          <p:cNvSpPr/>
          <p:nvPr/>
        </p:nvSpPr>
        <p:spPr>
          <a:xfrm>
            <a:off x="6477120" y="2438280"/>
            <a:ext cx="761760" cy="243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8" name="Line 19"/>
          <p:cNvSpPr/>
          <p:nvPr/>
        </p:nvSpPr>
        <p:spPr>
          <a:xfrm flipH="1">
            <a:off x="3429000" y="2438280"/>
            <a:ext cx="2666880" cy="2210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69" name="Line 20"/>
          <p:cNvSpPr/>
          <p:nvPr/>
        </p:nvSpPr>
        <p:spPr>
          <a:xfrm>
            <a:off x="6172200" y="2438280"/>
            <a:ext cx="1219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0" name="TextBox 15"/>
          <p:cNvSpPr/>
          <p:nvPr/>
        </p:nvSpPr>
        <p:spPr>
          <a:xfrm>
            <a:off x="36360" y="193500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运用了（     ）修辞手法，作者把（                           ）比喻成（      ），在作者心中觉得（       ）仿佛是从山中流出来的美妙的（       ）既（     ）又（       ）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1" name="矩形 17"/>
          <p:cNvSpPr/>
          <p:nvPr/>
        </p:nvSpPr>
        <p:spPr>
          <a:xfrm>
            <a:off x="3578400" y="5961240"/>
            <a:ext cx="38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音乐演奏会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2" name="TextBox 19"/>
          <p:cNvSpPr/>
          <p:nvPr/>
        </p:nvSpPr>
        <p:spPr>
          <a:xfrm>
            <a:off x="3529080" y="2006640"/>
            <a:ext cx="11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03280" y="250992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甲虫音乐家演奏出的优美音韵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4" name="TextBox 24"/>
          <p:cNvSpPr/>
          <p:nvPr/>
        </p:nvSpPr>
        <p:spPr>
          <a:xfrm>
            <a:off x="576360" y="301464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灵泉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5" name="TextBox 26"/>
          <p:cNvSpPr/>
          <p:nvPr/>
        </p:nvSpPr>
        <p:spPr>
          <a:xfrm>
            <a:off x="5832360" y="294336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声音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6" name="TextBox 29"/>
          <p:cNvSpPr/>
          <p:nvPr/>
        </p:nvSpPr>
        <p:spPr>
          <a:xfrm>
            <a:off x="4813200" y="3446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泉水声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7" name="TextBox 30"/>
          <p:cNvSpPr/>
          <p:nvPr/>
        </p:nvSpPr>
        <p:spPr>
          <a:xfrm>
            <a:off x="7385400" y="3517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动听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78" name="TextBox 31"/>
          <p:cNvSpPr/>
          <p:nvPr/>
        </p:nvSpPr>
        <p:spPr>
          <a:xfrm>
            <a:off x="846000" y="3948120"/>
            <a:ext cx="149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韵味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579" name="into red velvet b...mp3" descr=""/>
          <p:cNvPicPr/>
          <p:nvPr/>
        </p:nvPicPr>
        <p:blipFill>
          <a:blip r:embed="rId2"/>
          <a:stretch/>
        </p:blipFill>
        <p:spPr>
          <a:xfrm>
            <a:off x="5724360" y="1268280"/>
            <a:ext cx="304920" cy="368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63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122258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矩形 2"/>
          <p:cNvSpPr/>
          <p:nvPr/>
        </p:nvSpPr>
        <p:spPr>
          <a:xfrm>
            <a:off x="0" y="191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时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觉得它们的音乐优于人间的一切音乐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是只有虫子们才能演奏出来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!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中我体会到了作者热爱田野，热爱大自然的情感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怎么评价甲虫们所演奏的音乐的呢？你还听到过哪些大自然的“音乐家”演奏出来的“音乐”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2" name="TextBox 4"/>
          <p:cNvSpPr/>
          <p:nvPr/>
        </p:nvSpPr>
        <p:spPr>
          <a:xfrm>
            <a:off x="0" y="3645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还听到了这些音乐家在演奏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潺潺的流水像一条绸带，缓缓地流着。知了在树上“知了，知了”的叫着，好像在说：“春天来了，春天来了！一阵微风吹过，树叶“沙沙”作响。那树叶便飘落下来，就像一片片金黄的蝴蝶，在空中翩翩起舞，有时又像舞蹈家在轻盈地旋转，动作优美极了！ 　 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3"/>
          <p:cNvSpPr/>
          <p:nvPr/>
        </p:nvSpPr>
        <p:spPr>
          <a:xfrm>
            <a:off x="0" y="189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1.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虫子们是怎么劳动生活的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在它们归来了，每一个都用前肢推着大过身体两三倍的食物，行色匆匆地赶着路。是什么力量是它们这么勤勉地奔忙呢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e00"/>
                </a:solidFill>
                <a:latin typeface="楷体_GB2312"/>
              </a:rPr>
              <a:t>2.</a:t>
            </a: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是什么力量是甲虫们这么勤勉地奔忙，你读懂了吗？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0" y="4221000"/>
            <a:ext cx="91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生活的快乐以及对家庭的责任，促使甲虫们勤劳地工作着，在劳动的同时，它们也快乐着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3"/>
          <p:cNvSpPr/>
          <p:nvPr/>
        </p:nvSpPr>
        <p:spPr>
          <a:xfrm>
            <a:off x="0" y="549360"/>
            <a:ext cx="91440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在小虫子的脑海中，究竟蕴藏着多少智慧</a:t>
            </a:r>
            <a:r>
              <a:rPr b="1" lang="en-US" sz="4000" spc="-1" strike="noStrike">
                <a:solidFill>
                  <a:srgbClr val="001e00"/>
                </a:solidFill>
                <a:latin typeface="楷体_GB2312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看见测气候者忙于观察气象，工程师忙于建筑设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种不同的工作，都有专门的虫子担任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179280" y="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0" y="6397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1e00"/>
                </a:solidFill>
                <a:latin typeface="楷体_GB2312"/>
                <a:ea typeface="楷体_GB2312"/>
              </a:rPr>
              <a:t>我悠悠忽忽地漫游了一个下午，直至夕阳亲吻着西山的时候，红鸠鸟才把我的心灵唤回来。我多么得意啊！我发现了草丛中小虫子的快乐天地。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8" name="TextBox 6"/>
          <p:cNvSpPr/>
          <p:nvPr/>
        </p:nvSpPr>
        <p:spPr>
          <a:xfrm>
            <a:off x="2627280" y="566100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的感受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89" name="TextBox 7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表达了作者对（           ）之情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0" name="TextBox 10"/>
          <p:cNvSpPr/>
          <p:nvPr/>
        </p:nvSpPr>
        <p:spPr>
          <a:xfrm>
            <a:off x="4599000" y="37893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虫的依恋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NX`3$VY[782Z3ZBB~MRI%5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0" y="839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，一只小黑甲虫的翅膀上，也闪耀着生命的光彩。   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2" name="TextBox 4"/>
          <p:cNvSpPr/>
          <p:nvPr/>
        </p:nvSpPr>
        <p:spPr>
          <a:xfrm>
            <a:off x="0" y="2637000"/>
            <a:ext cx="898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尽管是只非常小的黑甲虫，它也具有生命的活动力，作者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    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作方法，告诉我们要（     ）生命，（    ）生命，升华主题。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3" name="TextBox 5"/>
          <p:cNvSpPr/>
          <p:nvPr/>
        </p:nvSpPr>
        <p:spPr>
          <a:xfrm>
            <a:off x="2843280" y="3141720"/>
            <a:ext cx="18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小见大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4" name="TextBox 6"/>
          <p:cNvSpPr/>
          <p:nvPr/>
        </p:nvSpPr>
        <p:spPr>
          <a:xfrm>
            <a:off x="107064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珍惜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5" name="TextBox 7"/>
          <p:cNvSpPr/>
          <p:nvPr/>
        </p:nvSpPr>
        <p:spPr>
          <a:xfrm>
            <a:off x="4024080" y="3645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关爱</a:t>
            </a:r>
            <a:endParaRPr b="0" lang="en-US" sz="3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Box 2"/>
          <p:cNvSpPr/>
          <p:nvPr/>
        </p:nvSpPr>
        <p:spPr>
          <a:xfrm>
            <a:off x="654120" y="1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归纳总结：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7" name="TextBox 3"/>
          <p:cNvSpPr/>
          <p:nvPr/>
        </p:nvSpPr>
        <p:spPr>
          <a:xfrm>
            <a:off x="0" y="1341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作者以（    ）的想象，生动地描绘了游历（         ）的过程，将一个（    ）的世界生动地展现在读者面前，表达了作者对（     ），对（      ）的喜爱之情。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8" name="TextBox 4"/>
          <p:cNvSpPr/>
          <p:nvPr/>
        </p:nvSpPr>
        <p:spPr>
          <a:xfrm>
            <a:off x="3899160" y="1413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异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599" name="TextBox 5"/>
          <p:cNvSpPr/>
          <p:nvPr/>
        </p:nvSpPr>
        <p:spPr>
          <a:xfrm>
            <a:off x="3462480" y="19890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虫的村落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0" name="TextBox 7"/>
          <p:cNvSpPr/>
          <p:nvPr/>
        </p:nvSpPr>
        <p:spPr>
          <a:xfrm>
            <a:off x="118368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虫</a:t>
            </a:r>
            <a:endParaRPr b="0" lang="en-US" sz="40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1" name="TextBox 8"/>
          <p:cNvSpPr/>
          <p:nvPr/>
        </p:nvSpPr>
        <p:spPr>
          <a:xfrm>
            <a:off x="4785480" y="321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自然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2" name="TextBox 9"/>
          <p:cNvSpPr/>
          <p:nvPr/>
        </p:nvSpPr>
        <p:spPr>
          <a:xfrm>
            <a:off x="825120" y="3789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生灵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Box 4"/>
          <p:cNvSpPr/>
          <p:nvPr/>
        </p:nvSpPr>
        <p:spPr>
          <a:xfrm>
            <a:off x="0" y="619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请闭上眼，认真听，仔细想。迎着微风，伴着花香，我们一起伫立在大自然中。放眼望去，绿油油的禾田和点缀着淡紫色小花的田野一直延伸到山脚下。周围静得出奇，以至于天空中的鸟叫声，树叶的落水声和草丛中此起彼伏的虫鸣声都听得一清二楚。在一处绿阴下，我们躺了下来，翻转下身子，发觉身体在逐渐地缩小，缩小，缩小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，空间在我们眼前扩大了，细密的草茎组成了茂盛的森林。你又看到了什么，请把你所看到的写下来吧！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4" name="TextBox 5"/>
          <p:cNvSpPr/>
          <p:nvPr/>
        </p:nvSpPr>
        <p:spPr>
          <a:xfrm>
            <a:off x="12600" y="115920"/>
            <a:ext cx="31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拓展练习：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605" name="鸟叫.wma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227506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3059280" y="3645000"/>
            <a:ext cx="28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人与自然</a:t>
            </a:r>
            <a:endParaRPr b="0" lang="en-US" sz="48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900000" y="89856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珍惜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8" name="Text Box 7"/>
          <p:cNvSpPr/>
          <p:nvPr/>
        </p:nvSpPr>
        <p:spPr>
          <a:xfrm>
            <a:off x="378144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生命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6661080" y="90792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尊重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0" name="Text Box 9"/>
          <p:cNvSpPr/>
          <p:nvPr/>
        </p:nvSpPr>
        <p:spPr>
          <a:xfrm>
            <a:off x="234000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平等　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1" name="Text Box 10"/>
          <p:cNvSpPr/>
          <p:nvPr/>
        </p:nvSpPr>
        <p:spPr>
          <a:xfrm>
            <a:off x="5221440" y="23558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e00"/>
                </a:solidFill>
                <a:latin typeface="Arial"/>
                <a:ea typeface="楷体_GB2312"/>
              </a:rPr>
              <a:t>和谐</a:t>
            </a:r>
            <a:endParaRPr b="0" lang="en-US" sz="36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2" name="文本框 1"/>
          <p:cNvSpPr/>
          <p:nvPr/>
        </p:nvSpPr>
        <p:spPr>
          <a:xfrm>
            <a:off x="338040" y="5756400"/>
            <a:ext cx="9350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更多免费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PT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模板尽在：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ttp://www.eeppt.com</a:t>
            </a: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http_imgloadCAYKHU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5"/>
          <p:cNvSpPr/>
          <p:nvPr/>
        </p:nvSpPr>
        <p:spPr>
          <a:xfrm>
            <a:off x="971640" y="148428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们，现在让我们一起来检测下你学得怎么样吧！ </a:t>
            </a:r>
            <a:endParaRPr b="0" lang="en-US" sz="44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楷体_GB2312"/>
            </a:endParaRPr>
          </a:p>
        </p:txBody>
      </p:sp>
      <p:sp>
        <p:nvSpPr>
          <p:cNvPr id="61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43A1-579C-4626-BF2B-BEA3FEE280C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楷体_GB2312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0{R5GN26EP)`~_1CQ}T6`DX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4" descr="E3QXBMIB}V7_)%[R[DINR@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4" descr="(6B]PB5Z%X{[W~HU1S}~X~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XH9}EHY}2EAE~S[UH[M@ZM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5T5LL)IM_KAPBM%YQBURWI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3"/>
          <p:cNvSpPr/>
          <p:nvPr/>
        </p:nvSpPr>
        <p:spPr>
          <a:xfrm>
            <a:off x="1835280" y="27813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楷体_GB2312"/>
            </a:endParaRPr>
          </a:p>
        </p:txBody>
      </p:sp>
      <p:pic>
        <p:nvPicPr>
          <p:cNvPr id="510" name="Picture 4" descr="(PUL[L]F)L8N1V2F0BMGXF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2:02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8:25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