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0A4A-7975-4B1D-8251-51C92EC99B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2C78-6CDE-413C-A95E-ECE3B77235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E5D-EC30-4C16-B225-D3BD7DDC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505-4593-4738-BC48-80031E38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31BC7-0BF9-415A-B080-A7435BED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255DC-3C08-481D-9EA7-DABDA94D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A747A-30DA-4195-802D-4D40FBD0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4DEBE-DFA1-47E7-A8FE-AAB94D37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92692-92AE-4440-B228-8564A054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970CA-2855-4AFD-A1BC-C496220D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07B08-2711-4CFB-833C-BDAC1AD9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A81FD-9B56-411B-A55B-862BE08B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F5310-BFDE-42EA-9839-4386BD92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2B7BC-B490-485D-ACB9-6C660DD7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5CE-5D2A-4694-AFF0-EA66B4AB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817F6-1B26-4C03-8309-6D578CA5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1BC21-7CCE-49E1-B759-B2D01197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79EA1-3F11-4B81-A4FC-A89FD333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653F2-3409-45C0-B98E-983EDB19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A1796-2122-435C-AB4D-97B048B4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0D52F-03DC-4491-9FC4-35D93EC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9607C-C8FD-4B96-8AAB-3FA49E50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C1826-074B-4089-9359-97A85FE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08F16-9AA0-4FFD-842E-93B6C37E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A97EE-4BD1-4DE8-90BB-527A2B13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404-CA91-41C1-AB0B-7F0DA5B8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F196F-9029-4D39-9997-C27E2EA1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FBCAF-46E0-436A-9C35-22C0F608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371D2-40B3-4B30-B542-657B7B60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9A91C-9698-4F29-9140-32FEEB99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2C73B-FD87-40B5-A1F9-0FE26C44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BB66C-EA8F-4230-A87C-29FBF6F1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27565-39A5-4600-BCDE-A4BE83F5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CE375-1050-45C4-B853-AFF82CA1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C9F25-8643-422A-8983-5A761B9C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E6D66-BB3A-414F-A0B4-2317C5B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E8C6-554D-42C7-88E3-77C84D3A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3BC1F-1302-4C67-A3AA-75E8253A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BCD21-1C8E-4CC3-9C0B-459C32C1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26797-7A4F-4ED8-B0EF-95C4FF36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07298-0509-4166-B4CC-60D3287E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8BE59-5574-40AF-9851-1B40C289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26E15-5BFE-478E-B6C9-70CD5FF8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3A1EA-D25A-4277-9BB8-E2241236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2110F-7608-4508-8F6F-765A6241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72B8D-D05F-4556-A503-56A9AC34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C3146-2AF0-4012-BE47-AAE3FCF5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8F87-B7A8-4E0E-A676-62C77528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69003-BAC6-4DF8-88CC-B8E35185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E23BE-3D7F-47E0-BCB2-CB0ED101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75221-40C7-4AB1-9381-9FA05773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1C8E6-C253-4E09-AAC2-1F35D3D4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B6B57-7EB3-491F-99C9-FA8C7B01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7E65B-FA68-4BE2-8EC2-4EECFC4D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09962-FBD0-48CD-86E9-D5D4848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D4B34-ABE5-4236-B477-3FDC443C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5E1C5-9647-4642-97CC-267044AA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3D309-C0E0-41FC-A293-10FB41F3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7AAD-1E7D-45CB-ACA8-0AB764B2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B34D7-C24B-48D1-9FCF-889E3CE6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D6829-4B2D-40AD-BAB3-A785ECC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EEB68-E1B8-4564-9627-392D15D7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0B372-21E5-4953-B1B0-2EB8F8C2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7A363-704B-44B9-9A6E-8E185BBB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82C76-AA8B-4AE8-87A4-6601BB5F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697EF-A5A5-4279-A836-F50B4C46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185E2-22AE-4761-A22D-EA9B7B66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36B18-9040-46CB-A348-18460612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67EAA-8AF7-4834-BA1A-6A6E2C88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8784-C64D-4DC3-9A94-D5C52195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37968-80AE-4C64-917B-709CD0B9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2B57B-8EB5-49BA-82E4-806BFAD6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F9AFC-9521-4B0A-B8C4-C602CEF0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A87DEC-78F3-4052-B024-A4E195D2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BF114-AE46-4447-9FE8-A17E5C56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97766-7B23-4F9C-8F38-E33F2B04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D1371-6847-4F8B-9428-60734336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A5D0F-3FA1-4A9B-B10D-E38D804D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77AB0-7E79-48C8-89DF-6E85A00B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0C57-9AB4-4C12-A96D-5B7EE6C4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A370-EE3A-4DDF-AD39-A556E42C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1C45-D086-40F0-95D9-D82F0CF5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D3E-5118-4073-A54C-29848E71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2A49-5D25-4A38-BC1C-C5A25E75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4ABD-E8AD-45D3-B63B-EE798B1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854F-CDE7-4663-90C8-E5DDD1EC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E435-C547-4D91-A1ED-EEAE405A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50A8-98DA-497C-B42C-CEFFA631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51BDB-B304-414D-ACD7-8A6C808D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398B-10B4-4606-BD54-D38A1793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8DD02-8C04-4222-8259-FB56EAE5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E9AF-056A-4DC8-885D-02FD4EC0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7350-9FBD-4EA8-ABCA-A17F46A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1CA-BFFB-4ED2-9E31-5AB240E2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53A6-E58F-468D-94A7-9FE47E3D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651D-FC6B-4D6F-BB1E-E79A8A7C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5563-9C11-45FF-8566-545DEAAB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ECBA-C6FD-4C8B-A58B-085DC56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3579-6A47-499F-B2AF-69673384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8E6D-9A9D-4C3B-AAA1-59ACD064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1F18-8792-4051-982A-05105A81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807E-70A5-4FD5-8B0D-9C0833DE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30F1-2A7D-403B-A5B8-18C435C8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86A6B-13E5-437F-B504-E47F9821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A25-B9DA-4520-8193-6B12DED3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0DF7B-1DBE-4460-8DC4-F0AFDF61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D642-484A-4B37-BE44-ED626A14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B2E1-322B-4655-83A4-4E013EF6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EB8C-7665-4645-A568-F3BBF201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31B2-25AF-4B64-9909-5A47CB10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76896-308A-4104-8B41-A19C7289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8174-9DEA-4368-AFA6-CF955E12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D9D4-DBDD-4E70-AF67-C2850B93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6634-4CD3-4F46-8B2F-4E6FDC5B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6C0A-BE33-43C3-8232-D213177E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51B-60B7-4E6D-A74D-E61A64CC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A201D-E48E-4B2F-A944-6FC3C5BD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D431F-8444-4097-8C6C-E9A34DD0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E6CF0-10BD-40E4-BFE9-9CFBE664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70F8-7537-4B21-8968-CC585CF8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E2A7-E410-4F30-BBFE-5898AE7C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10531-F1B6-46E6-BE82-9400CD3E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3625C-67E4-4F15-86BC-1253842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68377-AFA4-4D4E-B8CF-8F68E003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A553-2FDE-423B-82E9-94147EE8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12A74-37B0-43AB-AEE4-3D096E16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072-459C-401C-9CB5-B0A84087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76698-28C8-4340-AF50-7ABDB334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F44DA-905A-4DCA-84D0-E46F19EB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C4B1C-B6CA-435C-8603-8D538A2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B7EC8-009B-4DFE-937C-85DE58C4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56D13-D6EE-4FB1-9F85-D3D5F65E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6D8D5-5EBC-48D2-8BE0-62088A8E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A6CC-A01D-495A-9F8E-7233C44C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8022-AD76-4968-B631-37780EC7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B426-890A-4C9C-845C-65743BCA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221F2-EE01-417D-9DC0-75BC513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1E1-F9D6-4124-A67D-1490BD53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0CE79-DE0C-4292-8503-5134F6F2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D6A6-6624-4E08-B38D-3C456399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9AEE-785C-4D8B-9D7A-DFA29186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CD4C2-D1CE-479D-8231-32589E5E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5CA93-33DB-4B4B-9E02-432A49A8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91F86-A58D-4D08-83FE-125D3A46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DD57B-34B6-40CE-AFCD-98714777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386D0-70D1-4328-A6DE-DAD07146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D894D-0865-4414-8F80-ED352A1E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4823B-F4EA-462D-AFEE-D7119A7D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E71-D00D-46D3-AF55-2A543989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10CE0-A577-49E7-840E-2A154EED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3F02E-BCD0-4516-9AB0-D851D803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D44C4-6A46-4B00-A1A8-19F2D7F3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AB244-AA47-42CC-AFD7-568E1FB2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C316A-D9FB-4D12-9096-9D53F552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62001-1D67-41C7-BE5F-E2DB70FE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6CB43-787A-4D93-B3FE-6671382E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6F2F8-5ED5-43E2-93FA-659B18FE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3D6C3-2580-48F1-AF02-3BA6026D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C28AF-1492-443B-AD77-4E864271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042-772C-482C-92A8-34342A7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A135D-9CDB-4B42-B8BD-4A8B37EF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B60F0-E10E-4442-90C8-5D51F7CC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A9BF4-BDF4-414F-B9FC-873184F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1472C-D32F-4C02-854B-8BAB2AA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241FD-D2D3-4FAB-8DDE-758FBC46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78D88-E714-42C3-99EC-2FBFEFC2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53904-7539-419C-8938-71B5998D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3F786-BE64-4C08-B59E-24D450B8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035CB-2337-49E3-81C4-A451C13D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D4231-E689-4929-8728-EBCB949F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A27E-CFC1-4A66-AC1E-2AA275A9B3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7330-3F4D-4DB1-8565-3079098A5C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F663-0970-466D-85EE-EB5EABA472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8981-3EE2-4455-8A6A-B497F3F575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0B5-6458-4060-B1B9-21667999DE3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0110-C9F4-47EB-9482-0BDC058133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C2E4-AEDD-45C1-847A-7A30D92A38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9C67-CF11-4312-B977-FEBE8A97D0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03DD-5BB5-4AD8-B61B-4281C0FF9D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B900-AC74-40AC-9732-FB1BACD1BE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550C-DD09-41E5-A9AB-4194CCFF3DB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8F47-CD58-463D-B15D-B7BBACDC59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374B-96CB-4B33-B701-24EBD6F9455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3D24-4E55-4F1E-ACAA-91BABBEF0C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39FB-E3CC-4BF7-B8E2-4FD8AEF697C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35A8-B7EE-4565-AD2D-F47255D00B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845E-853C-4E0F-80E3-CCBCB62FB94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3E1F-BB4E-428C-B3A7-BFE3D215A7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C0DE-CB2A-4168-8556-B34DEF9EB44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651B-D5BC-48B0-B119-3162329819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79A6-012B-419F-8951-B6AB82A7155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26A5-78B2-4007-A531-EEC3B68858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1A06-8661-45C2-B3E8-A32D0A5059A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710D-B4F8-4E44-94E3-29C69709C8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2982-322C-4F42-A6C6-BA14542E38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6B08-47C3-4061-BCCC-CBC5948AF9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D64D-CD0A-4008-A0F9-E8A696D5C2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1643-EBE3-4793-9947-059AE0C250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1395360" y="2205000"/>
            <a:ext cx="648036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成长靠你们自己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82" name="矩形 2"/>
          <p:cNvSpPr/>
          <p:nvPr/>
        </p:nvSpPr>
        <p:spPr>
          <a:xfrm>
            <a:off x="2346480" y="4886280"/>
            <a:ext cx="49460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第一</a:t>
            </a:r>
            <a:r>
              <a:rPr b="1" lang="en-US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r>
              <a:rPr b="1" lang="zh-CN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模板网</a:t>
            </a:r>
            <a:r>
              <a:rPr b="1" lang="en-US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-WWW.1PPT.C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7841-5D24-4D67-BE98-173C48E6C4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6840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善于学习，劳逸结合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763280" y="2276640"/>
            <a:ext cx="6211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楷体"/>
              </a:rPr>
              <a:t>你平时是怎样学习的？给大家讲讲你的学习方法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楷体"/>
              </a:rPr>
              <a:t>你怎样理解学习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B72D-1944-4AAE-9369-72BF8BA3CF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.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要欺凌弱小，强中自有强中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92000" y="2420640"/>
            <a:ext cx="64148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楷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楷体"/>
              </a:rPr>
              <a:t>真正的强者从来不用拳头说话，也无需用欺负弱小来显示自己的强大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5C32-D39A-47B0-AE3E-4A88DB6869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00000" y="90936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.</a:t>
            </a:r>
            <a:r>
              <a:rPr b="0" lang="zh-CN" sz="5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要迷信教科书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402920" y="2565000"/>
            <a:ext cx="677556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尽信书，则不如无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---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孟子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尽心下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1AEC-D476-4ED8-B1DD-9E3359C812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99640" y="909360"/>
            <a:ext cx="3241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Calibri"/>
                <a:ea typeface="华文新魏"/>
              </a:rPr>
              <a:t>小组讨论：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692360" y="2205000"/>
            <a:ext cx="5904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觉得校长是一个怎样的人？你喜欢这个校长吗？结合文中的语句说一说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8654-2625-4B5B-867A-A41DFA1A2C9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2306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  <a:ea typeface="华文新魏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618920" y="2421000"/>
            <a:ext cx="6211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长的这几条观点和“成长”之间有什么必然的联系呢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6"/>
          <p:cNvSpPr/>
          <p:nvPr/>
        </p:nvSpPr>
        <p:spPr>
          <a:xfrm>
            <a:off x="2771640" y="26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0683-D8B0-4A64-A861-A1ACF24F0C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1260360" y="1341360"/>
            <a:ext cx="69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我的班上有个男孩，他的父亲是开鱼店的。可怜的小家伙叫伯劳厄，他的身上总散发着鱼腥味，每当他向屋角走去时，我们其他人马上会感到一阵恶心。鱼腥味已粘到他的头发和衣服上，涮洗也无济于事，大家都躲开他。这并不是他本人有什么过错，但他被嘲笑，被孤立，独自坐在一角，好像得了鼠疫似的。他羞得无地自容，但这有什么用呢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后的今天，每当我听到伯劳厄的名字时，我还觉得不大舒服。可见，要体谅人有时是一件很难的事，并不是总能做到的，但必须不断这样做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3635280" y="558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楷体_GB2312"/>
              </a:rPr>
              <a:t>——</a:t>
            </a:r>
            <a:r>
              <a:rPr b="1" lang="en-US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[</a:t>
            </a: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德</a:t>
            </a:r>
            <a:r>
              <a:rPr b="1" lang="en-US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]</a:t>
            </a: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凯斯特纳</a:t>
            </a:r>
            <a:r>
              <a:rPr b="1" lang="en-US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开学致辞</a:t>
            </a:r>
            <a:r>
              <a:rPr b="1" lang="en-US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》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9BD1-9A50-428E-9C56-5EEAE99DA14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" descr="5d761b45-a1b8-46f5-b4f3-d8430e24f759"/>
          <p:cNvPicPr/>
          <p:nvPr/>
        </p:nvPicPr>
        <p:blipFill>
          <a:blip r:embed="rId1"/>
          <a:stretch/>
        </p:blipFill>
        <p:spPr>
          <a:xfrm>
            <a:off x="0" y="-25560"/>
            <a:ext cx="5256360" cy="68835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small_201005211149207983"/>
          <p:cNvPicPr/>
          <p:nvPr/>
        </p:nvPicPr>
        <p:blipFill>
          <a:blip r:embed="rId2"/>
          <a:stretch/>
        </p:blipFill>
        <p:spPr>
          <a:xfrm>
            <a:off x="4284720" y="-25560"/>
            <a:ext cx="4932360" cy="6883560"/>
          </a:xfrm>
          <a:prstGeom prst="rect">
            <a:avLst/>
          </a:prstGeom>
          <a:ln w="0">
            <a:noFill/>
          </a:ln>
        </p:spPr>
      </p:pic>
      <p:sp>
        <p:nvSpPr>
          <p:cNvPr id="626" name="WordArt 4"/>
          <p:cNvSpPr txBox="1"/>
          <p:nvPr/>
        </p:nvSpPr>
        <p:spPr>
          <a:xfrm rot="5400000">
            <a:off x="-1494000" y="3087720"/>
            <a:ext cx="4267080" cy="63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凯斯特纳的作品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push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AD5F-3B65-4BFE-AA0D-5DD3DFD303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" descr="20609416_256243"/>
          <p:cNvPicPr/>
          <p:nvPr/>
        </p:nvPicPr>
        <p:blipFill>
          <a:blip r:embed="rId1"/>
          <a:stretch/>
        </p:blipFill>
        <p:spPr>
          <a:xfrm>
            <a:off x="-98280" y="3240"/>
            <a:ext cx="5101920" cy="68562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20609416_256244"/>
          <p:cNvPicPr/>
          <p:nvPr/>
        </p:nvPicPr>
        <p:blipFill>
          <a:blip r:embed="rId2"/>
          <a:stretch/>
        </p:blipFill>
        <p:spPr>
          <a:xfrm>
            <a:off x="4788000" y="1440"/>
            <a:ext cx="4390920" cy="6812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4809-BC13-4F20-B20B-5E9C7E1DFE5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%BF%AD~1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120_156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57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20165341-1_l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32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763560" y="612720"/>
            <a:ext cx="244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BD0D-64B5-4E57-97F7-4EF9A5ADBE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2" descr="28_1298135157"/>
          <p:cNvPicPr/>
          <p:nvPr/>
        </p:nvPicPr>
        <p:blipFill>
          <a:blip r:embed="rId1"/>
          <a:stretch/>
        </p:blipFill>
        <p:spPr>
          <a:xfrm>
            <a:off x="-392040" y="44280"/>
            <a:ext cx="5106960" cy="68137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" descr="isbn9787533256340"/>
          <p:cNvPicPr/>
          <p:nvPr/>
        </p:nvPicPr>
        <p:blipFill>
          <a:blip r:embed="rId2"/>
          <a:stretch/>
        </p:blipFill>
        <p:spPr>
          <a:xfrm>
            <a:off x="4572000" y="44280"/>
            <a:ext cx="4606920" cy="67676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7510-AE38-4154-B6CF-9E8A2C4EEBA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1151939064090_s0151557458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82D9-6B60-4708-A0B9-390C8AF3AB4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99640" y="909360"/>
            <a:ext cx="3621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  <a:ea typeface="华文新魏"/>
              </a:rPr>
              <a:t>练一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619280" y="2133720"/>
            <a:ext cx="662472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下面划线的字加上正确的读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朦胧）   内（疚）   累（垮）  飘（曳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对文中的哪个观点印象最为深刻，为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写出一句关于成长的座右铭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F621-8252-4B9A-8D88-A2E2349B91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0DD4-3C53-43EF-8520-B4F1123370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1344600" y="2065320"/>
            <a:ext cx="6913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1.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有感情的朗读课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2.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通过小组合作学习等方法了解作者提出的观点，学会表达自己的看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3.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从作者的演讲中感受作者的性格特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理解“成长靠自己”的含义，培养独立自主的意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1344600" y="1052640"/>
            <a:ext cx="28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309C-B2CA-4C06-8A24-4A55FE9114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260360" y="1773360"/>
            <a:ext cx="68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同学们，不知不觉六年的小学生活就这样过去了，当初的稚嫩儿童如今已成为翩翩少年，并且即将走进中学校园。或许大家早已觉得自己长大了，那么就让我们一起来谈谈什么是成长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8BDA-1385-4E99-A819-CFA203E8F6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1115640" y="234936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华文楷体"/>
              </a:rPr>
              <a:t>请大家快速默读，理清文章的表达顺序，并简要概括文中校长提出的观点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14F-CB66-4892-97AD-D3B858D847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9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  <a:ea typeface="华文新魏"/>
              </a:rPr>
              <a:t>文中校长共提出五条观点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4152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师并非知晓一切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药学会体谅、关照别人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善于学习，劳逸结合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要欺凌弱小，强中自有强中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要迷信教科书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5C78-0648-440C-AD1A-FD7EEB1C194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909360"/>
            <a:ext cx="34560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  <a:ea typeface="华文楷体"/>
              </a:rPr>
              <a:t>小组讨论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07640" y="2349360"/>
            <a:ext cx="60613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针对他提出的观点，你是怎么认识的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BE78-59F3-4774-ADC3-233621A552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8360" y="980640"/>
            <a:ext cx="6481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师并非知晓一切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835280" y="1917720"/>
            <a:ext cx="641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楷体"/>
              </a:rPr>
              <a:t>敢于质疑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楷体"/>
              </a:rPr>
              <a:t>崇拜但不盲从老师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楷体"/>
              </a:rPr>
              <a:t>老师不会变魔术，而只能培育、教导、引领你进入人生的航迹和知识的海洋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楷体"/>
              </a:rPr>
              <a:t>你到底能学到多少航行多远，只能靠你自己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5154-01B7-43BD-9265-62153D8226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8720" y="981000"/>
            <a:ext cx="619128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学会体谅、关照别人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619280" y="2491920"/>
            <a:ext cx="639432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楷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楷体"/>
              </a:rPr>
              <a:t>你曾经历过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伯劳厄的故事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楷体"/>
              </a:rPr>
              <a:t>吗？你对此有什么看法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楷体"/>
              </a:rPr>
              <a:t>          </a:t>
            </a:r>
            <a:r>
              <a:rPr b="0" lang="zh-CN" sz="3600" spc="-1" strike="noStrike">
                <a:solidFill>
                  <a:srgbClr val="ff3399"/>
                </a:solidFill>
                <a:latin typeface="Calibri"/>
                <a:ea typeface="华文楷体"/>
              </a:rPr>
              <a:t>只有在付出爱的过程中，我们的心灵才能健康的成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5:23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6:30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