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19.png" ContentType="image/png"/>
  <Override PartName="/ppt/media/image27.png" ContentType="image/png"/>
  <Override PartName="/ppt/media/image13.jpeg" ContentType="image/jpeg"/>
  <Override PartName="/ppt/media/image4.png" ContentType="image/png"/>
  <Override PartName="/ppt/media/image12.jpeg" ContentType="image/jpe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23.jpeg" ContentType="image/jpeg"/>
  <Override PartName="/ppt/media/image1.jpeg" ContentType="image/jpeg"/>
  <Override PartName="/ppt/media/image10.png" ContentType="image/png"/>
  <Override PartName="/ppt/media/image5.png" ContentType="image/png"/>
  <Override PartName="/ppt/media/image29.gif" ContentType="image/gif"/>
  <Override PartName="/ppt/media/image15.jpeg" ContentType="image/jpeg"/>
  <Override PartName="/ppt/media/image16.jpeg" ContentType="image/jpeg"/>
  <Override PartName="/ppt/media/image17.jpeg" ContentType="image/jpeg"/>
  <Override PartName="/ppt/media/image25.gif" ContentType="image/gif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36D2-3F06-48C1-9B11-0322FAEA4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3.xml"/><Relationship Id="rId24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CBBC-C330-43DB-98C5-C28B10F2B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E826-573E-44F5-8C1C-E93D1D115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4861-5352-48C7-87A2-0A523E8A1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2139-6DD7-40ED-A4C7-3B394EF8F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07A1-3681-484D-8479-7209E424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E65D-D758-402C-B8E6-38B040B79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E9E4-0815-4A88-AFD5-F2D2291A0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98CB-D711-44BC-8422-B1ACD2614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7576-67C3-4892-A746-D858323A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EF58-D423-4421-8458-D6986A92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25ED-4F0B-40A0-83ED-B474BE6C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3B07-E782-4354-8D83-CFC19332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58D6-ADB3-4F86-8CC5-63762610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F457-6095-4AFA-8B36-EA4F9CC4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AC78-C95C-4889-A04C-67CB1664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FACA-9CB2-4E64-ACA5-12886090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0324-05A6-4AB7-A20E-BDE7F806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A2E8-42FC-4F99-8D55-EE4B8C44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422E-728C-486D-86AA-8C47B4DC8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C64F-EB0D-42AE-917B-83F643219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A0E90-3F0A-4C82-B0B9-DE130D8B6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31360-5694-4A06-9CC1-0ED9478E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58C38-C782-4EAC-BBF1-BBFFDDFF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D0129-9C6C-4B06-A96A-5B098CB5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FDF6E-8FD5-4C9E-97F2-F90AA128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1816-6026-4F3C-9060-D0AE5913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1C068-083B-4AEE-A05D-A35B91A3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042FF-27A9-4994-8A91-2E914037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4291C-E441-49D8-B0E7-63509A9E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7EAC8-F2D9-42EE-8164-F9E8461E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B47CA-E135-4E02-BC10-CCEB5544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D8EB2-26E0-48EA-BD37-6B2FFFBFE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71D5C-A394-4456-9AB6-6BEE9B739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04272-B39F-402A-8C96-CFA1C84E7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CA670-3F87-45AF-84DC-964BED8A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898AA-E14D-4311-BCBC-6E40F26D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C8D6-8D3F-4331-8BA8-4A967D27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9928C-4559-458E-A9EA-B555946D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E94F5-6CEA-40A4-B565-B53E7401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2651B-5FEE-425C-ADA5-D822FF31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BD1FD-1879-4E1A-81F9-FDC877DE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E14F2-34B8-4AA9-AEAB-4C172A27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0AF07-EA3E-48FC-A507-A0199FD7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7CBC5-29CE-4753-8CD8-356C98D5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C1C8D-C7F8-49BD-989A-1145E0ADE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6C8E7-1AAF-4FE0-800A-B9E161622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3923-1257-4AE6-B897-971DDDBD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69DB-4883-4DFE-99FC-CA7D03FF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919D-6445-481F-BE17-2DA1AB5C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64DB-EBD8-4512-A060-4A03FE06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970D-FA58-4532-A649-1AEEFE94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BEA8-48A3-4D03-9395-0C41A6648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2008125064182140_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0F3F-2CA4-4C5B-AA71-DFD69A27A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" descr="20072415225180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78BD-D2FA-4CDF-873B-C76D0B358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7" descr="20091017183515928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7C48-EE0A-45D8-B8DC-0C35BDC6D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slide" Target="slide14.xml"/><Relationship Id="rId4" Type="http://schemas.openxmlformats.org/officeDocument/2006/relationships/image" Target="../media/image5.png"/><Relationship Id="rId5" Type="http://schemas.openxmlformats.org/officeDocument/2006/relationships/slide" Target="slide2.xml"/><Relationship Id="rId6" Type="http://schemas.openxmlformats.org/officeDocument/2006/relationships/image" Target="../media/image6.png"/><Relationship Id="rId7" Type="http://schemas.openxmlformats.org/officeDocument/2006/relationships/slide" Target="slide4.xml"/><Relationship Id="rId8" Type="http://schemas.openxmlformats.org/officeDocument/2006/relationships/image" Target="../media/image7.png"/><Relationship Id="rId9" Type="http://schemas.openxmlformats.org/officeDocument/2006/relationships/slide" Target="slide5.xml"/><Relationship Id="rId10" Type="http://schemas.openxmlformats.org/officeDocument/2006/relationships/image" Target="../media/image8.png"/><Relationship Id="rId11" Type="http://schemas.openxmlformats.org/officeDocument/2006/relationships/slide" Target="slide9.xml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1.jpeg"/><Relationship Id="rId3" Type="http://schemas.openxmlformats.org/officeDocument/2006/relationships/slide" Target="slide16.xml"/><Relationship Id="rId4" Type="http://schemas.openxmlformats.org/officeDocument/2006/relationships/image" Target="../media/image22.jpeg"/><Relationship Id="rId5" Type="http://schemas.openxmlformats.org/officeDocument/2006/relationships/slide" Target="slide17.xml"/><Relationship Id="rId6" Type="http://schemas.openxmlformats.org/officeDocument/2006/relationships/image" Target="../media/image23.jpeg"/><Relationship Id="rId7" Type="http://schemas.openxmlformats.org/officeDocument/2006/relationships/slide" Target="slide18.xml"/><Relationship Id="rId8" Type="http://schemas.openxmlformats.org/officeDocument/2006/relationships/image" Target="../media/image24.jpeg"/><Relationship Id="rId9" Type="http://schemas.openxmlformats.org/officeDocument/2006/relationships/slide" Target="slide22.xml"/><Relationship Id="rId10" Type="http://schemas.openxmlformats.org/officeDocument/2006/relationships/image" Target="../media/image25.gif"/><Relationship Id="rId11" Type="http://schemas.openxmlformats.org/officeDocument/2006/relationships/slide" Target="slide14.xml"/><Relationship Id="rId12" Type="http://schemas.openxmlformats.org/officeDocument/2006/relationships/image" Target="../media/image26.jpeg"/><Relationship Id="rId13" Type="http://schemas.openxmlformats.org/officeDocument/2006/relationships/slide" Target="slide20.xml"/><Relationship Id="rId14" Type="http://schemas.openxmlformats.org/officeDocument/2006/relationships/image" Target="../media/image27.png"/><Relationship Id="rId1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29.gif"/><Relationship Id="rId3" Type="http://schemas.openxmlformats.org/officeDocument/2006/relationships/slide" Target="slide13.xml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" Target="slide13.xml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b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74640" y="6267600"/>
            <a:ext cx="1562400" cy="634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b6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540560" y="625788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b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1920" y="6267600"/>
            <a:ext cx="1562040" cy="6346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b3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0200" y="625788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b4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552920" y="625788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b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6043680" y="6257880"/>
            <a:ext cx="1562040" cy="635040"/>
          </a:xfrm>
          <a:prstGeom prst="rect">
            <a:avLst/>
          </a:prstGeom>
          <a:ln w="0">
            <a:noFill/>
          </a:ln>
        </p:spPr>
      </p:pic>
      <p:sp>
        <p:nvSpPr>
          <p:cNvPr id="180" name="WordArt 8"/>
          <p:cNvSpPr txBox="1"/>
          <p:nvPr/>
        </p:nvSpPr>
        <p:spPr>
          <a:xfrm>
            <a:off x="1751040" y="1076400"/>
            <a:ext cx="5505480" cy="148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春的消息</a:t>
            </a:r>
            <a:endParaRPr b="1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81" name="矩形 8" descr=""/>
          <p:cNvPicPr/>
          <p:nvPr/>
        </p:nvPicPr>
        <p:blipFill>
          <a:blip r:embed="rId13"/>
          <a:stretch/>
        </p:blipFill>
        <p:spPr>
          <a:xfrm>
            <a:off x="1895400" y="3378240"/>
            <a:ext cx="5499000" cy="49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8"/>
          <p:cNvSpPr/>
          <p:nvPr/>
        </p:nvSpPr>
        <p:spPr>
          <a:xfrm>
            <a:off x="838080" y="304920"/>
            <a:ext cx="7467840" cy="454068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838080" y="45720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漂白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盼望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牵引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爱怜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914400" y="121932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雏菊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欣喜 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禁不住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绿苞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838080" y="19810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唤醒 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奔跑  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照耀 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搔痒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838080" y="2895480"/>
            <a:ext cx="746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雀跃    劳累    面颊     山冈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圆角矩形 7"/>
          <p:cNvSpPr/>
          <p:nvPr/>
        </p:nvSpPr>
        <p:spPr>
          <a:xfrm>
            <a:off x="6248520" y="6172200"/>
            <a:ext cx="259056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4952880" y="5692680"/>
            <a:ext cx="4724640" cy="13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5"/>
          <p:cNvSpPr/>
          <p:nvPr/>
        </p:nvSpPr>
        <p:spPr>
          <a:xfrm>
            <a:off x="1042920" y="2349360"/>
            <a:ext cx="6842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āng          hú  dié             yào                ji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 冈      蝴 蝶    照 耀     面 颊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755640" y="112536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读一读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1365120" y="234468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entury Gothic"/>
              </a:rPr>
              <a:t>gā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6956280" y="23446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entury Gothic"/>
              </a:rPr>
              <a:t>ji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1066680" y="350532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山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指的是较低而平的山脊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圆角矩形 7"/>
          <p:cNvSpPr/>
          <p:nvPr/>
        </p:nvSpPr>
        <p:spPr>
          <a:xfrm>
            <a:off x="6248520" y="6172200"/>
            <a:ext cx="259056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5"/>
          <p:cNvSpPr/>
          <p:nvPr/>
        </p:nvSpPr>
        <p:spPr>
          <a:xfrm>
            <a:off x="5029200" y="35053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3886200" y="31240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1258920" y="1628640"/>
            <a:ext cx="604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468360" y="2133720"/>
            <a:ext cx="820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送走了一个寒冬，我们又迎来了美丽的春天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 春风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春水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小鸟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蝴蝶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雏菊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枝头的绿苞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明丽的阳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田野里的小草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都迫不及待地向我们报告着春的消息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圆角矩形 7"/>
          <p:cNvSpPr/>
          <p:nvPr/>
        </p:nvSpPr>
        <p:spPr>
          <a:xfrm>
            <a:off x="6248520" y="6172200"/>
            <a:ext cx="259056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6"/>
          <p:cNvSpPr/>
          <p:nvPr/>
        </p:nvSpPr>
        <p:spPr>
          <a:xfrm>
            <a:off x="1066680" y="7632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㈠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3733920" y="15228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㈡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6858000" y="22860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㈢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1066680" y="297180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㈣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3886200" y="297180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㈤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6934320" y="289548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㈥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4" descr="5267147_220255002279_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8120" y="1066680"/>
            <a:ext cx="2590560" cy="17528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5" descr="067co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019920" y="1066680"/>
            <a:ext cx="2666880" cy="18288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6" descr="200861305516998_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80880" y="3962520"/>
            <a:ext cx="2362320" cy="16002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7" descr="15179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8120" y="3962520"/>
            <a:ext cx="2590560" cy="1676160"/>
          </a:xfrm>
          <a:prstGeom prst="rect">
            <a:avLst/>
          </a:prstGeom>
          <a:ln w="0">
            <a:noFill/>
          </a:ln>
        </p:spPr>
      </p:pic>
      <p:sp>
        <p:nvSpPr>
          <p:cNvPr id="246" name="圆角矩形 13"/>
          <p:cNvSpPr/>
          <p:nvPr/>
        </p:nvSpPr>
        <p:spPr>
          <a:xfrm>
            <a:off x="6248520" y="6172200"/>
            <a:ext cx="259056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8">
            <a:hlinkClick r:id="rId9" action="ppaction://hlinksldjump"/>
          </p:cNvPr>
          <p:cNvSpPr/>
          <p:nvPr/>
        </p:nvSpPr>
        <p:spPr>
          <a:xfrm>
            <a:off x="4952880" y="5692680"/>
            <a:ext cx="4724640" cy="13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20090420100109"/>
          <p:cNvPicPr/>
          <p:nvPr/>
        </p:nvPicPr>
        <p:blipFill>
          <a:blip r:embed="rId10"/>
          <a:stretch/>
        </p:blipFill>
        <p:spPr>
          <a:xfrm>
            <a:off x="4572000" y="3971880"/>
            <a:ext cx="990720" cy="14968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b3508d132b4b7ccd6538dba0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28600" y="1066680"/>
            <a:ext cx="2362320" cy="1771920"/>
          </a:xfrm>
          <a:prstGeom prst="rect">
            <a:avLst/>
          </a:prstGeom>
          <a:ln w="0">
            <a:noFill/>
          </a:ln>
        </p:spPr>
      </p:pic>
      <p:pic>
        <p:nvPicPr>
          <p:cNvPr id="250" name="图片 1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095880" y="3886200"/>
            <a:ext cx="250992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5" descr="b3508d132b4b7ccd6538dba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5"/>
          <p:cNvSpPr/>
          <p:nvPr/>
        </p:nvSpPr>
        <p:spPr>
          <a:xfrm>
            <a:off x="3505320" y="3260880"/>
            <a:ext cx="556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风，摇绿了树的枝条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水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漂白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了鸭的羽毛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盼望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了整整一个冬天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你看，春天已经来到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！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3962520" y="533520"/>
            <a:ext cx="1523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圆角矩形 11"/>
          <p:cNvSpPr/>
          <p:nvPr/>
        </p:nvSpPr>
        <p:spPr>
          <a:xfrm>
            <a:off x="6248520" y="6172200"/>
            <a:ext cx="259056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4952880" y="5692680"/>
            <a:ext cx="4724640" cy="13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4"/>
          <p:cNvSpPr/>
          <p:nvPr/>
        </p:nvSpPr>
        <p:spPr>
          <a:xfrm>
            <a:off x="2895480" y="304920"/>
            <a:ext cx="62485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让我们换上春装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像小鸟换上新的羽毛，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飞过树林，飞上山冈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到处有春天的欢笑。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2362320" y="4038120"/>
            <a:ext cx="5867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飞过（    ），飞过（    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圆角矩形 8"/>
          <p:cNvSpPr/>
          <p:nvPr/>
        </p:nvSpPr>
        <p:spPr>
          <a:xfrm>
            <a:off x="6248520" y="6172200"/>
            <a:ext cx="259056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8">
            <a:hlinkClick r:id="rId1" action="ppaction://hlinksldjump"/>
          </p:cNvPr>
          <p:cNvSpPr/>
          <p:nvPr/>
        </p:nvSpPr>
        <p:spPr>
          <a:xfrm>
            <a:off x="4952880" y="5692680"/>
            <a:ext cx="4724640" cy="13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4"/>
          <p:cNvSpPr/>
          <p:nvPr/>
        </p:nvSpPr>
        <p:spPr>
          <a:xfrm>
            <a:off x="3505320" y="304920"/>
            <a:ext cx="52578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看到第一只蝴蝶飞，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它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牵引</a:t>
            </a: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着我的双脚；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我高兴地捉住它，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又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爱怜</a:t>
            </a: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地把它放掉。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7" descr="20080303_9d4f97f53cf9af2a9b2agft45VrnKhs2打发"/>
          <p:cNvPicPr/>
          <p:nvPr/>
        </p:nvPicPr>
        <p:blipFill>
          <a:blip r:embed="rId1"/>
          <a:stretch/>
        </p:blipFill>
        <p:spPr>
          <a:xfrm>
            <a:off x="7715160" y="396252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2" descr="20080303_9d4f97f53cf9af2a9b2agft45VrnKhs2打发"/>
          <p:cNvPicPr/>
          <p:nvPr/>
        </p:nvPicPr>
        <p:blipFill>
          <a:blip r:embed="rId2"/>
          <a:stretch/>
        </p:blipFill>
        <p:spPr>
          <a:xfrm>
            <a:off x="8429760" y="4191120"/>
            <a:ext cx="1428480" cy="1428480"/>
          </a:xfrm>
          <a:prstGeom prst="rect">
            <a:avLst/>
          </a:prstGeom>
          <a:ln w="0">
            <a:noFill/>
          </a:ln>
        </p:spPr>
      </p:pic>
      <p:sp>
        <p:nvSpPr>
          <p:cNvPr id="263" name="圆角矩形 8"/>
          <p:cNvSpPr/>
          <p:nvPr/>
        </p:nvSpPr>
        <p:spPr>
          <a:xfrm>
            <a:off x="6248520" y="6172200"/>
            <a:ext cx="259056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8">
            <a:hlinkClick r:id="rId3" action="ppaction://hlinksldjump"/>
          </p:cNvPr>
          <p:cNvSpPr/>
          <p:nvPr/>
        </p:nvSpPr>
        <p:spPr>
          <a:xfrm>
            <a:off x="4952880" y="5692680"/>
            <a:ext cx="4724640" cy="13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.14028 C -0.0342 0.1382 -0.0684 0.1375 -0.10191 0.13149 C -0.10487 0.12987 -0.10851 0.12871 -0.11094 0.12593 C -0.11546 0.12084 -0.11685 0.1132 -0.12275 0.10926 C -0.12587 0.10741 -0.12865 0.10533 -0.13143 0.10417 C -0.1356 0.10162 -0.13994 0.1007 -0.14375 0.09838 C -0.14792 0.09584 -0.15105 0.09213 -0.15573 0.09005 C -0.17119 0.08287 -0.16355 0.09144 -0.17674 0.0845 C -0.2073 0.06875 -0.18334 0.07686 -0.20365 0.07084 C -0.23403 0.07269 -0.26164 0.07315 -0.29011 0.08172 C -0.29532 0.08102 -0.3007 0.08172 -0.30487 0.07894 C -0.30886 0.07686 -0.30886 0.0713 -0.31112 0.06806 C -0.32032 0.05394 -0.32882 0.03866 -0.3441 0.02917 C -0.37327 -0.0118 -0.45382 0.00834 -0.49028 0.00718 C -0.50087 0.0007 -0.50556 -0.00717 -0.51407 -0.01481 C -0.51667 -0.01713 -0.52066 -0.01805 -0.5231 -0.02037 C -0.53386 -0.03009 -0.53785 -0.03773 -0.55296 -0.04236 C -0.56685 -0.06157 -0.56268 -0.05277 -0.56771 -0.06736 C -0.56875 -0.08865 -0.55174 -0.16597 -0.58889 -0.18888 C -0.60296 -0.20856 -0.58455 -0.18495 -0.60695 -0.20555 C -0.60903 -0.20787 -0.60973 -0.2118 -0.6125 -0.21388 C -0.61823 -0.21828 -0.63056 -0.22476 -0.63056 -0.22453 C -0.63733 -0.23402 -0.64566 -0.23912 -0.65452 -0.24699 C -0.65903 -0.25972 -0.67223 -0.2662 -0.67535 -0.28009 C -0.67813 -0.29166 -0.67431 -0.30601 -0.68143 -0.31597 C -0.6875 -0.32476 -0.70782 -0.32939 -0.71719 -0.33541 C -0.73299 -0.3574 -0.71216 -0.33078 -0.73212 -0.34907 C -0.73473 -0.35138 -0.73542 -0.35532 -0.73837 -0.3574 C -0.74046 -0.35925 -0.74428 -0.35879 -0.74723 -0.36018 C -0.76476 -0.36851 -0.7698 -0.37083 -0.78855 -0.37083 E">
                                      <p:cBhvr>
                                        <p:cTn id="123" dur="5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.14028 C -0.0342 0.1382 -0.0684 0.1375 -0.10191 0.13149 C -0.10487 0.12987 -0.10851 0.12871 -0.11094 0.12593 C -0.11546 0.12084 -0.11685 0.1132 -0.12275 0.10926 C -0.12587 0.10741 -0.12865 0.10533 -0.13143 0.10417 C -0.1356 0.10162 -0.13994 0.1007 -0.14375 0.09838 C -0.14792 0.09584 -0.15105 0.09213 -0.15573 0.09005 C -0.17119 0.08287 -0.16355 0.09144 -0.17674 0.0845 C -0.2073 0.06875 -0.18334 0.07686 -0.20365 0.07084 C -0.23403 0.07269 -0.26164 0.07315 -0.29011 0.08172 C -0.29532 0.08102 -0.3007 0.08172 -0.30487 0.07894 C -0.30886 0.07686 -0.30886 0.0713 -0.31112 0.06806 C -0.32032 0.05394 -0.32882 0.03866 -0.3441 0.02917 C -0.37327 -0.0118 -0.45382 0.00834 -0.49028 0.00718 C -0.50087 0.0007 -0.50556 -0.00717 -0.51407 -0.01481 C -0.51667 -0.01713 -0.52066 -0.01805 -0.5231 -0.02037 C -0.53386 -0.03009 -0.53785 -0.03773 -0.55296 -0.04236 C -0.56685 -0.06157 -0.56268 -0.05277 -0.56771 -0.06736 C -0.56875 -0.08865 -0.55174 -0.16597 -0.58889 -0.18888 C -0.60296 -0.20856 -0.58455 -0.18495 -0.60695 -0.20555 C -0.60903 -0.20787 -0.60973 -0.2118 -0.6125 -0.21388 C -0.61823 -0.21828 -0.63056 -0.22476 -0.63056 -0.22453 C -0.63733 -0.23402 -0.64566 -0.23912 -0.65452 -0.24699 C -0.65903 -0.25972 -0.67223 -0.2662 -0.67535 -0.28009 C -0.67813 -0.29166 -0.67431 -0.30601 -0.68143 -0.31597 C -0.6875 -0.32476 -0.70782 -0.32939 -0.71719 -0.33541 C -0.73299 -0.3574 -0.71216 -0.33078 -0.73212 -0.34907 C -0.73473 -0.35138 -0.73542 -0.35532 -0.73837 -0.3574 C -0.74046 -0.35925 -0.74428 -0.35879 -0.74723 -0.36018 C -0.76476 -0.36851 -0.7698 -0.37083 -0.78855 -0.37083 E">
                                      <p:cBhvr>
                                        <p:cTn id="125" dur="5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7" descr="图片2333"/>
          <p:cNvPicPr/>
          <p:nvPr/>
        </p:nvPicPr>
        <p:blipFill>
          <a:blip r:embed="rId1"/>
          <a:stretch/>
        </p:blipFill>
        <p:spPr>
          <a:xfrm>
            <a:off x="-299880" y="-228600"/>
            <a:ext cx="9743760" cy="73152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533520" y="21337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0" y="228600"/>
            <a:ext cx="47242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看到第一朵雏菊开放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我会禁不住欣喜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雀跃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小花朵，你还认得我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你看我又长高了多少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圆角矩形 8"/>
          <p:cNvSpPr/>
          <p:nvPr/>
        </p:nvSpPr>
        <p:spPr>
          <a:xfrm>
            <a:off x="6248520" y="6172200"/>
            <a:ext cx="259056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>
            <a:hlinkClick r:id="rId2" action="ppaction://hlinksldjump"/>
          </p:cNvPr>
          <p:cNvSpPr/>
          <p:nvPr/>
        </p:nvSpPr>
        <p:spPr>
          <a:xfrm>
            <a:off x="4952880" y="5692680"/>
            <a:ext cx="4724640" cy="13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4"/>
          <p:cNvSpPr/>
          <p:nvPr/>
        </p:nvSpPr>
        <p:spPr>
          <a:xfrm>
            <a:off x="2971800" y="380880"/>
            <a:ext cx="6934320" cy="35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来到去年叶落的枝头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等待它吐出新的绿苞；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再去唤醒</a:t>
            </a:r>
            <a:r>
              <a:rPr b="1" lang="zh-CN" sz="4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" action="ppaction://hlinksldjump"/>
              </a:rPr>
              <a:t>沉睡</a:t>
            </a: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的溪流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听它唱歌，和它一起奔跑。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圆角矩形 7"/>
          <p:cNvSpPr/>
          <p:nvPr/>
        </p:nvSpPr>
        <p:spPr>
          <a:xfrm>
            <a:off x="6248520" y="6172200"/>
            <a:ext cx="259056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4952880" y="5692680"/>
            <a:ext cx="4724640" cy="13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" descr="20090420100109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圆角矩形 7"/>
          <p:cNvSpPr/>
          <p:nvPr/>
        </p:nvSpPr>
        <p:spPr>
          <a:xfrm>
            <a:off x="6248520" y="6172200"/>
            <a:ext cx="259056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8">
            <a:hlinkClick r:id="rId2" action="ppaction://hlinksldjump"/>
          </p:cNvPr>
          <p:cNvSpPr/>
          <p:nvPr/>
        </p:nvSpPr>
        <p:spPr>
          <a:xfrm>
            <a:off x="5105520" y="5692680"/>
            <a:ext cx="4724280" cy="13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2006111418751870"/>
          <p:cNvPicPr/>
          <p:nvPr/>
        </p:nvPicPr>
        <p:blipFill>
          <a:blip r:embed="rId3"/>
          <a:stretch/>
        </p:blipFill>
        <p:spPr>
          <a:xfrm>
            <a:off x="0" y="0"/>
            <a:ext cx="419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52280" y="106668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学们，你们知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消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是什么意思吗？能说说你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消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理解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圆角矩形 1"/>
          <p:cNvSpPr/>
          <p:nvPr/>
        </p:nvSpPr>
        <p:spPr>
          <a:xfrm>
            <a:off x="6248520" y="6095880"/>
            <a:ext cx="259056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4952880" y="5616720"/>
            <a:ext cx="472464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4"/>
          <p:cNvSpPr/>
          <p:nvPr/>
        </p:nvSpPr>
        <p:spPr>
          <a:xfrm>
            <a:off x="1028880" y="304920"/>
            <a:ext cx="784836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走累了，我就躺在田野上，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头顶有明丽的太阳照耀。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是谁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搔痒</a:t>
            </a: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了我的面颊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啊，身边又钻出嫩绿的小草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……</a:t>
            </a:r>
            <a:r>
              <a:rPr b="1" lang="en-US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圆角矩形 6"/>
          <p:cNvSpPr/>
          <p:nvPr/>
        </p:nvSpPr>
        <p:spPr>
          <a:xfrm>
            <a:off x="6248520" y="6172200"/>
            <a:ext cx="259056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8">
            <a:hlinkClick r:id="rId1" action="ppaction://hlinksldjump"/>
          </p:cNvPr>
          <p:cNvSpPr/>
          <p:nvPr/>
        </p:nvSpPr>
        <p:spPr>
          <a:xfrm>
            <a:off x="4952880" y="5692680"/>
            <a:ext cx="4724640" cy="13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5"/>
          <p:cNvSpPr/>
          <p:nvPr/>
        </p:nvSpPr>
        <p:spPr>
          <a:xfrm>
            <a:off x="1042920" y="1700280"/>
            <a:ext cx="6913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小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换上新羽 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蝴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牵引着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雏菊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开始开放 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绿苞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吐出嫩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阳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放射光芒 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小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钻出地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圆角矩形 7"/>
          <p:cNvSpPr/>
          <p:nvPr/>
        </p:nvSpPr>
        <p:spPr>
          <a:xfrm>
            <a:off x="6248520" y="6172200"/>
            <a:ext cx="259056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4" descr="2005930103356244"/>
          <p:cNvPicPr/>
          <p:nvPr/>
        </p:nvPicPr>
        <p:blipFill>
          <a:blip r:embed="rId1"/>
          <a:stretch/>
        </p:blipFill>
        <p:spPr>
          <a:xfrm>
            <a:off x="0" y="3505320"/>
            <a:ext cx="9144000" cy="335268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5"/>
          <p:cNvSpPr/>
          <p:nvPr/>
        </p:nvSpPr>
        <p:spPr>
          <a:xfrm>
            <a:off x="2143800" y="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１、积累描写春天的词语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304920" y="838080"/>
            <a:ext cx="8305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春风拂面    春光明媚    春回大地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春花烂漫    春雷滚滚    春雨绵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春暖花开    春意盎然    春色满园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hua"/>
          <p:cNvPicPr/>
          <p:nvPr/>
        </p:nvPicPr>
        <p:blipFill>
          <a:blip r:embed="rId1"/>
          <a:stretch/>
        </p:blipFill>
        <p:spPr>
          <a:xfrm>
            <a:off x="0" y="487440"/>
            <a:ext cx="9144000" cy="637056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3"/>
          <p:cNvSpPr/>
          <p:nvPr/>
        </p:nvSpPr>
        <p:spPr>
          <a:xfrm>
            <a:off x="395280" y="1413000"/>
            <a:ext cx="83534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多音字组词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ǎ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 ）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ī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 ）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  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Gothic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à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）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ì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 ）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  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10" descr="hua"/>
          <p:cNvPicPr/>
          <p:nvPr/>
        </p:nvPicPr>
        <p:blipFill>
          <a:blip r:embed="rId1"/>
          <a:stretch/>
        </p:blipFill>
        <p:spPr>
          <a:xfrm>
            <a:off x="0" y="487440"/>
            <a:ext cx="9144000" cy="637056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5"/>
          <p:cNvSpPr/>
          <p:nvPr/>
        </p:nvSpPr>
        <p:spPr>
          <a:xfrm>
            <a:off x="539640" y="1125360"/>
            <a:ext cx="8136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选择合适的词语填空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盼望      希望      愿望      失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实现两岸和平统一是海内外中国人的共同（      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老师和家长都（      ）我们能健康成长，我们可不能让他们（      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（     ）着能够快点长大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971640" y="3284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愿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3708360" y="40622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希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3564000" y="45086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失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2181240" y="54309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盼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5"/>
          <p:cNvSpPr/>
          <p:nvPr/>
        </p:nvSpPr>
        <p:spPr>
          <a:xfrm>
            <a:off x="0" y="0"/>
            <a:ext cx="9144000" cy="6265440"/>
          </a:xfrm>
          <a:prstGeom prst="rect">
            <a:avLst/>
          </a:prstGeom>
          <a:solidFill>
            <a:srgbClr val="ffffff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夜喜雨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杜甫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雨知时节， 当春乃发生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随风潜入夜， 润物细无声。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野径云俱黑， 江船火独明。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晓看红湿处， 花重锦官城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228600" y="3808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【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读读背背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】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hua"/>
          <p:cNvPicPr/>
          <p:nvPr/>
        </p:nvPicPr>
        <p:blipFill>
          <a:blip r:embed="rId1"/>
          <a:stretch/>
        </p:blipFill>
        <p:spPr>
          <a:xfrm>
            <a:off x="0" y="487440"/>
            <a:ext cx="9144000" cy="637056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4"/>
          <p:cNvSpPr/>
          <p:nvPr/>
        </p:nvSpPr>
        <p:spPr>
          <a:xfrm>
            <a:off x="1981080" y="685800"/>
            <a:ext cx="5181840" cy="34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惠崇春江晚景 </a:t>
            </a:r>
            <a:r>
              <a:rPr b="1" lang="zh-CN" sz="4800" spc="-1" strike="noStrike">
                <a:solidFill>
                  <a:srgbClr val="33cc33"/>
                </a:solidFill>
                <a:latin typeface="Arial"/>
                <a:ea typeface="楷体_GB2312"/>
              </a:rPr>
              <a:t> 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宋</a:t>
            </a:r>
            <a:r>
              <a:rPr b="1" lang="zh-CN" sz="2800" spc="-1" strike="noStrike">
                <a:solidFill>
                  <a:srgbClr val="33cc33"/>
                </a:solidFill>
                <a:latin typeface="Arial"/>
                <a:ea typeface="楷体_GB2312"/>
              </a:rPr>
              <a:t>  </a:t>
            </a:r>
            <a:r>
              <a:rPr b="1" lang="zh-CN" sz="28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苏轼</a:t>
            </a:r>
            <a:br>
              <a:rPr sz="4800"/>
            </a:br>
            <a:r>
              <a:rPr b="1" lang="zh-CN" sz="48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竹外桃花三两枝，春江水暖鸭先知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蒌蒿满地芦芽短，正是河豚欲上时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6" descr="hua"/>
          <p:cNvPicPr/>
          <p:nvPr/>
        </p:nvPicPr>
        <p:blipFill>
          <a:blip r:embed="rId1"/>
          <a:stretch/>
        </p:blipFill>
        <p:spPr>
          <a:xfrm>
            <a:off x="0" y="0"/>
            <a:ext cx="9144000" cy="637056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4"/>
          <p:cNvSpPr/>
          <p:nvPr/>
        </p:nvSpPr>
        <p:spPr>
          <a:xfrm>
            <a:off x="1828800" y="533520"/>
            <a:ext cx="4191120" cy="34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春</a:t>
            </a:r>
            <a:r>
              <a:rPr b="1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 </a:t>
            </a:r>
            <a:r>
              <a:rPr b="1" lang="zh-CN" sz="4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晓 </a:t>
            </a:r>
            <a:r>
              <a:rPr b="1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 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唐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  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孟浩然</a:t>
            </a:r>
            <a:br>
              <a:rPr sz="4800"/>
            </a:br>
            <a:r>
              <a:rPr b="1" lang="zh-CN" sz="4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春眠不觉晓，处处闻啼鸟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夜来风雨声，花落知多少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hua"/>
          <p:cNvPicPr/>
          <p:nvPr/>
        </p:nvPicPr>
        <p:blipFill>
          <a:blip r:embed="rId1"/>
          <a:stretch/>
        </p:blipFill>
        <p:spPr>
          <a:xfrm>
            <a:off x="0" y="487440"/>
            <a:ext cx="9144000" cy="637056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3"/>
          <p:cNvSpPr/>
          <p:nvPr/>
        </p:nvSpPr>
        <p:spPr>
          <a:xfrm>
            <a:off x="1828800" y="533520"/>
            <a:ext cx="5181480" cy="34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大林寺桃花 </a:t>
            </a:r>
            <a:r>
              <a:rPr b="1" lang="zh-CN" sz="4800" spc="-1" strike="noStrike">
                <a:solidFill>
                  <a:srgbClr val="cc0066"/>
                </a:solidFill>
                <a:latin typeface="Arial"/>
                <a:ea typeface="楷体_GB2312"/>
              </a:rPr>
              <a:t> 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唐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楷体_GB2312"/>
              </a:rPr>
              <a:t>  </a:t>
            </a:r>
            <a:r>
              <a:rPr b="1" lang="zh-CN" sz="2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白居易</a:t>
            </a:r>
            <a:br>
              <a:rPr sz="4800"/>
            </a:br>
            <a:r>
              <a:rPr b="1" lang="zh-CN" sz="4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人间四月芳菲尽，山寺桃花始盛开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长恨春归无觅处，不知转入此中来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hua"/>
          <p:cNvPicPr/>
          <p:nvPr/>
        </p:nvPicPr>
        <p:blipFill>
          <a:blip r:embed="rId1"/>
          <a:stretch/>
        </p:blipFill>
        <p:spPr>
          <a:xfrm>
            <a:off x="0" y="487440"/>
            <a:ext cx="9144000" cy="637056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3"/>
          <p:cNvSpPr/>
          <p:nvPr/>
        </p:nvSpPr>
        <p:spPr>
          <a:xfrm>
            <a:off x="1828800" y="533520"/>
            <a:ext cx="5181480" cy="36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江畔独步寻花 </a:t>
            </a:r>
            <a:r>
              <a:rPr b="1" lang="zh-CN" sz="4800" spc="-1" strike="noStrike">
                <a:solidFill>
                  <a:srgbClr val="0066ff"/>
                </a:solidFill>
                <a:latin typeface="Arial"/>
                <a:ea typeface="楷体_GB2312"/>
              </a:rPr>
              <a:t> 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唐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楷体_GB2312"/>
              </a:rPr>
              <a:t>  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杜甫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黄四娘家花满蹊，千朵万朵压枝低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留连戏蝶时时舞，自在娇莺恰恰啼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春姑娘想给小朋友们发一个“春天到来”的好消息，你帮她想一想：她可以怎么告诉我们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圆角矩形 3"/>
          <p:cNvSpPr/>
          <p:nvPr/>
        </p:nvSpPr>
        <p:spPr>
          <a:xfrm>
            <a:off x="6248520" y="6172200"/>
            <a:ext cx="259056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4952880" y="5692680"/>
            <a:ext cx="4724640" cy="13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1"/>
          <p:cNvSpPr/>
          <p:nvPr/>
        </p:nvSpPr>
        <p:spPr>
          <a:xfrm>
            <a:off x="3003480" y="4748040"/>
            <a:ext cx="55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尽在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hua"/>
          <p:cNvPicPr/>
          <p:nvPr/>
        </p:nvPicPr>
        <p:blipFill>
          <a:blip r:embed="rId1"/>
          <a:stretch/>
        </p:blipFill>
        <p:spPr>
          <a:xfrm>
            <a:off x="0" y="487440"/>
            <a:ext cx="9144000" cy="637056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3"/>
          <p:cNvSpPr/>
          <p:nvPr/>
        </p:nvSpPr>
        <p:spPr>
          <a:xfrm>
            <a:off x="1828800" y="533520"/>
            <a:ext cx="5181480" cy="34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fc04cd"/>
                </a:solidFill>
                <a:latin typeface="楷体_GB2312"/>
                <a:ea typeface="楷体_GB2312"/>
              </a:rPr>
              <a:t>春 日 </a:t>
            </a:r>
            <a:r>
              <a:rPr b="1" lang="zh-CN" sz="4800" spc="-1" strike="noStrike">
                <a:solidFill>
                  <a:srgbClr val="fc04cd"/>
                </a:solidFill>
                <a:latin typeface="Arial"/>
                <a:ea typeface="楷体_GB2312"/>
              </a:rPr>
              <a:t> 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c04cd"/>
                </a:solidFill>
                <a:latin typeface="楷体_GB2312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fc04cd"/>
                </a:solidFill>
                <a:latin typeface="楷体_GB2312"/>
                <a:ea typeface="楷体_GB2312"/>
              </a:rPr>
              <a:t>南宋</a:t>
            </a:r>
            <a:r>
              <a:rPr b="1" lang="zh-CN" sz="2800" spc="-1" strike="noStrike">
                <a:solidFill>
                  <a:srgbClr val="fc04cd"/>
                </a:solidFill>
                <a:latin typeface="Arial"/>
                <a:ea typeface="楷体_GB2312"/>
              </a:rPr>
              <a:t>  </a:t>
            </a:r>
            <a:r>
              <a:rPr b="1" lang="zh-CN" sz="2800" spc="-1" strike="noStrike">
                <a:solidFill>
                  <a:srgbClr val="fc04cd"/>
                </a:solidFill>
                <a:latin typeface="楷体_GB2312"/>
                <a:ea typeface="楷体_GB2312"/>
              </a:rPr>
              <a:t>朱熹</a:t>
            </a:r>
            <a:br>
              <a:rPr sz="4800"/>
            </a:br>
            <a:r>
              <a:rPr b="1" lang="zh-CN" sz="4800" spc="-1" strike="noStrike">
                <a:solidFill>
                  <a:srgbClr val="fc04cd"/>
                </a:solidFill>
                <a:latin typeface="楷体_GB2312"/>
                <a:ea typeface="楷体_GB2312"/>
              </a:rPr>
              <a:t>胜日寻芳泗水滨，无边光景一时新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c04cd"/>
                </a:solidFill>
                <a:latin typeface="楷体_GB2312"/>
                <a:ea typeface="楷体_GB2312"/>
              </a:rPr>
              <a:t>等闲识得东风面，万紫千红总是春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hua"/>
          <p:cNvPicPr/>
          <p:nvPr/>
        </p:nvPicPr>
        <p:blipFill>
          <a:blip r:embed="rId1"/>
          <a:stretch/>
        </p:blipFill>
        <p:spPr>
          <a:xfrm>
            <a:off x="0" y="487440"/>
            <a:ext cx="9144000" cy="637056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3"/>
          <p:cNvSpPr/>
          <p:nvPr/>
        </p:nvSpPr>
        <p:spPr>
          <a:xfrm>
            <a:off x="1828800" y="533520"/>
            <a:ext cx="5181480" cy="34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游园不值 </a:t>
            </a:r>
            <a:r>
              <a:rPr b="1" lang="zh-CN" sz="4800" spc="-1" strike="noStrike">
                <a:solidFill>
                  <a:srgbClr val="660066"/>
                </a:solidFill>
                <a:latin typeface="Arial"/>
                <a:ea typeface="楷体_GB2312"/>
              </a:rPr>
              <a:t> 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南宋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楷体_GB2312"/>
              </a:rPr>
              <a:t>  </a:t>
            </a: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叶绍翁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应怜屐齿印苍苔，小扣柴扉久不开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春色满园关不住，一支红杏出墙来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hua"/>
          <p:cNvPicPr/>
          <p:nvPr/>
        </p:nvPicPr>
        <p:blipFill>
          <a:blip r:embed="rId1"/>
          <a:stretch/>
        </p:blipFill>
        <p:spPr>
          <a:xfrm>
            <a:off x="0" y="487440"/>
            <a:ext cx="9144000" cy="637056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3"/>
          <p:cNvSpPr/>
          <p:nvPr/>
        </p:nvSpPr>
        <p:spPr>
          <a:xfrm>
            <a:off x="1828800" y="533520"/>
            <a:ext cx="5181480" cy="49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绝句 </a:t>
            </a:r>
            <a:r>
              <a:rPr b="1" lang="zh-CN" sz="4800" spc="-1" strike="noStrike">
                <a:solidFill>
                  <a:srgbClr val="9900ff"/>
                </a:solidFill>
                <a:latin typeface="Arial"/>
                <a:ea typeface="楷体_GB2312"/>
              </a:rPr>
              <a:t> 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              </a:t>
            </a:r>
            <a:r>
              <a:rPr b="1" lang="zh-CN" sz="2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唐 </a:t>
            </a: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楷体_GB2312"/>
              </a:rPr>
              <a:t>  </a:t>
            </a:r>
            <a:r>
              <a:rPr b="1" lang="zh-CN" sz="2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杜甫</a:t>
            </a:r>
            <a:br>
              <a:rPr sz="4800"/>
            </a:b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两个</a:t>
            </a:r>
            <a:r>
              <a:rPr b="1" lang="zh-CN" sz="4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黄鹂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鸣</a:t>
            </a:r>
            <a:r>
              <a:rPr b="1" lang="zh-CN" sz="48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翠柳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，一行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白鹭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上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青天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窗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含</a:t>
            </a:r>
            <a:r>
              <a:rPr b="1" lang="zh-CN" sz="4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西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岭</a:t>
            </a:r>
            <a:r>
              <a:rPr b="1" lang="zh-CN" sz="4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千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秋</a:t>
            </a:r>
            <a:r>
              <a:rPr b="1" lang="zh-CN" sz="4800" spc="-1" strike="noStrike">
                <a:solidFill>
                  <a:srgbClr val="ff9999"/>
                </a:solidFill>
                <a:latin typeface="楷体_GB2312"/>
                <a:ea typeface="楷体_GB2312"/>
              </a:rPr>
              <a:t>雪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，</a:t>
            </a:r>
            <a:r>
              <a:rPr b="1" lang="zh-CN" sz="4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门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泊</a:t>
            </a:r>
            <a:r>
              <a:rPr b="1" lang="zh-CN" sz="4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东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吴</a:t>
            </a:r>
            <a:r>
              <a:rPr b="1" lang="zh-CN" sz="4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万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里</a:t>
            </a:r>
            <a:r>
              <a:rPr b="1" lang="zh-CN" sz="4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船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5"/>
          <p:cNvSpPr/>
          <p:nvPr/>
        </p:nvSpPr>
        <p:spPr>
          <a:xfrm>
            <a:off x="1859400" y="981000"/>
            <a:ext cx="12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比一比，组词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1601640" y="1619280"/>
            <a:ext cx="188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篷（　　　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蓬（　　　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4841640" y="1619280"/>
            <a:ext cx="188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絮（　　　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紫（　　　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8"/>
          <p:cNvGrpSpPr/>
          <p:nvPr/>
        </p:nvGrpSpPr>
        <p:grpSpPr>
          <a:xfrm>
            <a:off x="1479960" y="3141720"/>
            <a:ext cx="6325920" cy="1974600"/>
            <a:chOff x="1479960" y="3141720"/>
            <a:chExt cx="6325920" cy="1974600"/>
          </a:xfrm>
        </p:grpSpPr>
        <p:sp>
          <p:nvSpPr>
            <p:cNvPr id="319" name="Rectangle 9"/>
            <p:cNvSpPr/>
            <p:nvPr/>
          </p:nvSpPr>
          <p:spPr>
            <a:xfrm>
              <a:off x="3459960" y="3859920"/>
              <a:ext cx="179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雨丝细细的，柔柔的，像花絮一般。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0"/>
            <p:cNvSpPr/>
            <p:nvPr/>
          </p:nvSpPr>
          <p:spPr>
            <a:xfrm>
              <a:off x="1479960" y="3141720"/>
              <a:ext cx="271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.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照样子，写比喻句：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1"/>
            <p:cNvSpPr/>
            <p:nvPr/>
          </p:nvSpPr>
          <p:spPr>
            <a:xfrm>
              <a:off x="4901040" y="3716280"/>
              <a:ext cx="773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0000"/>
                  </a:solidFill>
                  <a:latin typeface="Times New Roman"/>
                </a:rPr>
                <a:t>﹒</a:t>
              </a:r>
              <a:endParaRPr b="1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12"/>
            <p:cNvSpPr/>
            <p:nvPr/>
          </p:nvSpPr>
          <p:spPr>
            <a:xfrm>
              <a:off x="1541160" y="4595760"/>
              <a:ext cx="626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_______________________ ,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___________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。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圆角矩形 12"/>
          <p:cNvSpPr/>
          <p:nvPr/>
        </p:nvSpPr>
        <p:spPr>
          <a:xfrm>
            <a:off x="6248520" y="6172200"/>
            <a:ext cx="259056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8"/>
          <p:cNvSpPr/>
          <p:nvPr/>
        </p:nvSpPr>
        <p:spPr>
          <a:xfrm>
            <a:off x="4952880" y="5692680"/>
            <a:ext cx="4724640" cy="13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84EB-7CB7-4EE0-9182-4CF272D68D2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20070924064221241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蝶2"/>
          <p:cNvPicPr/>
          <p:nvPr/>
        </p:nvPicPr>
        <p:blipFill>
          <a:blip r:embed="rId1"/>
          <a:stretch/>
        </p:blipFill>
        <p:spPr>
          <a:xfrm>
            <a:off x="0" y="0"/>
            <a:ext cx="9144000" cy="754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矩形 3"/>
          <p:cNvSpPr/>
          <p:nvPr/>
        </p:nvSpPr>
        <p:spPr>
          <a:xfrm>
            <a:off x="5181480" y="217188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u=3969059133,3857815048&amp;fm=52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8" descr="hua"/>
          <p:cNvPicPr/>
          <p:nvPr/>
        </p:nvPicPr>
        <p:blipFill>
          <a:blip r:embed="rId1"/>
          <a:stretch/>
        </p:blipFill>
        <p:spPr>
          <a:xfrm>
            <a:off x="0" y="487440"/>
            <a:ext cx="9144000" cy="63705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4"/>
          <p:cNvSpPr/>
          <p:nvPr/>
        </p:nvSpPr>
        <p:spPr>
          <a:xfrm>
            <a:off x="4114800" y="1568520"/>
            <a:ext cx="47242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金波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3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生，大学教授，著名诗人，儿童文学作家，评论家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作品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林中的鸟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能歌善舞的文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等诗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多部，诗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多首以及散文、童话、文学评论等数百篇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作品获几十次全国性大奖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获得国际安徒生奖提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金波"/>
          <p:cNvPicPr/>
          <p:nvPr/>
        </p:nvPicPr>
        <p:blipFill>
          <a:blip r:embed="rId2"/>
          <a:stretch/>
        </p:blipFill>
        <p:spPr>
          <a:xfrm>
            <a:off x="152280" y="15228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金波诗集"/>
          <p:cNvPicPr/>
          <p:nvPr/>
        </p:nvPicPr>
        <p:blipFill>
          <a:blip r:embed="rId3"/>
          <a:stretch/>
        </p:blipFill>
        <p:spPr>
          <a:xfrm>
            <a:off x="228600" y="2286000"/>
            <a:ext cx="1860480" cy="27241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jinboshiji"/>
          <p:cNvPicPr/>
          <p:nvPr/>
        </p:nvPicPr>
        <p:blipFill>
          <a:blip r:embed="rId4"/>
          <a:stretch/>
        </p:blipFill>
        <p:spPr>
          <a:xfrm>
            <a:off x="838080" y="3505320"/>
            <a:ext cx="2511720" cy="304776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3"/>
          <p:cNvSpPr/>
          <p:nvPr/>
        </p:nvSpPr>
        <p:spPr>
          <a:xfrm>
            <a:off x="2666880" y="685800"/>
            <a:ext cx="6172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春姑娘把小朋友们的好主意让一位诗人写成了一首诗来传达“春的消息”。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22860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学要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自由读诗，遇到不认识的字借助拼音读正确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用各种形式理解文中词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漂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牵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雀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搔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词语可以结合诗中的具体语境、生活经验和动作来理解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有疑问的地方做上记号。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914400" y="3886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读一读课文，看看谁带来了春的消息。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圆角矩形 5"/>
          <p:cNvSpPr/>
          <p:nvPr/>
        </p:nvSpPr>
        <p:spPr>
          <a:xfrm>
            <a:off x="4191120" y="5257800"/>
            <a:ext cx="4647960" cy="1371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3809880" y="5257800"/>
            <a:ext cx="5257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304920" y="260280"/>
            <a:ext cx="81356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教学目标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阅读过程中认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生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冈、蝴、蝶、耀、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积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词语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装、山冈、蝴蝶、雀跃、沉睡、照耀、面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用合适的方式理解词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盼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雀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意思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有感情地朗读课文。背诵课文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按要求预习课文。能说出自己知道的春天的消息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体会春天来到时人们欢快的心情以及对春天的喜爱之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圆角矩形 7"/>
          <p:cNvSpPr/>
          <p:nvPr/>
        </p:nvSpPr>
        <p:spPr>
          <a:xfrm>
            <a:off x="6248520" y="6172200"/>
            <a:ext cx="259056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6T02:55:0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29:57Z</dcterms:modified>
  <cp:revision>5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