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gif" ContentType="image/gif"/>
  <Override PartName="/ppt/media/type.wav" ContentType="audio/x-wav"/>
  <Override PartName="/ppt/media/click.wav" ContentType="audio/x-wav"/>
  <Override PartName="/ppt/media/image7.gif" ContentType="image/gif"/>
  <Override PartName="/ppt/media/image5.jpeg" ContentType="image/jpeg"/>
  <Override PartName="/ppt/media/image6.jpeg" ContentType="image/jpeg"/>
  <Override PartName="/ppt/media/image10.png" ContentType="image/png"/>
  <Override PartName="/ppt/media/image4.gif" ContentType="image/gif"/>
  <Override PartName="/ppt/media/image1.jpeg" ContentType="image/jpeg"/>
  <Override PartName="/ppt/media/image3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12.jpeg" ContentType="image/jpeg"/>
  <Override PartName="/ppt/media/cashreg.wav" ContentType="audio/x-wav"/>
  <Override PartName="/ppt/media/suction.wav" ContentType="audio/x-wav"/>
  <Override PartName="/ppt/media/image13.jpeg" ContentType="image/jpeg"/>
  <Override PartName="/ppt/media/coin.wav" ContentType="audio/x-wav"/>
  <Override PartName="/ppt/media/wind.wav" ContentType="audio/x-wav"/>
  <Override PartName="/ppt/media/chimes.wav" ContentType="audio/x-wav"/>
  <Override PartName="/ppt/media/image16.jpeg" ContentType="image/jpeg"/>
  <Override PartName="/ppt/media/CAMERA.WAV" ContentType="audio/x-wav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EE36A-3464-49DF-A6B0-DB70421DECC1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5B560-DC30-48C1-AD5F-4F1E778A1A46}" type="slidenum">
              <a:rPr b="1" lang="zh-CN" sz="1200" spc="-1" strike="noStrike">
                <a:solidFill>
                  <a:srgbClr val="000000"/>
                </a:solidFill>
                <a:latin typeface="Arial Black"/>
                <a:ea typeface="宋体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D1A7-FE64-48AB-8AF6-F35ED4294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FF7E-3FEE-4233-A963-95F019EED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60C1-C715-48DC-BB15-8DC4EE76B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02D4-FE17-4318-BA22-ABD2966B0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E2C0D-ABC4-4B2A-9E86-A38045112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80206-C34D-4DF0-B237-9FDA32339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451C5-A4C2-4E6E-8C0E-01AB97847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2397D-9A62-41B4-AE71-B22CED07A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5631B-98C0-48DA-AC0D-031193EA6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99543-A9B7-4B70-90C0-4B8451B58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16C91-D350-4A60-935F-7E3B91105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9153-75AB-471F-99E4-06E7E7804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967CF-7851-475C-A08C-DBDC70D97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46B65-22F4-476A-B3E8-1A171647A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B2470-676B-4D8B-BFDF-2A16CDFD7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563C6-0F81-4B02-9ADD-70C4ABB02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B7411-2C23-4471-BEB0-400FE033C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E94A-7A2C-4140-8E5A-0BB8739C7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6AA5-249E-4EBC-B31B-27F3B409F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2924-7C56-4951-ADC4-D59C50CD0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511A-3AA8-4446-A96E-E7E1C2897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0FAC-FF10-47A0-ABEB-DE7B60B0A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8311-31BA-446C-A0E7-2D9306230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A98A-040F-404A-806D-A2142E52F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3A29E-B7C8-4C96-A275-002C74623EA8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7DC13-963E-486D-8A1F-A0E715B95663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audio" Target="../media/coin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wind.wav"/><Relationship Id="rId3" Type="http://schemas.openxmlformats.org/officeDocument/2006/relationships/audio" Target="../media/chimes.wav"/><Relationship Id="rId4" Type="http://schemas.openxmlformats.org/officeDocument/2006/relationships/audio" Target="../media/suction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audio" Target="../media/click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CAMERA.WAV"/><Relationship Id="rId14" Type="http://schemas.openxmlformats.org/officeDocument/2006/relationships/audio" Target="../media/CAMERA.WAV"/><Relationship Id="rId15" Type="http://schemas.openxmlformats.org/officeDocument/2006/relationships/audio" Target="../media/CAMERA.WAV"/><Relationship Id="rId16" Type="http://schemas.openxmlformats.org/officeDocument/2006/relationships/audio" Target="../media/CAMERA.WAV"/><Relationship Id="rId17" Type="http://schemas.openxmlformats.org/officeDocument/2006/relationships/audio" Target="../media/CAMERA.WAV"/><Relationship Id="rId18" Type="http://schemas.openxmlformats.org/officeDocument/2006/relationships/audio" Target="../media/CAMERA.WAV"/><Relationship Id="rId19" Type="http://schemas.openxmlformats.org/officeDocument/2006/relationships/audio" Target="../media/CAMERA.WAV"/><Relationship Id="rId2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lick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audio" Target="../media/click.wav"/><Relationship Id="rId3" Type="http://schemas.openxmlformats.org/officeDocument/2006/relationships/audio" Target="../media/type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724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9600" spc="-1" strike="noStrike">
                <a:solidFill>
                  <a:srgbClr val="ffff00"/>
                </a:solidFill>
                <a:latin typeface="微软雅黑"/>
                <a:ea typeface="微软雅黑"/>
              </a:rPr>
              <a:t>长 江 之 歌</a:t>
            </a:r>
            <a:endParaRPr b="0" lang="en-US" sz="9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90" name="Picture 6" descr="http_imgload[2]"/>
          <p:cNvPicPr/>
          <p:nvPr/>
        </p:nvPicPr>
        <p:blipFill>
          <a:blip r:embed="rId2"/>
          <a:stretch/>
        </p:blipFill>
        <p:spPr>
          <a:xfrm>
            <a:off x="500040" y="3716280"/>
            <a:ext cx="1727280" cy="137016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9"/>
          <p:cNvSpPr/>
          <p:nvPr/>
        </p:nvSpPr>
        <p:spPr>
          <a:xfrm>
            <a:off x="8459640" y="6093000"/>
            <a:ext cx="433440" cy="504720"/>
          </a:xfrm>
          <a:custGeom>
            <a:avLst/>
            <a:gdLst>
              <a:gd name="textAreaLeft" fmla="*/ 28080 w 433440"/>
              <a:gd name="textAreaRight" fmla="*/ 405360 w 433440"/>
              <a:gd name="textAreaTop" fmla="*/ 28080 h 504720"/>
              <a:gd name="textAreaBottom" fmla="*/ 476640 h 504720"/>
            </a:gdLst>
            <a:ahLst/>
            <a:rect l="textAreaLeft" t="textAreaTop" r="textAreaRight" b="textAreaBottom"/>
            <a:pathLst>
              <a:path w="21600" h="25149">
                <a:moveTo>
                  <a:pt x="0" y="0"/>
                </a:moveTo>
                <a:lnTo>
                  <a:pt x="21600" y="0"/>
                </a:lnTo>
                <a:lnTo>
                  <a:pt x="21600" y="25149"/>
                </a:lnTo>
                <a:lnTo>
                  <a:pt x="0" y="25149"/>
                </a:lnTo>
                <a:close/>
              </a:path>
              <a:path fill="lightenLess" w="21600" h="251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49">
                <a:moveTo>
                  <a:pt x="21600" y="0"/>
                </a:moveTo>
                <a:lnTo>
                  <a:pt x="21600" y="25149"/>
                </a:lnTo>
                <a:lnTo>
                  <a:pt x="20200" y="23749"/>
                </a:lnTo>
                <a:lnTo>
                  <a:pt x="20200" y="1400"/>
                </a:lnTo>
                <a:close/>
              </a:path>
              <a:path fill="darkenLess" w="21600" h="25149">
                <a:moveTo>
                  <a:pt x="21600" y="25149"/>
                </a:moveTo>
                <a:lnTo>
                  <a:pt x="0" y="25149"/>
                </a:lnTo>
                <a:lnTo>
                  <a:pt x="1400" y="23749"/>
                </a:lnTo>
                <a:lnTo>
                  <a:pt x="20200" y="23749"/>
                </a:lnTo>
                <a:close/>
              </a:path>
              <a:path fill="lighten" w="21600" h="25149">
                <a:moveTo>
                  <a:pt x="0" y="2514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49"/>
                </a:lnTo>
                <a:close/>
              </a:path>
              <a:path fill="darken" w="21600" h="25149">
                <a:moveTo>
                  <a:pt x="3794" y="10181"/>
                </a:moveTo>
                <a:lnTo>
                  <a:pt x="8224" y="10181"/>
                </a:lnTo>
                <a:lnTo>
                  <a:pt x="12645" y="5568"/>
                </a:lnTo>
                <a:lnTo>
                  <a:pt x="12645" y="19581"/>
                </a:lnTo>
                <a:lnTo>
                  <a:pt x="8224" y="14968"/>
                </a:lnTo>
                <a:lnTo>
                  <a:pt x="3794" y="14968"/>
                </a:lnTo>
                <a:close/>
              </a:path>
              <a:path fill="darken" w="21600" h="25149">
                <a:moveTo>
                  <a:pt x="14299" y="12575"/>
                </a:moveTo>
                <a:lnTo>
                  <a:pt x="17806" y="12575"/>
                </a:lnTo>
              </a:path>
              <a:path fill="darken" w="21600" h="25149">
                <a:moveTo>
                  <a:pt x="14299" y="10181"/>
                </a:moveTo>
                <a:lnTo>
                  <a:pt x="17806" y="7413"/>
                </a:lnTo>
              </a:path>
              <a:path fill="darken" w="21600" h="25149">
                <a:moveTo>
                  <a:pt x="14299" y="14968"/>
                </a:moveTo>
                <a:lnTo>
                  <a:pt x="17806" y="17736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矩形 10"/>
          <p:cNvSpPr/>
          <p:nvPr/>
        </p:nvSpPr>
        <p:spPr>
          <a:xfrm>
            <a:off x="2087280" y="544500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http://www.eeppt.com</a:t>
            </a: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179280" y="1197000"/>
            <a:ext cx="896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第一节：写长江源远流长、宏伟博大、多姿多彩。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第二节：写长江的古老悠久、气势磅礴、力量无穷。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684360" y="476280"/>
            <a:ext cx="71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概括两部分的内容</a:t>
            </a:r>
            <a:endParaRPr b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395280" y="2565360"/>
            <a:ext cx="8207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cc"/>
                </a:solidFill>
                <a:latin typeface="Arial"/>
                <a:ea typeface="华文行楷"/>
              </a:rPr>
              <a:t>（从空间上描写了长江源远流长，横贯西东的宏伟气势，歌颂母亲长江拥抱着祖国大地，哺育了中华儿女的伟大胸怀。）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539640" y="4941720"/>
            <a:ext cx="80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Arial"/>
                <a:ea typeface="华文行楷"/>
              </a:rPr>
              <a:t>（</a:t>
            </a:r>
            <a:r>
              <a:rPr b="0" lang="zh-CN" sz="2800" spc="-1" strike="noStrike">
                <a:solidFill>
                  <a:srgbClr val="ff33cc"/>
                </a:solidFill>
                <a:latin typeface="Arial"/>
                <a:ea typeface="华文行楷"/>
              </a:rPr>
              <a:t>从时间上描写了长江悠远久长，纵贯古今的丰功伟绩，表现了我们祖国苦难的过去，光辉的现实和灿烂的未来。）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0" y="476280"/>
            <a:ext cx="9144000" cy="40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  <a:ea typeface="华文行楷"/>
              </a:rPr>
              <a:t>　</a:t>
            </a:r>
            <a:endParaRPr b="1" lang="en-US" sz="18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     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、</a:t>
            </a:r>
            <a:r>
              <a:rPr b="0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为什么说长江是无穷的源泉？</a:t>
            </a:r>
            <a:br>
              <a:rPr sz="2800"/>
            </a:br>
            <a:r>
              <a:rPr b="0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　　　 </a:t>
            </a:r>
            <a:r>
              <a:rPr b="0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、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从哪些地方看出长江有母亲的情怀？</a:t>
            </a:r>
            <a:br>
              <a:rPr sz="2800"/>
            </a:br>
            <a:r>
              <a:rPr b="0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　　</a:t>
            </a:r>
            <a:br>
              <a:rPr sz="2800"/>
            </a:br>
            <a:r>
              <a:rPr b="0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　　　　　　　　　　　　　　　　　　　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4335480" y="7361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611280" y="2205000"/>
            <a:ext cx="684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Arial"/>
                <a:ea typeface="华文行楷"/>
              </a:rPr>
              <a:t>                                  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  <a:ea typeface="华文行楷"/>
              </a:rPr>
              <a:t>你从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华文行楷"/>
              </a:rPr>
              <a:t>雪山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  <a:ea typeface="华文行楷"/>
              </a:rPr>
              <a:t>走来，</a:t>
            </a:r>
            <a:br>
              <a:rPr sz="2800"/>
            </a:br>
            <a:r>
              <a:rPr b="0" lang="zh-CN" sz="2800" spc="-1" strike="noStrike">
                <a:solidFill>
                  <a:srgbClr val="007a77"/>
                </a:solidFill>
                <a:latin typeface="Arial"/>
                <a:ea typeface="华文行楷"/>
              </a:rPr>
              <a:t>　　　　　　   春潮是你的丰采；</a:t>
            </a:r>
            <a:br>
              <a:rPr sz="2800"/>
            </a:br>
            <a:r>
              <a:rPr b="0" lang="zh-CN" sz="2800" spc="-1" strike="noStrike">
                <a:solidFill>
                  <a:srgbClr val="007a77"/>
                </a:solidFill>
                <a:latin typeface="Arial"/>
                <a:ea typeface="华文行楷"/>
              </a:rPr>
              <a:t>　　　　　　　你向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华文行楷"/>
              </a:rPr>
              <a:t>东海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  <a:ea typeface="华文行楷"/>
              </a:rPr>
              <a:t>奔去，</a:t>
            </a:r>
            <a:br>
              <a:rPr sz="2800"/>
            </a:br>
            <a:r>
              <a:rPr b="0" lang="zh-CN" sz="2800" spc="-1" strike="noStrike">
                <a:solidFill>
                  <a:srgbClr val="007a77"/>
                </a:solidFill>
                <a:latin typeface="Arial"/>
                <a:ea typeface="华文行楷"/>
              </a:rPr>
              <a:t>　　　　　　　惊涛是你的气概。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395280" y="43020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“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雪山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”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在祖国的最西部，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“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东海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”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在祖国的最东部，长江能从祖国的最西部走来，向祖国的最东部奔去，说明她源泉是无穷的。）</a:t>
            </a: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0" y="0"/>
            <a:ext cx="3025800" cy="765000"/>
          </a:xfrm>
          <a:prstGeom prst="wedgeRectCallout">
            <a:avLst>
              <a:gd name="adj1" fmla="val 1365"/>
              <a:gd name="adj2" fmla="val 98962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  <a:ea typeface="华文行楷"/>
              </a:rPr>
              <a:t>精读第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  <a:ea typeface="华文行楷"/>
              </a:rPr>
              <a:t>1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  <a:ea typeface="华文行楷"/>
              </a:rPr>
              <a:t>节，讨论：</a:t>
            </a: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anim calcmode="lin" valueType="num" to="1.5">
                                      <p:cBhvr additive="repl">
                                        <p:cTn id="31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250920" y="476280"/>
            <a:ext cx="684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  <a:ea typeface="华文行楷"/>
              </a:rPr>
              <a:t>                                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华文行楷"/>
              </a:rPr>
              <a:t>你用甘甜的乳汁，</a:t>
            </a:r>
            <a:br>
              <a:rPr sz="2800"/>
            </a:b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华文行楷"/>
              </a:rPr>
              <a:t>　　　　　　　   哺育各族儿女；</a:t>
            </a:r>
            <a:br>
              <a:rPr sz="2800"/>
            </a:b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华文行楷"/>
              </a:rPr>
              <a:t>　　　　　　　   你用健美的臂膀，</a:t>
            </a:r>
            <a:br>
              <a:rPr sz="2800"/>
            </a:b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华文行楷"/>
              </a:rPr>
              <a:t>　　　　　　　   挽起高山大海。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250920" y="2565360"/>
            <a:ext cx="860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  <a:ea typeface="楷体_GB2312"/>
              </a:rPr>
              <a:t>（“哺育各族儿女”：只有母亲才会哺育儿女，在这里把长江看作了母亲，而且长江哺育的是各族儿女，可见这位母亲的胸怀是多么的宽阔。</a:t>
            </a:r>
            <a:br>
              <a:rPr sz="2800"/>
            </a:br>
            <a:r>
              <a:rPr b="1" lang="zh-CN" sz="2800" spc="-1" strike="noStrike">
                <a:solidFill>
                  <a:srgbClr val="ff33cc"/>
                </a:solidFill>
                <a:latin typeface="Arial"/>
                <a:ea typeface="楷体_GB2312"/>
              </a:rPr>
              <a:t>　“你用健美的臂膀：挽起高山大海”：这里又把长江拟人化了，长江很长，它就像母亲伸长那健美的臂膀，从西至东，把祖国的高山大海拉在手里，让它们紧密联系在一起，永不分离。）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539640" y="0"/>
            <a:ext cx="8280360" cy="38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精读第</a:t>
            </a:r>
            <a:r>
              <a:rPr b="1" lang="en-US" sz="2800" spc="-1" strike="noStrike">
                <a:solidFill>
                  <a:srgbClr val="007a77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节讨论：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  <a:ea typeface="华文行楷"/>
              </a:rPr>
              <a:t> </a:t>
            </a:r>
            <a:br>
              <a:rPr sz="2400"/>
            </a:br>
            <a:endParaRPr b="1" lang="en-US" sz="18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（</a:t>
            </a:r>
            <a:r>
              <a:rPr b="0" lang="en-US" sz="2400" spc="-1" strike="noStrike">
                <a:solidFill>
                  <a:srgbClr val="007a77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）从哪些地方看出长江是无穷的源泉？</a:t>
            </a: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（</a:t>
            </a:r>
            <a:r>
              <a:rPr b="0" lang="en-US" sz="2400" spc="-1" strike="noStrike">
                <a:solidFill>
                  <a:srgbClr val="007a77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）从哪些地方看出长江具有母亲的情怀？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　　　　　　　　　　</a:t>
            </a: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1332000" y="1268280"/>
            <a:ext cx="532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1619280" y="2492280"/>
            <a:ext cx="6121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华文行楷"/>
                <a:ea typeface="华文行楷"/>
              </a:rPr>
              <a:t>你从远古走来，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华文行楷"/>
                <a:ea typeface="华文行楷"/>
              </a:rPr>
              <a:t>  </a:t>
            </a:r>
            <a:r>
              <a:rPr b="1" lang="zh-CN" sz="2800" spc="-1" strike="noStrike">
                <a:solidFill>
                  <a:srgbClr val="800000"/>
                </a:solidFill>
                <a:latin typeface="华文行楷"/>
                <a:ea typeface="华文行楷"/>
              </a:rPr>
              <a:t>巨浪荡涤着尘埃；</a:t>
            </a:r>
            <a:br>
              <a:rPr sz="2800"/>
            </a:br>
            <a:r>
              <a:rPr b="1" lang="zh-CN" sz="2800" spc="-1" strike="noStrike">
                <a:solidFill>
                  <a:srgbClr val="800000"/>
                </a:solidFill>
                <a:latin typeface="华文行楷"/>
                <a:ea typeface="华文行楷"/>
              </a:rPr>
              <a:t>你向未来奔去，</a:t>
            </a:r>
            <a:br>
              <a:rPr sz="2800"/>
            </a:br>
            <a:r>
              <a:rPr b="1" lang="zh-CN" sz="2800" spc="-1" strike="noStrike">
                <a:solidFill>
                  <a:srgbClr val="800000"/>
                </a:solidFill>
                <a:latin typeface="华文行楷"/>
                <a:ea typeface="华文行楷"/>
              </a:rPr>
              <a:t>  涛声回荡在天外。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华文行楷"/>
                <a:ea typeface="华文行楷"/>
              </a:rPr>
              <a:t>  </a:t>
            </a:r>
            <a:r>
              <a:rPr b="1" lang="zh-CN" sz="2800" spc="-1" strike="noStrike">
                <a:solidFill>
                  <a:srgbClr val="800000"/>
                </a:solidFill>
                <a:latin typeface="华文行楷"/>
                <a:ea typeface="华文行楷"/>
              </a:rPr>
              <a:t>你用纯洁的清流，</a:t>
            </a:r>
            <a:br>
              <a:rPr sz="2800"/>
            </a:br>
            <a:r>
              <a:rPr b="1" lang="zh-CN" sz="2800" spc="-1" strike="noStrike">
                <a:solidFill>
                  <a:srgbClr val="800000"/>
                </a:solidFill>
                <a:latin typeface="华文行楷"/>
                <a:ea typeface="华文行楷"/>
              </a:rPr>
              <a:t>灌溉花的国土；</a:t>
            </a:r>
            <a:br>
              <a:rPr sz="2800"/>
            </a:br>
            <a:r>
              <a:rPr b="1" lang="zh-CN" sz="2800" spc="-1" strike="noStrike">
                <a:solidFill>
                  <a:srgbClr val="800000"/>
                </a:solidFill>
                <a:latin typeface="华文行楷"/>
                <a:ea typeface="华文行楷"/>
              </a:rPr>
              <a:t>  你用磅礴的力量，</a:t>
            </a:r>
            <a:br>
              <a:rPr sz="2800"/>
            </a:br>
            <a:r>
              <a:rPr b="1" lang="zh-CN" sz="2800" spc="-1" strike="noStrike">
                <a:solidFill>
                  <a:srgbClr val="800000"/>
                </a:solidFill>
                <a:latin typeface="华文行楷"/>
                <a:ea typeface="华文行楷"/>
              </a:rPr>
              <a:t>推动新的时代。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2771640" y="549360"/>
            <a:ext cx="5832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ff33cc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ff33cc"/>
                </a:solidFill>
                <a:latin typeface="宋体"/>
              </a:rPr>
              <a:t>远古”是指很遥远的古代，长江从远古走来，向未来奔去，时间跨度很大，长江永远不会停息，所以说它是无穷的源泉。　　　　　　　　　　　　                             “灌溉花的国土”，祖国的领土那么大，长江能将它们一起灌溉，所以说它是“无穷的源泉”。</a:t>
            </a:r>
            <a:br>
              <a:rPr sz="3200"/>
            </a:br>
            <a:r>
              <a:rPr b="1" lang="zh-CN" sz="3200" spc="-1" strike="noStrike">
                <a:solidFill>
                  <a:srgbClr val="ff33cc"/>
                </a:solidFill>
                <a:latin typeface="宋体"/>
              </a:rPr>
              <a:t>  “推动新的时代”：长江能推动时代的发展，力量是无穷的。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4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4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395280" y="1773360"/>
            <a:ext cx="8353440" cy="23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  <a:ea typeface="华文行楷"/>
              </a:rPr>
              <a:t>　</a:t>
            </a:r>
            <a:br>
              <a:rPr sz="1800"/>
            </a:br>
            <a:r>
              <a:rPr b="0" lang="zh-CN" sz="2400" spc="-1" strike="noStrike">
                <a:solidFill>
                  <a:srgbClr val="007a77"/>
                </a:solidFill>
                <a:latin typeface="Arial"/>
                <a:ea typeface="华文行楷"/>
              </a:rPr>
              <a:t>　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  <a:ea typeface="华文行楷"/>
              </a:rPr>
              <a:t>“你用纯洁的清流，灌溉花的国土”：母爱是纯洁的、神圣的，长江像母亲一样滋润着祖国的每寸土地。</a:t>
            </a:r>
            <a:br>
              <a:rPr sz="3200"/>
            </a:br>
            <a:r>
              <a:rPr b="0" lang="zh-CN" sz="3200" spc="-1" strike="noStrike">
                <a:solidFill>
                  <a:srgbClr val="007a77"/>
                </a:solidFill>
                <a:latin typeface="Arial"/>
                <a:ea typeface="华文行楷"/>
              </a:rPr>
              <a:t>　“你用磅礴的力量，推动新的时代”：母亲的力量是巨大的，长江就像母亲一样，对新时代的发展起着不可估量的作用。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900000" y="549360"/>
            <a:ext cx="63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从哪些地方看出长江具有母亲的情怀？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6012000" y="1700280"/>
            <a:ext cx="2305080" cy="424800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6012000" y="1628640"/>
            <a:ext cx="2447640" cy="504036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64" name="Picture 4" descr="03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AutoShape 5"/>
          <p:cNvSpPr/>
          <p:nvPr/>
        </p:nvSpPr>
        <p:spPr>
          <a:xfrm>
            <a:off x="0" y="0"/>
            <a:ext cx="2087640" cy="1008000"/>
          </a:xfrm>
          <a:prstGeom prst="cloudCallout">
            <a:avLst>
              <a:gd name="adj1" fmla="val 72509"/>
              <a:gd name="adj2" fmla="val 48111"/>
            </a:avLst>
          </a:prstGeom>
          <a:solidFill>
            <a:srgbClr val="ebf7ff"/>
          </a:solidFill>
          <a:ln w="93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  <a:ea typeface="华文行楷"/>
              </a:rPr>
              <a:t>思考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5560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本诗抒发了作者的什么感情？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195280" y="1699920"/>
            <a:ext cx="554508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0f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b0f0"/>
                </a:solidFill>
                <a:latin typeface="Arial"/>
              </a:rPr>
              <a:t>抒发了对母亲长江的赞美和依恋之情。诗中以长江的美好、博大、仁厚、雄伟的形象象征祖国母亲，表达了对祖国母亲无限热爱、深情赞美的感情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5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2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95280" y="83628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0" lang="en-US" sz="3600" spc="-1" strike="noStrike">
                <a:solidFill>
                  <a:srgbClr val="007a77"/>
                </a:solidFill>
                <a:latin typeface="Arial"/>
              </a:rPr>
              <a:t>《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长江之歌</a:t>
            </a:r>
            <a:r>
              <a:rPr b="0" lang="en-US" sz="3600" spc="-1" strike="noStrike">
                <a:solidFill>
                  <a:srgbClr val="007a77"/>
                </a:solidFill>
                <a:latin typeface="Arial"/>
              </a:rPr>
              <a:t>》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用（        ）的手法，把长江比作（       ）</a:t>
            </a:r>
            <a:r>
              <a:rPr b="0" lang="en-US" sz="36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赞颂了长江的（         ）、（         ），表达了对长江的（         ）、（         ）之情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4859280" y="83664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  <a:ea typeface="楷体_GB2312"/>
              </a:rPr>
              <a:t>拟人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3348000" y="148428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  <a:ea typeface="楷体_GB2312"/>
              </a:rPr>
              <a:t>母亲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1187280" y="1989000"/>
            <a:ext cx="13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  <a:ea typeface="楷体_GB2312"/>
              </a:rPr>
              <a:t>宏伟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3780000" y="1916280"/>
            <a:ext cx="122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  <a:ea typeface="楷体_GB2312"/>
              </a:rPr>
              <a:t>壮观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2195640" y="24922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  <a:ea typeface="楷体_GB2312"/>
              </a:rPr>
              <a:t>热爱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4643280" y="2492280"/>
            <a:ext cx="13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  <a:ea typeface="楷体_GB2312"/>
              </a:rPr>
              <a:t>依恋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539640" y="260280"/>
            <a:ext cx="47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  <a:ea typeface="黑体"/>
              </a:rPr>
              <a:t>小 结：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76" name="Picture 10" descr="044"/>
          <p:cNvPicPr/>
          <p:nvPr/>
        </p:nvPicPr>
        <p:blipFill>
          <a:blip r:embed="rId2"/>
          <a:stretch/>
        </p:blipFill>
        <p:spPr>
          <a:xfrm>
            <a:off x="0" y="3141720"/>
            <a:ext cx="914400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646200" y="0"/>
            <a:ext cx="8497800" cy="55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板书设计：</a:t>
            </a:r>
            <a:endParaRPr b="1" lang="en-US" sz="36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                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源远流长        拥抱着大地 </a:t>
            </a: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从空间上描写            歌颂   </a:t>
            </a: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                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宏伟气势        哺育儿女的胸怀</a:t>
            </a: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                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悠远久长        苦难的过去      </a:t>
            </a: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从时间上描写            表现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  光辉的现实</a:t>
            </a: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                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功在千秋        灿烂的未来        </a:t>
            </a: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    </a:t>
            </a: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                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赞美之情        崇敬的情感</a:t>
            </a: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抒     写               表达</a:t>
            </a: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                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依恋之情        热爱的情感</a:t>
            </a: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8" name="AutoShape 3"/>
          <p:cNvSpPr/>
          <p:nvPr/>
        </p:nvSpPr>
        <p:spPr>
          <a:xfrm>
            <a:off x="2987640" y="1125360"/>
            <a:ext cx="142920" cy="792360"/>
          </a:xfrm>
          <a:custGeom>
            <a:avLst/>
            <a:gdLst>
              <a:gd name="textAreaLeft" fmla="*/ 91440 w 142920"/>
              <a:gd name="textAreaRight" fmla="*/ 143280 w 14292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2987640" y="2565360"/>
            <a:ext cx="217440" cy="792360"/>
          </a:xfrm>
          <a:custGeom>
            <a:avLst/>
            <a:gdLst>
              <a:gd name="textAreaLeft" fmla="*/ 138960 w 217440"/>
              <a:gd name="textAreaRight" fmla="*/ 217800 w 21744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2916360" y="4076640"/>
            <a:ext cx="217440" cy="792360"/>
          </a:xfrm>
          <a:custGeom>
            <a:avLst/>
            <a:gdLst>
              <a:gd name="textAreaLeft" fmla="*/ 138960 w 217440"/>
              <a:gd name="textAreaRight" fmla="*/ 217800 w 21744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1" name="AutoShape 6"/>
          <p:cNvSpPr/>
          <p:nvPr/>
        </p:nvSpPr>
        <p:spPr>
          <a:xfrm>
            <a:off x="755640" y="1484280"/>
            <a:ext cx="287280" cy="2952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76680 h 2952720"/>
              <a:gd name="textAreaBottom" fmla="*/ 2876040 h 29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254880" y="1700280"/>
            <a:ext cx="60696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长 江 之 歌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254880" y="1700280"/>
            <a:ext cx="60696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长 江 之 歌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" name="AutoShape 9"/>
          <p:cNvSpPr/>
          <p:nvPr/>
        </p:nvSpPr>
        <p:spPr>
          <a:xfrm>
            <a:off x="2987640" y="1125360"/>
            <a:ext cx="142920" cy="792360"/>
          </a:xfrm>
          <a:custGeom>
            <a:avLst/>
            <a:gdLst>
              <a:gd name="textAreaLeft" fmla="*/ 91440 w 142920"/>
              <a:gd name="textAreaRight" fmla="*/ 143280 w 14292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5" name="AutoShape 10"/>
          <p:cNvSpPr/>
          <p:nvPr/>
        </p:nvSpPr>
        <p:spPr>
          <a:xfrm>
            <a:off x="2987640" y="2565360"/>
            <a:ext cx="217440" cy="792360"/>
          </a:xfrm>
          <a:custGeom>
            <a:avLst/>
            <a:gdLst>
              <a:gd name="textAreaLeft" fmla="*/ 138960 w 217440"/>
              <a:gd name="textAreaRight" fmla="*/ 217800 w 21744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6" name="AutoShape 11"/>
          <p:cNvSpPr/>
          <p:nvPr/>
        </p:nvSpPr>
        <p:spPr>
          <a:xfrm>
            <a:off x="2916360" y="4076640"/>
            <a:ext cx="217440" cy="792360"/>
          </a:xfrm>
          <a:custGeom>
            <a:avLst/>
            <a:gdLst>
              <a:gd name="textAreaLeft" fmla="*/ 138960 w 217440"/>
              <a:gd name="textAreaRight" fmla="*/ 217800 w 21744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7" name="Text Box 12"/>
          <p:cNvSpPr/>
          <p:nvPr/>
        </p:nvSpPr>
        <p:spPr>
          <a:xfrm>
            <a:off x="254880" y="1700280"/>
            <a:ext cx="60696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长 江 之 歌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646200" y="0"/>
            <a:ext cx="8497800" cy="55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板书设计：</a:t>
            </a:r>
            <a:endParaRPr b="1" lang="en-US" sz="36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                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源远流长        拥抱着大地 </a:t>
            </a: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从空间上描写            歌颂   </a:t>
            </a: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                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宏伟气势        哺育儿女的胸怀</a:t>
            </a: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                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悠远久长        苦难的过去      </a:t>
            </a: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从时间上描写            表现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  光辉的现实</a:t>
            </a: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                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功在千秋        灿烂的未来        </a:t>
            </a: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    </a:t>
            </a: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                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赞美之情        崇敬的情感</a:t>
            </a: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抒     写               表达</a:t>
            </a: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                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依恋之情        热爱的情感</a:t>
            </a: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189" name="Group 14"/>
          <p:cNvGrpSpPr/>
          <p:nvPr/>
        </p:nvGrpSpPr>
        <p:grpSpPr>
          <a:xfrm>
            <a:off x="255240" y="1125360"/>
            <a:ext cx="2949840" cy="3743280"/>
            <a:chOff x="255240" y="1125360"/>
            <a:chExt cx="2949840" cy="3743280"/>
          </a:xfrm>
        </p:grpSpPr>
        <p:sp>
          <p:nvSpPr>
            <p:cNvPr id="190" name="AutoShape 15"/>
            <p:cNvSpPr/>
            <p:nvPr/>
          </p:nvSpPr>
          <p:spPr>
            <a:xfrm>
              <a:off x="2987640" y="1125360"/>
              <a:ext cx="142920" cy="792000"/>
            </a:xfrm>
            <a:custGeom>
              <a:avLst/>
              <a:gdLst>
                <a:gd name="textAreaLeft" fmla="*/ 91440 w 142920"/>
                <a:gd name="textAreaRight" fmla="*/ 143280 w 142920"/>
                <a:gd name="textAreaTop" fmla="*/ 20520 h 792000"/>
                <a:gd name="textAreaBottom" fmla="*/ 771480 h 79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8"/>
                  </a:cubicBezTo>
                  <a:lnTo>
                    <a:pt x="10800" y="9002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8"/>
                  </a:cubicBezTo>
                  <a:lnTo>
                    <a:pt x="10800" y="19802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91" name="AutoShape 16"/>
            <p:cNvSpPr/>
            <p:nvPr/>
          </p:nvSpPr>
          <p:spPr>
            <a:xfrm>
              <a:off x="2987640" y="2565360"/>
              <a:ext cx="217440" cy="792000"/>
            </a:xfrm>
            <a:custGeom>
              <a:avLst/>
              <a:gdLst>
                <a:gd name="textAreaLeft" fmla="*/ 138960 w 217440"/>
                <a:gd name="textAreaRight" fmla="*/ 217800 w 217440"/>
                <a:gd name="textAreaTop" fmla="*/ 20520 h 792000"/>
                <a:gd name="textAreaBottom" fmla="*/ 771480 h 79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8"/>
                  </a:cubicBezTo>
                  <a:lnTo>
                    <a:pt x="10800" y="9002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8"/>
                  </a:cubicBezTo>
                  <a:lnTo>
                    <a:pt x="10800" y="19802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92" name="AutoShape 17"/>
            <p:cNvSpPr/>
            <p:nvPr/>
          </p:nvSpPr>
          <p:spPr>
            <a:xfrm>
              <a:off x="2916360" y="4076640"/>
              <a:ext cx="217440" cy="792000"/>
            </a:xfrm>
            <a:custGeom>
              <a:avLst/>
              <a:gdLst>
                <a:gd name="textAreaLeft" fmla="*/ 138960 w 217440"/>
                <a:gd name="textAreaRight" fmla="*/ 217800 w 217440"/>
                <a:gd name="textAreaTop" fmla="*/ 20520 h 792000"/>
                <a:gd name="textAreaBottom" fmla="*/ 771480 h 79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8"/>
                  </a:cubicBezTo>
                  <a:lnTo>
                    <a:pt x="10800" y="9002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8"/>
                  </a:cubicBezTo>
                  <a:lnTo>
                    <a:pt x="10800" y="19802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93" name="Text Box 18"/>
            <p:cNvSpPr/>
            <p:nvPr/>
          </p:nvSpPr>
          <p:spPr>
            <a:xfrm>
              <a:off x="255240" y="1699920"/>
              <a:ext cx="606960" cy="251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Arial"/>
                </a:rPr>
                <a:t>长 江 之 歌</a:t>
              </a:r>
              <a:endParaRPr b="1" lang="en-US" sz="2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sp>
        <p:nvSpPr>
          <p:cNvPr id="194" name="文本框 1"/>
          <p:cNvSpPr/>
          <p:nvPr/>
        </p:nvSpPr>
        <p:spPr>
          <a:xfrm>
            <a:off x="755640" y="5570640"/>
            <a:ext cx="765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 Black"/>
              </a:rPr>
              <a:t>更多免费</a:t>
            </a:r>
            <a:r>
              <a:rPr b="1" lang="zh-CN" sz="2400" spc="-1" strike="noStrike">
                <a:solidFill>
                  <a:srgbClr val="ff0000"/>
                </a:solidFill>
                <a:latin typeface="Arial Black"/>
              </a:rPr>
              <a:t>PPT</a:t>
            </a:r>
            <a:r>
              <a:rPr b="1" lang="zh-CN" sz="2400" spc="-1" strike="noStrike">
                <a:solidFill>
                  <a:srgbClr val="ff0000"/>
                </a:solidFill>
                <a:latin typeface="Arial Black"/>
              </a:rPr>
              <a:t>模板尽在：</a:t>
            </a:r>
            <a:r>
              <a:rPr b="1" lang="zh-CN" sz="2400" spc="-1" strike="noStrike">
                <a:solidFill>
                  <a:srgbClr val="ff0000"/>
                </a:solidFill>
                <a:latin typeface="Arial Black"/>
              </a:rPr>
              <a:t>http://www.eeppt.com</a:t>
            </a: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0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3"/>
          <p:cNvSpPr/>
          <p:nvPr/>
        </p:nvSpPr>
        <p:spPr>
          <a:xfrm>
            <a:off x="1116000" y="393840"/>
            <a:ext cx="53276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布置作业：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背诵。 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完成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配套练习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228600" y="117468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长江全长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6300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千米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是我国最长的河流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;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在世界大河中长度仅次于尼罗河、亚马孙河，居第三位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4648320" y="205740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————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我国长度最长</a:t>
            </a:r>
            <a:endParaRPr b="1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04920" y="284796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长江年径流量近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10000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亿立方米，占全国河流年径流量的三分之一；在世界上仅次于亚马孙河、刚果河，居第三位。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5287320" y="4114800"/>
            <a:ext cx="197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————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我国水量最大</a:t>
            </a:r>
            <a:endParaRPr b="1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304920" y="4875120"/>
            <a:ext cx="5638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长江流域面积约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180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万平方千米，占我国国土面积近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20%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，居我国各河之首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2311200" y="37296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请看下面一组数据：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4848480" y="5832360"/>
            <a:ext cx="224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————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我国流域面积最广</a:t>
            </a:r>
            <a:endParaRPr b="1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AutoShape 9"/>
          <p:cNvSpPr/>
          <p:nvPr/>
        </p:nvSpPr>
        <p:spPr>
          <a:xfrm>
            <a:off x="7924680" y="2209680"/>
            <a:ext cx="685800" cy="3886200"/>
          </a:xfrm>
          <a:custGeom>
            <a:avLst/>
            <a:gdLst>
              <a:gd name="textAreaLeft" fmla="*/ 0 w 685800"/>
              <a:gd name="textAreaRight" fmla="*/ 247680 w 685800"/>
              <a:gd name="textAreaTop" fmla="*/ 101160 h 3886200"/>
              <a:gd name="textAreaBottom" fmla="*/ 3785040 h 388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Text Box 10">
            <a:hlinkClick r:id="rId2" action="ppaction://hlinksldjump"/>
          </p:cNvPr>
          <p:cNvSpPr/>
          <p:nvPr/>
        </p:nvSpPr>
        <p:spPr>
          <a:xfrm>
            <a:off x="8506800" y="2444760"/>
            <a:ext cx="606960" cy="33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中 国 第 一 大 河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strips dir="lu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04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WordArt 3"/>
          <p:cNvSpPr txBox="1"/>
          <p:nvPr/>
        </p:nvSpPr>
        <p:spPr>
          <a:xfrm>
            <a:off x="1692360" y="404640"/>
            <a:ext cx="5041800" cy="321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再见</a:t>
            </a:r>
            <a:endParaRPr b="1" lang="en-US" sz="80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strips dir="rd"/>
  </p:transition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dc5900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dc5900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7a77"/>
                </a:solidFill>
                <a:latin typeface="Arial"/>
              </a:rPr>
              <a:t>www.eeppt.com</a:t>
            </a:r>
            <a:endParaRPr b="1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A4CD6-2874-45D4-A038-87753FB024F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长江流域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3399"/>
                </a:solidFill>
                <a:latin typeface="Arial"/>
              </a:rPr>
              <a:t>了解长江</a:t>
            </a:r>
            <a:br>
              <a:rPr sz="4400"/>
            </a:b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-192600" y="990360"/>
            <a:ext cx="9331560" cy="41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长江发源于           高原的               山脉，注入             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           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，全长             千米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长江依次流经                   、                 、              、                                                                      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                            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四个地形区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长江的干流自湖北的         以上为上游，江西的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               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以下为下游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长江干流依次流经               、           、            、                                     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          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云南、          、湖北、        、        、       、江苏                                                    和       市，共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11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个省级行政区。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5" name="Text Box 21"/>
          <p:cNvSpPr/>
          <p:nvPr/>
        </p:nvSpPr>
        <p:spPr>
          <a:xfrm>
            <a:off x="3126600" y="1025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青藏</a:t>
            </a:r>
            <a:endParaRPr b="1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Text Box 22"/>
          <p:cNvSpPr/>
          <p:nvPr/>
        </p:nvSpPr>
        <p:spPr>
          <a:xfrm>
            <a:off x="5083920" y="102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唐古拉</a:t>
            </a:r>
            <a:endParaRPr b="1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Text Box 23"/>
          <p:cNvSpPr/>
          <p:nvPr/>
        </p:nvSpPr>
        <p:spPr>
          <a:xfrm>
            <a:off x="1145880" y="1492200"/>
            <a:ext cx="5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东 海</a:t>
            </a:r>
            <a:endParaRPr b="1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" name="Text Box 24"/>
          <p:cNvSpPr/>
          <p:nvPr/>
        </p:nvSpPr>
        <p:spPr>
          <a:xfrm>
            <a:off x="3026880" y="14922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6300</a:t>
            </a:r>
            <a:endParaRPr b="1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Text Box 25"/>
          <p:cNvSpPr/>
          <p:nvPr/>
        </p:nvSpPr>
        <p:spPr>
          <a:xfrm>
            <a:off x="3670560" y="20890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青藏高原</a:t>
            </a:r>
            <a:endParaRPr b="1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Text Box 26"/>
          <p:cNvSpPr/>
          <p:nvPr/>
        </p:nvSpPr>
        <p:spPr>
          <a:xfrm>
            <a:off x="5350320" y="20890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云贵高原</a:t>
            </a:r>
            <a:endParaRPr b="1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Text Box 27"/>
          <p:cNvSpPr/>
          <p:nvPr/>
        </p:nvSpPr>
        <p:spPr>
          <a:xfrm>
            <a:off x="7071120" y="20890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四川盆地</a:t>
            </a:r>
            <a:endParaRPr b="1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Text Box 28"/>
          <p:cNvSpPr/>
          <p:nvPr/>
        </p:nvSpPr>
        <p:spPr>
          <a:xfrm>
            <a:off x="1483560" y="245556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长江中下游平原</a:t>
            </a:r>
            <a:endParaRPr b="1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" name="Text Box 29"/>
          <p:cNvSpPr/>
          <p:nvPr/>
        </p:nvSpPr>
        <p:spPr>
          <a:xfrm>
            <a:off x="4285440" y="29397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宜昌</a:t>
            </a:r>
            <a:endParaRPr b="1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Text Box 30"/>
          <p:cNvSpPr/>
          <p:nvPr/>
        </p:nvSpPr>
        <p:spPr>
          <a:xfrm>
            <a:off x="1532880" y="33080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湖口</a:t>
            </a:r>
            <a:endParaRPr b="1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Text Box 31"/>
          <p:cNvSpPr/>
          <p:nvPr/>
        </p:nvSpPr>
        <p:spPr>
          <a:xfrm>
            <a:off x="4208040" y="37954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青海</a:t>
            </a:r>
            <a:endParaRPr b="1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6" name="Text Box 32"/>
          <p:cNvSpPr/>
          <p:nvPr/>
        </p:nvSpPr>
        <p:spPr>
          <a:xfrm>
            <a:off x="5439600" y="37875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西藏</a:t>
            </a:r>
            <a:endParaRPr b="1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Text Box 33"/>
          <p:cNvSpPr/>
          <p:nvPr/>
        </p:nvSpPr>
        <p:spPr>
          <a:xfrm>
            <a:off x="2442600" y="42447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四川</a:t>
            </a:r>
            <a:endParaRPr b="1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Text Box 34"/>
          <p:cNvSpPr/>
          <p:nvPr/>
        </p:nvSpPr>
        <p:spPr>
          <a:xfrm>
            <a:off x="6808320" y="37652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重庆</a:t>
            </a:r>
            <a:endParaRPr b="1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" name="Text Box 35"/>
          <p:cNvSpPr/>
          <p:nvPr/>
        </p:nvSpPr>
        <p:spPr>
          <a:xfrm>
            <a:off x="4203720" y="4244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湖南</a:t>
            </a:r>
            <a:endParaRPr b="1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" name="Text Box 36"/>
          <p:cNvSpPr/>
          <p:nvPr/>
        </p:nvSpPr>
        <p:spPr>
          <a:xfrm>
            <a:off x="6355800" y="42526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江西</a:t>
            </a:r>
            <a:endParaRPr b="1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Text Box 37"/>
          <p:cNvSpPr/>
          <p:nvPr/>
        </p:nvSpPr>
        <p:spPr>
          <a:xfrm>
            <a:off x="5439600" y="43113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安徽</a:t>
            </a:r>
            <a:endParaRPr b="1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Text Box 38"/>
          <p:cNvSpPr/>
          <p:nvPr/>
        </p:nvSpPr>
        <p:spPr>
          <a:xfrm>
            <a:off x="623160" y="45003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上海</a:t>
            </a:r>
            <a:endParaRPr b="1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cover dir="l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1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1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6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1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Arial"/>
              </a:rPr>
              <a:t>长 江 之 歌</a:t>
            </a:r>
            <a:endParaRPr b="0" lang="en-US" sz="6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0" y="17002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教学目标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　 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正确、流利、有感情地朗读课文，背诵课文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　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学会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个生字，理解由生字组成的词语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通过理解诗歌的语言和吟诵诗句，激发学生对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祖国大好河山的热爱之情，培养审美情趣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25" name="Picture 4" descr="3466[1]"/>
          <p:cNvPicPr/>
          <p:nvPr/>
        </p:nvPicPr>
        <p:blipFill>
          <a:blip r:embed="rId1"/>
          <a:stretch/>
        </p:blipFill>
        <p:spPr>
          <a:xfrm>
            <a:off x="7524720" y="4797360"/>
            <a:ext cx="11509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9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4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9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4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900000" y="620640"/>
            <a:ext cx="727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第一课时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50560" y="1916280"/>
            <a:ext cx="8893080" cy="43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二、简介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长江之歌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时代背景及有关知识点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时代背景：写于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1988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年，这正是中国人民在中国共产党领导下，实行改革开放政策，社会主义建设取得伟大胜利的年代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长江之歌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是电视专题片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话说长江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的主题歌，胡宏伟词，王世光曲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250920" y="1341360"/>
            <a:ext cx="6408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宋体"/>
              </a:rPr>
              <a:t>一、检查预习情况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  <a:ea typeface="宋体"/>
              </a:rPr>
              <a:t>       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  <a:ea typeface="宋体"/>
              </a:rPr>
              <a:t>检查背诵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900000" y="2565360"/>
            <a:ext cx="770436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哺育                 磅 礴    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荡涤                 尘埃  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灌溉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1258920" y="765000"/>
            <a:ext cx="504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检 查 预 习</a:t>
            </a: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2195640" y="263700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(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b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ǔ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)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6443640" y="256536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  <a:ea typeface="华文行楷"/>
              </a:rPr>
              <a:t>(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华文行楷"/>
              </a:rPr>
              <a:t>páng  bó 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  <a:ea typeface="华文行楷"/>
              </a:rPr>
              <a:t>)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2535120" y="31845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1763640" y="3417840"/>
            <a:ext cx="21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1908000" y="3500280"/>
            <a:ext cx="28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 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dàng dí 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）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6516720" y="3573360"/>
            <a:ext cx="18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 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āi 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）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1908000" y="450864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 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guàn gài 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）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39" name="Picture 11" descr="http_imgload[1]"/>
          <p:cNvPicPr/>
          <p:nvPr/>
        </p:nvPicPr>
        <p:blipFill>
          <a:blip r:embed="rId1"/>
          <a:stretch/>
        </p:blipFill>
        <p:spPr>
          <a:xfrm>
            <a:off x="7093080" y="4797360"/>
            <a:ext cx="136836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5148000" y="259920"/>
            <a:ext cx="399564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  <a:ea typeface="楷体_GB2312"/>
              </a:rPr>
              <a:t>你从雪山走来，</a:t>
            </a:r>
            <a:br>
              <a:rPr sz="3200"/>
            </a:br>
            <a:r>
              <a:rPr b="1" lang="zh-CN" sz="3200" spc="-1" strike="noStrike">
                <a:solidFill>
                  <a:srgbClr val="ff6600"/>
                </a:solidFill>
                <a:latin typeface="Arial"/>
                <a:ea typeface="楷体_GB2312"/>
              </a:rPr>
              <a:t>春潮是你的丰采；</a:t>
            </a:r>
            <a:br>
              <a:rPr sz="3200"/>
            </a:br>
            <a:r>
              <a:rPr b="1" lang="zh-CN" sz="3200" spc="-1" strike="noStrike">
                <a:solidFill>
                  <a:srgbClr val="ff6600"/>
                </a:solidFill>
                <a:latin typeface="Arial"/>
                <a:ea typeface="楷体_GB2312"/>
              </a:rPr>
              <a:t>你向东海奔去，</a:t>
            </a:r>
            <a:br>
              <a:rPr sz="3200"/>
            </a:br>
            <a:r>
              <a:rPr b="1" lang="zh-CN" sz="3200" spc="-1" strike="noStrike">
                <a:solidFill>
                  <a:srgbClr val="ff6600"/>
                </a:solidFill>
                <a:latin typeface="Arial"/>
                <a:ea typeface="楷体_GB2312"/>
              </a:rPr>
              <a:t>惊涛是你的气概。</a:t>
            </a:r>
            <a:br>
              <a:rPr sz="3200"/>
            </a:br>
            <a:r>
              <a:rPr b="1" lang="zh-CN" sz="3200" spc="-1" strike="noStrike">
                <a:solidFill>
                  <a:srgbClr val="ff6600"/>
                </a:solidFill>
                <a:latin typeface="Arial"/>
                <a:ea typeface="楷体_GB2312"/>
              </a:rPr>
              <a:t>你用甘甜的乳汁，</a:t>
            </a:r>
            <a:br>
              <a:rPr sz="3200"/>
            </a:br>
            <a:r>
              <a:rPr b="1" lang="zh-CN" sz="3200" spc="-1" strike="noStrike">
                <a:solidFill>
                  <a:srgbClr val="ff6600"/>
                </a:solidFill>
                <a:latin typeface="Arial"/>
                <a:ea typeface="楷体_GB2312"/>
              </a:rPr>
              <a:t>哺育各族儿女；</a:t>
            </a:r>
            <a:br>
              <a:rPr sz="3200"/>
            </a:br>
            <a:r>
              <a:rPr b="1" lang="zh-CN" sz="3200" spc="-1" strike="noStrike">
                <a:solidFill>
                  <a:srgbClr val="ff6600"/>
                </a:solidFill>
                <a:latin typeface="Arial"/>
                <a:ea typeface="楷体_GB2312"/>
              </a:rPr>
              <a:t>你用健美的臂膀，</a:t>
            </a:r>
            <a:br>
              <a:rPr sz="3200"/>
            </a:br>
            <a:r>
              <a:rPr b="1" lang="zh-CN" sz="3200" spc="-1" strike="noStrike">
                <a:solidFill>
                  <a:srgbClr val="ff6600"/>
                </a:solidFill>
                <a:latin typeface="Arial"/>
                <a:ea typeface="楷体_GB2312"/>
              </a:rPr>
              <a:t>挽起高山大海。 </a:t>
            </a:r>
            <a:br>
              <a:rPr sz="3200"/>
            </a:br>
            <a:r>
              <a:rPr b="1" lang="zh-CN" sz="3200" spc="-1" strike="noStrike">
                <a:solidFill>
                  <a:srgbClr val="ff6600"/>
                </a:solidFill>
                <a:latin typeface="Arial"/>
                <a:ea typeface="楷体_GB2312"/>
              </a:rPr>
              <a:t>我们赞美长江，</a:t>
            </a:r>
            <a:br>
              <a:rPr sz="3200"/>
            </a:br>
            <a:r>
              <a:rPr b="1" lang="zh-CN" sz="3200" spc="-1" strike="noStrike">
                <a:solidFill>
                  <a:srgbClr val="ff6600"/>
                </a:solidFill>
                <a:latin typeface="Arial"/>
                <a:ea typeface="楷体_GB2312"/>
              </a:rPr>
              <a:t>你是无穷的源泉；</a:t>
            </a:r>
            <a:br>
              <a:rPr sz="3200"/>
            </a:br>
            <a:r>
              <a:rPr b="1" lang="zh-CN" sz="3200" spc="-1" strike="noStrike">
                <a:solidFill>
                  <a:srgbClr val="ff6600"/>
                </a:solidFill>
                <a:latin typeface="Arial"/>
                <a:ea typeface="楷体_GB2312"/>
              </a:rPr>
              <a:t>我们依恋长江，</a:t>
            </a:r>
            <a:br>
              <a:rPr sz="3200"/>
            </a:br>
            <a:r>
              <a:rPr b="1" lang="zh-CN" sz="3200" spc="-1" strike="noStrike">
                <a:solidFill>
                  <a:srgbClr val="ff6600"/>
                </a:solidFill>
                <a:latin typeface="Arial"/>
                <a:ea typeface="楷体_GB2312"/>
              </a:rPr>
              <a:t>你有母亲的情怀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41" name="长江之歌1.wma" descr=""/>
          <p:cNvPicPr/>
          <p:nvPr/>
        </p:nvPicPr>
        <p:blipFill>
          <a:blip r:embed="rId2"/>
          <a:stretch/>
        </p:blipFill>
        <p:spPr>
          <a:xfrm>
            <a:off x="900000" y="551664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4"/>
          <p:cNvSpPr/>
          <p:nvPr/>
        </p:nvSpPr>
        <p:spPr>
          <a:xfrm>
            <a:off x="324000" y="434880"/>
            <a:ext cx="46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ff33cc"/>
                </a:solidFill>
                <a:latin typeface="Arial"/>
                <a:ea typeface="华文行楷"/>
              </a:rPr>
              <a:t>听课文朗诵，注意各节的中心意思。</a:t>
            </a: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5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276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9" dur="154521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643280" y="404280"/>
            <a:ext cx="432144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你从远古走来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巨浪荡涤着尘埃；</a:t>
            </a:r>
            <a:br>
              <a:rPr sz="3200"/>
            </a:br>
            <a:r>
              <a:rPr b="1" lang="zh-CN" sz="32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你向未来奔去，</a:t>
            </a:r>
            <a:br>
              <a:rPr sz="3200"/>
            </a:br>
            <a:r>
              <a:rPr b="1" lang="zh-CN" sz="32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涛声回荡在天外。</a:t>
            </a:r>
            <a:br>
              <a:rPr sz="3200"/>
            </a:br>
            <a:r>
              <a:rPr b="1" lang="zh-CN" sz="32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你用纯洁的清流，</a:t>
            </a:r>
            <a:br>
              <a:rPr sz="3200"/>
            </a:br>
            <a:r>
              <a:rPr b="1" lang="zh-CN" sz="32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灌溉花的国土；</a:t>
            </a:r>
            <a:br>
              <a:rPr sz="3200"/>
            </a:br>
            <a:r>
              <a:rPr b="1" lang="zh-CN" sz="32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你用磅礴的力量，</a:t>
            </a:r>
            <a:br>
              <a:rPr sz="3200"/>
            </a:br>
            <a:r>
              <a:rPr b="1" lang="zh-CN" sz="32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推动新的时代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我们赞美长江，</a:t>
            </a:r>
            <a:br>
              <a:rPr sz="3200"/>
            </a:br>
            <a:r>
              <a:rPr b="1" lang="zh-CN" sz="32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你是无穷的源泉；</a:t>
            </a:r>
            <a:br>
              <a:rPr sz="3200"/>
            </a:br>
            <a:r>
              <a:rPr b="1" lang="zh-CN" sz="32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我们依恋长江，</a:t>
            </a:r>
            <a:br>
              <a:rPr sz="3200"/>
            </a:br>
            <a:r>
              <a:rPr b="1" lang="zh-CN" sz="32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你有母亲的情怀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啊，长江！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啊</a:t>
            </a:r>
            <a:r>
              <a:rPr b="1" lang="en-US" sz="32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, </a:t>
            </a:r>
            <a:r>
              <a:rPr b="1" lang="zh-CN" sz="32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长江！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44" name="长江之歌1.wma" descr=""/>
          <p:cNvPicPr/>
          <p:nvPr/>
        </p:nvPicPr>
        <p:blipFill>
          <a:blip r:embed="rId2"/>
          <a:stretch/>
        </p:blipFill>
        <p:spPr>
          <a:xfrm>
            <a:off x="611280" y="5877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280" dur="indefinite" restart="never" nodeType="tmRoot">
          <p:childTnLst>
            <p:seq>
              <p:cTn id="281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282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5" dur="154521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7T02:55:33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48:03Z</dcterms:modified>
  <cp:revision>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