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7.gif" ContentType="image/gif"/>
  <Override PartName="/ppt/media/image18.png" ContentType="image/png"/>
  <Override PartName="/ppt/media/image15.jpeg" ContentType="image/jpeg"/>
  <Override PartName="/ppt/media/image16.png" ContentType="image/png"/>
  <Override PartName="/ppt/media/image1.jpeg" ContentType="image/jpeg"/>
  <Override PartName="/ppt/media/image2.png" ContentType="image/png"/>
  <Override PartName="/ppt/media/image14.jpeg" ContentType="image/jpeg"/>
  <Override PartName="/ppt/media/image5.gif" ContentType="image/gif"/>
  <Override PartName="/ppt/media/image12.jpeg" ContentType="image/jpeg"/>
  <Override PartName="/ppt/media/image8.wmf" ContentType="image/x-wmf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E2DE-8FF8-47C1-988B-210AB0CC2E3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BA8D-AAD1-4DD7-A45F-DA9E4A499F4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3CCC-695C-4CDB-B6BC-7FDB9C0CB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3E37-96A1-4342-BB01-F4631D06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741D-9BDE-41A3-A0F7-AD5C18C49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C2BB-3105-4B88-904B-A32EE9D53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51B1-DD90-470B-AD99-BC4D6934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F8CA-25C8-4070-8C5A-B2442930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0BDD-085F-4685-A924-59AB03AE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39BD-7F47-4713-84A9-016A14CB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22B0-6420-42D4-A811-C7F36639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DA82-2232-4DF4-BA47-5912D61B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8130-D196-40E8-9741-10DCF9B8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C8EC-AD71-4C7A-B4D5-ADE3369F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B88C-F860-4A5F-A886-740ADF8365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gif"/><Relationship Id="rId3" Type="http://schemas.openxmlformats.org/officeDocument/2006/relationships/image" Target="../media/image8.wm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5采蘑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 rot="5400000">
            <a:off x="-1152720" y="2673000"/>
            <a:ext cx="5688000" cy="10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9000"/>
                    </a:srgbClr>
                  </a:outerShdw>
                </a:effectLst>
                <a:latin typeface="华文中宋"/>
              </a:rPr>
              <a:t>采蘑菇的小姑娘</a:t>
            </a:r>
            <a:endParaRPr b="1" i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9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2970000" y="5805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2006122883111847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mg"/>
          <p:cNvPicPr/>
          <p:nvPr/>
        </p:nvPicPr>
        <p:blipFill>
          <a:blip r:embed="rId2"/>
          <a:stretch/>
        </p:blipFill>
        <p:spPr>
          <a:xfrm>
            <a:off x="1547640" y="1268280"/>
            <a:ext cx="6085080" cy="4564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3"/>
          <a:stretch/>
        </p:blipFill>
        <p:spPr>
          <a:xfrm>
            <a:off x="1476360" y="1125360"/>
            <a:ext cx="6085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jishi-20071229133523-001photo"/>
          <p:cNvPicPr/>
          <p:nvPr/>
        </p:nvPicPr>
        <p:blipFill>
          <a:blip r:embed="rId1"/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63346384528203125013328255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5采蘑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1006560" y="2205000"/>
            <a:ext cx="7237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文的主人公是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清早起来在忙些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是一个怎样的小姑娘？你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哪里看出来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258920" y="90792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学习提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5采蘑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3"/>
          <p:cNvGrpSpPr/>
          <p:nvPr/>
        </p:nvGrpSpPr>
        <p:grpSpPr>
          <a:xfrm>
            <a:off x="1116000" y="765000"/>
            <a:ext cx="4584600" cy="5161320"/>
            <a:chOff x="1116000" y="765000"/>
            <a:chExt cx="4584600" cy="5161320"/>
          </a:xfrm>
        </p:grpSpPr>
        <p:sp>
          <p:nvSpPr>
            <p:cNvPr id="144" name="Text Box 4"/>
            <p:cNvSpPr/>
            <p:nvPr/>
          </p:nvSpPr>
          <p:spPr>
            <a:xfrm>
              <a:off x="1150920" y="765000"/>
              <a:ext cx="453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采蘑菇的小姑娘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5"/>
            <p:cNvSpPr/>
            <p:nvPr/>
          </p:nvSpPr>
          <p:spPr>
            <a:xfrm>
              <a:off x="1116000" y="1412640"/>
              <a:ext cx="453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背着一个大竹筐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6"/>
            <p:cNvSpPr/>
            <p:nvPr/>
          </p:nvSpPr>
          <p:spPr>
            <a:xfrm>
              <a:off x="1116000" y="2060280"/>
              <a:ext cx="453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清早光着小脚丫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7"/>
            <p:cNvSpPr/>
            <p:nvPr/>
          </p:nvSpPr>
          <p:spPr>
            <a:xfrm>
              <a:off x="1116000" y="2708280"/>
              <a:ext cx="453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走遍树林和山冈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8"/>
            <p:cNvSpPr/>
            <p:nvPr/>
          </p:nvSpPr>
          <p:spPr>
            <a:xfrm>
              <a:off x="1165320" y="3402000"/>
              <a:ext cx="453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她采的蘑菇最多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9"/>
            <p:cNvSpPr/>
            <p:nvPr/>
          </p:nvSpPr>
          <p:spPr>
            <a:xfrm>
              <a:off x="1130400" y="4049640"/>
              <a:ext cx="453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多得像那星星数不清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0"/>
            <p:cNvSpPr/>
            <p:nvPr/>
          </p:nvSpPr>
          <p:spPr>
            <a:xfrm>
              <a:off x="1130400" y="4697280"/>
              <a:ext cx="453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她采的蘑菇最大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1"/>
            <p:cNvSpPr/>
            <p:nvPr/>
          </p:nvSpPr>
          <p:spPr>
            <a:xfrm>
              <a:off x="1130400" y="5344920"/>
              <a:ext cx="453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大得像那小伞装满筐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AutoShape 12"/>
          <p:cNvSpPr/>
          <p:nvPr/>
        </p:nvSpPr>
        <p:spPr>
          <a:xfrm>
            <a:off x="4788000" y="620640"/>
            <a:ext cx="2808360" cy="1008000"/>
          </a:xfrm>
          <a:prstGeom prst="cloudCallout">
            <a:avLst>
              <a:gd name="adj1" fmla="val -68935"/>
              <a:gd name="adj2" fmla="val 9740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吃苦耐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3"/>
          <p:cNvGrpSpPr/>
          <p:nvPr/>
        </p:nvGrpSpPr>
        <p:grpSpPr>
          <a:xfrm>
            <a:off x="1230480" y="1989000"/>
            <a:ext cx="2909880" cy="1295280"/>
            <a:chOff x="1230480" y="1989000"/>
            <a:chExt cx="2909880" cy="1295280"/>
          </a:xfrm>
        </p:grpSpPr>
        <p:sp>
          <p:nvSpPr>
            <p:cNvPr id="154" name="Line 14"/>
            <p:cNvSpPr/>
            <p:nvPr/>
          </p:nvSpPr>
          <p:spPr>
            <a:xfrm>
              <a:off x="1258920" y="1989000"/>
              <a:ext cx="288144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5"/>
            <p:cNvSpPr/>
            <p:nvPr/>
          </p:nvSpPr>
          <p:spPr>
            <a:xfrm>
              <a:off x="1258920" y="2636640"/>
              <a:ext cx="288144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6"/>
            <p:cNvSpPr/>
            <p:nvPr/>
          </p:nvSpPr>
          <p:spPr>
            <a:xfrm>
              <a:off x="1230480" y="3284280"/>
              <a:ext cx="288144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7"/>
          <p:cNvGrpSpPr/>
          <p:nvPr/>
        </p:nvGrpSpPr>
        <p:grpSpPr>
          <a:xfrm>
            <a:off x="1258920" y="4005360"/>
            <a:ext cx="3600360" cy="647640"/>
            <a:chOff x="1258920" y="4005360"/>
            <a:chExt cx="3600360" cy="647640"/>
          </a:xfrm>
        </p:grpSpPr>
        <p:sp>
          <p:nvSpPr>
            <p:cNvPr id="158" name="Line 18"/>
            <p:cNvSpPr/>
            <p:nvPr/>
          </p:nvSpPr>
          <p:spPr>
            <a:xfrm>
              <a:off x="1332000" y="4653000"/>
              <a:ext cx="3527280" cy="0"/>
            </a:xfrm>
            <a:prstGeom prst="line">
              <a:avLst/>
            </a:prstGeom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9"/>
            <p:cNvSpPr/>
            <p:nvPr/>
          </p:nvSpPr>
          <p:spPr>
            <a:xfrm>
              <a:off x="1258920" y="4005360"/>
              <a:ext cx="2881440" cy="0"/>
            </a:xfrm>
            <a:prstGeom prst="line">
              <a:avLst/>
            </a:prstGeom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AutoShape 20"/>
          <p:cNvSpPr/>
          <p:nvPr/>
        </p:nvSpPr>
        <p:spPr>
          <a:xfrm>
            <a:off x="5508720" y="3141720"/>
            <a:ext cx="2808360" cy="1008000"/>
          </a:xfrm>
          <a:prstGeom prst="cloudCallout">
            <a:avLst>
              <a:gd name="adj1" fmla="val -94037"/>
              <a:gd name="adj2" fmla="val 35986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勤劳能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1"/>
          <p:cNvGrpSpPr/>
          <p:nvPr/>
        </p:nvGrpSpPr>
        <p:grpSpPr>
          <a:xfrm>
            <a:off x="1258920" y="5300640"/>
            <a:ext cx="3673440" cy="649440"/>
            <a:chOff x="1258920" y="5300640"/>
            <a:chExt cx="3673440" cy="649440"/>
          </a:xfrm>
        </p:grpSpPr>
        <p:sp>
          <p:nvSpPr>
            <p:cNvPr id="162" name="Line 22"/>
            <p:cNvSpPr/>
            <p:nvPr/>
          </p:nvSpPr>
          <p:spPr>
            <a:xfrm>
              <a:off x="1258920" y="5300640"/>
              <a:ext cx="2881440" cy="0"/>
            </a:xfrm>
            <a:prstGeom prst="line">
              <a:avLst/>
            </a:prstGeom>
            <a:ln w="57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3"/>
            <p:cNvSpPr/>
            <p:nvPr/>
          </p:nvSpPr>
          <p:spPr>
            <a:xfrm>
              <a:off x="1258920" y="5950080"/>
              <a:ext cx="3673440" cy="0"/>
            </a:xfrm>
            <a:prstGeom prst="line">
              <a:avLst/>
            </a:prstGeom>
            <a:ln w="57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AutoShape 24"/>
          <p:cNvSpPr/>
          <p:nvPr/>
        </p:nvSpPr>
        <p:spPr>
          <a:xfrm>
            <a:off x="5867280" y="5229360"/>
            <a:ext cx="2808360" cy="1008000"/>
          </a:xfrm>
          <a:prstGeom prst="cloudCallout">
            <a:avLst>
              <a:gd name="adj1" fmla="val -111842"/>
              <a:gd name="adj2" fmla="val -5047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聪明灵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2006122883111847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ewlkt"/>
          <p:cNvPicPr/>
          <p:nvPr/>
        </p:nvPicPr>
        <p:blipFill>
          <a:blip r:embed="rId2"/>
          <a:stretch/>
        </p:blipFill>
        <p:spPr>
          <a:xfrm>
            <a:off x="-2120760" y="260280"/>
            <a:ext cx="1477800" cy="12114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4"/>
          <p:cNvSpPr/>
          <p:nvPr/>
        </p:nvSpPr>
        <p:spPr>
          <a:xfrm>
            <a:off x="612720" y="107640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109520" y="765000"/>
            <a:ext cx="720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她采的蘑菇最多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多得像那星星数不清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197000" y="3438360"/>
            <a:ext cx="748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把（      ）比作（     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2006122883111847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ewlkt"/>
          <p:cNvPicPr/>
          <p:nvPr/>
        </p:nvPicPr>
        <p:blipFill>
          <a:blip r:embed="rId2"/>
          <a:stretch/>
        </p:blipFill>
        <p:spPr>
          <a:xfrm>
            <a:off x="-2120760" y="260280"/>
            <a:ext cx="1477800" cy="12114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612720" y="107640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109520" y="765000"/>
            <a:ext cx="720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她采的蘑菇最多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多得像那星星数不清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197000" y="3438360"/>
            <a:ext cx="748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把（  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蘑菇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）比作（  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星星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2006122883111847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ewlkt"/>
          <p:cNvPicPr/>
          <p:nvPr/>
        </p:nvPicPr>
        <p:blipFill>
          <a:blip r:embed="rId2"/>
          <a:stretch/>
        </p:blipFill>
        <p:spPr>
          <a:xfrm>
            <a:off x="-2120760" y="260280"/>
            <a:ext cx="1477800" cy="12114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612720" y="107640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109520" y="765000"/>
            <a:ext cx="720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她采的蘑菇最大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大得像那小伞装满筐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197000" y="3438360"/>
            <a:ext cx="748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把（      ）比作（     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1"/>
          <p:cNvSpPr/>
          <p:nvPr/>
        </p:nvSpPr>
        <p:spPr>
          <a:xfrm>
            <a:off x="1616040" y="5154480"/>
            <a:ext cx="58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2006122883111847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ewlkt"/>
          <p:cNvPicPr/>
          <p:nvPr/>
        </p:nvPicPr>
        <p:blipFill>
          <a:blip r:embed="rId2"/>
          <a:stretch/>
        </p:blipFill>
        <p:spPr>
          <a:xfrm>
            <a:off x="-2120760" y="260280"/>
            <a:ext cx="1477800" cy="12114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4"/>
          <p:cNvSpPr/>
          <p:nvPr/>
        </p:nvSpPr>
        <p:spPr>
          <a:xfrm>
            <a:off x="612720" y="107640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109520" y="765000"/>
            <a:ext cx="720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她采的蘑菇最大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大得像那小伞装满筐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1197000" y="3438360"/>
            <a:ext cx="748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把（  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 蘑菇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）比作（  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小伞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2006122883111847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435640" y="4292640"/>
            <a:ext cx="244944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姑  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5364000" y="1052640"/>
            <a:ext cx="2422440" cy="964440"/>
            <a:chOff x="5364000" y="1052640"/>
            <a:chExt cx="2422440" cy="964440"/>
          </a:xfrm>
        </p:grpSpPr>
        <p:sp>
          <p:nvSpPr>
            <p:cNvPr id="54" name="Text Box 5"/>
            <p:cNvSpPr/>
            <p:nvPr/>
          </p:nvSpPr>
          <p:spPr>
            <a:xfrm>
              <a:off x="5364000" y="1100160"/>
              <a:ext cx="1281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3333ff"/>
                  </a:solidFill>
                  <a:latin typeface="GB Pinyinok-C"/>
                  <a:ea typeface="GB Pinyinok-C"/>
                </a:rPr>
                <a:t>m</a:t>
              </a:r>
              <a:r>
                <a:rPr b="1" lang="en-US" sz="5400" spc="-1" strike="noStrike">
                  <a:solidFill>
                    <a:srgbClr val="3333ff"/>
                  </a:solidFill>
                  <a:latin typeface="Arial"/>
                  <a:ea typeface="GB Pinyinok-C"/>
                </a:rPr>
                <a:t>ó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6"/>
            <p:cNvSpPr/>
            <p:nvPr/>
          </p:nvSpPr>
          <p:spPr>
            <a:xfrm>
              <a:off x="6707160" y="1052640"/>
              <a:ext cx="1079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GB Pinyinok-C"/>
                </a:rPr>
                <a:t>gu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7"/>
          <p:cNvGrpSpPr/>
          <p:nvPr/>
        </p:nvGrpSpPr>
        <p:grpSpPr>
          <a:xfrm>
            <a:off x="5508720" y="3716280"/>
            <a:ext cx="3168720" cy="703440"/>
            <a:chOff x="5508720" y="3716280"/>
            <a:chExt cx="3168720" cy="703440"/>
          </a:xfrm>
        </p:grpSpPr>
        <p:sp>
          <p:nvSpPr>
            <p:cNvPr id="57" name="Text Box 8"/>
            <p:cNvSpPr/>
            <p:nvPr/>
          </p:nvSpPr>
          <p:spPr>
            <a:xfrm>
              <a:off x="5508720" y="3716280"/>
              <a:ext cx="115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GB Pinyinok-C"/>
                </a:rPr>
                <a:t>gū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9"/>
            <p:cNvSpPr/>
            <p:nvPr/>
          </p:nvSpPr>
          <p:spPr>
            <a:xfrm>
              <a:off x="6445440" y="3716280"/>
              <a:ext cx="22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GB Pinyinok-C"/>
                </a:rPr>
                <a:t>nia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10"/>
          <p:cNvSpPr/>
          <p:nvPr/>
        </p:nvSpPr>
        <p:spPr>
          <a:xfrm>
            <a:off x="907920" y="208296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971640" y="443700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900000" y="1341360"/>
            <a:ext cx="122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GB Pinyinok-C"/>
              </a:rPr>
              <a:t>g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684360" y="364500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GB Pinyinok-C"/>
              </a:rPr>
              <a:t>ni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5435640" y="1989000"/>
            <a:ext cx="24494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蘑  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5"/>
          <p:cNvSpPr/>
          <p:nvPr/>
        </p:nvSpPr>
        <p:spPr>
          <a:xfrm>
            <a:off x="2627280" y="2421000"/>
            <a:ext cx="2160720" cy="360360"/>
          </a:xfrm>
          <a:prstGeom prst="rightArrow">
            <a:avLst>
              <a:gd name="adj1" fmla="val 50000"/>
              <a:gd name="adj2" fmla="val 1498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6"/>
          <p:cNvSpPr/>
          <p:nvPr/>
        </p:nvSpPr>
        <p:spPr>
          <a:xfrm>
            <a:off x="2700360" y="4724280"/>
            <a:ext cx="2160720" cy="360360"/>
          </a:xfrm>
          <a:prstGeom prst="rightArrow">
            <a:avLst>
              <a:gd name="adj1" fmla="val 50000"/>
              <a:gd name="adj2" fmla="val 1498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5采蘑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3"/>
          <p:cNvGrpSpPr/>
          <p:nvPr/>
        </p:nvGrpSpPr>
        <p:grpSpPr>
          <a:xfrm>
            <a:off x="1116000" y="765000"/>
            <a:ext cx="4621320" cy="5185440"/>
            <a:chOff x="1116000" y="765000"/>
            <a:chExt cx="4621320" cy="5185440"/>
          </a:xfrm>
        </p:grpSpPr>
        <p:sp>
          <p:nvSpPr>
            <p:cNvPr id="188" name="Text Box 4"/>
            <p:cNvSpPr/>
            <p:nvPr/>
          </p:nvSpPr>
          <p:spPr>
            <a:xfrm>
              <a:off x="1193760" y="3393720"/>
              <a:ext cx="453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换上一把小镰刀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5"/>
            <p:cNvSpPr/>
            <p:nvPr/>
          </p:nvSpPr>
          <p:spPr>
            <a:xfrm>
              <a:off x="1179360" y="4057200"/>
              <a:ext cx="453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再换上几块棒棒糖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6"/>
            <p:cNvSpPr/>
            <p:nvPr/>
          </p:nvSpPr>
          <p:spPr>
            <a:xfrm>
              <a:off x="1193760" y="4720320"/>
              <a:ext cx="453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和那小伙伴一起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7"/>
            <p:cNvSpPr/>
            <p:nvPr/>
          </p:nvSpPr>
          <p:spPr>
            <a:xfrm>
              <a:off x="1201680" y="5369040"/>
              <a:ext cx="453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把劳动的幸福来分享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8"/>
            <p:cNvSpPr/>
            <p:nvPr/>
          </p:nvSpPr>
          <p:spPr>
            <a:xfrm>
              <a:off x="1116000" y="765000"/>
              <a:ext cx="453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谁不知山里的蘑菇香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9"/>
            <p:cNvSpPr/>
            <p:nvPr/>
          </p:nvSpPr>
          <p:spPr>
            <a:xfrm>
              <a:off x="1152360" y="1428120"/>
              <a:ext cx="453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她却不肯尝一尝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0"/>
            <p:cNvSpPr/>
            <p:nvPr/>
          </p:nvSpPr>
          <p:spPr>
            <a:xfrm>
              <a:off x="1152360" y="2076840"/>
              <a:ext cx="453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盼到赶集的那一天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1"/>
            <p:cNvSpPr/>
            <p:nvPr/>
          </p:nvSpPr>
          <p:spPr>
            <a:xfrm>
              <a:off x="1152360" y="2725920"/>
              <a:ext cx="453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快快背到集市上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AutoShape 12"/>
          <p:cNvSpPr/>
          <p:nvPr/>
        </p:nvSpPr>
        <p:spPr>
          <a:xfrm>
            <a:off x="5256360" y="620640"/>
            <a:ext cx="2808000" cy="1008000"/>
          </a:xfrm>
          <a:prstGeom prst="cloudCallout">
            <a:avLst>
              <a:gd name="adj1" fmla="val -87138"/>
              <a:gd name="adj2" fmla="val 5771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节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3"/>
          <p:cNvSpPr/>
          <p:nvPr/>
        </p:nvSpPr>
        <p:spPr>
          <a:xfrm>
            <a:off x="5977080" y="3141720"/>
            <a:ext cx="2808000" cy="1008000"/>
          </a:xfrm>
          <a:prstGeom prst="cloudCallout">
            <a:avLst>
              <a:gd name="adj1" fmla="val -111731"/>
              <a:gd name="adj2" fmla="val 26064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懂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4"/>
          <p:cNvSpPr/>
          <p:nvPr/>
        </p:nvSpPr>
        <p:spPr>
          <a:xfrm>
            <a:off x="6335640" y="5229360"/>
            <a:ext cx="2413080" cy="1008000"/>
          </a:xfrm>
          <a:prstGeom prst="cloudCallout">
            <a:avLst>
              <a:gd name="adj1" fmla="val -102893"/>
              <a:gd name="adj2" fmla="val -937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友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5"/>
          <p:cNvSpPr/>
          <p:nvPr/>
        </p:nvSpPr>
        <p:spPr>
          <a:xfrm>
            <a:off x="1258920" y="1989000"/>
            <a:ext cx="280836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16"/>
          <p:cNvGrpSpPr/>
          <p:nvPr/>
        </p:nvGrpSpPr>
        <p:grpSpPr>
          <a:xfrm>
            <a:off x="1332000" y="3933720"/>
            <a:ext cx="3240000" cy="719280"/>
            <a:chOff x="1332000" y="3933720"/>
            <a:chExt cx="3240000" cy="719280"/>
          </a:xfrm>
        </p:grpSpPr>
        <p:sp>
          <p:nvSpPr>
            <p:cNvPr id="201" name="Line 17"/>
            <p:cNvSpPr/>
            <p:nvPr/>
          </p:nvSpPr>
          <p:spPr>
            <a:xfrm>
              <a:off x="1332000" y="3933720"/>
              <a:ext cx="2808360" cy="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8"/>
            <p:cNvSpPr/>
            <p:nvPr/>
          </p:nvSpPr>
          <p:spPr>
            <a:xfrm>
              <a:off x="1332000" y="4653000"/>
              <a:ext cx="3240000" cy="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9"/>
          <p:cNvGrpSpPr/>
          <p:nvPr/>
        </p:nvGrpSpPr>
        <p:grpSpPr>
          <a:xfrm>
            <a:off x="1332000" y="5300640"/>
            <a:ext cx="3671640" cy="720720"/>
            <a:chOff x="1332000" y="5300640"/>
            <a:chExt cx="3671640" cy="720720"/>
          </a:xfrm>
        </p:grpSpPr>
        <p:sp>
          <p:nvSpPr>
            <p:cNvPr id="204" name="Line 20"/>
            <p:cNvSpPr/>
            <p:nvPr/>
          </p:nvSpPr>
          <p:spPr>
            <a:xfrm>
              <a:off x="1332000" y="5300640"/>
              <a:ext cx="2952360" cy="0"/>
            </a:xfrm>
            <a:prstGeom prst="line">
              <a:avLst/>
            </a:prstGeom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1"/>
            <p:cNvSpPr/>
            <p:nvPr/>
          </p:nvSpPr>
          <p:spPr>
            <a:xfrm>
              <a:off x="1332000" y="6021360"/>
              <a:ext cx="3671640" cy="0"/>
            </a:xfrm>
            <a:prstGeom prst="line">
              <a:avLst/>
            </a:prstGeom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5-2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3"/>
          <p:cNvGrpSpPr/>
          <p:nvPr/>
        </p:nvGrpSpPr>
        <p:grpSpPr>
          <a:xfrm>
            <a:off x="539640" y="333360"/>
            <a:ext cx="7796160" cy="1265400"/>
            <a:chOff x="539640" y="333360"/>
            <a:chExt cx="7796160" cy="1265400"/>
          </a:xfrm>
        </p:grpSpPr>
        <p:sp>
          <p:nvSpPr>
            <p:cNvPr id="208" name="Text Box 4"/>
            <p:cNvSpPr/>
            <p:nvPr/>
          </p:nvSpPr>
          <p:spPr>
            <a:xfrm>
              <a:off x="539640" y="836640"/>
              <a:ext cx="43117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5"/>
            <p:cNvSpPr/>
            <p:nvPr/>
          </p:nvSpPr>
          <p:spPr>
            <a:xfrm>
              <a:off x="1547640" y="333360"/>
              <a:ext cx="67881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Text Box 6"/>
          <p:cNvSpPr/>
          <p:nvPr/>
        </p:nvSpPr>
        <p:spPr>
          <a:xfrm>
            <a:off x="1146240" y="803160"/>
            <a:ext cx="681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勤劳勇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吃苦耐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善良可爱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5-2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3"/>
          <p:cNvGrpSpPr/>
          <p:nvPr/>
        </p:nvGrpSpPr>
        <p:grpSpPr>
          <a:xfrm>
            <a:off x="1370520" y="333360"/>
            <a:ext cx="5642640" cy="1267560"/>
            <a:chOff x="1370520" y="333360"/>
            <a:chExt cx="5642640" cy="1267560"/>
          </a:xfrm>
        </p:grpSpPr>
        <p:sp>
          <p:nvSpPr>
            <p:cNvPr id="213" name="Text Box 4"/>
            <p:cNvSpPr/>
            <p:nvPr/>
          </p:nvSpPr>
          <p:spPr>
            <a:xfrm>
              <a:off x="1370520" y="836640"/>
              <a:ext cx="264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66"/>
                  </a:solidFill>
                  <a:latin typeface="Arial"/>
                </a:rPr>
                <a:t>你想对她说什</a:t>
              </a:r>
              <a:r>
                <a:rPr b="1" lang="zh-CN" sz="4400" spc="-1" strike="noStrike">
                  <a:solidFill>
                    <a:srgbClr val="ff0066"/>
                  </a:solidFill>
                  <a:latin typeface="Arial"/>
                </a:rPr>
                <a:t>么</a:t>
              </a:r>
              <a:r>
                <a:rPr b="1" lang="zh-CN" sz="4000" spc="-1" strike="noStrike">
                  <a:solidFill>
                    <a:srgbClr val="ff0066"/>
                  </a:solidFill>
                  <a:latin typeface="Arial"/>
                </a:rPr>
                <a:t>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5"/>
            <p:cNvSpPr/>
            <p:nvPr/>
          </p:nvSpPr>
          <p:spPr>
            <a:xfrm>
              <a:off x="2869920" y="333360"/>
              <a:ext cx="414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66"/>
                  </a:solidFill>
                  <a:latin typeface="Arial"/>
                </a:rPr>
                <a:t>现在，面对采蘑菇的小姑娘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5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3"/>
          <p:cNvGrpSpPr/>
          <p:nvPr/>
        </p:nvGrpSpPr>
        <p:grpSpPr>
          <a:xfrm>
            <a:off x="268200" y="1122480"/>
            <a:ext cx="4584600" cy="5160960"/>
            <a:chOff x="268200" y="1122480"/>
            <a:chExt cx="4584600" cy="5160960"/>
          </a:xfrm>
        </p:grpSpPr>
        <p:sp>
          <p:nvSpPr>
            <p:cNvPr id="217" name="Text Box 4"/>
            <p:cNvSpPr/>
            <p:nvPr/>
          </p:nvSpPr>
          <p:spPr>
            <a:xfrm>
              <a:off x="303120" y="1122480"/>
              <a:ext cx="453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采蘑菇的小姑娘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5"/>
            <p:cNvSpPr/>
            <p:nvPr/>
          </p:nvSpPr>
          <p:spPr>
            <a:xfrm>
              <a:off x="268200" y="1769760"/>
              <a:ext cx="453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背着一个大竹筐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6"/>
            <p:cNvSpPr/>
            <p:nvPr/>
          </p:nvSpPr>
          <p:spPr>
            <a:xfrm>
              <a:off x="268200" y="2417400"/>
              <a:ext cx="453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清早光着小脚丫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7"/>
            <p:cNvSpPr/>
            <p:nvPr/>
          </p:nvSpPr>
          <p:spPr>
            <a:xfrm>
              <a:off x="268200" y="3065400"/>
              <a:ext cx="453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走遍树林和山冈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317520" y="3759120"/>
              <a:ext cx="453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她采的蘑菇最多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9"/>
            <p:cNvSpPr/>
            <p:nvPr/>
          </p:nvSpPr>
          <p:spPr>
            <a:xfrm>
              <a:off x="282600" y="4406760"/>
              <a:ext cx="453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多得像那星星数不清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0"/>
            <p:cNvSpPr/>
            <p:nvPr/>
          </p:nvSpPr>
          <p:spPr>
            <a:xfrm>
              <a:off x="282600" y="5054400"/>
              <a:ext cx="453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她采的蘑菇最大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1"/>
            <p:cNvSpPr/>
            <p:nvPr/>
          </p:nvSpPr>
          <p:spPr>
            <a:xfrm>
              <a:off x="282600" y="5702040"/>
              <a:ext cx="453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大得像那小伞装满筐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12"/>
          <p:cNvGrpSpPr/>
          <p:nvPr/>
        </p:nvGrpSpPr>
        <p:grpSpPr>
          <a:xfrm>
            <a:off x="4452840" y="1108080"/>
            <a:ext cx="4621320" cy="5185440"/>
            <a:chOff x="4452840" y="1108080"/>
            <a:chExt cx="4621320" cy="5185440"/>
          </a:xfrm>
        </p:grpSpPr>
        <p:sp>
          <p:nvSpPr>
            <p:cNvPr id="226" name="Text Box 13"/>
            <p:cNvSpPr/>
            <p:nvPr/>
          </p:nvSpPr>
          <p:spPr>
            <a:xfrm>
              <a:off x="4530600" y="3736800"/>
              <a:ext cx="453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换上一把小镰刀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4516200" y="4399920"/>
              <a:ext cx="453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再换上几块棒棒糖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5"/>
            <p:cNvSpPr/>
            <p:nvPr/>
          </p:nvSpPr>
          <p:spPr>
            <a:xfrm>
              <a:off x="4530600" y="5063040"/>
              <a:ext cx="453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和那小伙伴一起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6"/>
            <p:cNvSpPr/>
            <p:nvPr/>
          </p:nvSpPr>
          <p:spPr>
            <a:xfrm>
              <a:off x="4538520" y="5712120"/>
              <a:ext cx="453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把劳动的幸福来分享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4452840" y="1108080"/>
              <a:ext cx="453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谁不知山里的蘑菇香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8"/>
            <p:cNvSpPr/>
            <p:nvPr/>
          </p:nvSpPr>
          <p:spPr>
            <a:xfrm>
              <a:off x="4489200" y="1771200"/>
              <a:ext cx="453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她却不肯尝一尝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9"/>
            <p:cNvSpPr/>
            <p:nvPr/>
          </p:nvSpPr>
          <p:spPr>
            <a:xfrm>
              <a:off x="4489200" y="2419920"/>
              <a:ext cx="453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盼到赶集的那一天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0"/>
            <p:cNvSpPr/>
            <p:nvPr/>
          </p:nvSpPr>
          <p:spPr>
            <a:xfrm>
              <a:off x="4489200" y="3068640"/>
              <a:ext cx="453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快快背到集市上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 Box 21"/>
          <p:cNvSpPr/>
          <p:nvPr/>
        </p:nvSpPr>
        <p:spPr>
          <a:xfrm>
            <a:off x="2195640" y="26028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采蘑菇的小姑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1CB9-FAF5-42B5-9B83-0EE0ABE67B1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5采蘑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34920" y="76500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采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蘑菇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小姑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娘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4920" y="198900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着一个大竹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筐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06200" y="314172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清早光着小脚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丫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106200" y="436572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走遍树林和山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4140360" y="76500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换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上一把小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镰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140360" y="198900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再换上几块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棒棒糖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4211640" y="314172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和那小伙伴一起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4211640" y="436572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劳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动的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幸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福来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分享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5采蘑菇1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34920" y="76500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采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蘑菇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小姑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娘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4920" y="198900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着一个大竹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筐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06200" y="314172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清早光着小脚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丫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06200" y="436572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走遍树林和山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995640" y="76500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换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上一把小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镰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995640" y="198900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再换上几块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棒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棒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糖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995640" y="314172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和那小伙伴一起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3995640" y="4365720"/>
            <a:ext cx="49690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劳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动的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幸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福来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分享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395280" y="2602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B Pinyinok-C"/>
              </a:rPr>
              <a:t>mó 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2554200" y="2602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B Pinyinok-C"/>
              </a:rPr>
              <a:t>ni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34920" y="155412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B Pinyinok-C"/>
              </a:rPr>
              <a:t>bē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2482920" y="1557360"/>
            <a:ext cx="141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GB Pinyinok-C"/>
              </a:rPr>
              <a:t>k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B Pinyinok-C"/>
              </a:rPr>
              <a:t>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GB Pinyinok-C"/>
              </a:rPr>
              <a:t>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771640" y="256536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B Pinyinok-C"/>
              </a:rPr>
              <a:t>y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698920" y="3927600"/>
            <a:ext cx="108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B Pinyinok-C"/>
              </a:rPr>
              <a:t>gā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3938760" y="276120"/>
            <a:ext cx="135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B Pinyinok-C"/>
              </a:rPr>
              <a:t>hu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6138720" y="25704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B Pinyinok-C"/>
              </a:rPr>
              <a:t>lián  dā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6081840" y="1554120"/>
            <a:ext cx="25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B Pinyinok-C"/>
              </a:rPr>
              <a:t>bàng   t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356000" y="3929040"/>
            <a:ext cx="8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B Pinyinok-C"/>
              </a:rPr>
              <a:t>l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651640" y="3860640"/>
            <a:ext cx="14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GB Pinyinok-C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B Pinyinok-C"/>
              </a:rPr>
              <a:t>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GB Pinyinok-C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7007400" y="392904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B Pinyinok-C"/>
              </a:rPr>
              <a:t>fē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7596360" y="3933720"/>
            <a:ext cx="12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B Pinyinok-C"/>
              </a:rPr>
              <a:t>xiǎ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411280" y="260280"/>
            <a:ext cx="5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760560" y="1197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4120920" y="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952200" y="9079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2320560" y="1646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057640" y="18446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5705280" y="189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6281640" y="1197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7650000" y="549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3544560" y="2781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5776560" y="2708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7937280" y="2205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375840" y="22766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601640" y="2565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304560" y="41497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1888920" y="41497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7349400" y="3645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9"/>
          <p:cNvSpPr/>
          <p:nvPr/>
        </p:nvSpPr>
        <p:spPr>
          <a:xfrm>
            <a:off x="6713280" y="4437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2006122883111847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ewlkt"/>
          <p:cNvPicPr/>
          <p:nvPr/>
        </p:nvPicPr>
        <p:blipFill>
          <a:blip r:embed="rId2"/>
          <a:stretch/>
        </p:blipFill>
        <p:spPr>
          <a:xfrm>
            <a:off x="-2120760" y="260280"/>
            <a:ext cx="1477800" cy="12114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612720" y="107640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背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ē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背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楷体_GB2312"/>
              </a:rPr>
              <a:t>è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</a:t>
            </a: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ē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楷体_GB2312"/>
              </a:rPr>
              <a:t>è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5采蘑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u=524066755,3425576269&amp;fm=0&amp;gp=22"/>
          <p:cNvPicPr/>
          <p:nvPr/>
        </p:nvPicPr>
        <p:blipFill>
          <a:blip r:embed="rId2"/>
          <a:stretch/>
        </p:blipFill>
        <p:spPr>
          <a:xfrm>
            <a:off x="2627280" y="620640"/>
            <a:ext cx="2952720" cy="21924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3132000" y="270828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同学爱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u=524066755,3425576269&amp;fm=0&amp;gp=22"/>
          <p:cNvPicPr/>
          <p:nvPr/>
        </p:nvPicPr>
        <p:blipFill>
          <a:blip r:embed="rId3"/>
          <a:stretch/>
        </p:blipFill>
        <p:spPr>
          <a:xfrm>
            <a:off x="755640" y="2852640"/>
            <a:ext cx="2952720" cy="21924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1260360" y="494028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正确流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u=524066755,3425576269&amp;fm=0&amp;gp=22"/>
          <p:cNvPicPr/>
          <p:nvPr/>
        </p:nvPicPr>
        <p:blipFill>
          <a:blip r:embed="rId4"/>
          <a:stretch/>
        </p:blipFill>
        <p:spPr>
          <a:xfrm>
            <a:off x="5003640" y="2852640"/>
            <a:ext cx="2953080" cy="21924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8"/>
          <p:cNvSpPr/>
          <p:nvPr/>
        </p:nvSpPr>
        <p:spPr>
          <a:xfrm>
            <a:off x="5508720" y="494028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声音洪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2006122883111847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1723320" y="5158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理解词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826920" y="2637000"/>
            <a:ext cx="806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蘑菇 赶集 镰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ewlt"/>
          <p:cNvPicPr/>
          <p:nvPr/>
        </p:nvPicPr>
        <p:blipFill>
          <a:blip r:embed="rId2"/>
          <a:stretch/>
        </p:blipFill>
        <p:spPr>
          <a:xfrm>
            <a:off x="6804000" y="692280"/>
            <a:ext cx="1428840" cy="1238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ajlh"/>
          <p:cNvPicPr/>
          <p:nvPr/>
        </p:nvPicPr>
        <p:blipFill>
          <a:blip r:embed="rId3"/>
          <a:stretch/>
        </p:blipFill>
        <p:spPr>
          <a:xfrm>
            <a:off x="0" y="5051520"/>
            <a:ext cx="1893960" cy="1806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ewlkt"/>
          <p:cNvPicPr/>
          <p:nvPr/>
        </p:nvPicPr>
        <p:blipFill>
          <a:blip r:embed="rId4"/>
          <a:stretch/>
        </p:blipFill>
        <p:spPr>
          <a:xfrm>
            <a:off x="-2120760" y="260280"/>
            <a:ext cx="147780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2.11841E-006 C 0.26077 0.05366 0.52171 0.10754 0.62605 0.12905 E">
                                      <p:cBhvr>
                                        <p:cTn id="206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140588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5:31:3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6:05Z</dcterms:modified>
  <cp:revision>5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NXTAG2">
    <vt:lpwstr>000800881d000000000001024120</vt:lpwstr>
  </property>
</Properties>
</file>