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C89C-8320-483E-8BCC-A55EBBF698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BC03-D9BD-419F-8E65-5BE6F85607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E4A-F8C7-4D14-B693-4367C5AC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BA5-95C4-4256-A0FB-D28D023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E9C-105B-4A99-A67D-FDBA3D56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B69-6898-4FEF-88D1-D0792881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D68-DCF1-4B5D-8E16-B1DA413B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82A-332B-490F-B351-FF74F2E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62B-918B-4CC9-9E20-4A55A54E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71D-6B09-4719-934F-828073A0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432-4E98-4919-A218-58E15868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6FA-F2DD-4121-9A54-48D8BF78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E1F-D50D-4F6D-84D3-6734E4B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929-1952-450F-8B1A-C56BCFA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B116-101B-470E-96E3-71E756FA0D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630040" y="2708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黑体"/>
                <a:ea typeface="黑体"/>
              </a:rPr>
              <a:t>吹糖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4170600" y="54561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33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80760" y="333360"/>
            <a:ext cx="6398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猛然发现糖人要融化，这才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起应该吃掉。可是谁吃第一口，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成了难题。大家让掏钱的孩子先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掏钱的孩子又让别人先吃，推让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久定不下来，只好猜拳。猜胜的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子拿起糖人，端详一会儿用舌尖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舔，然后郑重地让给别人，别人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然用舌尖小心地舔舔，谁也不想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碎这个糖人。糖人就这样渐渐地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仿宋_GB2312"/>
              </a:rPr>
              <a:t>化了，消失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62440" y="3357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端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33920" y="40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郑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367160" y="458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舔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吹糖人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76360" y="333360"/>
            <a:ext cx="6162840" cy="4319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462200" y="54640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原来糖人在我的心中还没有融化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FE4D-CDCE-4094-8A59-E758CD9DEF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42920" y="1811160"/>
            <a:ext cx="87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几声清脆的锣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Times New Roman"/>
              </a:rPr>
              <a:t>划破了村庄的宁静，街上立刻飞起慌乱的脚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728640" y="5032440"/>
            <a:ext cx="85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糖人"/>
          <p:cNvPicPr/>
          <p:nvPr/>
        </p:nvPicPr>
        <p:blipFill>
          <a:blip r:embed="rId1"/>
          <a:stretch/>
        </p:blipFill>
        <p:spPr>
          <a:xfrm>
            <a:off x="2133720" y="0"/>
            <a:ext cx="517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糖人2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吹糖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课文插图"/>
          <p:cNvPicPr/>
          <p:nvPr/>
        </p:nvPicPr>
        <p:blipFill>
          <a:blip r:embed="rId1"/>
          <a:stretch/>
        </p:blipFill>
        <p:spPr>
          <a:xfrm>
            <a:off x="3562200" y="1336680"/>
            <a:ext cx="5581800" cy="549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0" y="549360"/>
            <a:ext cx="56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糖人”给乡下孩子带来了哪些快乐和享受？勾画有关的重点词句，写出你的感悟。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546920" y="692280"/>
            <a:ext cx="6684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糖人师傅的手像在变魔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变出个孙悟空，一会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又变出个大公鸡；一会儿是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兔子，一会儿又是老母猪</a:t>
            </a:r>
            <a:r>
              <a:rPr b="0" lang="en-US" sz="4400" spc="-1" strike="noStrike">
                <a:solidFill>
                  <a:srgbClr val="000000"/>
                </a:solidFill>
                <a:latin typeface="바탕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小块糖稀他捏几下子，用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吹，手上就托起了这些生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69320" y="493092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段话写了糖人师傅的手艺怎么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谁能用一个词来形容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21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684360" y="23637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既然糖人师傅的手艺这么神奇这么高超，那我们想象一下，糖人师傅还会吹出什么造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请你用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会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会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来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糖人3"/>
          <p:cNvPicPr/>
          <p:nvPr/>
        </p:nvPicPr>
        <p:blipFill>
          <a:blip r:embed="rId1"/>
          <a:stretch/>
        </p:blipFill>
        <p:spPr>
          <a:xfrm>
            <a:off x="123840" y="692280"/>
            <a:ext cx="4160880" cy="5545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037120" y="2492280"/>
            <a:ext cx="345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一个糖人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故事。孩子们会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象出哪些故事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1:29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8:13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