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86E6-5F00-426D-A161-8824B3841F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A0CC-AF20-417F-8A40-74AD7EAC66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F74-C5F2-44A0-B2DC-C747D210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271-AE9D-464A-AE0D-594E06A6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D23-9CF2-4A17-BB54-E9EAB8CC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8FD-4181-48D6-B491-E040C265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D50-987B-42B7-A6FF-F3C0B45E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FBE-F3DA-45AB-865B-14A63EBB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A16-90A1-43D2-B909-FB214DB3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73E-C520-4B30-A017-9579CBBF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C4F-24B0-4DB1-A911-28676B3E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19F-C03B-4FBF-8129-B9913A1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652-C08B-47A8-8745-8CD5E9A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648-7B6B-4B3C-A5A7-2284ED96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9646-04E6-44FB-BA01-AEF50EC656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826920" y="1071720"/>
            <a:ext cx="7504200" cy="60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湘教版）二年级语文下册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520560" y="2349360"/>
            <a:ext cx="822960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春天是我们的朋友</a:t>
            </a:r>
            <a:endParaRPr b="1" lang="en-US" sz="8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475640" y="57326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B96C-8259-42A4-BEE7-53747A873C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激发说话的愿望，在交流中提高自身的表达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受春天的美丽，知道从哪些方面来赞美、描述春天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用陈述句、感叹句、疑问句的语气说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7-3-2617007020"/>
          <p:cNvPicPr/>
          <p:nvPr/>
        </p:nvPicPr>
        <p:blipFill>
          <a:blip r:embed="rId1"/>
          <a:stretch/>
        </p:blipFill>
        <p:spPr>
          <a:xfrm>
            <a:off x="-1332000" y="-4154400"/>
            <a:ext cx="12190680" cy="91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539640" y="622800"/>
            <a:ext cx="67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在哪里呀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在哪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在那青翠的山林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里有红花呀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里有绿草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有那会唱歌的小黄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嘀哩哩嘀哩嘀哩哩嘀哩哩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嘀哩哩嘀哩哩嘀哩嘀哩哩嘀哩哩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嘀哩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春天在哪里-儿童歌曲.mp3" descr=""/>
          <p:cNvPicPr/>
          <p:nvPr/>
        </p:nvPicPr>
        <p:blipFill>
          <a:blip r:embed="rId1"/>
          <a:stretch/>
        </p:blipFill>
        <p:spPr>
          <a:xfrm>
            <a:off x="5435640" y="54936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84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5564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在青翠的山林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有那会唱歌的小黄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在哪里呀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在哪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在那湖水的倒影里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迎出红的花呀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映出绿的草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有那会唱歌的小黄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嘀哩哩嘀哩嘀哩哩嘀哩哩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嘀哩哩嘀哩哩嘀哩嘀哩哩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嘀哩哩嘀哩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55640" y="0"/>
            <a:ext cx="66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在湖水的倒影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有那会唱歌的小黄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在哪里呀春天在哪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在那小朋友眼睛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见红的花呀看见绿的草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有那会唱歌的小黄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嘀哩哩嘀哩嘀哩哩嘀哩哩嘀哩哩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嘀哩哩嘀哩嘀哩哩嘀哩哩嘀哩哩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在小朋友眼睛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有那会唱歌的小黄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558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歌曲中说的春天是什么样的？你喜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1028880" y="1519200"/>
            <a:ext cx="61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野外去观察春天，看看春姑娘给我们带来了什么 ，在小组内交流你观察到的春天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0080324_27504810ce58d49f7c3cw5vbyeRpYL1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0:37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9:27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