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arrow.wav" ContentType="audio/x-wav"/>
  <Override PartName="/ppt/media/image13.jpeg" ContentType="image/jpeg"/>
  <Override PartName="/ppt/media/image6.jpeg" ContentType="image/jpeg"/>
  <Override PartName="/ppt/media/breeze.wav" ContentType="audio/x-wav"/>
  <Override PartName="/ppt/media/chimes.wav" ContentType="audio/x-wav"/>
  <Override PartName="/ppt/media/image7.jpeg" ContentType="image/jpeg"/>
  <Override PartName="/ppt/media/image12.jpeg" ContentType="image/jpeg"/>
  <Override PartName="/ppt/media/camera.wav" ContentType="audio/x-wav"/>
  <Override PartName="/ppt/media/explode.wav" ContentType="audio/x-wav"/>
  <Override PartName="/ppt/media/image11.jpeg" ContentType="image/jpeg"/>
  <Override PartName="/ppt/media/image9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type.wav" ContentType="audio/x-wav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2461-3A1F-430E-9A34-48C1FD42879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7682-D905-4009-AA97-07442BDB7A9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D58E-7726-4937-9AE1-DF193440D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8EDE-2158-461D-88F2-0956FEEA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21F8-6870-4BA3-B006-124AA2EE8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D381-3D71-42A9-8738-B48734CC1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9C26-B3AD-460D-8DCE-A2F09332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F8AB-64D3-41D6-A0AB-21C9E2BD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047A-710C-4F0C-8D79-6B1EDA22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EEE1-7799-406D-9DA8-4D98BFF6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9387-6063-43CC-99E2-26FFA3EF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C799-4103-45F8-AB8C-F477A7D8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3A13-FFB1-4547-8D68-CE435933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A87A-1039-47F4-B509-64AAC050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31B4-0E48-43BC-A6C0-07CCC17FF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audio" Target="../media/breez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audio" Target="../media/breeze.wav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breeze.wav"/><Relationship Id="rId4" Type="http://schemas.openxmlformats.org/officeDocument/2006/relationships/audio" Target="../media/camera.wav"/><Relationship Id="rId5" Type="http://schemas.openxmlformats.org/officeDocument/2006/relationships/audio" Target="../media/chimes.wav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audio" Target="../media/breeze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69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49" name="内容占位符 3" descr="201211011550377896.jpg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6062760"/>
          </a:xfrm>
          <a:prstGeom prst="rect">
            <a:avLst/>
          </a:prstGeom>
          <a:ln w="0">
            <a:noFill/>
          </a:ln>
        </p:spPr>
      </p:pic>
      <p:pic>
        <p:nvPicPr>
          <p:cNvPr id="50" name="矩形 4" descr=""/>
          <p:cNvPicPr/>
          <p:nvPr/>
        </p:nvPicPr>
        <p:blipFill>
          <a:blip r:embed="rId2"/>
          <a:stretch/>
        </p:blipFill>
        <p:spPr>
          <a:xfrm>
            <a:off x="1881360" y="5867280"/>
            <a:ext cx="5671800" cy="49860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3" name="breez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Lucida Sans"/>
              </a:rPr>
              <a:t>丑小鸭自己变成了？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74" name="内容占位符 3" descr="292-11012H3331652.jpg"/>
          <p:cNvPicPr/>
          <p:nvPr/>
        </p:nvPicPr>
        <p:blipFill>
          <a:blip r:embed="rId1"/>
          <a:stretch/>
        </p:blipFill>
        <p:spPr>
          <a:xfrm>
            <a:off x="990720" y="1600200"/>
            <a:ext cx="7010280" cy="45259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breeze.wav"/>
      </p:stSnd>
    </p:sndAc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Book Antiqua"/>
              </a:rPr>
              <a:t>小结</a:t>
            </a: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方正黑体_GBK"/>
                <a:ea typeface="方正黑体_GBK"/>
              </a:rPr>
              <a:t>学了这篇课文，你懂得了什么道理</a:t>
            </a:r>
            <a:r>
              <a:rPr b="0" lang="en-US" sz="3200" spc="-1" strike="noStrike">
                <a:solidFill>
                  <a:srgbClr val="000000"/>
                </a:solidFill>
                <a:latin typeface="方正黑体_GBK"/>
                <a:ea typeface="方正黑体_GBK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世界上的事物是不断发展变化的。我们要勇敢的面对挫折和困难，在逆境中不屈不挠，为实现自己的理想而努力拼搏。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fade/>
    <p:sndAc>
      <p:stSnd>
        <p:snd r:embed="rId1" name="breez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57200" y="1036800"/>
            <a:ext cx="8229600" cy="52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Book Antiqua"/>
                <a:ea typeface="黑体"/>
              </a:rPr>
              <a:t>同学们，假如你就是丑小鸭，经历这么多苦难，终于变成白天鹅，你最想做些什么？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该要去帮助那些被人看不起的动物，和他们一起玩，让它们感到快乐；丑陋不等于心灵不美，我们不能嘲笑、欺负那些长得丑的动物；爱美之心人人都有，我要让所有人知道我的美丽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其实，我们每个人都有自己的长处，只要你有信心，一定会发现自己超越别人的地方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fade/>
    <p:sndAc>
      <p:stSnd>
        <p:snd r:embed="rId1" name="breez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Book Antiqua"/>
              </a:rPr>
              <a:t>拓展延伸，升华情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Book Antiqua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Book Antiqua"/>
                <a:ea typeface="楷体_GB2312"/>
              </a:rPr>
              <a:t>同学们，因为丑小鸭长得丑，大家都讨厌它，它伤心地离开了家，期间又遇到了种种不幸，后来他知道自己是一只美丽的白天鹅，非常高兴，快乐。学了这篇课文我想你一定有很多话要说，老师给你一个机会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Book Antiqua"/>
                <a:ea typeface="楷体_GB2312"/>
              </a:rPr>
              <a:t>　　　　对小鸭子说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  <a:ea typeface="楷体_GB2312"/>
              </a:rPr>
              <a:t>————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Book Antiqua"/>
                <a:ea typeface="楷体_GB2312"/>
              </a:rPr>
              <a:t>　　　　对鸭妈妈说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  <a:ea typeface="楷体_GB2312"/>
              </a:rPr>
              <a:t>————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Book Antiqua"/>
                <a:ea typeface="楷体_GB2312"/>
              </a:rPr>
              <a:t>　　　　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fade/>
    <p:sndAc>
      <p:stSnd>
        <p:snd r:embed="rId1" name="breez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封底"/>
          <p:cNvPicPr/>
          <p:nvPr/>
        </p:nvPicPr>
        <p:blipFill>
          <a:blip r:embed="rId1"/>
          <a:stretch/>
        </p:blipFill>
        <p:spPr>
          <a:xfrm>
            <a:off x="2143080" y="914400"/>
            <a:ext cx="6162840" cy="48862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533520" y="1752480"/>
            <a:ext cx="144756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再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2" name="breez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Lucida Sans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Book Antiqu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Book Antiqu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Book Antiqu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Book Antiqu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Book Antiqu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Book Antiqu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Book Antiqu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Book Antiqua"/>
              </a:rPr>
              <a:t> </a:t>
            </a:r>
            <a:r>
              <a:rPr b="0" lang="zh-CN" sz="1400" spc="-1" strike="noStrike" u="sng">
                <a:solidFill>
                  <a:srgbClr val="cc3300"/>
                </a:solidFill>
                <a:uFillTx/>
                <a:latin typeface="Book Antiqua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3300"/>
                </a:solidFill>
                <a:uFillTx/>
                <a:latin typeface="Book Antiqua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Book Antiqua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Book Antiqua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Book Antiqua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Book Antiqua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Book Antiqua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Book Antiqua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Book Antiqua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Book Antiqua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Book Antiqua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Book Antiqua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Book Antiqua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Book Antiqua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Book Antiqua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Book Antiqua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Book Antiqua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Book Antiqua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Book Antiqua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Book Antiqua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CAF6-B8A6-45A8-BE6F-A95BC933873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9" name="breez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807732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00000"/>
                </a:solidFill>
                <a:latin typeface="Lucida Sans"/>
              </a:rPr>
              <a:t>我读得最准确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Book Antiqua"/>
              </a:rPr>
              <a:t>伸出              脑袋             漂亮              排挤 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Book Antiqua"/>
              </a:rPr>
              <a:t>钻出              苦闷              脖子              一群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Book Antiqua"/>
              </a:rPr>
              <a:t>天鹅               孵化             倒霉              篱笆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Book Antiqua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Book Antiqua"/>
              </a:rPr>
              <a:t>羡慕               抱怨            小鸡               冻僵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" name="文本框 1"/>
          <p:cNvSpPr/>
          <p:nvPr/>
        </p:nvSpPr>
        <p:spPr>
          <a:xfrm>
            <a:off x="1003320" y="5916600"/>
            <a:ext cx="645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breeze.wav"/>
      </p:stSnd>
    </p:sndAc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Book Antiqua"/>
              </a:rPr>
              <a:t>初读课文，熟读字词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Book Antiqua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Book Antiqua"/>
              </a:rPr>
              <a:t>自由读课文，看看对你们课文读得是否通顺。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Book Antiqua"/>
              </a:rPr>
              <a:t>　　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Book Antiqua"/>
              </a:rPr>
              <a:t>小组合作，检查识字情况。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Book Antiqua"/>
              </a:rPr>
              <a:t>课文讲了什么故事？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fade/>
    <p:sndAc>
      <p:stSnd>
        <p:snd r:embed="rId1" name="breez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6"/>
          <p:cNvSpPr/>
          <p:nvPr/>
        </p:nvSpPr>
        <p:spPr>
          <a:xfrm>
            <a:off x="2057400" y="37116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Lucida Sans"/>
              </a:rPr>
              <a:t>谁更漂亮？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57" name="图片 3" descr="21339220_0800.jpg"/>
          <p:cNvPicPr/>
          <p:nvPr/>
        </p:nvPicPr>
        <p:blipFill>
          <a:blip r:embed="rId1"/>
          <a:stretch/>
        </p:blipFill>
        <p:spPr>
          <a:xfrm>
            <a:off x="4800600" y="1371600"/>
            <a:ext cx="3809880" cy="4921200"/>
          </a:xfrm>
          <a:prstGeom prst="rect">
            <a:avLst/>
          </a:prstGeom>
          <a:ln w="0">
            <a:noFill/>
          </a:ln>
        </p:spPr>
      </p:pic>
      <p:pic>
        <p:nvPicPr>
          <p:cNvPr id="58" name="图片 4" descr="4499633_235738895000_2.jpg"/>
          <p:cNvPicPr/>
          <p:nvPr/>
        </p:nvPicPr>
        <p:blipFill>
          <a:blip r:embed="rId2"/>
          <a:stretch/>
        </p:blipFill>
        <p:spPr>
          <a:xfrm>
            <a:off x="533520" y="1371600"/>
            <a:ext cx="4038480" cy="509760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3" name="breeze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4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5331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Book Antiqua"/>
              </a:rPr>
              <a:t>联系上下文理解：“</a:t>
            </a:r>
            <a:r>
              <a:rPr b="0" lang="zh-CN" sz="3200" spc="-1" strike="noStrike">
                <a:solidFill>
                  <a:srgbClr val="ff0000"/>
                </a:solidFill>
                <a:latin typeface="Book Antiqua"/>
              </a:rPr>
              <a:t>孤单</a:t>
            </a:r>
            <a:r>
              <a:rPr b="0" lang="zh-CN" sz="3200" spc="-1" strike="noStrike">
                <a:solidFill>
                  <a:srgbClr val="000000"/>
                </a:solidFill>
                <a:latin typeface="Book Antiqua"/>
              </a:rPr>
              <a:t>”和“</a:t>
            </a:r>
            <a:r>
              <a:rPr b="0" lang="zh-CN" sz="3200" spc="-1" strike="noStrike">
                <a:solidFill>
                  <a:srgbClr val="ff0000"/>
                </a:solidFill>
                <a:latin typeface="Book Antiqua"/>
              </a:rPr>
              <a:t>苦闷</a:t>
            </a:r>
            <a:r>
              <a:rPr b="0" lang="zh-CN" sz="3200" spc="-1" strike="noStrike">
                <a:solidFill>
                  <a:srgbClr val="000000"/>
                </a:solidFill>
                <a:latin typeface="Book Antiqua"/>
              </a:rPr>
              <a:t>”。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" name="内容占位符 2"/>
          <p:cNvSpPr/>
          <p:nvPr/>
        </p:nvSpPr>
        <p:spPr>
          <a:xfrm>
            <a:off x="609480" y="251460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孤单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身无靠、感到孤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内容占位符 2"/>
          <p:cNvSpPr/>
          <p:nvPr/>
        </p:nvSpPr>
        <p:spPr>
          <a:xfrm>
            <a:off x="609480" y="42670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苦闷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痛苦、烦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1" name="breeze.wav"/>
      </p:stSnd>
    </p:sndAc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500" autoRev="1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-103,-1)"/>
                                      </p:to>
                                    </p:set>
                                    <p:set>
                                      <p:cBhvr>
                                        <p:cTn id="62" dur="500" autoRev="1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-103,-1)"/>
                                      </p:to>
                                    </p:set>
                                    <p:set>
                                      <p:cBhvr>
                                        <p:cTn id="63" dur="500" autoRev="1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500" autoRev="1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102,-103,-1)"/>
                                      </p:to>
                                    </p:set>
                                    <p:set>
                                      <p:cBhvr>
                                        <p:cTn id="68" dur="500" autoRev="1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102,-103,-1)"/>
                                      </p:to>
                                    </p:set>
                                    <p:set>
                                      <p:cBhvr>
                                        <p:cTn id="69" dur="500" autoRev="1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Lucida Sans"/>
              </a:rPr>
              <a:t>词语积累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ABB</a:t>
            </a:r>
            <a:r>
              <a:rPr b="0" lang="zh-CN" sz="3200" spc="-1" strike="noStrike">
                <a:solidFill>
                  <a:srgbClr val="000000"/>
                </a:solidFill>
                <a:latin typeface="Book Antiqua"/>
              </a:rPr>
              <a:t>式的词语：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Book Antiqua"/>
              </a:rPr>
              <a:t>金灿灿               红艳艳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Book Antiqua"/>
              </a:rPr>
              <a:t>白茫茫         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Book Antiqu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Book Antiqua"/>
              </a:rPr>
              <a:t>雾茫茫                笑呵呵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Book Antiqua"/>
              </a:rPr>
              <a:t>急冲冲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Book Antiqua"/>
              </a:rPr>
              <a:t>热呼呼                  亮晶晶           绿茵茵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fade/>
    <p:sndAc>
      <p:stSnd>
        <p:snd r:embed="rId1" name="breeze.wav"/>
      </p:stSnd>
    </p:sndAc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030a0"/>
                </a:solidFill>
                <a:latin typeface="Lucida Sans"/>
              </a:rPr>
              <a:t>丑小鸭的处境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65" name="图片 3" descr="1374032187_03577700.jpg"/>
          <p:cNvPicPr/>
          <p:nvPr/>
        </p:nvPicPr>
        <p:blipFill>
          <a:blip r:embed="rId1"/>
          <a:stretch/>
        </p:blipFill>
        <p:spPr>
          <a:xfrm>
            <a:off x="609480" y="1295280"/>
            <a:ext cx="3657600" cy="2971800"/>
          </a:xfrm>
          <a:prstGeom prst="rect">
            <a:avLst/>
          </a:prstGeom>
          <a:ln w="0">
            <a:noFill/>
          </a:ln>
        </p:spPr>
      </p:pic>
      <p:pic>
        <p:nvPicPr>
          <p:cNvPr id="66" name="图片 4" descr="mzl_tzhqgaew_480x480-75.jpg"/>
          <p:cNvPicPr/>
          <p:nvPr/>
        </p:nvPicPr>
        <p:blipFill>
          <a:blip r:embed="rId2"/>
          <a:stretch/>
        </p:blipFill>
        <p:spPr>
          <a:xfrm>
            <a:off x="4572000" y="1295280"/>
            <a:ext cx="4267080" cy="2895840"/>
          </a:xfrm>
          <a:prstGeom prst="rect">
            <a:avLst/>
          </a:prstGeom>
          <a:ln w="0">
            <a:noFill/>
          </a:ln>
        </p:spPr>
      </p:pic>
      <p:pic>
        <p:nvPicPr>
          <p:cNvPr id="67" name="图片 5" descr="0908282013407befa8a6592a72.jpg"/>
          <p:cNvPicPr/>
          <p:nvPr/>
        </p:nvPicPr>
        <p:blipFill>
          <a:blip r:embed="rId3"/>
          <a:stretch/>
        </p:blipFill>
        <p:spPr>
          <a:xfrm>
            <a:off x="4572000" y="4114800"/>
            <a:ext cx="4429080" cy="2514600"/>
          </a:xfrm>
          <a:prstGeom prst="rect">
            <a:avLst/>
          </a:prstGeom>
          <a:ln w="0">
            <a:noFill/>
          </a:ln>
        </p:spPr>
      </p:pic>
      <p:pic>
        <p:nvPicPr>
          <p:cNvPr id="68" name="图片 6" descr="20080522095617329.jpg"/>
          <p:cNvPicPr/>
          <p:nvPr/>
        </p:nvPicPr>
        <p:blipFill>
          <a:blip r:embed="rId4"/>
          <a:stretch/>
        </p:blipFill>
        <p:spPr>
          <a:xfrm>
            <a:off x="152280" y="4132440"/>
            <a:ext cx="4343400" cy="27255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5" name="breeze.wav"/>
      </p:stSnd>
    </p:sndAc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Lucida Sans"/>
              </a:rPr>
              <a:t>美丽的白天鹅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70" name="内容占位符 3" descr="110306002202f19960d2b201e4.jpg"/>
          <p:cNvPicPr/>
          <p:nvPr/>
        </p:nvPicPr>
        <p:blipFill>
          <a:blip r:embed="rId1"/>
          <a:stretch/>
        </p:blipFill>
        <p:spPr>
          <a:xfrm>
            <a:off x="669960" y="1600200"/>
            <a:ext cx="7804080" cy="45259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breeze.wav"/>
      </p:stSnd>
    </p:sndAc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4377240" y="53341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对，这就是美丽的白天鹅。看到它你想说些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白天鹅3"/>
          <p:cNvPicPr/>
          <p:nvPr/>
        </p:nvPicPr>
        <p:blipFill>
          <a:blip r:embed="rId1"/>
          <a:stretch/>
        </p:blipFill>
        <p:spPr>
          <a:xfrm>
            <a:off x="1676520" y="963720"/>
            <a:ext cx="5825880" cy="437040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breez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6T02:54:5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3:38Z</dcterms:modified>
  <cp:revision>3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