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0.gif" ContentType="image/gif"/>
  <Override PartName="/ppt/media/image17.jpeg" ContentType="image/jpeg"/>
  <Override PartName="/ppt/media/image3.png" ContentType="image/png"/>
  <Override PartName="/ppt/media/image23.gif" ContentType="image/gif"/>
  <Override PartName="/ppt/media/image26.gif" ContentType="image/gif"/>
  <Override PartName="/ppt/media/image6.png" ContentType="image/png"/>
  <Override PartName="/ppt/media/camera.wav" ContentType="audio/x-wav"/>
  <Override PartName="/ppt/media/image22.png" ContentType="image/png"/>
  <Override PartName="/ppt/media/image12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27.gif" ContentType="image/gif"/>
  <Override PartName="/ppt/media/image8.jpeg" ContentType="image/jpeg"/>
  <Override PartName="/ppt/media/image9.jpeg" ContentType="image/jpeg"/>
  <Override PartName="/ppt/media/image2.png" ContentType="image/png"/>
  <Override PartName="/ppt/media/image4.wmf" ContentType="image/x-wmf"/>
  <Override PartName="/ppt/media/image13.gif" ContentType="image/gif"/>
  <Override PartName="/ppt/media/chimes.wav" ContentType="audio/x-wav"/>
  <Override PartName="/ppt/media/image16.jpeg" ContentType="image/jpeg"/>
  <Override PartName="/ppt/media/image14.gif" ContentType="image/gif"/>
  <Override PartName="/ppt/media/image15.png" ContentType="image/png"/>
  <Override PartName="/ppt/media/image25.gif" ContentType="image/gif"/>
  <Override PartName="/ppt/media/type.wav" ContentType="audio/x-wav"/>
  <Override PartName="/ppt/media/image18.png" ContentType="image/png"/>
  <Override PartName="/ppt/media/image19.gif" ContentType="image/gif"/>
  <Override PartName="/ppt/media/image10.jpeg" ContentType="image/jpeg"/>
  <Override PartName="/ppt/media/image21.gif" ContentType="image/gif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0D33-F16A-4EFF-AA27-1E0914C2FF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1BE6-B331-4F99-8D6A-227FA51BAF6D}" type="slidenum"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7D4-82DD-42E1-94FC-2A502BA1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B8D-3778-4DBD-9D55-11A78C36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7B2-1C6A-46F5-B435-E78AE17B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682-CA6A-4459-93E1-7E055BC4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1145-B2C2-44A5-AE67-0D8A8B45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B69A-7D5C-4A1E-9D99-3F441698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B275-DC7C-4341-A22F-03868FFD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2C36-BAAE-48C9-A969-637189C7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0DED-88A8-461A-9D96-14A7B447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4FC3-EB07-4B65-A76C-FE1849F0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94BE-EA2B-4233-839E-83F8CAA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695-A77D-4058-84D2-FAE1E56F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756D-4BB4-44DA-9758-58A42717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E9AA-F56B-4798-93F9-63995263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612D-FE98-4AF4-8783-907AA714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E8C3-7F47-4359-B04B-B4503754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A015-4938-4A6D-9A96-9A42A751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D36-6D02-464B-AA17-A911CD19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3FD-615C-4584-9B5E-CA2F91A5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27F-FAE4-4C07-BE00-2B0660F8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D2B-5B59-4D40-902A-46F7A216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501-24ED-4CFA-9FCA-DFCFBBEE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AAF-2C6C-4416-959A-11959D8A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B2D-78BE-41E3-AA13-FBD5DB97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E747-759F-46CE-9ACE-A85BA2DA861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ECA4-57AE-4AD0-B27F-31183281EA3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1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13.gif"/><Relationship Id="rId4" Type="http://schemas.openxmlformats.org/officeDocument/2006/relationships/image" Target="../media/image25.gif"/><Relationship Id="rId5" Type="http://schemas.openxmlformats.org/officeDocument/2006/relationships/image" Target="../media/image27.gif"/><Relationship Id="rId6" Type="http://schemas.openxmlformats.org/officeDocument/2006/relationships/slide" Target="slide15.xml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2a3d7a"/>
                </a:solidFill>
                <a:latin typeface="华文行楷"/>
                <a:ea typeface="华文行楷"/>
              </a:rPr>
              <a:t>丑小鸭</a:t>
            </a:r>
            <a:endParaRPr b="0" lang="en-US" sz="13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189684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2a3d7a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85800" y="1219320"/>
            <a:ext cx="815328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丑小鸭在面临打击前，具有什么样的态度？有什么追求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对美的向往和不懈的追求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Times New Roman"/>
              </a:rPr>
              <a:t>只要不懈追求，努力进取，即使身处逆境，也终能实现自己的理想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3" descr="cx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21400" y="4664160"/>
            <a:ext cx="1722600" cy="218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07696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文章为何用许多篇幅写丑小鸭遭受的歧视和打击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更能突出丑小鸭不屈不挠，乐观向上，不懈追求的精神，从而激励那些身处逆境的人们去不断进取追求美好的生活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Picture 4" descr="D:\My Pictures\画片素材库\动画\动物\蝴蝶\hudie.gif"/>
          <p:cNvPicPr/>
          <p:nvPr/>
        </p:nvPicPr>
        <p:blipFill>
          <a:blip r:embed="rId1"/>
          <a:stretch/>
        </p:blipFill>
        <p:spPr>
          <a:xfrm>
            <a:off x="7543800" y="5715000"/>
            <a:ext cx="96048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丑小鸭为何拼死也要飞向高贵的白天鹅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2939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b5249"/>
                </a:solidFill>
                <a:latin typeface="Times New Roman"/>
              </a:rPr>
              <a:t>是因为他向往美好，不懈追求，希望自己也变成美丽的白天鹅。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Picture 4" descr="D:\素材库\图像素材3\动画库\笔和书.gif"/>
          <p:cNvPicPr/>
          <p:nvPr/>
        </p:nvPicPr>
        <p:blipFill>
          <a:blip r:embed="rId1"/>
          <a:stretch/>
        </p:blipFill>
        <p:spPr>
          <a:xfrm>
            <a:off x="0" y="5097600"/>
            <a:ext cx="19224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他受到赞美后为何难为情？“一颗好的心”是指什么样的心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680" y="243792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、他觉得自己卑微和渺小。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、他自己清楚，他还是他，只是环境不一样了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一颗好的心”指善良、美好、有理想的、有追求的心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0" name="Picture 4" descr="D:\素材库\图像素材1\线条\040.gif"/>
          <p:cNvPicPr/>
          <p:nvPr/>
        </p:nvPicPr>
        <p:blipFill>
          <a:blip r:embed="rId1"/>
          <a:stretch/>
        </p:blipFill>
        <p:spPr>
          <a:xfrm>
            <a:off x="1295280" y="6172200"/>
            <a:ext cx="67820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9"/>
          <p:cNvSpPr/>
          <p:nvPr/>
        </p:nvSpPr>
        <p:spPr>
          <a:xfrm>
            <a:off x="224640" y="2092320"/>
            <a:ext cx="789840" cy="217008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丑小鸭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2" name="Group 24"/>
          <p:cNvGrpSpPr/>
          <p:nvPr/>
        </p:nvGrpSpPr>
        <p:grpSpPr>
          <a:xfrm>
            <a:off x="990720" y="1315800"/>
            <a:ext cx="985680" cy="3422880"/>
            <a:chOff x="990720" y="1315800"/>
            <a:chExt cx="985680" cy="3422880"/>
          </a:xfrm>
        </p:grpSpPr>
        <p:sp>
          <p:nvSpPr>
            <p:cNvPr id="153" name="Text Box 10"/>
            <p:cNvSpPr/>
            <p:nvPr/>
          </p:nvSpPr>
          <p:spPr>
            <a:xfrm>
              <a:off x="1308600" y="1315800"/>
              <a:ext cx="667800" cy="3422880"/>
            </a:xfrm>
            <a:prstGeom prst="rect">
              <a:avLst/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家庭中被歧视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Line 17"/>
            <p:cNvSpPr/>
            <p:nvPr/>
          </p:nvSpPr>
          <p:spPr>
            <a:xfrm>
              <a:off x="990720" y="3048120"/>
              <a:ext cx="380880" cy="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Group 25"/>
          <p:cNvGrpSpPr/>
          <p:nvPr/>
        </p:nvGrpSpPr>
        <p:grpSpPr>
          <a:xfrm>
            <a:off x="1981080" y="1090080"/>
            <a:ext cx="1062000" cy="3977640"/>
            <a:chOff x="1981080" y="1090080"/>
            <a:chExt cx="1062000" cy="3977640"/>
          </a:xfrm>
        </p:grpSpPr>
        <p:sp>
          <p:nvSpPr>
            <p:cNvPr id="156" name="Text Box 11"/>
            <p:cNvSpPr/>
            <p:nvPr/>
          </p:nvSpPr>
          <p:spPr>
            <a:xfrm>
              <a:off x="2375280" y="1090080"/>
              <a:ext cx="667800" cy="3977640"/>
            </a:xfrm>
            <a:prstGeom prst="rect">
              <a:avLst/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野鸭群中的满足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Line 18"/>
            <p:cNvSpPr/>
            <p:nvPr/>
          </p:nvSpPr>
          <p:spPr>
            <a:xfrm>
              <a:off x="1981080" y="3048120"/>
              <a:ext cx="381240" cy="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8" name="Group 26"/>
          <p:cNvGrpSpPr/>
          <p:nvPr/>
        </p:nvGrpSpPr>
        <p:grpSpPr>
          <a:xfrm>
            <a:off x="3048120" y="1090080"/>
            <a:ext cx="1062000" cy="3977640"/>
            <a:chOff x="3048120" y="1090080"/>
            <a:chExt cx="1062000" cy="3977640"/>
          </a:xfrm>
        </p:grpSpPr>
        <p:sp>
          <p:nvSpPr>
            <p:cNvPr id="159" name="Text Box 12"/>
            <p:cNvSpPr/>
            <p:nvPr/>
          </p:nvSpPr>
          <p:spPr>
            <a:xfrm>
              <a:off x="3442320" y="1090080"/>
              <a:ext cx="667800" cy="3977640"/>
            </a:xfrm>
            <a:prstGeom prst="rect">
              <a:avLst/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雁群中死里逃生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3048120" y="3048120"/>
              <a:ext cx="380880" cy="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Group 27"/>
          <p:cNvGrpSpPr/>
          <p:nvPr/>
        </p:nvGrpSpPr>
        <p:grpSpPr>
          <a:xfrm>
            <a:off x="4114800" y="1239840"/>
            <a:ext cx="1138320" cy="3422880"/>
            <a:chOff x="4114800" y="1239840"/>
            <a:chExt cx="1138320" cy="3422880"/>
          </a:xfrm>
        </p:grpSpPr>
        <p:sp>
          <p:nvSpPr>
            <p:cNvPr id="162" name="Text Box 13"/>
            <p:cNvSpPr/>
            <p:nvPr/>
          </p:nvSpPr>
          <p:spPr>
            <a:xfrm>
              <a:off x="4585320" y="1239840"/>
              <a:ext cx="667800" cy="3422880"/>
            </a:xfrm>
            <a:prstGeom prst="rect">
              <a:avLst/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农舍里遭奚落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Line 20"/>
            <p:cNvSpPr/>
            <p:nvPr/>
          </p:nvSpPr>
          <p:spPr>
            <a:xfrm>
              <a:off x="4114800" y="3048120"/>
              <a:ext cx="380880" cy="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4" name="Group 28"/>
          <p:cNvGrpSpPr/>
          <p:nvPr/>
        </p:nvGrpSpPr>
        <p:grpSpPr>
          <a:xfrm>
            <a:off x="5257800" y="1014120"/>
            <a:ext cx="1138320" cy="3977640"/>
            <a:chOff x="5257800" y="1014120"/>
            <a:chExt cx="1138320" cy="3977640"/>
          </a:xfrm>
        </p:grpSpPr>
        <p:sp>
          <p:nvSpPr>
            <p:cNvPr id="165" name="Text Box 14"/>
            <p:cNvSpPr/>
            <p:nvPr/>
          </p:nvSpPr>
          <p:spPr>
            <a:xfrm>
              <a:off x="5728320" y="1014120"/>
              <a:ext cx="667800" cy="3977640"/>
            </a:xfrm>
            <a:prstGeom prst="rect">
              <a:avLst/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冬日里尝遍艰辛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5257800" y="3048120"/>
              <a:ext cx="380880" cy="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7" name="Group 29"/>
          <p:cNvGrpSpPr/>
          <p:nvPr/>
        </p:nvGrpSpPr>
        <p:grpSpPr>
          <a:xfrm>
            <a:off x="6400800" y="1014120"/>
            <a:ext cx="1138320" cy="3977640"/>
            <a:chOff x="6400800" y="1014120"/>
            <a:chExt cx="1138320" cy="3977640"/>
          </a:xfrm>
        </p:grpSpPr>
        <p:sp>
          <p:nvSpPr>
            <p:cNvPr id="168" name="Text Box 15"/>
            <p:cNvSpPr/>
            <p:nvPr/>
          </p:nvSpPr>
          <p:spPr>
            <a:xfrm>
              <a:off x="6871320" y="1014120"/>
              <a:ext cx="667800" cy="3977640"/>
            </a:xfrm>
            <a:prstGeom prst="rect">
              <a:avLst/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春日里收获美丽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" name="Line 22"/>
            <p:cNvSpPr/>
            <p:nvPr/>
          </p:nvSpPr>
          <p:spPr>
            <a:xfrm>
              <a:off x="6400800" y="3048120"/>
              <a:ext cx="380880" cy="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0" name="Group 30"/>
          <p:cNvGrpSpPr/>
          <p:nvPr/>
        </p:nvGrpSpPr>
        <p:grpSpPr>
          <a:xfrm>
            <a:off x="7620120" y="2016360"/>
            <a:ext cx="1319040" cy="2170080"/>
            <a:chOff x="7620120" y="2016360"/>
            <a:chExt cx="1319040" cy="2170080"/>
          </a:xfrm>
        </p:grpSpPr>
        <p:sp>
          <p:nvSpPr>
            <p:cNvPr id="171" name="Text Box 16"/>
            <p:cNvSpPr/>
            <p:nvPr/>
          </p:nvSpPr>
          <p:spPr>
            <a:xfrm>
              <a:off x="8149320" y="2016360"/>
              <a:ext cx="789840" cy="2170080"/>
            </a:xfrm>
            <a:prstGeom prst="rect">
              <a:avLst/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美天鹅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7620120" y="2971800"/>
              <a:ext cx="380880" cy="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3" name="Text Box 32"/>
          <p:cNvSpPr/>
          <p:nvPr/>
        </p:nvSpPr>
        <p:spPr>
          <a:xfrm>
            <a:off x="2234880" y="762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身处逆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2158920" y="5105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不懈追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5" name="Group 39"/>
          <p:cNvGrpSpPr/>
          <p:nvPr/>
        </p:nvGrpSpPr>
        <p:grpSpPr>
          <a:xfrm>
            <a:off x="3733920" y="5105520"/>
            <a:ext cx="2247840" cy="581400"/>
            <a:chOff x="3733920" y="5105520"/>
            <a:chExt cx="2247840" cy="581400"/>
          </a:xfrm>
        </p:grpSpPr>
        <p:sp>
          <p:nvSpPr>
            <p:cNvPr id="176" name="Text Box 35"/>
            <p:cNvSpPr/>
            <p:nvPr/>
          </p:nvSpPr>
          <p:spPr>
            <a:xfrm>
              <a:off x="4825800" y="5105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努力进取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>
              <a:off x="3733920" y="5410080"/>
              <a:ext cx="685800" cy="0"/>
            </a:xfrm>
            <a:prstGeom prst="line">
              <a:avLst/>
            </a:prstGeom>
            <a:ln w="572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8" name="Group 38"/>
          <p:cNvGrpSpPr/>
          <p:nvPr/>
        </p:nvGrpSpPr>
        <p:grpSpPr>
          <a:xfrm>
            <a:off x="3886200" y="762120"/>
            <a:ext cx="2171880" cy="581400"/>
            <a:chOff x="3886200" y="762120"/>
            <a:chExt cx="2171880" cy="581400"/>
          </a:xfrm>
        </p:grpSpPr>
        <p:sp>
          <p:nvSpPr>
            <p:cNvPr id="179" name="Text Box 33"/>
            <p:cNvSpPr/>
            <p:nvPr/>
          </p:nvSpPr>
          <p:spPr>
            <a:xfrm>
              <a:off x="4902120" y="7621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乐观坚定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Line 37"/>
            <p:cNvSpPr/>
            <p:nvPr/>
          </p:nvSpPr>
          <p:spPr>
            <a:xfrm>
              <a:off x="3886200" y="1066680"/>
              <a:ext cx="685800" cy="0"/>
            </a:xfrm>
            <a:prstGeom prst="line">
              <a:avLst/>
            </a:prstGeom>
            <a:ln w="572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81" name="Picture 42" descr="D:\My Documents\备课\画片素材库\天鹅.jpg"/>
          <p:cNvPicPr/>
          <p:nvPr/>
        </p:nvPicPr>
        <p:blipFill>
          <a:blip r:embed="rId1"/>
          <a:stretch/>
        </p:blipFill>
        <p:spPr>
          <a:xfrm>
            <a:off x="6781680" y="48769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3" descr="D:\语文\初一语文\二册语文\二册课件\丑小鸭\cxy.jpg"/>
          <p:cNvPicPr/>
          <p:nvPr/>
        </p:nvPicPr>
        <p:blipFill>
          <a:blip r:embed="rId2"/>
          <a:stretch/>
        </p:blipFill>
        <p:spPr>
          <a:xfrm>
            <a:off x="152280" y="487692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请找出童话中的若干人物（动物）形象，结合具体语句谈谈自己的看法。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4" name="Object 4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5" name="WordArt 6"/>
          <p:cNvSpPr txBox="1"/>
          <p:nvPr/>
        </p:nvSpPr>
        <p:spPr>
          <a:xfrm>
            <a:off x="2895480" y="68580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latin typeface="隶书"/>
              </a:rPr>
              <a:t>辨形象</a:t>
            </a:r>
            <a:endParaRPr b="0" lang="en-US" sz="5400" spc="-1" strike="noStrike">
              <a:ln w="0">
                <a:noFill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你知道丑小鸭变成白天鹅的原因是什么吗？在文找出相应的语句并分析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、想我还是走到广大的世界里去才好。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 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、我要飞向他们，飞向这些高贵的鸟       儿．．．．．．在冬天里受苦要好得多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 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、只要你是一只天鹅，就算是生在养鸭场里也没有什么关系。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 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D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、他到非常难为情，．．．．．因为一颗好的心是永远也不会骄傲的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 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62120" y="25909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80880" y="1852560"/>
            <a:ext cx="853452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在农家生活安定下来，但他渴望到水里去游泳，渴望走到广大的世界里去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他看到美丽的天鹅，从寒冷的地带飞向温暖的国度，丑小鸭感到一种说不出的兴奋，再也忘不了这些美丽的鸟儿，这些幸福的鸟儿。当他看不见他们的时候，感到非常空虚。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春天来了，当他又看到三只美丽的白天鹅时，便不顾生死飞向他们。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因为丑小鸭的对美的向往和不懈追求，终于实现了自己的理想，最终获得了幸福。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80880" y="533520"/>
            <a:ext cx="83822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课文中哪些地方表现丑小鸭对美的向往和不懈的追求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?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33160" y="685440"/>
            <a:ext cx="7391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有人说，丑小鸭变成白天鹅是它是自己追求和努力的结果；有人说，他如果不被善良而又软弱的鸭妈妈赶走，就是最初生活的地方，也会变成白天鹅。你同意哪种看法呢？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3520" y="3276720"/>
            <a:ext cx="8610480" cy="159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明确：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、丑小鸭之所以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丑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是用鸭氏家族的审美标准来评价的；之所以在猫绅士和鸡太太眼里是无能的，也是用猫族及鸡族的能力标准来衡量的。所以人们永远也不可能承认它的美丽。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、丑小鸭如果不离开老太婆家，去追求自己想要的生活，从而在灌木林中认识白天鹅的话，他永远也不能正确认识自己。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WordArt 6"/>
          <p:cNvSpPr txBox="1"/>
          <p:nvPr/>
        </p:nvSpPr>
        <p:spPr>
          <a:xfrm rot="5400000">
            <a:off x="7352640" y="171432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合作探究 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15328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宋体"/>
              </a:rPr>
              <a:t>丑小鸭留给我们什么样的启示呢？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2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、能够勇敢地离开那个让他饱受欺凌的出生之地，走向一个未知的世界。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、能够舍弃所谓的温暖舒适的生活，去追求自己想要的生活。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、它对自己的认识发现过程说明，没有对美好境界、理想生活的追求，不经历那么多的磨练，就不会发现自己其实也可以成为生活的一个奇迹。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6" name="Picture 4" descr="D:\素材库\图像素材3\动画库\hua4.gif"/>
          <p:cNvPicPr/>
          <p:nvPr/>
        </p:nvPicPr>
        <p:blipFill>
          <a:blip r:embed="rId1"/>
          <a:stretch/>
        </p:blipFill>
        <p:spPr>
          <a:xfrm>
            <a:off x="1828800" y="6248520"/>
            <a:ext cx="477720" cy="422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D:\素材库\图像素材3\动画库\兰花.gif"/>
          <p:cNvPicPr/>
          <p:nvPr/>
        </p:nvPicPr>
        <p:blipFill>
          <a:blip r:embed="rId2"/>
          <a:stretch/>
        </p:blipFill>
        <p:spPr>
          <a:xfrm>
            <a:off x="7238880" y="4800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360" y="19047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命运无轨道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2381040" cy="6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美文欣赏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0" name="Picture 1028" descr="D:\素材库\图像素材3\动画库\花链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52480" y="4876920"/>
            <a:ext cx="594360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380880" y="30492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6666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读一读  写一写</a:t>
            </a:r>
            <a:endParaRPr b="1" lang="en-US" sz="2400" spc="1" strike="noStrike">
              <a:ln w="19080">
                <a:solidFill>
                  <a:srgbClr val="6666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98080" y="1295280"/>
            <a:ext cx="58806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丑陋      讪笑       嫉妒       来势汹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沼泽      铰链      迸出       木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飕飕      弥漫      排挤        灯芯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73120" y="3892680"/>
            <a:ext cx="856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丑陋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相貌或样子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难看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讪笑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讥笑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嫉妒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忌妒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来势汹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动作或事物到来的气势盛大的样子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贬义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排挤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利用势力或手段使不利于自己的人失去地位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或利益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1226520" y="1484280"/>
            <a:ext cx="7880760" cy="2257560"/>
            <a:chOff x="1226520" y="1484280"/>
            <a:chExt cx="7880760" cy="2257560"/>
          </a:xfrm>
        </p:grpSpPr>
        <p:sp>
          <p:nvSpPr>
            <p:cNvPr id="104" name="Rectangle 12"/>
            <p:cNvSpPr/>
            <p:nvPr/>
          </p:nvSpPr>
          <p:spPr>
            <a:xfrm>
              <a:off x="1226520" y="2322360"/>
              <a:ext cx="99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zhǎo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05" name="Group 15"/>
            <p:cNvGrpSpPr/>
            <p:nvPr/>
          </p:nvGrpSpPr>
          <p:grpSpPr>
            <a:xfrm>
              <a:off x="1455120" y="1484280"/>
              <a:ext cx="7652160" cy="2257560"/>
              <a:chOff x="1455120" y="1484280"/>
              <a:chExt cx="7652160" cy="2257560"/>
            </a:xfrm>
          </p:grpSpPr>
          <p:sp>
            <p:nvSpPr>
              <p:cNvPr id="106" name="Text Box 5"/>
              <p:cNvSpPr/>
              <p:nvPr/>
            </p:nvSpPr>
            <p:spPr>
              <a:xfrm>
                <a:off x="5113080" y="1484280"/>
                <a:ext cx="98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jí dù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07" name="Rectangle 6"/>
              <p:cNvSpPr/>
              <p:nvPr/>
            </p:nvSpPr>
            <p:spPr>
              <a:xfrm>
                <a:off x="7475040" y="308448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xīn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08" name="Rectangle 7"/>
              <p:cNvSpPr/>
              <p:nvPr/>
            </p:nvSpPr>
            <p:spPr>
              <a:xfrm>
                <a:off x="1455120" y="3160440"/>
                <a:ext cx="76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sōu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3056760" y="1484280"/>
                <a:ext cx="109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sh àn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6940080" y="2322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jī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1" name="Rectangle 10"/>
              <p:cNvSpPr/>
              <p:nvPr/>
            </p:nvSpPr>
            <p:spPr>
              <a:xfrm>
                <a:off x="4884480" y="2322360"/>
                <a:ext cx="1017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bèng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2" name="Rectangle 11"/>
              <p:cNvSpPr/>
              <p:nvPr/>
            </p:nvSpPr>
            <p:spPr>
              <a:xfrm>
                <a:off x="3130560" y="2322360"/>
                <a:ext cx="83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jiǎo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7975440" y="1484280"/>
                <a:ext cx="1131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xiōng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1455120" y="148428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lòu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丑小鸭告诉我们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914040"/>
            <a:ext cx="4876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、成为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白天鹅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要经过自身的努力，重要的是要有天鹅一般高贵的灵魂。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、命运无轨道，三分天注定，七分靠自己。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、在拼搏中才能真正认识自己原来也可以变成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白天鹅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3" name="Object 4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4419720" cy="34671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4495680" y="4114800"/>
            <a:ext cx="464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胸怀大志，不懈追求，谦虚谨慎，正就是丑小鸭－－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</a:t>
            </a:r>
            <a:r>
              <a:rPr b="0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－安徒生的本色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5" name="Picture 7" descr="D:\素材库\图像素材3\动画库\hua4.gif"/>
          <p:cNvPicPr/>
          <p:nvPr/>
        </p:nvPicPr>
        <p:blipFill>
          <a:blip r:embed="rId2"/>
          <a:stretch/>
        </p:blipFill>
        <p:spPr>
          <a:xfrm>
            <a:off x="1143000" y="5943600"/>
            <a:ext cx="477720" cy="422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D:\素材库\图像素材3\动画库\hua4.gif"/>
          <p:cNvPicPr/>
          <p:nvPr/>
        </p:nvPicPr>
        <p:blipFill>
          <a:blip r:embed="rId3"/>
          <a:stretch/>
        </p:blipFill>
        <p:spPr>
          <a:xfrm>
            <a:off x="2362320" y="5638680"/>
            <a:ext cx="477720" cy="4222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1"/>
          <p:cNvSpPr/>
          <p:nvPr/>
        </p:nvSpPr>
        <p:spPr>
          <a:xfrm>
            <a:off x="115920" y="6365880"/>
            <a:ext cx="68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从丑小鸭的经历中，感悟人生道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只要不懈追求，努力进取，即使身处逆境，也终实现自己的理想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是金子，总会发光的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天生我材必有用</a:t>
            </a:r>
            <a:r>
              <a:rPr b="0" lang="zh-CN" sz="3200" spc="-1" strike="noStrike">
                <a:solidFill>
                  <a:srgbClr val="c3e684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逆境之中不沮丧，赞扬声中不骄傲，永远拥有一颗善良平常心，才能健康成长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0" name="Picture 4" descr="D:\素材库\图像素材3\动画库\红蘑菇.gif"/>
          <p:cNvPicPr/>
          <p:nvPr/>
        </p:nvPicPr>
        <p:blipFill>
          <a:blip r:embed="rId1"/>
          <a:stretch/>
        </p:blipFill>
        <p:spPr>
          <a:xfrm>
            <a:off x="7315200" y="5562720"/>
            <a:ext cx="12952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09480" y="1066680"/>
            <a:ext cx="754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121932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57200" y="20574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5b5249"/>
                </a:solidFill>
                <a:latin typeface="Times New Roman"/>
              </a:rPr>
              <a:t>在我们的现实生活中，也有许多丑小鸭，他们经过自己的拚搏奋斗，最后也成为了美丽的白天鹅。你能举出一些这样的例子吗？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6172200" y="3048120"/>
            <a:ext cx="0" cy="0"/>
          </a:xfrm>
          <a:prstGeom prst="line">
            <a:avLst/>
          </a:prstGeom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5335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思维拓展</a:t>
            </a:r>
            <a:endParaRPr b="0" lang="en-US" sz="7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6" name="Picture 7" descr="D:\素材库\图像素材3\动画库\花链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6248520"/>
            <a:ext cx="6324840" cy="38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76360" y="1371600"/>
            <a:ext cx="5562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ec8ba"/>
                </a:solidFill>
                <a:latin typeface="Times New Roman"/>
              </a:rPr>
              <a:t>丑小鸭与我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66680" y="2286000"/>
            <a:ext cx="777240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结合“成长的烦恼”以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《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我也是丑小鸭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》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或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《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我也会变成白天鹅的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》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说一段话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3e684"/>
                </a:solidFill>
                <a:latin typeface="Times New Roman"/>
                <a:ea typeface="隶书"/>
              </a:rPr>
              <a:t>以“丑小鸭”为话题说一段话，或发挥想象，或表达观点。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（任选一题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9" name="Picture 5" descr="D:\素材库\图像素材3\动画库\花链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6248520"/>
            <a:ext cx="6324840" cy="3808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6588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推荐作业</a:t>
            </a:r>
            <a:endParaRPr b="0" lang="en-US" sz="7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066760" y="914400"/>
            <a:ext cx="5010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逆境成才名言警句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09480" y="20574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不是一番寒彻骨，怎得梅花扑鼻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09480" y="2743200"/>
            <a:ext cx="4724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斐休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苦难是人生的老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巴尔扎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患难困苦，是磨炼人格之最高学校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梁启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5257800" y="205740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人在逆境里比在顺境里更能坚持不屈。遭厄运时比交好运时更容易保全身心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雨果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410080" y="45720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请记住，环境愈艰难困苦，就愈需要坚强、毅 力和信心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列夫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托尔斯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781360" y="836640"/>
            <a:ext cx="373392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巩固练习</a:t>
            </a:r>
            <a:endParaRPr b="1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27" name="Picture 3" descr="D:\素材库\图像素材1\线条\040.gif"/>
          <p:cNvPicPr/>
          <p:nvPr/>
        </p:nvPicPr>
        <p:blipFill>
          <a:blip r:embed="rId3"/>
          <a:stretch/>
        </p:blipFill>
        <p:spPr>
          <a:xfrm>
            <a:off x="1200240" y="2025720"/>
            <a:ext cx="6781680" cy="301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914400" y="249228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本文出处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《                       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作者安徒生，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国文学巨匠，世界著名的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作家 ，其代表作，有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143000" y="39625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1517760" y="4170240"/>
            <a:ext cx="7238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、正音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讪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笑    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绶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鸡     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芯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草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铰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链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迸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出    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陋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姊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妹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篱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嫉妒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屐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飕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飕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沮丧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嘎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1" name="Picture 8" descr="D:\素材库\图像素材3\动画库\兰花.gif"/>
          <p:cNvPicPr/>
          <p:nvPr/>
        </p:nvPicPr>
        <p:blipFill>
          <a:blip r:embed="rId4"/>
          <a:stretch/>
        </p:blipFill>
        <p:spPr>
          <a:xfrm>
            <a:off x="6629400" y="41911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:\My Pictures\画片素材库\动画\动物\蝴蝶\21.gif"/>
          <p:cNvPicPr/>
          <p:nvPr/>
        </p:nvPicPr>
        <p:blipFill>
          <a:blip r:embed="rId1"/>
          <a:stretch/>
        </p:blipFill>
        <p:spPr>
          <a:xfrm>
            <a:off x="1042920" y="4191120"/>
            <a:ext cx="6286680" cy="2286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D:\My Pictures\画片素材库\动画\动物\蝴蝶\26.gif"/>
          <p:cNvPicPr/>
          <p:nvPr/>
        </p:nvPicPr>
        <p:blipFill>
          <a:blip r:embed="rId2"/>
          <a:stretch/>
        </p:blipFill>
        <p:spPr>
          <a:xfrm>
            <a:off x="6172200" y="4876920"/>
            <a:ext cx="102888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D:\My Pictures\画片素材库\动画\动物\蝴蝶\hudie.gif"/>
          <p:cNvPicPr/>
          <p:nvPr/>
        </p:nvPicPr>
        <p:blipFill>
          <a:blip r:embed="rId3"/>
          <a:stretch/>
        </p:blipFill>
        <p:spPr>
          <a:xfrm>
            <a:off x="4495680" y="1676520"/>
            <a:ext cx="960480" cy="560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D:\My Pictures\画片素材库\动画\动物\蝴蝶\21.gif"/>
          <p:cNvPicPr/>
          <p:nvPr/>
        </p:nvPicPr>
        <p:blipFill>
          <a:blip r:embed="rId4"/>
          <a:stretch/>
        </p:blipFill>
        <p:spPr>
          <a:xfrm>
            <a:off x="5638680" y="0"/>
            <a:ext cx="628668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D:\My Pictures\画片素材库\动画\动物\蝴蝶\22.gif"/>
          <p:cNvPicPr/>
          <p:nvPr/>
        </p:nvPicPr>
        <p:blipFill>
          <a:blip r:embed="rId5"/>
          <a:stretch/>
        </p:blipFill>
        <p:spPr>
          <a:xfrm>
            <a:off x="2286000" y="5334120"/>
            <a:ext cx="1257480" cy="571320"/>
          </a:xfrm>
          <a:prstGeom prst="rect">
            <a:avLst/>
          </a:prstGeom>
          <a:ln w="0">
            <a:noFill/>
          </a:ln>
        </p:spPr>
      </p:pic>
      <p:sp>
        <p:nvSpPr>
          <p:cNvPr id="237" name="WordArt 7"/>
          <p:cNvSpPr txBox="1"/>
          <p:nvPr/>
        </p:nvSpPr>
        <p:spPr>
          <a:xfrm rot="85800">
            <a:off x="2362320" y="2057400"/>
            <a:ext cx="4267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谢谢大家！</a:t>
            </a:r>
            <a:endParaRPr b="0" lang="en-US" sz="24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238" name="Picture 8" descr="D:\素材库\图像素材3\动画库\花链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828800" y="4495680"/>
            <a:ext cx="5943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4F4A-4A69-4A35-82E9-8FF674D84A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773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安徒生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805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875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丹麦童话作家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，生于鞋匠家里。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827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年开始文学创作写有诗歌、戏剧、小说、游记等各类体裁作品，以童话创作成就最大，共一百六十余篇。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皇帝的新装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夜莺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卖火柴的小女孩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丑小鸭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等均为脍炙人口的名篇。因有底层生活经历，作品多能站在劳苦人民的立场。暴露统治阶段的奢侈，残暴和愚蠢，描述劳动人民的贫困与智慧。以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丰富的想像、生动的情节、深刻的内容、简洁而明快的艺术形式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著称于世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826920" y="105264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c9ddf1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者作品简介</a:t>
            </a:r>
            <a:endParaRPr b="1" lang="en-US" sz="2400" spc="1" strike="noStrike">
              <a:ln w="19080">
                <a:solidFill>
                  <a:srgbClr val="c9ddf1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E02043_"/>
          <p:cNvPicPr/>
          <p:nvPr/>
        </p:nvPicPr>
        <p:blipFill>
          <a:blip r:embed="rId1"/>
          <a:stretch/>
        </p:blipFill>
        <p:spPr>
          <a:xfrm>
            <a:off x="6222960" y="2590920"/>
            <a:ext cx="2921040" cy="4267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Times New Roman"/>
              </a:rPr>
              <a:t>童话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12100e"/>
                </a:solidFill>
                <a:latin typeface="Times New Roman"/>
              </a:rPr>
              <a:t>儿童文学的一种。它按照儿童的心理特点，通过丰富的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想象、幻想和夸张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12100e"/>
                </a:solidFill>
                <a:latin typeface="Times New Roman"/>
              </a:rPr>
              <a:t>采用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拟人化</a:t>
            </a:r>
            <a:r>
              <a:rPr b="0" lang="zh-CN" sz="3600" spc="-1" strike="noStrike">
                <a:solidFill>
                  <a:srgbClr val="12100e"/>
                </a:solidFill>
                <a:latin typeface="Times New Roman"/>
              </a:rPr>
              <a:t>的手法。</a:t>
            </a:r>
            <a:br>
              <a:rPr sz="3600"/>
            </a:br>
            <a:r>
              <a:rPr b="0" lang="zh-CN" sz="3600" spc="-1" strike="noStrike">
                <a:solidFill>
                  <a:srgbClr val="12100e"/>
                </a:solidFill>
                <a:latin typeface="Times New Roman"/>
              </a:rPr>
              <a:t>主人公可以让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动物、植物</a:t>
            </a:r>
            <a:r>
              <a:rPr b="0" lang="zh-CN" sz="3600" spc="-1" strike="noStrike">
                <a:solidFill>
                  <a:srgbClr val="12100e"/>
                </a:solidFill>
                <a:latin typeface="Times New Roman"/>
              </a:rPr>
              <a:t>像人</a:t>
            </a:r>
            <a:br>
              <a:rPr sz="3600"/>
            </a:br>
            <a:r>
              <a:rPr b="0" lang="zh-CN" sz="3600" spc="-1" strike="noStrike">
                <a:solidFill>
                  <a:srgbClr val="12100e"/>
                </a:solidFill>
                <a:latin typeface="Times New Roman"/>
              </a:rPr>
              <a:t>一样地说话、活动，故事情节</a:t>
            </a:r>
            <a:br>
              <a:rPr sz="3600"/>
            </a:br>
            <a:r>
              <a:rPr b="0" lang="zh-CN" sz="3600" spc="-1" strike="noStrike">
                <a:solidFill>
                  <a:srgbClr val="12100e"/>
                </a:solidFill>
                <a:latin typeface="Times New Roman"/>
              </a:rPr>
              <a:t>曲折离奇，激发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孩子</a:t>
            </a:r>
            <a:r>
              <a:rPr b="0" lang="zh-CN" sz="3600" spc="-1" strike="noStrike">
                <a:solidFill>
                  <a:srgbClr val="12100e"/>
                </a:solidFill>
                <a:latin typeface="Times New Roman"/>
              </a:rPr>
              <a:t>的想象，</a:t>
            </a:r>
            <a:br>
              <a:rPr sz="3600"/>
            </a:br>
            <a:r>
              <a:rPr b="0" lang="zh-CN" sz="3600" spc="-1" strike="noStrike">
                <a:solidFill>
                  <a:srgbClr val="12100e"/>
                </a:solidFill>
                <a:latin typeface="Times New Roman"/>
              </a:rPr>
              <a:t>并对他们进行思想和知识的教</a:t>
            </a:r>
            <a:br>
              <a:rPr sz="3600"/>
            </a:br>
            <a:r>
              <a:rPr b="0" lang="zh-CN" sz="3600" spc="-1" strike="noStrike">
                <a:solidFill>
                  <a:srgbClr val="12100e"/>
                </a:solidFill>
                <a:latin typeface="Times New Roman"/>
              </a:rPr>
              <a:t>育。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5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x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447840" y="549360"/>
            <a:ext cx="794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速读课文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根据图片提示，复述故事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或分角色朗读在这个地方发生的故事。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5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ic_17038"/>
          <p:cNvPicPr/>
          <p:nvPr/>
        </p:nvPicPr>
        <p:blipFill>
          <a:blip r:embed="rId1"/>
          <a:stretch/>
        </p:blipFill>
        <p:spPr>
          <a:xfrm>
            <a:off x="4140360" y="-531720"/>
            <a:ext cx="5256000" cy="417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pic_17039"/>
          <p:cNvPicPr/>
          <p:nvPr/>
        </p:nvPicPr>
        <p:blipFill>
          <a:blip r:embed="rId2"/>
          <a:stretch/>
        </p:blipFill>
        <p:spPr>
          <a:xfrm>
            <a:off x="-324000" y="2781360"/>
            <a:ext cx="3600720" cy="407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pic_36a"/>
          <p:cNvPicPr/>
          <p:nvPr/>
        </p:nvPicPr>
        <p:blipFill>
          <a:blip r:embed="rId3"/>
          <a:stretch/>
        </p:blipFill>
        <p:spPr>
          <a:xfrm>
            <a:off x="3132000" y="3284640"/>
            <a:ext cx="3168720" cy="357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hou-6"/>
          <p:cNvPicPr/>
          <p:nvPr/>
        </p:nvPicPr>
        <p:blipFill>
          <a:blip r:embed="rId4"/>
          <a:stretch/>
        </p:blipFill>
        <p:spPr>
          <a:xfrm>
            <a:off x="0" y="0"/>
            <a:ext cx="4500720" cy="3284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970640" y="25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496200" y="33336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22640" y="6059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716360" y="3860640"/>
            <a:ext cx="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7504200" y="616572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Ｅ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067720" y="6203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12" descr="it"/>
          <p:cNvPicPr/>
          <p:nvPr/>
        </p:nvPicPr>
        <p:blipFill>
          <a:blip r:embed="rId5"/>
          <a:stretch/>
        </p:blipFill>
        <p:spPr>
          <a:xfrm>
            <a:off x="6300720" y="3357720"/>
            <a:ext cx="284328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7442640" y="5627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Ｅ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0520" y="1844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、这篇童话讲了一个什么故事？你知道贯穿全文的线索是什么吗？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全文写了丑小鸭在哪几个地方的流浪生活？在书中勾画出来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 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  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069920" y="981000"/>
            <a:ext cx="3306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6666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整体感知</a:t>
            </a:r>
            <a:endParaRPr b="1" lang="en-US" sz="2400" spc="1" strike="noStrike">
              <a:ln w="19080">
                <a:solidFill>
                  <a:srgbClr val="6666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089000" y="3284640"/>
            <a:ext cx="7620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明确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丑小鸭自出生以来就被人看不起，被迫离开家，历经苦难，最后意外发现自己不是一只丑小鸭，而是一只美丽的天鹅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以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丑小鸭的流浪足迹为线索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沼泽地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老太婆家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灌木林里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—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老农家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花园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1332000" y="9810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丑小鸭遭到哪些歧视和打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些打击面前，丑小鸭抱什么态度，有什么追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187280" y="26668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鸭群和鸡群中他处处挨啄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被排挤，被讪笑；大家都要赶走他，连自己的兄弟姊妹也不欢迎他。喂鸡鸭的那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女佣人也用脚踢他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他独自流浪到一块沼泽地，讨好那些野鸭们，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野鸭也不喜欢他。他还差点被猎人打死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在黑夜里，他顶着狂风跑到一个农舍。但因为他不能生蛋，发不出咪咪的叫声和迸不出火花，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被母鸡和雄猫赶走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后来，丑小鸭还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尽严冬的折磨，差点被冻死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762120" y="105264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在这些打击面前，丑小鸭始终不屈不挠，相信自己，以乐观的态度对待艰难困苦。他相信即使身处逆境，经过不懈追求，努力进取，美好的理想一定能实现，幸福一定会来到身边。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3" descr="D:\语文\初一语文\二册语文\二册课件\丑小鸭\cxy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56360" y="3068640"/>
            <a:ext cx="298764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2:44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3:19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