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4.jpeg" ContentType="image/jpeg"/>
  <Override PartName="/ppt/media/image13.png" ContentType="image/pn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67B8-1C56-491C-941E-03FE71314A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D8DB-8822-4A9C-9BF3-78E2C93D0D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89E-A6CB-4C33-B51A-CB3E43B5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C13-6244-498C-B0B9-00D3240A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0CC-AAB0-4D71-9C92-A05195F0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470-9C76-4665-B102-4968BDEC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F83-814D-45C9-BA30-BB45185E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334-FC2E-4A3B-A700-032F2487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F5F-CF6C-4935-A687-A00603E6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5F0-9EE6-49AD-B79B-0F45FC53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243-F301-40FF-875D-8ED0401B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10C-C91E-4E27-8E7C-420AB278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133-4237-41B1-AFF4-6B609DB9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8F8-10F0-4FF8-9C57-5C9BE4C6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7A77-897E-425C-A100-7B8FA4ABF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143000" y="3124080"/>
            <a:ext cx="7086600" cy="22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搭船的鸟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941120" y="5943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4920" y="990720"/>
            <a:ext cx="746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5000" spc="-1" strike="noStrike">
                <a:solidFill>
                  <a:srgbClr val="800000"/>
                </a:solidFill>
                <a:latin typeface="Arial"/>
                <a:ea typeface="楷体_GB2312"/>
              </a:rPr>
              <a:t>多么美丽的小鸟啊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914400" y="2514600"/>
            <a:ext cx="5486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zh-CN" sz="5000" spc="-1" strike="noStrike">
                <a:solidFill>
                  <a:srgbClr val="800000"/>
                </a:solidFill>
                <a:latin typeface="Arial"/>
              </a:rPr>
              <a:t>它有一张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红色</a:t>
            </a:r>
            <a:r>
              <a:rPr b="1" lang="zh-CN" sz="5000" spc="-1" strike="noStrike">
                <a:solidFill>
                  <a:srgbClr val="800000"/>
                </a:solidFill>
                <a:latin typeface="Arial"/>
              </a:rPr>
              <a:t>的长嘴，羽毛是</a:t>
            </a:r>
            <a:r>
              <a:rPr b="1" lang="zh-CN" sz="5000" spc="-1" strike="noStrike">
                <a:solidFill>
                  <a:srgbClr val="33cc33"/>
                </a:solidFill>
                <a:latin typeface="Arial"/>
              </a:rPr>
              <a:t>翠绿</a:t>
            </a:r>
            <a:r>
              <a:rPr b="1" lang="zh-CN" sz="5000" spc="-1" strike="noStrike">
                <a:solidFill>
                  <a:srgbClr val="800000"/>
                </a:solidFill>
                <a:latin typeface="Arial"/>
              </a:rPr>
              <a:t>的，翅膀带有一些</a:t>
            </a:r>
            <a:r>
              <a:rPr b="1" lang="zh-CN" sz="5000" spc="-1" strike="noStrike">
                <a:solidFill>
                  <a:srgbClr val="0000ff"/>
                </a:solidFill>
                <a:latin typeface="Arial"/>
              </a:rPr>
              <a:t>蓝色</a:t>
            </a:r>
            <a:r>
              <a:rPr b="1" lang="zh-CN" sz="5000" spc="-1" strike="noStrike">
                <a:solidFill>
                  <a:srgbClr val="800000"/>
                </a:solidFill>
                <a:latin typeface="Arial"/>
              </a:rPr>
              <a:t>，比鹦鹉还漂亮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3176640" y="5641920"/>
            <a:ext cx="54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57200" y="2362320"/>
            <a:ext cx="655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如果你看见这样一只小鸟站在船头，你会产生什么想法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38280" y="9144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想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  <a:ea typeface="楷体_GB2312"/>
              </a:rPr>
              <a:t>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鸟1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4800600" y="30492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新宋体"/>
                <a:ea typeface="新宋体"/>
              </a:rPr>
              <a:t>    </a:t>
            </a:r>
            <a:r>
              <a:rPr b="1" lang="zh-CN" sz="4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什么时候飞来的呢</a:t>
            </a:r>
            <a:r>
              <a:rPr b="1" lang="en-US" sz="4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r>
              <a:rPr b="1" lang="zh-CN" sz="4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悄悄地站在船头有多久了？站在那里做什么呢</a:t>
            </a:r>
            <a:r>
              <a:rPr b="1" lang="en-US" sz="4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r>
              <a:rPr b="1" lang="zh-CN" sz="4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难道它要和我们一起坐船到外祖父家里去吗</a:t>
            </a:r>
            <a:r>
              <a:rPr b="1" lang="en-US" sz="4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533520" y="28195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60093"/>
                </a:solidFill>
                <a:latin typeface="Arial"/>
              </a:rPr>
              <a:t>站在那里到底做什么呢</a:t>
            </a:r>
            <a:r>
              <a:rPr b="1" lang="en-US" sz="80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590920" y="83808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思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4648320" y="106200"/>
            <a:ext cx="44956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我正想着，它</a:t>
            </a:r>
            <a:r>
              <a:rPr b="1" lang="zh-CN" sz="4500" spc="-1" strike="noStrike">
                <a:solidFill>
                  <a:srgbClr val="d60093"/>
                </a:solidFill>
                <a:latin typeface="Arial"/>
                <a:ea typeface="楷体_GB2312"/>
              </a:rPr>
              <a:t>一下子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冲进水里不见了。可是，</a:t>
            </a:r>
            <a:r>
              <a:rPr b="1" lang="zh-CN" sz="4500" spc="-1" strike="noStrike">
                <a:solidFill>
                  <a:srgbClr val="d60093"/>
                </a:solidFill>
                <a:latin typeface="Arial"/>
                <a:ea typeface="楷体_GB2312"/>
              </a:rPr>
              <a:t>没一会儿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，它又飞出来了，红色的长嘴里衔着一条小鱼。它站在船头，一口把小鱼吞了下去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354F-BD11-4280-B7C0-52AD92F768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362320" y="114300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快来认识我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52280" y="2590920"/>
            <a:ext cx="876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搭船   亲人    船舱    一些   船夫   鹦鹉    捕鱼    难忘    打架   夫人    披着    彩色   悄悄   吞下    做题    冲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666880" y="129528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903040" y="2971800"/>
            <a:ext cx="103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523880" y="213372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581280" y="91440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à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733920" y="342900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á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638680" y="9144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灾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15000" y="342900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难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09480" y="167652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搭船的鸟是什么鸟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5"/>
          <p:cNvSpPr/>
          <p:nvPr/>
        </p:nvSpPr>
        <p:spPr>
          <a:xfrm>
            <a:off x="3352680" y="3581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nia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鸟1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niao3"/>
          <p:cNvPicPr/>
          <p:nvPr/>
        </p:nvPicPr>
        <p:blipFill>
          <a:blip r:embed="rId2"/>
          <a:stretch/>
        </p:blipFill>
        <p:spPr>
          <a:xfrm>
            <a:off x="4667400" y="3429000"/>
            <a:ext cx="4476600" cy="366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niao2"/>
          <p:cNvPicPr/>
          <p:nvPr/>
        </p:nvPicPr>
        <p:blipFill>
          <a:blip r:embed="rId3"/>
          <a:stretch/>
        </p:blipFill>
        <p:spPr>
          <a:xfrm>
            <a:off x="0" y="342900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202200" y="2666880"/>
            <a:ext cx="4295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你喜欢这样的鸟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为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21:31Z</dcterms:created>
  <dc:creator>第一PPT模板网-WWW.1PPT.COM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38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