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AD0-F9BE-44E6-8B09-5B903E2398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F08F-158B-4EDD-9F61-D8C00E9580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001-034A-4F59-AEF5-7A03A32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EDA-38A8-429A-95E4-9ED5030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84C-3B33-4EB4-9687-5175694D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C1B-5F71-4291-A222-59A0A80A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3B8-A54A-4502-AF43-2D58046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4A2-E251-4485-BBAD-B7DEA6A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910-C709-4425-81F5-DC39B15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D34-813A-4CD0-918C-F1D536B0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993-3BC8-4887-B86E-DE315D85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E19-293E-452D-90FB-950DBFFF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B7A-08BD-4339-8717-95483C4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68E-D8D3-44CB-ACE6-C873C3E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F7D0-CE97-4943-8EF9-E5E371D93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aike.baidu.com/view/1846389.htm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1432080" y="17002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c99"/>
                </a:solidFill>
                <a:latin typeface="华文中宋"/>
                <a:ea typeface="华文中宋"/>
              </a:rPr>
              <a:t>搭船的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55360" y="5157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鸟1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800600" y="304920"/>
            <a:ext cx="41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什么时候飞来的呢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悄悄地站在船头有多久了？站在那里做什么呢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道它要和我们一起坐船到外祖父家里去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8320" y="4309920"/>
            <a:ext cx="46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几个问句透露出“我”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鸟的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836160" y="12700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翠鸟不但外表长得漂亮，还有一种特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本领你知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090680" y="344340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能说一说翠鸟是如何捕鱼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搭船的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50920" y="18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正想着，它一下子冲进水里不见了。可是，没一会儿，它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飞出来了，红色的长嘴里衔着一条小鱼。它站在船头，一口把小鱼吞了下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788000" y="76500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6227640" y="765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826920" y="134136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284720" y="1341360"/>
            <a:ext cx="1366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755640" y="198900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68800" y="37688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说明小鸟行动敏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465920" y="3284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面画红线词语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777120" y="43783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色的长嘴里衔着一条小鱼是写它的似乎在向人炫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我的本领多大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039680" y="574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吞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05640" y="6338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吞说明翠鸟的进食特点。不嚼，经吞直接进入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15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一直在谈鸟，那翠鸟在哪儿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船上除了这只鸟之外还有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觉得鸟与人相处得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04920" y="1219320"/>
            <a:ext cx="8443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它有一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红色的长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羽毛是翠绿色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翅膀带有一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蓝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比鹦鹉还漂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6095880"/>
            <a:ext cx="9144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鸟给我们的印象是样子美丽、本领高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5600" y="0"/>
            <a:ext cx="8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评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47920" y="2514600"/>
            <a:ext cx="617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翠鸟的样子很美丽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04920" y="342900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正想着，它一下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冲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里不见了。可是，没一会儿，它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飞出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，红色的长嘴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一条小鱼。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船头，一口把小鱼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下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371600" y="533412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翠鸟动作敏捷，本领高强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68360" y="525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抓重点词语和句子理解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568080" y="228600"/>
            <a:ext cx="11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检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】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828800" y="137160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 ）的长嘴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 ）的羽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 ）的翅膀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 ）的翠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362320" y="12193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362320" y="20574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翠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286000" y="2971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蓝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286000" y="38098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564000" y="1341360"/>
            <a:ext cx="525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同桌赛一赛，看谁认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船舱   吞下   捕捉   难过   亲近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搭桥   雨披   那些   做事   静悄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选择恰当的字填在括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夫   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是一位年老的船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（  ）起那位摔倒的小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漂   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叶在空中（  ）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一只（  ）亮的小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1216080" y="5450040"/>
            <a:ext cx="68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41H045-2-QE2-l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7"/>
          <p:cNvSpPr/>
          <p:nvPr/>
        </p:nvSpPr>
        <p:spPr>
          <a:xfrm>
            <a:off x="1042920" y="22050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读下面一段话，回答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来，雨停了。我看见一只彩色的小鸟站在船头。多么美丽的小鸟啊！它有一张红色的长嘴。羽毛是翠绿的。翅膀带有一些蓝色，比鹦鹉还漂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文中哪些词语可以看出这是一只彩色的小鸟？请把相关的词语画出来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4740120" y="2398680"/>
            <a:ext cx="1452240" cy="1439640"/>
            <a:chOff x="4740120" y="2398680"/>
            <a:chExt cx="1452240" cy="1439640"/>
          </a:xfrm>
        </p:grpSpPr>
        <p:sp>
          <p:nvSpPr>
            <p:cNvPr id="137" name="Rectangle 3"/>
            <p:cNvSpPr/>
            <p:nvPr/>
          </p:nvSpPr>
          <p:spPr>
            <a:xfrm>
              <a:off x="4755600" y="239868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547488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4740120" y="310320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2851200" y="2273400"/>
            <a:ext cx="1452240" cy="1439640"/>
            <a:chOff x="2851200" y="2273400"/>
            <a:chExt cx="1452240" cy="1439640"/>
          </a:xfrm>
        </p:grpSpPr>
        <p:sp>
          <p:nvSpPr>
            <p:cNvPr id="141" name="Rectangle 7"/>
            <p:cNvSpPr/>
            <p:nvPr/>
          </p:nvSpPr>
          <p:spPr>
            <a:xfrm>
              <a:off x="2866680" y="22734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585960" y="22734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851200" y="29779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0"/>
          <p:cNvSpPr/>
          <p:nvPr/>
        </p:nvSpPr>
        <p:spPr>
          <a:xfrm>
            <a:off x="457200" y="533520"/>
            <a:ext cx="331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1015920" y="2276640"/>
            <a:ext cx="1452240" cy="1439640"/>
            <a:chOff x="1015920" y="2276640"/>
            <a:chExt cx="1452240" cy="1439640"/>
          </a:xfrm>
        </p:grpSpPr>
        <p:sp>
          <p:nvSpPr>
            <p:cNvPr id="146" name="Rectangle 12"/>
            <p:cNvSpPr/>
            <p:nvPr/>
          </p:nvSpPr>
          <p:spPr>
            <a:xfrm>
              <a:off x="1031400" y="2276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175068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1015920" y="298116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15"/>
          <p:cNvSpPr/>
          <p:nvPr/>
        </p:nvSpPr>
        <p:spPr>
          <a:xfrm>
            <a:off x="990720" y="22003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825640" y="21718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730760" y="2259000"/>
            <a:ext cx="144000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4724280" y="2286000"/>
            <a:ext cx="1452240" cy="1439640"/>
            <a:chOff x="4724280" y="2286000"/>
            <a:chExt cx="1452240" cy="1439640"/>
          </a:xfrm>
        </p:grpSpPr>
        <p:sp>
          <p:nvSpPr>
            <p:cNvPr id="153" name="Rectangle 19"/>
            <p:cNvSpPr/>
            <p:nvPr/>
          </p:nvSpPr>
          <p:spPr>
            <a:xfrm>
              <a:off x="4739760" y="22860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>
              <a:off x="5459040" y="2286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4724280" y="29905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2"/>
          <p:cNvGrpSpPr/>
          <p:nvPr/>
        </p:nvGrpSpPr>
        <p:grpSpPr>
          <a:xfrm>
            <a:off x="6548400" y="2394000"/>
            <a:ext cx="1452240" cy="1439640"/>
            <a:chOff x="6548400" y="2394000"/>
            <a:chExt cx="1452240" cy="1439640"/>
          </a:xfrm>
        </p:grpSpPr>
        <p:sp>
          <p:nvSpPr>
            <p:cNvPr id="157" name="Rectangle 23"/>
            <p:cNvSpPr/>
            <p:nvPr/>
          </p:nvSpPr>
          <p:spPr>
            <a:xfrm>
              <a:off x="6563880" y="239400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283160" y="239400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>
              <a:off x="6548400" y="309852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26"/>
          <p:cNvSpPr/>
          <p:nvPr/>
        </p:nvSpPr>
        <p:spPr>
          <a:xfrm>
            <a:off x="6637320" y="2254320"/>
            <a:ext cx="1440000" cy="14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7"/>
          <p:cNvGrpSpPr/>
          <p:nvPr/>
        </p:nvGrpSpPr>
        <p:grpSpPr>
          <a:xfrm>
            <a:off x="6648480" y="2276640"/>
            <a:ext cx="1452240" cy="1439640"/>
            <a:chOff x="6648480" y="2276640"/>
            <a:chExt cx="1452240" cy="1439640"/>
          </a:xfrm>
        </p:grpSpPr>
        <p:sp>
          <p:nvSpPr>
            <p:cNvPr id="162" name="Rectangle 28"/>
            <p:cNvSpPr/>
            <p:nvPr/>
          </p:nvSpPr>
          <p:spPr>
            <a:xfrm>
              <a:off x="6663960" y="2276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"/>
            <p:cNvSpPr/>
            <p:nvPr/>
          </p:nvSpPr>
          <p:spPr>
            <a:xfrm>
              <a:off x="738324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0"/>
            <p:cNvSpPr/>
            <p:nvPr/>
          </p:nvSpPr>
          <p:spPr>
            <a:xfrm>
              <a:off x="6648480" y="298116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1"/>
          <p:cNvGrpSpPr/>
          <p:nvPr/>
        </p:nvGrpSpPr>
        <p:grpSpPr>
          <a:xfrm>
            <a:off x="826920" y="4444920"/>
            <a:ext cx="1452240" cy="1439640"/>
            <a:chOff x="826920" y="4444920"/>
            <a:chExt cx="1452240" cy="1439640"/>
          </a:xfrm>
        </p:grpSpPr>
        <p:sp>
          <p:nvSpPr>
            <p:cNvPr id="166" name="Rectangle 32"/>
            <p:cNvSpPr/>
            <p:nvPr/>
          </p:nvSpPr>
          <p:spPr>
            <a:xfrm>
              <a:off x="842400" y="44449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>
              <a:off x="1561680" y="44449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4"/>
            <p:cNvSpPr/>
            <p:nvPr/>
          </p:nvSpPr>
          <p:spPr>
            <a:xfrm>
              <a:off x="826920" y="51494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5"/>
          <p:cNvSpPr/>
          <p:nvPr/>
        </p:nvSpPr>
        <p:spPr>
          <a:xfrm>
            <a:off x="851040" y="43434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6"/>
          <p:cNvGrpSpPr/>
          <p:nvPr/>
        </p:nvGrpSpPr>
        <p:grpSpPr>
          <a:xfrm>
            <a:off x="2871720" y="4459320"/>
            <a:ext cx="1452240" cy="1439640"/>
            <a:chOff x="2871720" y="4459320"/>
            <a:chExt cx="1452240" cy="1439640"/>
          </a:xfrm>
        </p:grpSpPr>
        <p:sp>
          <p:nvSpPr>
            <p:cNvPr id="171" name="Rectangle 37"/>
            <p:cNvSpPr/>
            <p:nvPr/>
          </p:nvSpPr>
          <p:spPr>
            <a:xfrm>
              <a:off x="2887200" y="44593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360648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2871720" y="51638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40"/>
          <p:cNvSpPr/>
          <p:nvPr/>
        </p:nvSpPr>
        <p:spPr>
          <a:xfrm>
            <a:off x="2868480" y="435780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1"/>
          <p:cNvGrpSpPr/>
          <p:nvPr/>
        </p:nvGrpSpPr>
        <p:grpSpPr>
          <a:xfrm>
            <a:off x="4714920" y="4459320"/>
            <a:ext cx="1452240" cy="1439640"/>
            <a:chOff x="4714920" y="4459320"/>
            <a:chExt cx="1452240" cy="1439640"/>
          </a:xfrm>
        </p:grpSpPr>
        <p:sp>
          <p:nvSpPr>
            <p:cNvPr id="176" name="Rectangle 42"/>
            <p:cNvSpPr/>
            <p:nvPr/>
          </p:nvSpPr>
          <p:spPr>
            <a:xfrm>
              <a:off x="4730400" y="44593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3"/>
            <p:cNvSpPr/>
            <p:nvPr/>
          </p:nvSpPr>
          <p:spPr>
            <a:xfrm>
              <a:off x="544968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4"/>
            <p:cNvSpPr/>
            <p:nvPr/>
          </p:nvSpPr>
          <p:spPr>
            <a:xfrm>
              <a:off x="4714920" y="51638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45"/>
          <p:cNvSpPr/>
          <p:nvPr/>
        </p:nvSpPr>
        <p:spPr>
          <a:xfrm>
            <a:off x="4745160" y="44370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6"/>
          <p:cNvGrpSpPr/>
          <p:nvPr/>
        </p:nvGrpSpPr>
        <p:grpSpPr>
          <a:xfrm>
            <a:off x="6626160" y="4459320"/>
            <a:ext cx="1452240" cy="1439640"/>
            <a:chOff x="6626160" y="4459320"/>
            <a:chExt cx="1452240" cy="1439640"/>
          </a:xfrm>
        </p:grpSpPr>
        <p:sp>
          <p:nvSpPr>
            <p:cNvPr id="181" name="Rectangle 47"/>
            <p:cNvSpPr/>
            <p:nvPr/>
          </p:nvSpPr>
          <p:spPr>
            <a:xfrm>
              <a:off x="6641640" y="44593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8"/>
            <p:cNvSpPr/>
            <p:nvPr/>
          </p:nvSpPr>
          <p:spPr>
            <a:xfrm>
              <a:off x="736092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9"/>
            <p:cNvSpPr/>
            <p:nvPr/>
          </p:nvSpPr>
          <p:spPr>
            <a:xfrm>
              <a:off x="6626160" y="51638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50"/>
          <p:cNvSpPr/>
          <p:nvPr/>
        </p:nvSpPr>
        <p:spPr>
          <a:xfrm>
            <a:off x="6656400" y="4437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D31-6870-4CB6-843C-B2D19DDD96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42920" y="166680"/>
            <a:ext cx="6915240" cy="33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576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搭船的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和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着小船，到乡下外祖父家里去。我们坐在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里。外面下着雨，雨点打在船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，“沙拉、沙拉”地响。船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披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衣，在船后用力地摇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来，雨停了。我看见一只彩色的小鸟站在船头。多么美丽的小鸟啊！它有一张红色的长嘴，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毛是翠绿的，翅膀带有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蓝色，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鹦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27280" y="98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q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132000" y="404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48436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ā</a:t>
            </a:r>
            <a:r>
              <a:rPr b="0" lang="zh-CN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995640" y="48830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xi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724360" y="497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yīng w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804000" y="19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B Pinyinok-C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068720" y="2414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f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93236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u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695600" y="299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l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71640" y="692280"/>
            <a:ext cx="691524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什么时候飞来的呢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悄地站在船头有多久了？站在那里做什么呢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它要和我们一起坐船到外祖父家里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正想着，它一下子冲进水里不见了。可是，没一会儿，它又飞出来了，红色的长嘴里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一条小鱼。它站在船头，一口把小鱼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下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告诉我这是翠鸟。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我明白了，这只翠鸟搭了我们的船，在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鱼吃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132000" y="404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643280" y="685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qi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64328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GB Pinyinok-C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372360" y="3141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xi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GB Pinyinok-C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219640" y="3673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71636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08360" y="494172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b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403280" y="260280"/>
            <a:ext cx="6985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和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着小船，到乡下外祖父家里去。我们坐在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里。外面下着雨，雨点打在船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，“沙拉、沙拉”地响。船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披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衣，在船后用力地摇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来，雨停了。我看见一只彩色的小鸟站在船头。多么美丽的小鸟啊！它有一张红色的长嘴，羽毛是翠绿的，翅膀带有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蓝色，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鹦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漂亮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它什么时候飞来的呢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悄地站在船头多久了？站在那里做什么呢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它要和我们一起坐船到外祖父家里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正想着，它一下子冲进水里不见了。可是，没一会儿，它又飞出来了，红色的长嘴里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一条小鱼。它站在船头，一口把小鱼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下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告诉我这是翠鸟。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我明白了，这只翠鸟搭了我们的船，在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鱼吃呢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132000" y="404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-228600" y="228600"/>
            <a:ext cx="1036332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声朗读下列词语两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dā chuán    mǔ  qīn  chuán  cā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搭   船     母  亲     船    舱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uán fū          yì  xiē       yīnɡ w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船   夫     一 些     鹦   鹉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qiāo qiāo  nán dào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ūn x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悄   悄   难   道   吞  下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ǔ     yú  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suō yī     chuán pén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捕   鱼    蓑 衣       船    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0"/>
          <p:cNvSpPr/>
          <p:nvPr/>
        </p:nvSpPr>
        <p:spPr>
          <a:xfrm>
            <a:off x="3448080" y="3933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23623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船舱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7621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蓑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船篷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7d257b3bffbab3b3306570f4c41a_480_640.jpg"/>
          <p:cNvPicPr/>
          <p:nvPr/>
        </p:nvPicPr>
        <p:blipFill>
          <a:blip r:embed="rId1"/>
          <a:stretch/>
        </p:blipFill>
        <p:spPr>
          <a:xfrm>
            <a:off x="4462560" y="3124080"/>
            <a:ext cx="4681440" cy="3733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2522520" y="25146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甲板以下的各种空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23880" y="838080"/>
            <a:ext cx="7239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劳动者用一种不容易腐烂的草（民间叫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蓑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编织成厚厚的像衣服一样能穿在身上用以遮雨的雨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884840" y="228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船上用来遮蔽日光和风雨的覆盖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20101012194340852[1].jpg"/>
          <p:cNvPicPr/>
          <p:nvPr/>
        </p:nvPicPr>
        <p:blipFill>
          <a:blip r:embed="rId3"/>
          <a:stretch/>
        </p:blipFill>
        <p:spPr>
          <a:xfrm>
            <a:off x="0" y="312408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860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思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840" y="844560"/>
            <a:ext cx="975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快速浏览课文，思考：本文主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文主要讲了翠鸟（       ）的事 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52280" y="26290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你喜欢这只翠鸟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出文中的语句，谈谈自己的感受（可以在书上做批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只鸟，因为它（      ）。我从课文的（　）体会出来的。我再给大家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258920" y="1916280"/>
            <a:ext cx="5616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多么美丽的小鸟啊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有一张红色的长嘴，羽毛是翠绿的，翅膀带有一些蓝色，比鹦鹉还漂亮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687040" y="47242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比鹦鹉还漂亮更加突出这种鸟的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754160" y="40910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红色的长嘴是这种鸟不同于一般鸟类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9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34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