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E1CD-1A14-4190-A4D4-891D13ABBC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AC9-4D99-4506-A528-19678F3B0A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712-8800-476A-826B-49F1C987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02E-78ED-40AB-BA78-400B24C6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831-2579-4432-9855-2101BECD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66D-2F54-4EAB-8596-278E0977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5C5-F959-41BA-9DAB-A5A73D28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E80-B62E-4550-8CC2-6DE9A68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55C-3267-4D8A-8B04-682DC7B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8C6-9ED5-4CC0-9998-76008BB4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B12-26AD-4A40-8746-C097F9BF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C80-2FE6-42F0-B2F9-CE24F44E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516-3C55-4A94-B527-349ECFE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442-6CAA-48B4-A659-2A639BB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7DDC-49EF-4EA3-9D5B-263FE9A4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1562040" y="213840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2639880" y="4894200"/>
            <a:ext cx="182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1258920" y="2505240"/>
            <a:ext cx="64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淡淡的茉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1985760" y="56404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68360" y="404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交流讨论，品味“爱如茉莉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87280" y="1052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妈妈关心爸爸，那么爸爸又是怎样关心妈妈的呢 ？请继续默读课文，找出描写爸爸关心妈妈的句子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00000" y="278136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然而，爸爸没有吃我买的饺子，也没听我花尽心思编的谎话，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奔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医院。此后，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天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都去医院。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11280" y="486900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爸爸对妈妈非常牵挂，这种牵挂就是一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360" y="333000"/>
            <a:ext cx="8893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爸爸坐在床前的椅子上，一只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紧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妈妈的手，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伏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床沿上睡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95280" y="177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紧握着妈妈的手，是对妈妈的鼓励和安慰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紧握的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也是一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68360" y="1989000"/>
            <a:ext cx="806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95280" y="321300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似乎是我惊醒了爸爸，他抬起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轻放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的手，然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蹑手蹑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走到门边，把我拉了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755640" y="4437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文雅的举动，更是一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84360" y="544500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里没有惊天动地的表白，但这平淡却表达出真挚的友情，如茉莉的缕缕幽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43080" y="623880"/>
            <a:ext cx="86263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再来看看作者的写作方法，请读下面的句子，找出描写人物细微的动作、神情或话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645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爸爸坐在床前的椅子上一只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紧握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的手，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伏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床沿上睡着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43080" y="486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似乎是我惊醒了爸爸，他抬起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轻放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的手，然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蹑手蹑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走到门边，把我拉了出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989000"/>
            <a:ext cx="82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妈妈用虚弱的声音对我说：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住，要等他吃完了再告诉他我进了医院，不然他会吃不下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575440" y="197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虚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955520" y="24782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等他吃完了再告诉他我进了医院，不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7077240" y="1974960"/>
            <a:ext cx="23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909720" y="2965320"/>
            <a:ext cx="18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会吃不下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416280" y="363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紧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7408800" y="485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轻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924000" y="535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蹑手蹑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2056320" y="4135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伏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样的描写叫什么描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55736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种以不经意的细微动作、神情或话语表达出深刻的人物品质的方法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细节描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95280" y="3429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细节描写充分表达了妈妈在病中想着爸爸，爸爸想着病中的妈妈，父母之间的爱是相互的，如茉莉般平凡却真挚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充满淡淡的幽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403280" y="83664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最吸引你的是什么？如果让你给这幅图起个标题的话，你想起个什么标题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淡淡的茉莉"/>
          <p:cNvPicPr/>
          <p:nvPr/>
        </p:nvPicPr>
        <p:blipFill>
          <a:blip r:embed="rId1"/>
          <a:stretch/>
        </p:blipFill>
        <p:spPr>
          <a:xfrm>
            <a:off x="2268360" y="2852640"/>
            <a:ext cx="3816360" cy="2293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57120" y="333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交流讨论，品味“爱如茉莉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32000" y="19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握的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24000" y="55468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既是爱的分享，也是爱的奉献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DEC-BB56-411B-9A05-8D8C8F7153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创设情境"/>
          <p:cNvPicPr/>
          <p:nvPr/>
        </p:nvPicPr>
        <p:blipFill>
          <a:blip r:embed="rId1"/>
          <a:stretch/>
        </p:blipFill>
        <p:spPr>
          <a:xfrm>
            <a:off x="474840" y="442800"/>
            <a:ext cx="1857240" cy="50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茉莉花1"/>
          <p:cNvPicPr/>
          <p:nvPr/>
        </p:nvPicPr>
        <p:blipFill>
          <a:blip r:embed="rId2"/>
          <a:stretch/>
        </p:blipFill>
        <p:spPr>
          <a:xfrm>
            <a:off x="1403280" y="1052640"/>
            <a:ext cx="6524640" cy="4897440"/>
          </a:xfrm>
          <a:prstGeom prst="rect">
            <a:avLst/>
          </a:prstGeom>
          <a:ln w="0">
            <a:noFill/>
          </a:ln>
        </p:spPr>
      </p:pic>
      <p:pic>
        <p:nvPicPr>
          <p:cNvPr id="54" name="好一朵美丽的茉莉花.mp3" descr=""/>
          <p:cNvPicPr/>
          <p:nvPr/>
        </p:nvPicPr>
        <p:blipFill>
          <a:blip r:embed="rId3"/>
          <a:stretch/>
        </p:blipFill>
        <p:spPr>
          <a:xfrm>
            <a:off x="883908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4"/>
          <p:cNvSpPr/>
          <p:nvPr/>
        </p:nvSpPr>
        <p:spPr>
          <a:xfrm>
            <a:off x="7422480" y="2276640"/>
            <a:ext cx="139932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淡无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0524K557-0"/>
          <p:cNvPicPr/>
          <p:nvPr/>
        </p:nvPicPr>
        <p:blipFill>
          <a:blip r:embed="rId1"/>
          <a:stretch/>
        </p:blipFill>
        <p:spPr>
          <a:xfrm>
            <a:off x="1042920" y="549360"/>
            <a:ext cx="6050160" cy="568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135200" y="1628640"/>
            <a:ext cx="1399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洁白纯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728640" y="6237360"/>
            <a:ext cx="50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1300000237386122002260858401"/>
          <p:cNvPicPr/>
          <p:nvPr/>
        </p:nvPicPr>
        <p:blipFill>
          <a:blip r:embed="rId1"/>
          <a:stretch/>
        </p:blipFill>
        <p:spPr>
          <a:xfrm>
            <a:off x="-82872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7350840" y="2276640"/>
            <a:ext cx="1399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缕缕幽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7"/>
          <p:cNvSpPr/>
          <p:nvPr/>
        </p:nvSpPr>
        <p:spPr>
          <a:xfrm>
            <a:off x="2063880" y="22748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创设情境"/>
          <p:cNvPicPr/>
          <p:nvPr/>
        </p:nvPicPr>
        <p:blipFill>
          <a:blip r:embed="rId1"/>
          <a:stretch/>
        </p:blipFill>
        <p:spPr>
          <a:xfrm>
            <a:off x="179280" y="189000"/>
            <a:ext cx="1857600" cy="50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茉莉花"/>
          <p:cNvPicPr/>
          <p:nvPr/>
        </p:nvPicPr>
        <p:blipFill>
          <a:blip r:embed="rId2"/>
          <a:stretch/>
        </p:blipFill>
        <p:spPr>
          <a:xfrm>
            <a:off x="971640" y="836640"/>
            <a:ext cx="5832360" cy="5545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774840" y="2060640"/>
            <a:ext cx="13993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充满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回眸课文，看看课文写的主要人物都有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1341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爸爸、妈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2492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写了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们之间的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9640" y="36450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妈妈生病了还想着帮爸爸煮饺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26920" y="4581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爸爸尽力地安慰妈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95280" y="56055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就像茉莉，平淡无奇而充满幽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611280" y="2421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、“ 第二天早晨，妈妈用虚弱的声音对我说：“映儿，本来我答应今天包饺子给你爸爸吃，现在看来不行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0920" y="333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交流讨论，品味“爱如茉莉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9280" y="9079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作者是怎样表达父母间的感情平淡无奇而充满幽香呢。先找出课文中妈妈说的话，再想想表达了妈妈的什么感情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4724280"/>
            <a:ext cx="79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332000" y="4724280"/>
            <a:ext cx="734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250920" y="4653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妈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爸爸爱吃饺子，所以把爸爸吃饺子看作比自己生病更重要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、“你呆会儿就买点现成的饺子煮给你爸吃。记住，要等他吃完了再告诉他我进了医院，不然他会吃不下去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55640" y="234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妈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担心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爸爸吃不下饺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900000" y="3860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、“你爸爸伏在床边睡着了，我怕惊动他不敢动。不知不觉，手脚都麻木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00000" y="530064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妈妈有病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关心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爸爸，怕爸爸睡不好觉，宁愿自己手脚麻木，也不动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826920" y="1413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通过上面的话，说明妈妈对爸爸怎么样？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5280" y="476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交流讨论，品味“爱如茉莉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95280" y="3068640"/>
            <a:ext cx="874872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了解、担心、关心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爱”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这种爱没有轰轰烈烈，非常平淡却很真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58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26Z</dcterms:modified>
  <cp:revision>1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