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9DE-5EFF-4019-9749-D78D0584A1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29A7-6F44-42DB-BBE9-B51B707E2D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27C-3254-40D0-8BC7-6C16B153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935-505D-49B2-A9AA-5C15364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1CF-FD46-4AE4-8CDC-3C10C040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407-E0EE-4779-BD6F-D194AAC9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AA1-EF9D-46C0-BFDD-E4E06E57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F9C-F7F8-4A42-B185-1564F820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72C-D668-4B79-9808-78E6A21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A2F-81E7-4566-86C9-9524CE8B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E40-09D3-4867-95FB-8B2CA01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562-52AE-4129-B373-CB3A80A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A5C-7B0B-4099-894E-5C83768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55B-8858-46F9-BC50-A8865CB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2869-3AC3-4449-B914-9477948D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989080" y="7873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淡的茉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8680" y="6081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3"/>
          <p:cNvSpPr/>
          <p:nvPr/>
        </p:nvSpPr>
        <p:spPr>
          <a:xfrm>
            <a:off x="3836880" y="629928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3480" y="1066680"/>
            <a:ext cx="78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后不久，在爸爸出差归来的前一个晚上，妈妈得急病住进了医院。第二天早晨，妈妈用虚弱的声音对我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儿，本来我答应你爸爸今天包饺子给他吃，现在看来不行了，你呆会儿就买点现成的饺子煮给你爸吃。记住，要等他吃完了再告诉他我进了医院，不然他会吃不下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，爸爸没有吃我买的饺子，也没听我花尽心思编的谎话，就直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院。此后，他每天都去医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6705720" y="1981080"/>
            <a:ext cx="16761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762120" y="2362320"/>
            <a:ext cx="2743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5410080" y="3276720"/>
            <a:ext cx="28958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838080" y="3733920"/>
            <a:ext cx="71629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1447920" y="4114800"/>
            <a:ext cx="678168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762120" y="4572000"/>
            <a:ext cx="487656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304920" y="5638680"/>
            <a:ext cx="4724280" cy="990720"/>
          </a:xfrm>
          <a:prstGeom prst="wedgeRectCallout">
            <a:avLst>
              <a:gd name="adj1" fmla="val -15625"/>
              <a:gd name="adj2" fmla="val -13766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爸爸得知妈妈生病住院后焦急的心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419720" y="4800600"/>
            <a:ext cx="4724280" cy="990720"/>
          </a:xfrm>
          <a:prstGeom prst="wedgeRectCallout">
            <a:avLst>
              <a:gd name="adj1" fmla="val 15694"/>
              <a:gd name="adj2" fmla="val -15464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说明妈妈把爸爸一直放在心里，胜过了自己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34800" y="1338120"/>
            <a:ext cx="84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清新的早晨，我按照爸爸特别的叮嘱，剪了一大把茉莉花带到医院。当我推开病房的门，不禁被跳入眼帘的情景惊住了：妈妈睡在床上，嘴角挂着恬静的微笑；爸爸坐在床前的椅子上，一只手紧握着妈妈的手，头伏在床沿边睡着了。初升的阳光从窗外悄悄地探了进来，轻轻柔柔地笼罩着他们。一切都是那么静谧美好，一切都浸润在生命的芬芳与光泽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343400" y="2666880"/>
            <a:ext cx="4191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57200" y="3124080"/>
            <a:ext cx="1523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286000" y="3124080"/>
            <a:ext cx="628668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80880" y="3505320"/>
            <a:ext cx="495324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581280" y="0"/>
            <a:ext cx="4724640" cy="990720"/>
          </a:xfrm>
          <a:prstGeom prst="wedgeRectCallout">
            <a:avLst>
              <a:gd name="adj1" fmla="val 31819"/>
              <a:gd name="adj2" fmla="val 177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爸爸的关心和照顾，妈妈感到温暖和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0928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1676520" y="457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94920" y="24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淡无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8640" y="447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淡淡的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828800" y="363708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2516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720240" y="3429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握着妈妈的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伏在床沿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28560" y="1537560"/>
            <a:ext cx="788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乎是我惊醒了爸爸，他抬起头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下妈妈的手，然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蹑手蹑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走到门边，把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着爸爸憔悴的脸和布满血丝的眼睛，我不禁心疼地问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，你怎么不在陪床上睡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边打哈欠边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夜里睡得沉，你妈妈有事又不肯叫醒我。这样睡，她一动我就惊醒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5029200" y="1371600"/>
            <a:ext cx="327672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838080" y="1828800"/>
            <a:ext cx="746784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762120" y="2209680"/>
            <a:ext cx="99036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04920" y="0"/>
            <a:ext cx="4724280" cy="990720"/>
          </a:xfrm>
          <a:prstGeom prst="wedgeRectCallout">
            <a:avLst>
              <a:gd name="adj1" fmla="val 48587"/>
              <a:gd name="adj2" fmla="val 839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生怕惊醒了妈妈，体现了爸爸对妈妈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124080" y="3124080"/>
            <a:ext cx="4191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762120" y="3505320"/>
            <a:ext cx="731520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2120" y="3962520"/>
            <a:ext cx="6781680" cy="0"/>
          </a:xfrm>
          <a:prstGeom prst="line">
            <a:avLst/>
          </a:prstGeom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304920" y="5410080"/>
            <a:ext cx="7315200" cy="990720"/>
          </a:xfrm>
          <a:prstGeom prst="wedgeRectCallout">
            <a:avLst>
              <a:gd name="adj1" fmla="val -4490"/>
              <a:gd name="adj2" fmla="val -16826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为了能够照顾好妈妈，伏床照顾妈妈，一夜没有睡好，体现了爸爸对妈妈的细心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0928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676520" y="457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194920" y="24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淡无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8640" y="447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淡淡的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828800" y="363708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22516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720240" y="3429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握着妈妈的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伏在床沿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688560" y="4191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再陪床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8560" y="1658520"/>
            <a:ext cx="78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去买早点，我悄悄溜进病房，把一大束茉莉花松松散散地插进瓶里，一股清香顿时弥漫开来。我开心地想：妈妈在这花香中欣然睁开双眼该多有诗意啊，转念又笑自己简直已是不可救药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漫。笑着回头，却触到妈妈一双含笑的眸子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儿，来帮我揉揉胳膊和腿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，你怎么啦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好生奇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爸爸伏在床边睡着了，我怕惊动他不敢动。不知不觉，手脚都麻木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1676520" y="4495680"/>
            <a:ext cx="65530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762120" y="4952880"/>
            <a:ext cx="5029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0928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676520" y="457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94920" y="24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淡无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58640" y="447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淡淡的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1828800" y="363708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2572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20240" y="3429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握着妈妈的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伏在床沿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688560" y="4191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再陪床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57200" y="48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566520" y="48006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惊动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手脚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28560" y="2222280"/>
            <a:ext cx="78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么简简单单、平平淡淡的一句话，却使我静静地流下泪来。泪模糊了我的眼睛，朦胧中，那茉莉显得更加洁白纯净。它送来缕缕幽香，袅袅娜娜地钻入我的心灵深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1752480" y="2895480"/>
            <a:ext cx="60962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762120" y="3352680"/>
            <a:ext cx="56386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0928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676520" y="457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194920" y="24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淡无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8640" y="447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淡淡的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828800" y="363708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2572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20240" y="3429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握着妈妈的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伏在床沿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88560" y="4191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再陪床上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257200" y="48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566520" y="48006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惊动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手脚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492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洁白纯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19492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幽香缕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3733920" y="4572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36032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钻入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5486400" y="3581280"/>
            <a:ext cx="228600" cy="221004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2210040"/>
              <a:gd name="textAreaBottom" fmla="*/ 2152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112800" y="41911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洁白纯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心灵深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41120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胀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1120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72292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嘱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72292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0440" y="29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34800" y="121608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一个飘浮着橘黄色光影的美丽黄昏，我从一本引人入胜的小说中抬起酸胀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àn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眼睛，不禁对着一旁修剪茉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ò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莉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花枝的母亲冲口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，你说真爱像什么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寻思了一会儿，随手指着那株平淡无奇的茉莉花，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茉莉吧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也叫爱？我差点笑出声来，但看到妈妈一本正经的模样，又赶忙把已到嘴边的话咽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à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回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70368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淡的茉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41120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茉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41120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2292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朦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72292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0440" y="29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1120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慌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1120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谎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22920" y="21337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胧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722920" y="3124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笼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60440" y="29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1771560" y="5362560"/>
            <a:ext cx="50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1"/>
          <p:cNvPicPr/>
          <p:nvPr/>
        </p:nvPicPr>
        <p:blipFill>
          <a:blip r:embed="rId1"/>
          <a:stretch/>
        </p:blipFill>
        <p:spPr>
          <a:xfrm>
            <a:off x="762120" y="5335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"/>
          <p:cNvPicPr/>
          <p:nvPr/>
        </p:nvPicPr>
        <p:blipFill>
          <a:blip r:embed="rId2"/>
          <a:stretch/>
        </p:blipFill>
        <p:spPr>
          <a:xfrm>
            <a:off x="2489040" y="3686040"/>
            <a:ext cx="4165920" cy="2791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"/>
          <p:cNvPicPr/>
          <p:nvPr/>
        </p:nvPicPr>
        <p:blipFill>
          <a:blip r:embed="rId3"/>
          <a:stretch/>
        </p:blipFill>
        <p:spPr>
          <a:xfrm>
            <a:off x="4952880" y="80964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46960" y="228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1"/>
          <p:cNvPicPr/>
          <p:nvPr/>
        </p:nvPicPr>
        <p:blipFill>
          <a:blip r:embed="rId1"/>
          <a:stretch/>
        </p:blipFill>
        <p:spPr>
          <a:xfrm>
            <a:off x="4064040" y="2508120"/>
            <a:ext cx="5079960" cy="434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543-B473-4CCB-9FAF-B207FDB3DF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63480" y="114300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后不久，在爸爸出差归来的前一个晚上，妈妈得急病住进了医院。第二天早晨，妈妈用虚弱的声音对我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儿，本来我答应你爸爸今天包饺子给他吃，现在看来不行了，你呆会儿就买点现成的饺子煮给你爸吃。记住，要等他吃完了再告诉他我进了医院，不然他会吃不下的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4800" y="1033560"/>
            <a:ext cx="847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，爸爸没有吃我买的饺子，也没听我花尽心思编的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uān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话，就直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è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院。此后，他每天都去医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清新的早晨，我按照爸爸特别的叮嘱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剪了一大把茉莉花带到医院。当我推开病房的门，不禁被跳入眼帘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ián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情景惊住了：妈妈睡在床上，嘴角挂着恬静的微笑；爸爸坐在床前的椅子上，一只手紧握着妈妈的手，头伏在床沿边睡着了。初升的阳光从窗外悄悄地探了进来，轻轻柔柔地笼罩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ào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他们。一切都是那么静谧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美好，一切都浸润在生命的芬芳与光泽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28560" y="1750680"/>
            <a:ext cx="78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乎是我惊醒了爸爸，他抬起头，轻轻放下妈妈的手，然后蹑手蹑脚地走到门边，把我拉了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着爸爸憔悴的脸和布满血丝的眼睛，我不禁心疼地问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，你怎么不在陪床上睡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边打哈欠边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夜里睡得沉，你妈妈有事又不肯叫醒我。这样睡，她一动我就惊醒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28560" y="2177280"/>
            <a:ext cx="78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去买早点，我悄悄溜进病房，把一大束茉莉花松松散散地插进瓶里，一股清香顿时弥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í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漫开来。我开心地想：妈妈在这花香中欣然睁开双眼该多有诗意啊，转念又笑自己简直已是不可救药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漫。笑着回头，却触到妈妈一双含笑的眸子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儿，来帮我揉揉胳膊和腿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，你怎么啦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好生奇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28560" y="1796760"/>
            <a:ext cx="78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爸爸伏在床边睡着了，我怕惊动他不敢动。不知不觉，手脚都麻木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么简简单单、平平淡淡的一句话，却使我静静地流下泪来。泪模糊了我的眼睛，朦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én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胧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ón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，那茉莉显得更加洁白纯净。它送来缕缕幽香，袅袅娜娜地钻入我的心灵深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34800" y="1444680"/>
            <a:ext cx="847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一个飘浮着橘黄色光影的美丽黄昏，我从一本引人入胜的小说中抬起酸胀的眼睛，不禁对着一旁修剪茉莉花枝的母亲冲口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，你说真爱像什么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寻思了一会儿，随手指着那株平淡无奇的茉莉花，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茉莉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也叫爱？我差点笑出声来，但看到妈妈一本正经的模样，又赶忙把已到嘴边的话咽了回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553080" y="3627360"/>
            <a:ext cx="22100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533520" y="4084560"/>
            <a:ext cx="8380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79584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淡的茉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0928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茉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676520" y="457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194920" y="24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淡无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13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31Z</dcterms:modified>
  <cp:revision>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