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B1F0-E7E1-44BC-AE77-08AD21FEDF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4243-2438-4EA5-A428-9A1C9A0CB7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F9C7-8B40-4CF0-9248-084BC932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72B-5175-4533-8149-C18117E6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B32-B264-4E88-9F40-2BD3A05B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211-036B-450C-958F-3B6875B6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2C1-70AA-42F2-A1A2-A34F390C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302-AFD0-4DE8-A94E-44325594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CA8-2B15-4518-9861-EEFA2D05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D235-DA77-4AA9-A02C-6AF2485C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BE7-3A91-4CE2-BA95-AC155976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619-C04E-4C9C-936F-73432598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A35-33E0-408B-89F3-18651A32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3451-9FF2-4DDD-AC63-0C9222C4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6B3B-A8BE-42AB-9B94-BC54FAE281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226680" y="476280"/>
            <a:ext cx="2405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华文隶书"/>
                <a:ea typeface="华文隶书"/>
              </a:rPr>
              <a:t>豆 腐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3" descr=""/>
          <p:cNvPicPr/>
          <p:nvPr/>
        </p:nvPicPr>
        <p:blipFill>
          <a:blip r:embed="rId2"/>
          <a:stretch/>
        </p:blipFill>
        <p:spPr>
          <a:xfrm>
            <a:off x="2044800" y="5985000"/>
            <a:ext cx="55004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517680" y="1120680"/>
            <a:ext cx="8108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位朋友谈起豆腐，眉飞色舞地把他们桐城特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娇豆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描述了一番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娇豆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又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水豆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略如北京的豆腐脑。买卖时以铜勺舀取，根本不能成坯，的确当得起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字。在桐城，几乎家家户户都视它为佐餐的美味。他还记得有人写过几十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桐城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词，其中一首就是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娇豆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桐城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豆腐十分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把足酱油姜汁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煎些虾米火锅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人喝两三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的确，作为一个中国人，豆腐总是会勾起你心头一种特殊滋味，它不单是叫你想到那香滑温清的味道，而且更容易使你感觉到一种乡土之情，体味到生活的多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>
            <a:off x="3809880" y="1523880"/>
            <a:ext cx="14479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flipH="1">
            <a:off x="4574520" y="228600"/>
            <a:ext cx="439884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1731"/>
              <a:gd name="adj5" fmla="val 138194"/>
              <a:gd name="adj6" fmla="val 10764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眉飞色舞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双眉挑动，神色飞扬。形容非常高兴得意的样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900000" y="141300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然段）：写几位去英国多年的华侨一起聊天时说起了家乡的豆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~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然段）：介绍了有关豆腐的传统小吃，豆腐菜的加工与制作，营养价值以及同城特产“娇豆腐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然段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再一次点明豆腐容易勾起中国人心头一种特殊滋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517680" y="1542960"/>
            <a:ext cx="81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对祖国和家乡的爱恋，常常会寄托在一些十分平凡的日常事物中，这是很自然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天晚上，几位去英国多年的华侨在一起聊天，偶然说起豆腐，大家渐渐地由豆腐的营养谈到吃法，争着描述各自家乡豆腐的美味。一位华侨说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一晚的谈天勾起了大家一种说不出的亲切之情，看来豆腐这种东西，是掺和了中国人某些共同的感情做成的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743200" y="4800600"/>
            <a:ext cx="6095880" cy="1371600"/>
          </a:xfrm>
          <a:prstGeom prst="wedgeRectCallout">
            <a:avLst>
              <a:gd name="adj1" fmla="val -35726"/>
              <a:gd name="adj2" fmla="val -9444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开篇点明中心。豆腐是掺和了中国人的感情做成的，谈豆腐勾起了思念祖国和家乡的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700360" y="2349360"/>
            <a:ext cx="561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读第二部分，思考：作者围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豆腐写了哪些方面的内容？具体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怎样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复件 初读感知"/>
          <p:cNvPicPr/>
          <p:nvPr/>
        </p:nvPicPr>
        <p:blipFill>
          <a:blip r:embed="rId1"/>
          <a:stretch/>
        </p:blipFill>
        <p:spPr>
          <a:xfrm>
            <a:off x="2627280" y="14130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复件 小女孩"/>
          <p:cNvPicPr/>
          <p:nvPr/>
        </p:nvPicPr>
        <p:blipFill>
          <a:blip r:embed="rId2"/>
          <a:stretch/>
        </p:blipFill>
        <p:spPr>
          <a:xfrm>
            <a:off x="611280" y="1989000"/>
            <a:ext cx="196668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04920" y="18032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夏天，饭桌上放一盘凉拌豆腐，会增进你的食欲；而冬天，炉子上炖一锅喷香烫热的“冻豆腐”，你也不会否认它对你的诱惑力。如果你贪喝两杯，那么豆腐更是你离不开的伙伴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一斤绍酒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菜？十个油豆腐，辣酱要多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读过鲁迅先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酒楼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人，都会回味着这句话。其实，油豆腐固然是江南特色，而豆腐干在酒铺里更是普遍的下酒之物。走进大小市镇的任何一个酒馆子，你都可以得到美味的豆腐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3962520" y="2209680"/>
            <a:ext cx="12189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556160" y="2514600"/>
            <a:ext cx="8539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4495680" y="327672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4648320" y="4038480"/>
            <a:ext cx="990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2743200" y="5181480"/>
            <a:ext cx="6095880" cy="914400"/>
          </a:xfrm>
          <a:prstGeom prst="wedgeRectCallout">
            <a:avLst>
              <a:gd name="adj1" fmla="val -35726"/>
              <a:gd name="adj2" fmla="val -11666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华侨们谈论豆腐的吃法，争着介绍各自家乡豆腐的美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17680" y="1143000"/>
            <a:ext cx="81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豆浆，和人们的关系尤为密切。早上，到豆浆店喝一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热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是北京人的习惯。豆浆和豆腐，同样是物美价廉的大众化营养食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煮好的豆浆变成豆腐，一般是加上一点石膏或盐卤就能使它凝固为豆腐脑，有些地方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豆腐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再把豆腐脑的水分压去，就成了整块的豆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豆腐要达到滑嫩清香，和水也有很大的关系。有经验的人认为，天下泉水出名的地方，往往也出产味美的豆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如果给豆腐的家族编一份家谱，它的支派是可观的：大豆是它的祖宗。大豆制成豆浆，产生了豆腐和腐皮。豆腐经过加工成为豆腐干、千张、油豆腐、酱豆腐、腐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单是一种豆腐干，也因地域习惯不同，配料不同，制法不同，就形成了各个品种的特殊风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1143000" y="152388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2133720" y="3048120"/>
            <a:ext cx="990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33520" y="304920"/>
            <a:ext cx="3124080" cy="533160"/>
          </a:xfrm>
          <a:prstGeom prst="wedgeRectCallout">
            <a:avLst>
              <a:gd name="adj1" fmla="val -8995"/>
              <a:gd name="adj2" fmla="val 982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地豆腐的吃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4572000" y="3162240"/>
            <a:ext cx="4343400" cy="533520"/>
          </a:xfrm>
          <a:prstGeom prst="wedgeRectCallout">
            <a:avLst>
              <a:gd name="adj1" fmla="val -5773"/>
              <a:gd name="adj2" fmla="val 14375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豆腐的家族庞大，种类极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828800" y="4495680"/>
            <a:ext cx="66294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609480" y="4876920"/>
            <a:ext cx="78487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647640" y="5257800"/>
            <a:ext cx="73533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43080" y="1828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豆是价钱便宜的杂粮，也是营养丰富的食料。科学家告诉我们：大豆含有丰富的蛋白质和植物油，还提供了铁、钙和多种维生素，这些都是人类身体日常必需的营养素，对于人们的肌肉、脏腑、神经、血液等都有补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可是，胃和舌头都不易满足，它们仍然要求大豆更易消化和更加适口。豆腐的发明，不能不说是先人留给我们的一份珍贵遗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"/>
          <p:cNvSpPr/>
          <p:nvPr/>
        </p:nvSpPr>
        <p:spPr>
          <a:xfrm>
            <a:off x="1600200" y="2590920"/>
            <a:ext cx="71629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533520" y="2971800"/>
            <a:ext cx="81532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7200" y="3352680"/>
            <a:ext cx="52578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3124080" y="609480"/>
            <a:ext cx="4343400" cy="533520"/>
          </a:xfrm>
          <a:prstGeom prst="wedgeRectCallout">
            <a:avLst>
              <a:gd name="adj1" fmla="val -22805"/>
              <a:gd name="adj2" fmla="val 20773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豆腐的营养价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17680" y="587520"/>
            <a:ext cx="8108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位朋友谈起豆腐，眉飞色舞地把他们桐城特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娇豆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描述了一番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娇豆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又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水豆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略如北京的豆腐脑。买卖时以铜勺舀取，根本不能成坯，的确当得起一个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字。在桐城，几乎家家户户都视它为佐餐的美味。他还记得有人写过几十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桐城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词，其中一首就是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娇豆腐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桐城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豆腐十分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把足酱油姜汁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煎些虾米火锅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人喝两三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的确，作为一个中国人，豆腐总是会勾起你心头一种特殊滋味，它不单是叫你想到那香滑温清的味道，而且更容易使你感觉到一种乡土之情，体味到生活的多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6400800" y="990720"/>
            <a:ext cx="21337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533520" y="137160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3733920" y="0"/>
            <a:ext cx="5181480" cy="533520"/>
          </a:xfrm>
          <a:prstGeom prst="wedgeRectCallout">
            <a:avLst>
              <a:gd name="adj1" fmla="val 6064"/>
              <a:gd name="adj2" fmla="val 7083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豆腐具有地方特色，是地方特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3886200" y="3048120"/>
            <a:ext cx="5181480" cy="1066680"/>
          </a:xfrm>
          <a:prstGeom prst="wedgeRectCallout">
            <a:avLst>
              <a:gd name="adj1" fmla="val 6615"/>
              <a:gd name="adj2" fmla="val 9449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呼应开头，总结全文。再次点明豆腐会勾起人们对家乡的怀念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1219320" y="5029200"/>
            <a:ext cx="72388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609480" y="5410080"/>
            <a:ext cx="79250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609480" y="5791320"/>
            <a:ext cx="64008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1547640" y="1557360"/>
            <a:ext cx="640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作者仅仅是向人们介绍豆腐吗？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合课文内容说说你的体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复件 细读感悟"/>
          <p:cNvPicPr/>
          <p:nvPr/>
        </p:nvPicPr>
        <p:blipFill>
          <a:blip r:embed="rId1"/>
          <a:stretch/>
        </p:blipFill>
        <p:spPr>
          <a:xfrm>
            <a:off x="1692360" y="907920"/>
            <a:ext cx="1873080" cy="5018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/>
          <p:cNvSpPr/>
          <p:nvPr/>
        </p:nvSpPr>
        <p:spPr>
          <a:xfrm>
            <a:off x="826920" y="2852640"/>
            <a:ext cx="6193080" cy="2376720"/>
          </a:xfrm>
          <a:prstGeom prst="cloudCallout">
            <a:avLst>
              <a:gd name="adj1" fmla="val 59921"/>
              <a:gd name="adj2" fmla="val -5243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不仅仅是在向人们介绍豆腐，而是借豆腐抒发海外游子对祖国和家乡的无限爱恋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复件 拓展学习"/>
          <p:cNvPicPr/>
          <p:nvPr/>
        </p:nvPicPr>
        <p:blipFill>
          <a:blip r:embed="rId1"/>
          <a:stretch/>
        </p:blipFill>
        <p:spPr>
          <a:xfrm>
            <a:off x="1332000" y="765000"/>
            <a:ext cx="2158920" cy="5335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1763640" y="220500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187280" y="18795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常的事物往往寄托了人们的一片深情，请仿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豆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写法介绍家乡的一种风俗物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"/>
          <p:cNvSpPr/>
          <p:nvPr/>
        </p:nvSpPr>
        <p:spPr>
          <a:xfrm>
            <a:off x="792000" y="4819680"/>
            <a:ext cx="64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8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1"/>
          <p:cNvPicPr/>
          <p:nvPr/>
        </p:nvPicPr>
        <p:blipFill>
          <a:blip r:embed="rId2"/>
          <a:stretch/>
        </p:blipFill>
        <p:spPr>
          <a:xfrm>
            <a:off x="4648320" y="154296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1"/>
          <p:cNvPicPr/>
          <p:nvPr/>
        </p:nvPicPr>
        <p:blipFill>
          <a:blip r:embed="rId3"/>
          <a:stretch/>
        </p:blipFill>
        <p:spPr>
          <a:xfrm>
            <a:off x="76320" y="1569960"/>
            <a:ext cx="4419360" cy="323064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5"/>
          <p:cNvSpPr/>
          <p:nvPr/>
        </p:nvSpPr>
        <p:spPr>
          <a:xfrm>
            <a:off x="4376880" y="152280"/>
            <a:ext cx="4538520" cy="1067040"/>
          </a:xfrm>
          <a:prstGeom prst="wedgeRectCallout">
            <a:avLst>
              <a:gd name="adj1" fmla="val 1976"/>
              <a:gd name="adj2" fmla="val 7083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每逢佳节倍思亲。你知道旅居海外的华侨们在思乡时都谈论什么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88"/>
          <p:cNvPicPr/>
          <p:nvPr/>
        </p:nvPicPr>
        <p:blipFill>
          <a:blip r:embed="rId1"/>
          <a:stretch/>
        </p:blipFill>
        <p:spPr>
          <a:xfrm>
            <a:off x="2050920" y="2133720"/>
            <a:ext cx="5905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FD6B-6332-4B89-A9FB-5DB03B5E48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创设情境"/>
          <p:cNvPicPr/>
          <p:nvPr/>
        </p:nvPicPr>
        <p:blipFill>
          <a:blip r:embed="rId1"/>
          <a:stretch/>
        </p:blipFill>
        <p:spPr>
          <a:xfrm>
            <a:off x="1187280" y="476280"/>
            <a:ext cx="1873440" cy="51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AA1EF7BECAE114E49EDAB47D9C302FB7"/>
          <p:cNvPicPr/>
          <p:nvPr/>
        </p:nvPicPr>
        <p:blipFill>
          <a:blip r:embed="rId2"/>
          <a:stretch/>
        </p:blipFill>
        <p:spPr>
          <a:xfrm>
            <a:off x="2119320" y="1484280"/>
            <a:ext cx="48546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创设情境"/>
          <p:cNvPicPr/>
          <p:nvPr/>
        </p:nvPicPr>
        <p:blipFill>
          <a:blip r:embed="rId1"/>
          <a:stretch/>
        </p:blipFill>
        <p:spPr>
          <a:xfrm>
            <a:off x="971640" y="907920"/>
            <a:ext cx="1873080" cy="514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untitled"/>
          <p:cNvPicPr/>
          <p:nvPr/>
        </p:nvPicPr>
        <p:blipFill>
          <a:blip r:embed="rId2"/>
          <a:stretch/>
        </p:blipFill>
        <p:spPr>
          <a:xfrm>
            <a:off x="1979640" y="1916280"/>
            <a:ext cx="4586400" cy="34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5"/>
          <p:cNvSpPr/>
          <p:nvPr/>
        </p:nvSpPr>
        <p:spPr>
          <a:xfrm>
            <a:off x="985680" y="2270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508120" y="213372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豆腐味道鲜美，营养丰富，吃法多样，然而对异乡游子来说，仅仅是这样吗？让我们一同去品味黄苗子的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豆腐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吧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创设情境"/>
          <p:cNvPicPr/>
          <p:nvPr/>
        </p:nvPicPr>
        <p:blipFill>
          <a:blip r:embed="rId1"/>
          <a:stretch/>
        </p:blipFill>
        <p:spPr>
          <a:xfrm>
            <a:off x="2268360" y="1413000"/>
            <a:ext cx="1873440" cy="514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复件 小女孩"/>
          <p:cNvPicPr/>
          <p:nvPr/>
        </p:nvPicPr>
        <p:blipFill>
          <a:blip r:embed="rId2"/>
          <a:stretch/>
        </p:blipFill>
        <p:spPr>
          <a:xfrm>
            <a:off x="539640" y="1916280"/>
            <a:ext cx="19670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900000" y="1341360"/>
            <a:ext cx="73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初读课文，自学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轻声自由读课文，了解课文主要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出课文中的新词，在不理解的词语和有疑问的地方做上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课文分段，写出段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流程图: 资料带 4"/>
          <p:cNvSpPr/>
          <p:nvPr/>
        </p:nvSpPr>
        <p:spPr>
          <a:xfrm>
            <a:off x="468360" y="260280"/>
            <a:ext cx="2590920" cy="129708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468360" y="62064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1476360" y="206064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爱恋      寄托       华侨        聊天        偶然       掺和     诱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辣酱   固然     滑嫩清香               家谱         支派     地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眉飞色舞    的确      佐餐   香滑温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517680" y="304920"/>
            <a:ext cx="81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豆浆，和人们的关系尤为密切。早上，到豆浆店喝一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热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是北京人的习惯。豆浆和豆腐，同样是物美价廉的大众化营养食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煮好的豆浆变成豆腐，一般是加上一点石膏或盐卤就能使它凝固为豆腐脑，有些地方称为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豆腐花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再把豆腐脑的水分压去，就成了整块的豆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豆腐要达到滑嫩清香，和水也有很大的关系。有经验的人认为，天下泉水出名的地方，往往也出产味美的豆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如果给豆腐的家族编一份家谱，它的支派是可观的：大豆是它的祖宗。大豆制成豆浆，产生了豆腐和腐皮。豆腐经过加工成为豆腐干、千张、油豆腐、酱豆腐、腐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单是一种豆腐干，也因地域习惯不同，配料不同，制法不同，就形成了各个品种的特殊风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"/>
          <p:cNvSpPr/>
          <p:nvPr/>
        </p:nvSpPr>
        <p:spPr>
          <a:xfrm>
            <a:off x="7315200" y="1066680"/>
            <a:ext cx="12952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/>
          <p:cNvSpPr/>
          <p:nvPr/>
        </p:nvSpPr>
        <p:spPr>
          <a:xfrm flipH="1">
            <a:off x="2285280" y="0"/>
            <a:ext cx="3352680" cy="992160"/>
          </a:xfrm>
          <a:prstGeom prst="borderCallout2">
            <a:avLst>
              <a:gd name="adj1" fmla="val 18750"/>
              <a:gd name="adj2" fmla="val -8333"/>
              <a:gd name="adj3" fmla="val 11518"/>
              <a:gd name="adj4" fmla="val -2273"/>
              <a:gd name="adj5" fmla="val 74879"/>
              <a:gd name="adj6" fmla="val -4393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物美价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东西质量好，价格便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7315200" y="182880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 flipH="1">
            <a:off x="611280" y="5332320"/>
            <a:ext cx="2512800" cy="992160"/>
          </a:xfrm>
          <a:prstGeom prst="borderCallout2">
            <a:avLst>
              <a:gd name="adj1" fmla="val 18750"/>
              <a:gd name="adj2" fmla="val -8333"/>
              <a:gd name="adj3" fmla="val 11518"/>
              <a:gd name="adj4" fmla="val -3032"/>
              <a:gd name="adj5" fmla="val -337120"/>
              <a:gd name="adj6" fmla="val -17328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盐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制盐时剩下的液体，味苦有毒，可使豆浆凝结成豆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3080" y="1828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大豆是价钱便宜的杂粮，也是营养丰富的食料。科学家告诉我们：大豆含有丰富的蛋白质和植物油，还提供了铁、钙和多种维生素，这些都是人类身体日常必需的营养素，对于人们的肌肉、脏腑、神经、血液等都有补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可是，胃和舌头都不易满足，它们仍然要求大豆更易消化和更加适口。豆腐的发明，不能不说是先人留给我们的一份珍贵遗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"/>
          <p:cNvSpPr/>
          <p:nvPr/>
        </p:nvSpPr>
        <p:spPr>
          <a:xfrm>
            <a:off x="4952880" y="3352680"/>
            <a:ext cx="7621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 flipH="1">
            <a:off x="5714280" y="914400"/>
            <a:ext cx="259092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2939"/>
              <a:gd name="adj5" fmla="val 300462"/>
              <a:gd name="adj6" fmla="val 11194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  <a:headEnd len="med" type="triangle" w="med"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补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产生益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9:46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0:19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