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3BBE-21C7-4166-A459-271100E6CB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0D61-9C53-4BB2-8D38-CEC09A86C1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DB2-A847-4CF9-815C-BD215866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48C-4C58-46B0-AFA6-EA1BFED7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F98-B345-4C8A-B28A-9B491C46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353-C866-4B61-B64F-6E9D36D6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58C-6597-40E8-93C4-8EF85934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94F-52CF-454A-A8A1-8182AC84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771-CD51-4ED9-8A64-541AD777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46E-1B49-4A07-9B9A-59EC2334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E8F-CF9D-418F-B575-41D1AE85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4F8-0C78-47D1-B9AD-4C0ACAFA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B3B-808C-412E-B99B-ABC638BC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77D-7A2E-401D-8CE9-B055B0BA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3D39-8F26-4A10-91A3-D9D6C33EC1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~1\ADMINI~1\APPLIC~1\360se6\USERDA~1\Temp\269610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2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824360" cy="120024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182700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:\DOCUME~1\ADMINI~1\APPLIC~1\360se6\USERDA~1\Temp\6630-1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0" y="1785960"/>
            <a:ext cx="971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海水为什么这样蓝？为什么这样咸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~1\ADMINI~1\APPLIC~1\360se6\USERDA~1\Temp\100529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~1\ADMINI~1\APPLIC~1\360se6\USERDA~1\Temp\IMG338~1.JPG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矩形 2"/>
          <p:cNvSpPr/>
          <p:nvPr/>
        </p:nvSpPr>
        <p:spPr>
          <a:xfrm>
            <a:off x="0" y="5500800"/>
            <a:ext cx="3000240" cy="1357200"/>
          </a:xfrm>
          <a:prstGeom prst="rect">
            <a:avLst/>
          </a:prstGeom>
          <a:gradFill rotWithShape="0">
            <a:gsLst>
              <a:gs pos="0">
                <a:srgbClr val="7f868e"/>
              </a:gs>
              <a:gs pos="100000">
                <a:srgbClr val="dae6f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378612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渔民伯伯打鱼很辛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~1\ADMINI~1\APPLIC~1\360se6\USERDA~1\Temp\22B9C8~1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矩形 2" descr=""/>
          <p:cNvPicPr/>
          <p:nvPr/>
        </p:nvPicPr>
        <p:blipFill>
          <a:blip r:embed="rId2"/>
          <a:stretch/>
        </p:blipFill>
        <p:spPr>
          <a:xfrm>
            <a:off x="6715080" y="6215040"/>
            <a:ext cx="2428920" cy="6429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20120114112807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714240" y="214200"/>
            <a:ext cx="7858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 ② 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民在海上捕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 ②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花好像（ ）跟我们说再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2"/>
          <p:cNvSpPr/>
          <p:nvPr/>
        </p:nvSpPr>
        <p:spPr>
          <a:xfrm>
            <a:off x="642960" y="0"/>
            <a:ext cx="857160" cy="1000080"/>
          </a:xfrm>
          <a:prstGeom prst="ellipse">
            <a:avLst/>
          </a:prstGeom>
          <a:noFill/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~1\ADMINI~1\APPLIC~1\360se6\USERDA~1\Temp\A8AD94~1.JPG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142920" y="64296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向大海提什么问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857160" y="617868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~1\ADMINI~1\APPLIC~1\360se6\USERDA~1\Temp\1_1109~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DOCUME~1\ADMINI~1\APPLIC~1\360se6\USERDA~1\Temp\120986~1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DOCUME~1\ADMINI~1\APPLIC~1\360se6\USERDA~1\Temp\884638~1.JPG"/>
          <p:cNvPicPr/>
          <p:nvPr/>
        </p:nvPicPr>
        <p:blipFill>
          <a:blip r:embed="rId3"/>
          <a:stretch/>
        </p:blipFill>
        <p:spPr>
          <a:xfrm>
            <a:off x="0" y="3395520"/>
            <a:ext cx="2714760" cy="3462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DOCUME~1\ADMINI~1\APPLIC~1\360se6\USERDA~1\Temp\894535~1.JPG"/>
          <p:cNvPicPr/>
          <p:nvPr/>
        </p:nvPicPr>
        <p:blipFill>
          <a:blip r:embed="rId4"/>
          <a:stretch/>
        </p:blipFill>
        <p:spPr>
          <a:xfrm>
            <a:off x="2714760" y="3429000"/>
            <a:ext cx="515448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c:\DOCUME~1\ADMINI~1\APPLIC~1\360se6\USERDA~1\Temp\200501~1.JPG"/>
          <p:cNvPicPr/>
          <p:nvPr/>
        </p:nvPicPr>
        <p:blipFill>
          <a:blip r:embed="rId5"/>
          <a:stretch/>
        </p:blipFill>
        <p:spPr>
          <a:xfrm>
            <a:off x="7500960" y="3429000"/>
            <a:ext cx="164304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矩形 6" descr=""/>
          <p:cNvPicPr/>
          <p:nvPr/>
        </p:nvPicPr>
        <p:blipFill>
          <a:blip r:embed="rId6"/>
          <a:stretch/>
        </p:blipFill>
        <p:spPr>
          <a:xfrm>
            <a:off x="2714760" y="3357720"/>
            <a:ext cx="1644480" cy="922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~1\ADMINI~1\APPLIC~1\360se6\USERDA~1\Temp\609499~1.JPG"/>
          <p:cNvPicPr/>
          <p:nvPr/>
        </p:nvPicPr>
        <p:blipFill>
          <a:blip r:embed="rId1"/>
          <a:stretch/>
        </p:blipFill>
        <p:spPr>
          <a:xfrm>
            <a:off x="0" y="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~1\ADMINI~1\APPLIC~1\360se6\USERDA~1\Temp\12170016.jpg"/>
          <p:cNvPicPr/>
          <p:nvPr/>
        </p:nvPicPr>
        <p:blipFill>
          <a:blip r:embed="rId2"/>
          <a:stretch/>
        </p:blipFill>
        <p:spPr>
          <a:xfrm>
            <a:off x="4286160" y="0"/>
            <a:ext cx="4857840" cy="3071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DOCUME~1\ADMINI~1\APPLIC~1\360se6\USERDA~1\Temp\434451~1.JPG"/>
          <p:cNvPicPr/>
          <p:nvPr/>
        </p:nvPicPr>
        <p:blipFill>
          <a:blip r:embed="rId3"/>
          <a:stretch/>
        </p:blipFill>
        <p:spPr>
          <a:xfrm>
            <a:off x="0" y="3071880"/>
            <a:ext cx="5214960" cy="3786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c:\DOCUME~1\ADMINI~1\APPLIC~1\360se6\USERDA~1\Temp\200922~1.JPG"/>
          <p:cNvPicPr/>
          <p:nvPr/>
        </p:nvPicPr>
        <p:blipFill>
          <a:blip r:embed="rId4"/>
          <a:stretch/>
        </p:blipFill>
        <p:spPr>
          <a:xfrm>
            <a:off x="5214960" y="3071880"/>
            <a:ext cx="3929040" cy="37940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D898-27A5-4A0B-A8D5-759387C959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ADMINI~1\APPLIC~1\360se6\USERDA~1\Temp\U_3090~1.JPG"/>
          <p:cNvPicPr/>
          <p:nvPr/>
        </p:nvPicPr>
        <p:blipFill>
          <a:blip r:embed="rId1"/>
          <a:srcRect l="0" t="0" r="-4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714240" y="214200"/>
            <a:ext cx="36435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花家在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在大海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花几时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去问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花什么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朵朵如白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花开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千万万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714920" y="142920"/>
            <a:ext cx="4429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大海我问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为什么这样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笑着来回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怀里抱着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大海我问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为什么这样咸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笑着老回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渔民流了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844560" y="1628640"/>
            <a:ext cx="73152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8"/>
          <p:cNvSpPr/>
          <p:nvPr/>
        </p:nvSpPr>
        <p:spPr>
          <a:xfrm>
            <a:off x="26280" y="609480"/>
            <a:ext cx="105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l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9"/>
          <p:cNvSpPr/>
          <p:nvPr/>
        </p:nvSpPr>
        <p:spPr>
          <a:xfrm>
            <a:off x="1308240" y="571680"/>
            <a:ext cx="137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xià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0"/>
          <p:cNvSpPr/>
          <p:nvPr/>
        </p:nvSpPr>
        <p:spPr>
          <a:xfrm>
            <a:off x="2952000" y="5716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d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1"/>
          <p:cNvSpPr/>
          <p:nvPr/>
        </p:nvSpPr>
        <p:spPr>
          <a:xfrm>
            <a:off x="171360" y="3143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中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2"/>
          <p:cNvSpPr/>
          <p:nvPr/>
        </p:nvSpPr>
        <p:spPr>
          <a:xfrm>
            <a:off x="3038040" y="3143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3"/>
          <p:cNvSpPr/>
          <p:nvPr/>
        </p:nvSpPr>
        <p:spPr>
          <a:xfrm>
            <a:off x="1609200" y="3143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2500200" y="4000680"/>
            <a:ext cx="206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回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9"/>
          <p:cNvSpPr/>
          <p:nvPr/>
        </p:nvSpPr>
        <p:spPr>
          <a:xfrm>
            <a:off x="3992760" y="571680"/>
            <a:ext cx="14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huá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0"/>
          <p:cNvSpPr/>
          <p:nvPr/>
        </p:nvSpPr>
        <p:spPr>
          <a:xfrm>
            <a:off x="4322880" y="3143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1"/>
          <p:cNvSpPr/>
          <p:nvPr/>
        </p:nvSpPr>
        <p:spPr>
          <a:xfrm>
            <a:off x="4293720" y="4000680"/>
            <a:ext cx="103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怀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怀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关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怀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4"/>
          <p:cNvSpPr/>
          <p:nvPr/>
        </p:nvSpPr>
        <p:spPr>
          <a:xfrm>
            <a:off x="6833520" y="571680"/>
            <a:ext cx="87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li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5"/>
          <p:cNvSpPr/>
          <p:nvPr/>
        </p:nvSpPr>
        <p:spPr>
          <a:xfrm>
            <a:off x="6558840" y="31431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6"/>
          <p:cNvSpPr/>
          <p:nvPr/>
        </p:nvSpPr>
        <p:spPr>
          <a:xfrm>
            <a:off x="6793920" y="4000680"/>
            <a:ext cx="103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流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河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交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流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6"/>
          <p:cNvSpPr/>
          <p:nvPr/>
        </p:nvSpPr>
        <p:spPr>
          <a:xfrm>
            <a:off x="5506560" y="563400"/>
            <a:ext cx="128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mí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7"/>
          <p:cNvSpPr/>
          <p:nvPr/>
        </p:nvSpPr>
        <p:spPr>
          <a:xfrm>
            <a:off x="5547240" y="3143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体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7"/>
          <p:cNvSpPr/>
          <p:nvPr/>
        </p:nvSpPr>
        <p:spPr>
          <a:xfrm>
            <a:off x="2793600" y="435780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答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问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对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4"/>
          <p:cNvSpPr/>
          <p:nvPr/>
        </p:nvSpPr>
        <p:spPr>
          <a:xfrm>
            <a:off x="293040" y="4000680"/>
            <a:ext cx="103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蓝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蓝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海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宝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4"/>
          <p:cNvSpPr/>
          <p:nvPr/>
        </p:nvSpPr>
        <p:spPr>
          <a:xfrm>
            <a:off x="1507680" y="4000680"/>
            <a:ext cx="103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大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笑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微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笑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1"/>
          <p:cNvSpPr/>
          <p:nvPr/>
        </p:nvSpPr>
        <p:spPr>
          <a:xfrm>
            <a:off x="5286240" y="4000680"/>
            <a:ext cx="162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农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民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民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18400" y="1643040"/>
          <a:ext cx="928440" cy="1087560"/>
        </p:xfrm>
        <a:graphic>
          <a:graphicData uri="http://schemas.openxmlformats.org/drawingml/2006/table">
            <a:tbl>
              <a:tblPr/>
              <a:tblGrid>
                <a:gridCol w="487080"/>
                <a:gridCol w="441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73"/>
          <p:cNvSpPr/>
          <p:nvPr/>
        </p:nvSpPr>
        <p:spPr>
          <a:xfrm>
            <a:off x="6818400" y="1643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22760" y="1643040"/>
          <a:ext cx="928800" cy="1087560"/>
        </p:xfrm>
        <a:graphic>
          <a:graphicData uri="http://schemas.openxmlformats.org/drawingml/2006/table">
            <a:tbl>
              <a:tblPr/>
              <a:tblGrid>
                <a:gridCol w="487440"/>
                <a:gridCol w="441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73"/>
          <p:cNvSpPr/>
          <p:nvPr/>
        </p:nvSpPr>
        <p:spPr>
          <a:xfrm>
            <a:off x="5522760" y="1643040"/>
            <a:ext cx="10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226040" y="1643040"/>
          <a:ext cx="928440" cy="1087560"/>
        </p:xfrm>
        <a:graphic>
          <a:graphicData uri="http://schemas.openxmlformats.org/drawingml/2006/table">
            <a:tbl>
              <a:tblPr/>
              <a:tblGrid>
                <a:gridCol w="487080"/>
                <a:gridCol w="441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73"/>
          <p:cNvSpPr/>
          <p:nvPr/>
        </p:nvSpPr>
        <p:spPr>
          <a:xfrm>
            <a:off x="4226040" y="1643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857680" y="1643040"/>
          <a:ext cx="928440" cy="1087560"/>
        </p:xfrm>
        <a:graphic>
          <a:graphicData uri="http://schemas.openxmlformats.org/drawingml/2006/table">
            <a:tbl>
              <a:tblPr/>
              <a:tblGrid>
                <a:gridCol w="487080"/>
                <a:gridCol w="441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73"/>
          <p:cNvSpPr/>
          <p:nvPr/>
        </p:nvSpPr>
        <p:spPr>
          <a:xfrm>
            <a:off x="2857680" y="1643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00120" y="1643040"/>
          <a:ext cx="928800" cy="1087560"/>
        </p:xfrm>
        <a:graphic>
          <a:graphicData uri="http://schemas.openxmlformats.org/drawingml/2006/table">
            <a:tbl>
              <a:tblPr/>
              <a:tblGrid>
                <a:gridCol w="487440"/>
                <a:gridCol w="441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73"/>
          <p:cNvSpPr/>
          <p:nvPr/>
        </p:nvSpPr>
        <p:spPr>
          <a:xfrm>
            <a:off x="1500120" y="1643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14200" y="1643040"/>
          <a:ext cx="928800" cy="1087560"/>
        </p:xfrm>
        <a:graphic>
          <a:graphicData uri="http://schemas.openxmlformats.org/drawingml/2006/table">
            <a:tbl>
              <a:tblPr/>
              <a:tblGrid>
                <a:gridCol w="487440"/>
                <a:gridCol w="441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73"/>
          <p:cNvSpPr/>
          <p:nvPr/>
        </p:nvSpPr>
        <p:spPr>
          <a:xfrm>
            <a:off x="214200" y="1643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001000" y="1643040"/>
          <a:ext cx="928800" cy="1087560"/>
        </p:xfrm>
        <a:graphic>
          <a:graphicData uri="http://schemas.openxmlformats.org/drawingml/2006/table">
            <a:tbl>
              <a:tblPr/>
              <a:tblGrid>
                <a:gridCol w="487440"/>
                <a:gridCol w="441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73"/>
          <p:cNvSpPr/>
          <p:nvPr/>
        </p:nvSpPr>
        <p:spPr>
          <a:xfrm>
            <a:off x="8001000" y="1643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6"/>
          <p:cNvSpPr/>
          <p:nvPr/>
        </p:nvSpPr>
        <p:spPr>
          <a:xfrm>
            <a:off x="8008560" y="4000680"/>
            <a:ext cx="103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汗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流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出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冷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4"/>
          <p:cNvSpPr/>
          <p:nvPr/>
        </p:nvSpPr>
        <p:spPr>
          <a:xfrm>
            <a:off x="7774560" y="57168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h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5"/>
          <p:cNvSpPr/>
          <p:nvPr/>
        </p:nvSpPr>
        <p:spPr>
          <a:xfrm>
            <a:off x="7844760" y="31431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~1\ADMINI~1\APPLIC~1\360se6\USERDA~1\Temp\33B1OO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357120" y="2643120"/>
            <a:ext cx="911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  浪  咸  渔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74640" y="2016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hǎi     lànɡ    xián     y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~1\ADMINI~1\APPLIC~1\360se6\USERDA~1\Temp\108401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571840" y="214200"/>
            <a:ext cx="36432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花家在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在大海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花几时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去问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花什么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朵朵如白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花开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千万万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~1\ADMINI~1\APPLIC~1\360se6\USERDA~1\Temp\24-110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285840" y="4287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会有浪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~1\ADMINI~1\APPLIC~1\360se6\USERDA~1\Temp\318764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0" y="357120"/>
            <a:ext cx="100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花是什么颜色的？你觉得浪花像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~1\ADMINI~1\APPLIC~1\360se6\USERDA~1\Temp\113K21~1.JPG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2500200" y="0"/>
            <a:ext cx="63579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大海我问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为什么这样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笑着来回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怀里抱着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大海我问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为什么这样咸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笑着老回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渔民流了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c:\DOCUME~1\ADMINI~1\APPLIC~1\360se6\USERDA~1\Temp\792024~1.JPG"/>
          <p:cNvPicPr/>
          <p:nvPr/>
        </p:nvPicPr>
        <p:blipFill>
          <a:blip r:embed="rId2"/>
          <a:stretch/>
        </p:blipFill>
        <p:spPr>
          <a:xfrm>
            <a:off x="8358120" y="1474920"/>
            <a:ext cx="785880" cy="64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DOCUME~1\ADMINI~1\APPLIC~1\360se6\USERDA~1\Temp\U_2528~1.JPG"/>
          <p:cNvPicPr/>
          <p:nvPr/>
        </p:nvPicPr>
        <p:blipFill>
          <a:blip r:embed="rId3"/>
          <a:stretch/>
        </p:blipFill>
        <p:spPr>
          <a:xfrm>
            <a:off x="214200" y="3441600"/>
            <a:ext cx="221472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~1\ADMINI~1\APPLIC~1\360se6\USERDA~1\Temp\333604~1.JPG"/>
          <p:cNvPicPr/>
          <p:nvPr/>
        </p:nvPicPr>
        <p:blipFill>
          <a:blip r:embed="rId1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357120" y="50004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大海很宽，很大，一望无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09:15:56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46:52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