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E27-9A53-40EE-B414-4A4B6246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C85-261A-4631-8E5A-40E9EF23584D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7314-0E93-419C-9EE8-E75E436C1D5C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CD2-6090-4399-9CB6-F2AEB7FD9A43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D21-CFDA-418D-B618-E114A2FAF243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BA4-7A02-4F3E-BCFB-3A3BC2421456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1D8-DF46-460C-9F69-0F58F8ACAC81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9B87-7155-4C28-B8FD-077EF5C76C11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6C1-9766-47AA-A9E1-B2BD58E0882F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88B-408C-497A-B003-7E879CAD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07E-ADA8-49F9-9821-FF2D72B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8EA-C2FF-4270-89D0-C7AFE8A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D39-722E-4B4C-A9E8-2DED6250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452-772F-4E54-9172-59EA3B82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06D-0E5E-4F28-B318-C40551F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264-228C-4499-A579-4DE75C0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471-1670-4874-B16B-874B15E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18B-2CAF-4696-8E5B-5E329640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131-009D-45F8-AE5D-DBD4D935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77B-A714-43CA-8C0D-FAAC8B5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037-8874-408A-AFC9-82BEAEA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98E-1982-4D59-AC4E-712C819ACA5C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1871640" cy="48247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00"/>
                </a:solidFill>
                <a:latin typeface="华文隶书"/>
                <a:ea typeface="华文隶书"/>
              </a:rPr>
              <a:t>地球信箱</a:t>
            </a:r>
            <a:endParaRPr b="0" lang="en-US" sz="8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84360" y="4383000"/>
            <a:ext cx="1523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552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3640" y="804600"/>
            <a:ext cx="83041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、读一读</a:t>
            </a:r>
            <a:r>
              <a:rPr b="1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～５自然段第一句话，你发现了什么？体会这样写的好处。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697295_155015063876_2"/>
          <p:cNvPicPr/>
          <p:nvPr/>
        </p:nvPicPr>
        <p:blipFill>
          <a:blip r:embed="rId1"/>
          <a:stretch/>
        </p:blipFill>
        <p:spPr>
          <a:xfrm>
            <a:off x="684360" y="1052640"/>
            <a:ext cx="3743280" cy="463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"/>
          <p:cNvPicPr/>
          <p:nvPr/>
        </p:nvPicPr>
        <p:blipFill>
          <a:blip r:embed="rId2"/>
          <a:stretch/>
        </p:blipFill>
        <p:spPr>
          <a:xfrm>
            <a:off x="4500720" y="765000"/>
            <a:ext cx="3600360" cy="499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383776A03F828D868CA00358EBDB9376"/>
          <p:cNvPicPr/>
          <p:nvPr/>
        </p:nvPicPr>
        <p:blipFill>
          <a:blip r:embed="rId1"/>
          <a:stretch/>
        </p:blipFill>
        <p:spPr>
          <a:xfrm>
            <a:off x="4067280" y="1341360"/>
            <a:ext cx="4465440" cy="381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0540582_135515"/>
          <p:cNvPicPr/>
          <p:nvPr/>
        </p:nvPicPr>
        <p:blipFill>
          <a:blip r:embed="rId2"/>
          <a:stretch/>
        </p:blipFill>
        <p:spPr>
          <a:xfrm>
            <a:off x="395280" y="620640"/>
            <a:ext cx="3446640" cy="4953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0075514494129"/>
          <p:cNvPicPr/>
          <p:nvPr/>
        </p:nvPicPr>
        <p:blipFill>
          <a:blip r:embed="rId1"/>
          <a:stretch/>
        </p:blipFill>
        <p:spPr>
          <a:xfrm>
            <a:off x="4500720" y="404640"/>
            <a:ext cx="3887640" cy="324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0075514491705"/>
          <p:cNvPicPr/>
          <p:nvPr/>
        </p:nvPicPr>
        <p:blipFill>
          <a:blip r:embed="rId2"/>
          <a:stretch/>
        </p:blipFill>
        <p:spPr>
          <a:xfrm>
            <a:off x="1116000" y="3716280"/>
            <a:ext cx="6769080" cy="28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3088-194873_n"/>
          <p:cNvPicPr/>
          <p:nvPr/>
        </p:nvPicPr>
        <p:blipFill>
          <a:blip r:embed="rId3"/>
          <a:stretch/>
        </p:blipFill>
        <p:spPr>
          <a:xfrm>
            <a:off x="395280" y="404640"/>
            <a:ext cx="3816360" cy="324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2010081407542875309"/>
          <p:cNvPicPr/>
          <p:nvPr/>
        </p:nvPicPr>
        <p:blipFill>
          <a:blip r:embed="rId1"/>
          <a:stretch/>
        </p:blipFill>
        <p:spPr>
          <a:xfrm>
            <a:off x="539640" y="692280"/>
            <a:ext cx="4176720" cy="47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45894927032142685"/>
          <p:cNvPicPr/>
          <p:nvPr/>
        </p:nvPicPr>
        <p:blipFill>
          <a:blip r:embed="rId2"/>
          <a:stretch/>
        </p:blipFill>
        <p:spPr>
          <a:xfrm>
            <a:off x="4859280" y="1514520"/>
            <a:ext cx="3816360" cy="3828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30412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些美丽的信件，哪一封不感人至深？哪一封不给人启迪？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读着，读着，我仿佛走进了这多情的信箱。于是拿起了笔，加入了这写信的行列。我要写给那些被我们遗忘的伙伴。一封写给荒山，一封写给污河，一封写给沙漠，一封写给灰蒙蒙的云天。为改变它们的面貌，让我发出一篇绿色的宣言，再告诉它们，我在期待着，期待着它们更动听的诗篇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1125360"/>
            <a:ext cx="7128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　　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也是一封信</a:t>
            </a:r>
            <a:r>
              <a:rPr b="0" i="1" lang="zh-CN" sz="28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———————————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—————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--————————————————————————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620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　仿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1090440" y="508464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4360" y="2133720"/>
            <a:ext cx="72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通过这节课的学习，你有什么收获，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大家分享吧！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84360" y="9079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说一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CB5-46E4-415B-AD1B-5A1346EF6A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326600" y="1170000"/>
            <a:ext cx="5192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信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箱           邮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圣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脊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满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腹           煤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炭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08320" y="3429000"/>
            <a:ext cx="545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迸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炽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仿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佛   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信笺            盛满           盛情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u=2086677992,436629618&amp;fm=0&amp;gp=0"/>
          <p:cNvPicPr/>
          <p:nvPr/>
        </p:nvPicPr>
        <p:blipFill>
          <a:blip r:embed="rId1"/>
          <a:stretch/>
        </p:blipFill>
        <p:spPr>
          <a:xfrm>
            <a:off x="179280" y="620640"/>
            <a:ext cx="1123920" cy="15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31048650,428352416&amp;fm=0&amp;gp=0"/>
          <p:cNvPicPr/>
          <p:nvPr/>
        </p:nvPicPr>
        <p:blipFill>
          <a:blip r:embed="rId2"/>
          <a:stretch/>
        </p:blipFill>
        <p:spPr>
          <a:xfrm>
            <a:off x="2771640" y="69228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u=2678291741,3001799470&amp;fm=0&amp;gp=0"/>
          <p:cNvPicPr/>
          <p:nvPr/>
        </p:nvPicPr>
        <p:blipFill>
          <a:blip r:embed="rId3"/>
          <a:stretch/>
        </p:blipFill>
        <p:spPr>
          <a:xfrm>
            <a:off x="4067280" y="620640"/>
            <a:ext cx="1333440" cy="16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u=2738574028,2209781632&amp;fm=0&amp;gp=0"/>
          <p:cNvPicPr/>
          <p:nvPr/>
        </p:nvPicPr>
        <p:blipFill>
          <a:blip r:embed="rId4"/>
          <a:stretch/>
        </p:blipFill>
        <p:spPr>
          <a:xfrm>
            <a:off x="1403280" y="692280"/>
            <a:ext cx="133344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u=3302139279,622528767&amp;fm=0&amp;gp=0"/>
          <p:cNvPicPr/>
          <p:nvPr/>
        </p:nvPicPr>
        <p:blipFill>
          <a:blip r:embed="rId5"/>
          <a:stretch/>
        </p:blipFill>
        <p:spPr>
          <a:xfrm>
            <a:off x="6156360" y="3933720"/>
            <a:ext cx="857160" cy="13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1"/>
          <p:cNvPicPr/>
          <p:nvPr/>
        </p:nvPicPr>
        <p:blipFill>
          <a:blip r:embed="rId6"/>
          <a:stretch/>
        </p:blipFill>
        <p:spPr>
          <a:xfrm>
            <a:off x="1476360" y="3860640"/>
            <a:ext cx="1828800" cy="129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u=3462817662,2204090640&amp;fm=0&amp;gp=0"/>
          <p:cNvPicPr/>
          <p:nvPr/>
        </p:nvPicPr>
        <p:blipFill>
          <a:blip r:embed="rId7"/>
          <a:stretch/>
        </p:blipFill>
        <p:spPr>
          <a:xfrm>
            <a:off x="324000" y="4076640"/>
            <a:ext cx="1333440" cy="88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u=213671947,137418367&amp;fm=0&amp;gp=0"/>
          <p:cNvPicPr/>
          <p:nvPr/>
        </p:nvPicPr>
        <p:blipFill>
          <a:blip r:embed="rId8"/>
          <a:stretch/>
        </p:blipFill>
        <p:spPr>
          <a:xfrm>
            <a:off x="5796000" y="5130720"/>
            <a:ext cx="1778040" cy="17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u=1184134445,1774119757&amp;fm=0&amp;gp=0"/>
          <p:cNvPicPr/>
          <p:nvPr/>
        </p:nvPicPr>
        <p:blipFill>
          <a:blip r:embed="rId9"/>
          <a:stretch/>
        </p:blipFill>
        <p:spPr>
          <a:xfrm>
            <a:off x="539640" y="5445000"/>
            <a:ext cx="1333440" cy="9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u=1426186794,2627807896&amp;fm=0&amp;gp=0"/>
          <p:cNvPicPr/>
          <p:nvPr/>
        </p:nvPicPr>
        <p:blipFill>
          <a:blip r:embed="rId10"/>
          <a:stretch/>
        </p:blipFill>
        <p:spPr>
          <a:xfrm>
            <a:off x="3132000" y="4076640"/>
            <a:ext cx="1333800" cy="94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u=3753939115,509567526&amp;fm=0&amp;gp=0"/>
          <p:cNvPicPr/>
          <p:nvPr/>
        </p:nvPicPr>
        <p:blipFill>
          <a:blip r:embed="rId11"/>
          <a:stretch/>
        </p:blipFill>
        <p:spPr>
          <a:xfrm>
            <a:off x="4067280" y="5079960"/>
            <a:ext cx="1562040" cy="177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u=3397441578,428832564&amp;fm=0&amp;gp=0"/>
          <p:cNvPicPr/>
          <p:nvPr/>
        </p:nvPicPr>
        <p:blipFill>
          <a:blip r:embed="rId12"/>
          <a:stretch/>
        </p:blipFill>
        <p:spPr>
          <a:xfrm>
            <a:off x="4572000" y="4005360"/>
            <a:ext cx="133344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u=2690446596,2166891944&amp;fm=0&amp;gp=0"/>
          <p:cNvPicPr/>
          <p:nvPr/>
        </p:nvPicPr>
        <p:blipFill>
          <a:blip r:embed="rId13"/>
          <a:stretch/>
        </p:blipFill>
        <p:spPr>
          <a:xfrm>
            <a:off x="2340000" y="5300640"/>
            <a:ext cx="1333440" cy="94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u=3855965877,1698339954&amp;fm=0&amp;gp=0"/>
          <p:cNvPicPr/>
          <p:nvPr/>
        </p:nvPicPr>
        <p:blipFill>
          <a:blip r:embed="rId14"/>
          <a:stretch/>
        </p:blipFill>
        <p:spPr>
          <a:xfrm>
            <a:off x="7236000" y="3933720"/>
            <a:ext cx="1333440" cy="9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u=3860995524,3744458360&amp;fm=0&amp;gp=0"/>
          <p:cNvPicPr/>
          <p:nvPr/>
        </p:nvPicPr>
        <p:blipFill>
          <a:blip r:embed="rId15"/>
          <a:stretch/>
        </p:blipFill>
        <p:spPr>
          <a:xfrm>
            <a:off x="5651640" y="2421000"/>
            <a:ext cx="28810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20100320202039-2087336093"/>
          <p:cNvPicPr/>
          <p:nvPr/>
        </p:nvPicPr>
        <p:blipFill>
          <a:blip r:embed="rId16"/>
          <a:stretch/>
        </p:blipFill>
        <p:spPr>
          <a:xfrm>
            <a:off x="5508720" y="54936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u=3096902920,2100018905&amp;fm=0&amp;gp=0"/>
          <p:cNvPicPr/>
          <p:nvPr/>
        </p:nvPicPr>
        <p:blipFill>
          <a:blip r:embed="rId17"/>
          <a:stretch/>
        </p:blipFill>
        <p:spPr>
          <a:xfrm>
            <a:off x="7380360" y="62064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u=242592737,2967625960&amp;fm=0&amp;gp=0"/>
          <p:cNvPicPr/>
          <p:nvPr/>
        </p:nvPicPr>
        <p:blipFill>
          <a:blip r:embed="rId18"/>
          <a:stretch/>
        </p:blipFill>
        <p:spPr>
          <a:xfrm>
            <a:off x="2916360" y="2349360"/>
            <a:ext cx="237636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xpic894"/>
          <p:cNvPicPr/>
          <p:nvPr/>
        </p:nvPicPr>
        <p:blipFill>
          <a:blip r:embed="rId19"/>
          <a:stretch/>
        </p:blipFill>
        <p:spPr>
          <a:xfrm>
            <a:off x="179280" y="2276640"/>
            <a:ext cx="2448000" cy="1441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3640" y="1195200"/>
            <a:ext cx="83041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捡起的落叶是一封信：那里有它刚一泛绿，就开始书写给大地母亲的思念。叶儿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，叶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，直到把碧绿写成了黄色，才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满载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情思，托付秋风邮发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80" y="691920"/>
            <a:ext cx="8304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抬头看云儿也是一封信：太阳把给大地的信写在天上，片片云彩就是五色的信笺。白云写的是圣洁，红云写的是吉祥，金云写的是丰收。色彩越写越多，云朵越写越重，支撑不住的盛情，就从那里滴滴答答地飘落。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落在水面，江海读得荡波；落到大地，泥土读出清香；落进麦田，强壮了庄稼的脊梁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3"/>
          <p:cNvSpPr/>
          <p:nvPr/>
        </p:nvSpPr>
        <p:spPr>
          <a:xfrm>
            <a:off x="4484520" y="5084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" name="Picture 4" descr="u=3772309722,87910430&amp;fm=0&amp;gp=0"/>
          <p:cNvPicPr/>
          <p:nvPr/>
        </p:nvPicPr>
        <p:blipFill>
          <a:blip r:embed="rId1"/>
          <a:stretch/>
        </p:blipFill>
        <p:spPr>
          <a:xfrm>
            <a:off x="250920" y="333360"/>
            <a:ext cx="3889440" cy="28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u=1589596843,2284999652&amp;fm=0&amp;gp=0"/>
          <p:cNvPicPr/>
          <p:nvPr/>
        </p:nvPicPr>
        <p:blipFill>
          <a:blip r:embed="rId2"/>
          <a:stretch/>
        </p:blipFill>
        <p:spPr>
          <a:xfrm>
            <a:off x="1979640" y="3645000"/>
            <a:ext cx="5688000" cy="21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826920" y="1268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219640" y="98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白云写的是圣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780000" y="4149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红云写的是吉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0" name="Picture 17" descr="u=1152688690,3261182549&amp;fm=0&amp;gp=0"/>
          <p:cNvPicPr/>
          <p:nvPr/>
        </p:nvPicPr>
        <p:blipFill>
          <a:blip r:embed="rId3"/>
          <a:stretch/>
        </p:blipFill>
        <p:spPr>
          <a:xfrm>
            <a:off x="4716360" y="333360"/>
            <a:ext cx="345600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8"/>
          <p:cNvSpPr/>
          <p:nvPr/>
        </p:nvSpPr>
        <p:spPr>
          <a:xfrm>
            <a:off x="179280" y="981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白云写的是圣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364000" y="765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5148360" y="1341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金云写的是丰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611280" y="620640"/>
            <a:ext cx="73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即使是满身银装的冬天，仍是一封信：看它把雪白的信纸一页页地铺满了天地，满腹的话儿不知从哪儿下笔。只好把这篇无字的纯白，寄给了春天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4920" y="2647440"/>
            <a:ext cx="830412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就连乌黑的煤，竟然也是一封信，是一封从遥远的过去发给今天的信：它把亿万年的精华，深深地埋藏，直到今天才在燃烧中迸发出炽热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听！</a:t>
            </a: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它在向我们传唱，亿万亿万年前，太阳教给它的歌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392640" y="981000"/>
            <a:ext cx="45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5640" y="1341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思 考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55640" y="2205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、    为什么说煤是过去写给今天的信？太阳教给它什么样的歌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6:42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55Z</dcterms:modified>
  <cp:revision>7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