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2A2-FD38-4D14-9580-031A33ECD0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6A23-EBBE-4D9A-B48B-F056BA4CE3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B05-2DD9-4268-8F37-D930419E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718-3DA0-4EC1-8685-3DAF3513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AA8-B290-4B4E-8843-251F0B71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44D-C3B4-4EB6-BA0A-05DE54EF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C4C-9D43-4A44-BB3D-A674A01A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7EC-74B5-481D-AB2A-D9E14D1E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D35-3DA7-4916-A096-3DA6E61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941-BE7C-4A15-96C5-32DFA15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7EB-B466-4703-9719-E2DD153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A00-FB1E-404F-879E-308263F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7A6-0870-45C3-B3C3-315F58E0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A95-AD6C-4077-906C-420A3B2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7EC-24CE-4578-815C-8F3DDFEB0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1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1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629080" y="765000"/>
            <a:ext cx="38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搭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2"/>
          <a:stretch/>
        </p:blipFill>
        <p:spPr>
          <a:xfrm>
            <a:off x="1765440" y="587700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00000" y="2421000"/>
            <a:ext cx="792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50920" y="530280"/>
            <a:ext cx="3673440" cy="57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每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上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下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一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走搭石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是那么协调有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前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抬起脚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88" name="Picture 6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2050920" y="6093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91" name="Picture 9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4856040" y="-15840"/>
            <a:ext cx="2881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后面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紧跟上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踏踏的声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像轻快的音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清波漾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人影绰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创艺简楷体"/>
              </a:rPr>
              <a:t>给人画一般的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7110600262577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0" y="148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到山里的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会看到这样理所当然的情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9640" y="2924280"/>
            <a:ext cx="837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如果有两个人面对面同时走到溪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总会在第一块搭石前止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招手示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让对方先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等对方过了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俩人再说上几句家常话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才相背而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假如遇上老人来走搭石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青人总要伏下身子背老人过去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b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0" y="620640"/>
            <a:ext cx="9685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遇上（     ）来走搭石，年轻人总伏下身子背（    ）过去，人们把这也看成理所当然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51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残疾人、抱小孩的妇女、小朋友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08000" y="44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升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103" name="Picture 5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2050920" y="6093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7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106" name="Picture 8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9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-109440" y="404640"/>
            <a:ext cx="94345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搭石，构成了家乡的一道风景，一道自然、朴实、生动的风景！风景中的人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村民们会根据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水的深浅，从河的两岸找来一些平整方正的石头，按照二尺左右的间隔，在小溪里横着摆上一排，让人们从上面踏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上了点年岁的人，无论怎样急着赶路，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只要发现哪块搭石不平稳，一定会放下带的东西，找来合适的石头搭上，再在上边踏上几个来回，直到满意了才肯离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人们走搭石时，不抢路，不突然止步，动作是那么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协调有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如果两个人面对面同时走到溪边，总会总会在第一块搭石前止步，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招手示意，让对方先走，等对方过了河，俩人再说上几句家常话，才相背而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假如遇上老人来走搭石，年轻人总要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伏下身子背老人过去，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村民们把这看成</a:t>
            </a:r>
            <a:r>
              <a:rPr b="1" lang="zh-CN" sz="2600" spc="-1" strike="noStrike">
                <a:solidFill>
                  <a:srgbClr val="ff0066"/>
                </a:solidFill>
                <a:latin typeface="Arial"/>
              </a:rPr>
              <a:t>理所当然的事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u=4107988650,3750361455&amp;gp=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00000" y="2133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4000" spc="-1" strike="noStrike">
                <a:solidFill>
                  <a:srgbClr val="5e4ebc"/>
                </a:solidFill>
                <a:latin typeface="Times New Roman"/>
                <a:ea typeface="隶书"/>
              </a:rPr>
              <a:t>“一排排搭石，任人走，任人踏，它们联结着故乡的小路，也联结着乡亲们美好的情感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-9360" y="0"/>
            <a:ext cx="9175680" cy="6886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者从不起眼的事物中发现了美，对我很有启发。我也想说一说平凡事物中的“美”。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763640" y="476280"/>
            <a:ext cx="2133720" cy="12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我想说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24000" y="33336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传承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117" name="Picture 5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6"/>
            <p:cNvSpPr/>
            <p:nvPr/>
          </p:nvSpPr>
          <p:spPr>
            <a:xfrm>
              <a:off x="2050920" y="6093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120" name="Picture 8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0"/>
          <p:cNvSpPr/>
          <p:nvPr/>
        </p:nvSpPr>
        <p:spPr>
          <a:xfrm>
            <a:off x="1258920" y="1341360"/>
            <a:ext cx="561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朋友需要你今天帮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千万不要推到明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58920" y="3500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众人拾柴火焰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258920" y="501336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言行在于美，不在于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>
            <a:hlinkClick r:id="rId5" action="ppaction://hlinksldjump"/>
          </p:cNvPr>
          <p:cNvSpPr/>
          <p:nvPr/>
        </p:nvSpPr>
        <p:spPr>
          <a:xfrm>
            <a:off x="7451640" y="5661000"/>
            <a:ext cx="1152720" cy="792360"/>
          </a:xfrm>
          <a:custGeom>
            <a:avLst/>
            <a:gdLst>
              <a:gd name="textAreaLeft" fmla="*/ 51120 w 1152720"/>
              <a:gd name="textAreaRight" fmla="*/ 1101600 w 1152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1419" h="21600">
                <a:moveTo>
                  <a:pt x="0" y="0"/>
                </a:moveTo>
                <a:lnTo>
                  <a:pt x="31419" y="0"/>
                </a:lnTo>
                <a:lnTo>
                  <a:pt x="31419" y="21600"/>
                </a:lnTo>
                <a:lnTo>
                  <a:pt x="0" y="21600"/>
                </a:lnTo>
                <a:close/>
              </a:path>
              <a:path fill="lightenLess" w="31419" h="21600">
                <a:moveTo>
                  <a:pt x="0" y="0"/>
                </a:moveTo>
                <a:lnTo>
                  <a:pt x="31419" y="0"/>
                </a:lnTo>
                <a:lnTo>
                  <a:pt x="30019" y="1400"/>
                </a:lnTo>
                <a:lnTo>
                  <a:pt x="1400" y="1400"/>
                </a:lnTo>
                <a:close/>
              </a:path>
              <a:path fill="darken" w="31419" h="21600">
                <a:moveTo>
                  <a:pt x="31419" y="0"/>
                </a:moveTo>
                <a:lnTo>
                  <a:pt x="31419" y="21600"/>
                </a:lnTo>
                <a:lnTo>
                  <a:pt x="30019" y="20200"/>
                </a:lnTo>
                <a:lnTo>
                  <a:pt x="30019" y="1400"/>
                </a:lnTo>
                <a:close/>
              </a:path>
              <a:path fill="darkenLess" w="31419" h="21600">
                <a:moveTo>
                  <a:pt x="31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9" y="20200"/>
                </a:lnTo>
                <a:close/>
              </a:path>
              <a:path fill="lighten" w="31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468360" y="692280"/>
            <a:ext cx="82090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布置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课后完成一次小练笔：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写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自己发现的平凡事物中的美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1327320" y="5187960"/>
            <a:ext cx="61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6988-CF48-46A4-9AA2-1043B2FAE3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1_0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24000" y="333360"/>
            <a:ext cx="29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回顾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826920" y="6021360"/>
            <a:ext cx="2665440" cy="565200"/>
            <a:chOff x="826920" y="6021360"/>
            <a:chExt cx="2665440" cy="565200"/>
          </a:xfrm>
        </p:grpSpPr>
        <p:pic>
          <p:nvPicPr>
            <p:cNvPr id="54" name="Picture 6" descr="4B314765285"/>
            <p:cNvPicPr/>
            <p:nvPr/>
          </p:nvPicPr>
          <p:blipFill>
            <a:blip r:embed="rId2"/>
            <a:stretch/>
          </p:blipFill>
          <p:spPr>
            <a:xfrm>
              <a:off x="826920" y="602136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/>
            <p:cNvSpPr/>
            <p:nvPr/>
          </p:nvSpPr>
          <p:spPr>
            <a:xfrm>
              <a:off x="2050920" y="60930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5435640" y="5950080"/>
            <a:ext cx="2665440" cy="565200"/>
            <a:chOff x="5435640" y="5950080"/>
            <a:chExt cx="2665440" cy="565200"/>
          </a:xfrm>
        </p:grpSpPr>
        <p:pic>
          <p:nvPicPr>
            <p:cNvPr id="57" name="Picture 9" descr="4B314765285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35640" y="5950080"/>
              <a:ext cx="26654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/>
            <p:cNvSpPr/>
            <p:nvPr/>
          </p:nvSpPr>
          <p:spPr>
            <a:xfrm>
              <a:off x="7164360" y="6021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cc00"/>
                  </a:solidFill>
                  <a:latin typeface="Arial"/>
                </a:rPr>
                <a:t>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11"/>
          <p:cNvSpPr/>
          <p:nvPr/>
        </p:nvSpPr>
        <p:spPr>
          <a:xfrm>
            <a:off x="755640" y="1700280"/>
            <a:ext cx="7632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场景一：老人摆搭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场景二：一行人走搭石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场景三：两人面对面走搭石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4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场景四：年青人背老人过搭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71106002625774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907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欣赏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u=1034965181,3820384583&amp;gp=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971640" y="1628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4000" spc="-1" strike="noStrike">
                <a:solidFill>
                  <a:srgbClr val="0901a5"/>
                </a:solidFill>
                <a:latin typeface="Times New Roman"/>
                <a:ea typeface="隶书"/>
              </a:rPr>
              <a:t>上了点年岁的人，无论怎样急着赶路，只要发现哪块搭石不平稳，一定会放下带的东西，找来合适的石头搭上， 再在上边踏上几个来回，直到满意了才肯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15636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无论怎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492360" y="220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只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484360" y="2852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一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971640" y="4076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踏上几个来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72000" y="4076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直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484360" y="6165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3"/>
          <p:cNvSpPr/>
          <p:nvPr/>
        </p:nvSpPr>
        <p:spPr>
          <a:xfrm>
            <a:off x="2124000" y="2028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M3}EKWKFFS]UA[977MJYTBM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u=1662493193,714379235&amp;gp=30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468360" y="1268280"/>
            <a:ext cx="81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隶书"/>
              </a:rPr>
              <a:t>每当上工、下工，一行人走搭   石的时候，动作是那么协调有序！前面的抬起脚来，后面的紧跟上去，踏踏的声音，像轻快的音乐；轻波漾漾，人影绰绰，给人画一般的美感</a:t>
            </a:r>
            <a:r>
              <a:rPr b="1" lang="zh-CN" sz="4000" spc="-1" strike="noStrike">
                <a:solidFill>
                  <a:srgbClr val="eb1f32"/>
                </a:solidFill>
                <a:latin typeface="Times New Roman"/>
                <a:ea typeface="GungsuhChe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405320" y="301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797440" y="4795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3716280"/>
            <a:ext cx="47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轻波漾漾，人影绰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6000840" y="186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协调有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u=1996131795,1966860911&amp;gp=4"/>
          <p:cNvPicPr/>
          <p:nvPr/>
        </p:nvPicPr>
        <p:blipFill>
          <a:blip r:embed="rId1"/>
          <a:stretch/>
        </p:blipFill>
        <p:spPr>
          <a:xfrm>
            <a:off x="0" y="-17640"/>
            <a:ext cx="9612360" cy="7209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763640" y="1844640"/>
            <a:ext cx="7777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01a5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0901a5"/>
                </a:solidFill>
                <a:latin typeface="Times New Roman"/>
                <a:ea typeface="隶书"/>
              </a:rPr>
              <a:t>绰”在字典中有三种解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01a5"/>
                </a:solidFill>
                <a:latin typeface="Times New Roman"/>
                <a:ea typeface="隶书"/>
              </a:rPr>
              <a:t>　绰：１、宽；不狭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01a5"/>
                </a:solidFill>
                <a:latin typeface="Times New Roman"/>
                <a:ea typeface="隶书"/>
              </a:rPr>
              <a:t>　　　２、宽裕，富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901a5"/>
                </a:solidFill>
                <a:latin typeface="Times New Roman"/>
                <a:ea typeface="隶书"/>
              </a:rPr>
              <a:t>　　　３、形容姿态柔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60608234209993"/>
          <p:cNvPicPr/>
          <p:nvPr/>
        </p:nvPicPr>
        <p:blipFill>
          <a:blip r:embed="rId1"/>
          <a:stretch/>
        </p:blipFill>
        <p:spPr>
          <a:xfrm>
            <a:off x="2325600" y="0"/>
            <a:ext cx="48135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1068480" y="836640"/>
            <a:ext cx="8506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66"/>
                </a:solidFill>
                <a:latin typeface="Arial"/>
              </a:rPr>
              <a:t>清　波　漾　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60608234209130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516640"/>
            <a:ext cx="47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3399"/>
                </a:solidFill>
                <a:latin typeface="Arial"/>
              </a:rPr>
              <a:t>人　影　绰　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0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2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