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FE1-A3CD-46CC-A621-FC7BF6B422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CCF4-BABB-44A8-919D-024DACA1C9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6CF-1BFA-4F03-838F-A696326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532-DDDB-4CAB-BB65-DF4BF3B6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8BD-0EB2-4625-8F0A-C74DD4FE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EE5-CC70-4661-8B47-B102E4D2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909-D500-43DB-8186-384C1100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8FD-826B-454A-8139-FB63E50D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898-D8C1-4CBE-A415-A944E55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AC6-19E4-489F-AC2B-81F0949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B89-D86C-4B68-8EAE-4C9E6494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39E-1FEE-43AE-82BB-2E5C24C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F63-8A7B-4261-A559-AFCA917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6D4-EFE9-4E76-9C94-891E76D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7"/>
            </a:gs>
            <a:gs pos="100000">
              <a:srgbClr val="ffff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615-C5CE-4EA9-B1E7-FB7CED6379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05280" y="1219320"/>
            <a:ext cx="490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太阳的小房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00448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199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201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9"/>
          <p:cNvSpPr/>
          <p:nvPr/>
        </p:nvSpPr>
        <p:spPr>
          <a:xfrm>
            <a:off x="3729240" y="5176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也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许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太阳会变魔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609480" y="3048120"/>
            <a:ext cx="327672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许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曲线 217"/>
          <p:cNvSpPr/>
          <p:nvPr/>
        </p:nvSpPr>
        <p:spPr>
          <a:xfrm>
            <a:off x="1247760" y="3162240"/>
            <a:ext cx="56844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79" y="3118"/>
                </a:moveTo>
                <a:cubicBezTo>
                  <a:pt x="6502" y="3409"/>
                  <a:pt x="15554" y="2848"/>
                  <a:pt x="18577" y="5717"/>
                </a:cubicBezTo>
                <a:cubicBezTo>
                  <a:pt x="21600" y="8585"/>
                  <a:pt x="19159" y="14822"/>
                  <a:pt x="18577" y="17421"/>
                </a:cubicBezTo>
                <a:cubicBezTo>
                  <a:pt x="17994" y="20020"/>
                  <a:pt x="18986" y="21600"/>
                  <a:pt x="15633" y="18731"/>
                </a:cubicBezTo>
                <a:cubicBezTo>
                  <a:pt x="12279" y="15862"/>
                  <a:pt x="3683" y="6236"/>
                  <a:pt x="1841" y="3118"/>
                </a:cubicBezTo>
                <a:cubicBezTo>
                  <a:pt x="0" y="0"/>
                  <a:pt x="4864" y="3118"/>
                  <a:pt x="6439" y="3118"/>
                </a:cubicBezTo>
                <a:cubicBezTo>
                  <a:pt x="8013" y="3118"/>
                  <a:pt x="9383" y="3035"/>
                  <a:pt x="9713" y="3118"/>
                </a:cubicBezTo>
                <a:cubicBezTo>
                  <a:pt x="10044" y="3201"/>
                  <a:pt x="8469" y="3471"/>
                  <a:pt x="8076" y="3554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曲线 218"/>
          <p:cNvSpPr/>
          <p:nvPr/>
        </p:nvSpPr>
        <p:spPr>
          <a:xfrm>
            <a:off x="847800" y="4119480"/>
            <a:ext cx="1146240" cy="173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657"/>
                </a:moveTo>
                <a:cubicBezTo>
                  <a:pt x="1349" y="3337"/>
                  <a:pt x="5070" y="2517"/>
                  <a:pt x="6989" y="1959"/>
                </a:cubicBezTo>
                <a:cubicBezTo>
                  <a:pt x="8908" y="1401"/>
                  <a:pt x="8814" y="1209"/>
                  <a:pt x="9594" y="872"/>
                </a:cubicBezTo>
                <a:cubicBezTo>
                  <a:pt x="10374" y="534"/>
                  <a:pt x="10250" y="406"/>
                  <a:pt x="10897" y="261"/>
                </a:cubicBezTo>
                <a:cubicBezTo>
                  <a:pt x="11544" y="116"/>
                  <a:pt x="11739" y="0"/>
                  <a:pt x="12847" y="145"/>
                </a:cubicBezTo>
                <a:cubicBezTo>
                  <a:pt x="13955" y="290"/>
                  <a:pt x="15741" y="529"/>
                  <a:pt x="16428" y="988"/>
                </a:cubicBezTo>
                <a:cubicBezTo>
                  <a:pt x="17114" y="1447"/>
                  <a:pt x="16716" y="1814"/>
                  <a:pt x="16264" y="2447"/>
                </a:cubicBezTo>
                <a:cubicBezTo>
                  <a:pt x="15811" y="3081"/>
                  <a:pt x="14735" y="1819"/>
                  <a:pt x="14150" y="4145"/>
                </a:cubicBezTo>
                <a:cubicBezTo>
                  <a:pt x="13565" y="6471"/>
                  <a:pt x="12621" y="12239"/>
                  <a:pt x="13339" y="14082"/>
                </a:cubicBezTo>
                <a:cubicBezTo>
                  <a:pt x="14056" y="15925"/>
                  <a:pt x="16225" y="13669"/>
                  <a:pt x="17723" y="13355"/>
                </a:cubicBezTo>
                <a:cubicBezTo>
                  <a:pt x="19220" y="13041"/>
                  <a:pt x="21600" y="11535"/>
                  <a:pt x="20819" y="12506"/>
                </a:cubicBezTo>
                <a:cubicBezTo>
                  <a:pt x="20039" y="13477"/>
                  <a:pt x="15772" y="16553"/>
                  <a:pt x="13822" y="18204"/>
                </a:cubicBezTo>
                <a:cubicBezTo>
                  <a:pt x="11872" y="19855"/>
                  <a:pt x="11810" y="20070"/>
                  <a:pt x="11061" y="20751"/>
                </a:cubicBezTo>
                <a:cubicBezTo>
                  <a:pt x="10312" y="21431"/>
                  <a:pt x="10507" y="21600"/>
                  <a:pt x="10086" y="21600"/>
                </a:cubicBezTo>
                <a:cubicBezTo>
                  <a:pt x="9665" y="21600"/>
                  <a:pt x="9399" y="21332"/>
                  <a:pt x="8947" y="20751"/>
                </a:cubicBezTo>
                <a:cubicBezTo>
                  <a:pt x="8494" y="20169"/>
                  <a:pt x="7675" y="19634"/>
                  <a:pt x="7808" y="18687"/>
                </a:cubicBezTo>
                <a:cubicBezTo>
                  <a:pt x="7941" y="17739"/>
                  <a:pt x="9072" y="17163"/>
                  <a:pt x="9594" y="16024"/>
                </a:cubicBezTo>
                <a:cubicBezTo>
                  <a:pt x="10117" y="14884"/>
                  <a:pt x="10078" y="15274"/>
                  <a:pt x="10406" y="12994"/>
                </a:cubicBezTo>
                <a:cubicBezTo>
                  <a:pt x="10733" y="10715"/>
                  <a:pt x="11451" y="6663"/>
                  <a:pt x="11225" y="4628"/>
                </a:cubicBezTo>
                <a:cubicBezTo>
                  <a:pt x="10998" y="2593"/>
                  <a:pt x="10858" y="2709"/>
                  <a:pt x="9267" y="2808"/>
                </a:cubicBezTo>
                <a:cubicBezTo>
                  <a:pt x="7675" y="2907"/>
                  <a:pt x="5109" y="4942"/>
                  <a:pt x="3252" y="5110"/>
                </a:cubicBezTo>
                <a:cubicBezTo>
                  <a:pt x="1396" y="5279"/>
                  <a:pt x="530" y="3994"/>
                  <a:pt x="0" y="365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曲线 219"/>
          <p:cNvSpPr/>
          <p:nvPr/>
        </p:nvSpPr>
        <p:spPr>
          <a:xfrm>
            <a:off x="1978200" y="3057480"/>
            <a:ext cx="863280" cy="13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3" y="0"/>
                </a:moveTo>
                <a:cubicBezTo>
                  <a:pt x="14003" y="741"/>
                  <a:pt x="14789" y="1813"/>
                  <a:pt x="13363" y="4691"/>
                </a:cubicBezTo>
                <a:cubicBezTo>
                  <a:pt x="11936" y="7569"/>
                  <a:pt x="9435" y="11062"/>
                  <a:pt x="6893" y="14375"/>
                </a:cubicBezTo>
                <a:cubicBezTo>
                  <a:pt x="4351" y="17687"/>
                  <a:pt x="0" y="20910"/>
                  <a:pt x="651" y="21255"/>
                </a:cubicBezTo>
                <a:cubicBezTo>
                  <a:pt x="1302" y="21600"/>
                  <a:pt x="6769" y="19351"/>
                  <a:pt x="10128" y="16098"/>
                </a:cubicBezTo>
                <a:cubicBezTo>
                  <a:pt x="13487" y="12846"/>
                  <a:pt x="15295" y="7659"/>
                  <a:pt x="17455" y="4999"/>
                </a:cubicBezTo>
                <a:cubicBezTo>
                  <a:pt x="19615" y="2338"/>
                  <a:pt x="21600" y="3807"/>
                  <a:pt x="20907" y="2810"/>
                </a:cubicBezTo>
                <a:cubicBezTo>
                  <a:pt x="20215" y="1813"/>
                  <a:pt x="15450" y="517"/>
                  <a:pt x="14003" y="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曲线 220"/>
          <p:cNvSpPr/>
          <p:nvPr/>
        </p:nvSpPr>
        <p:spPr>
          <a:xfrm>
            <a:off x="2365200" y="3795840"/>
            <a:ext cx="1028880" cy="38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1" y="10655"/>
                </a:moveTo>
                <a:cubicBezTo>
                  <a:pt x="2689" y="9523"/>
                  <a:pt x="8431" y="6577"/>
                  <a:pt x="11615" y="4604"/>
                </a:cubicBezTo>
                <a:cubicBezTo>
                  <a:pt x="14799" y="2630"/>
                  <a:pt x="14868" y="0"/>
                  <a:pt x="16499" y="762"/>
                </a:cubicBezTo>
                <a:cubicBezTo>
                  <a:pt x="18130" y="1525"/>
                  <a:pt x="21600" y="4709"/>
                  <a:pt x="19752" y="8445"/>
                </a:cubicBezTo>
                <a:cubicBezTo>
                  <a:pt x="17904" y="12181"/>
                  <a:pt x="10999" y="17232"/>
                  <a:pt x="7269" y="19416"/>
                </a:cubicBezTo>
                <a:cubicBezTo>
                  <a:pt x="3539" y="21600"/>
                  <a:pt x="2238" y="21600"/>
                  <a:pt x="1119" y="19416"/>
                </a:cubicBezTo>
                <a:cubicBezTo>
                  <a:pt x="0" y="17232"/>
                  <a:pt x="1630" y="10418"/>
                  <a:pt x="1665" y="8445"/>
                </a:cubicBezTo>
                <a:cubicBezTo>
                  <a:pt x="1700" y="6472"/>
                  <a:pt x="1387" y="9103"/>
                  <a:pt x="1301" y="9550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曲线 221"/>
          <p:cNvSpPr/>
          <p:nvPr/>
        </p:nvSpPr>
        <p:spPr>
          <a:xfrm>
            <a:off x="1719360" y="4594320"/>
            <a:ext cx="2036520" cy="39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0" y="9894"/>
                </a:moveTo>
                <a:cubicBezTo>
                  <a:pt x="2044" y="9486"/>
                  <a:pt x="5250" y="8925"/>
                  <a:pt x="8505" y="7217"/>
                </a:cubicBezTo>
                <a:cubicBezTo>
                  <a:pt x="11760" y="5508"/>
                  <a:pt x="14870" y="2754"/>
                  <a:pt x="16919" y="1377"/>
                </a:cubicBezTo>
                <a:cubicBezTo>
                  <a:pt x="18967" y="0"/>
                  <a:pt x="18055" y="306"/>
                  <a:pt x="18748" y="306"/>
                </a:cubicBezTo>
                <a:cubicBezTo>
                  <a:pt x="19441" y="306"/>
                  <a:pt x="19862" y="306"/>
                  <a:pt x="20393" y="1377"/>
                </a:cubicBezTo>
                <a:cubicBezTo>
                  <a:pt x="20924" y="2448"/>
                  <a:pt x="21288" y="3723"/>
                  <a:pt x="21398" y="5635"/>
                </a:cubicBezTo>
                <a:cubicBezTo>
                  <a:pt x="21507" y="7548"/>
                  <a:pt x="21600" y="9996"/>
                  <a:pt x="20941" y="10940"/>
                </a:cubicBezTo>
                <a:cubicBezTo>
                  <a:pt x="20283" y="11883"/>
                  <a:pt x="20889" y="9231"/>
                  <a:pt x="18108" y="10404"/>
                </a:cubicBezTo>
                <a:cubicBezTo>
                  <a:pt x="15327" y="11577"/>
                  <a:pt x="10076" y="14791"/>
                  <a:pt x="7040" y="16805"/>
                </a:cubicBezTo>
                <a:cubicBezTo>
                  <a:pt x="4005" y="18820"/>
                  <a:pt x="4241" y="21600"/>
                  <a:pt x="2925" y="20528"/>
                </a:cubicBezTo>
                <a:cubicBezTo>
                  <a:pt x="1609" y="19457"/>
                  <a:pt x="912" y="13592"/>
                  <a:pt x="456" y="11475"/>
                </a:cubicBezTo>
                <a:cubicBezTo>
                  <a:pt x="0" y="9359"/>
                  <a:pt x="552" y="10022"/>
                  <a:pt x="640" y="9894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曲线 222"/>
          <p:cNvSpPr/>
          <p:nvPr/>
        </p:nvSpPr>
        <p:spPr>
          <a:xfrm>
            <a:off x="2598840" y="4019400"/>
            <a:ext cx="303120" cy="245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3"/>
                </a:moveTo>
                <a:cubicBezTo>
                  <a:pt x="739" y="1021"/>
                  <a:pt x="3077" y="0"/>
                  <a:pt x="3698" y="2696"/>
                </a:cubicBezTo>
                <a:cubicBezTo>
                  <a:pt x="4320" y="5393"/>
                  <a:pt x="2988" y="10886"/>
                  <a:pt x="3106" y="14369"/>
                </a:cubicBezTo>
                <a:cubicBezTo>
                  <a:pt x="3225" y="17853"/>
                  <a:pt x="2100" y="19261"/>
                  <a:pt x="4320" y="20121"/>
                </a:cubicBezTo>
                <a:cubicBezTo>
                  <a:pt x="6539" y="20982"/>
                  <a:pt x="11746" y="21600"/>
                  <a:pt x="14202" y="18664"/>
                </a:cubicBezTo>
                <a:cubicBezTo>
                  <a:pt x="16658" y="15728"/>
                  <a:pt x="16155" y="8465"/>
                  <a:pt x="16658" y="5443"/>
                </a:cubicBezTo>
                <a:cubicBezTo>
                  <a:pt x="17161" y="2421"/>
                  <a:pt x="16037" y="4224"/>
                  <a:pt x="16658" y="3553"/>
                </a:cubicBezTo>
                <a:cubicBezTo>
                  <a:pt x="17280" y="2882"/>
                  <a:pt x="21600" y="2680"/>
                  <a:pt x="19765" y="2095"/>
                </a:cubicBezTo>
                <a:cubicBezTo>
                  <a:pt x="17930" y="1511"/>
                  <a:pt x="11007" y="790"/>
                  <a:pt x="7426" y="634"/>
                </a:cubicBezTo>
                <a:cubicBezTo>
                  <a:pt x="3846" y="477"/>
                  <a:pt x="2485" y="1202"/>
                  <a:pt x="1864" y="1321"/>
                </a:cubicBezTo>
                <a:cubicBezTo>
                  <a:pt x="1242" y="1441"/>
                  <a:pt x="3728" y="1268"/>
                  <a:pt x="4320" y="1235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1295280" y="1371600"/>
            <a:ext cx="175284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xǔ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215" name="Line 19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23"/>
          <p:cNvSpPr/>
          <p:nvPr/>
        </p:nvSpPr>
        <p:spPr>
          <a:xfrm>
            <a:off x="5601960" y="3352680"/>
            <a:ext cx="23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词：也许  许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221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223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Rectangle 9"/>
          <p:cNvSpPr/>
          <p:nvPr/>
        </p:nvSpPr>
        <p:spPr>
          <a:xfrm>
            <a:off x="3729240" y="5176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也许太阳会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变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魔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0"/>
          <p:cNvSpPr txBox="1"/>
          <p:nvPr/>
        </p:nvSpPr>
        <p:spPr>
          <a:xfrm>
            <a:off x="304920" y="3073320"/>
            <a:ext cx="3809880" cy="29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变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曲线 224"/>
          <p:cNvSpPr/>
          <p:nvPr/>
        </p:nvSpPr>
        <p:spPr>
          <a:xfrm>
            <a:off x="1828800" y="3048120"/>
            <a:ext cx="546120" cy="35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602"/>
                </a:moveTo>
                <a:cubicBezTo>
                  <a:pt x="1409" y="2081"/>
                  <a:pt x="4533" y="0"/>
                  <a:pt x="7942" y="442"/>
                </a:cubicBezTo>
                <a:cubicBezTo>
                  <a:pt x="11352" y="884"/>
                  <a:pt x="14380" y="1951"/>
                  <a:pt x="17085" y="4762"/>
                </a:cubicBezTo>
                <a:cubicBezTo>
                  <a:pt x="19790" y="7573"/>
                  <a:pt x="21295" y="11190"/>
                  <a:pt x="21447" y="14547"/>
                </a:cubicBezTo>
                <a:cubicBezTo>
                  <a:pt x="21600" y="17904"/>
                  <a:pt x="20971" y="21600"/>
                  <a:pt x="17866" y="21600"/>
                </a:cubicBezTo>
                <a:cubicBezTo>
                  <a:pt x="14761" y="21600"/>
                  <a:pt x="9542" y="18346"/>
                  <a:pt x="5961" y="14547"/>
                </a:cubicBezTo>
                <a:cubicBezTo>
                  <a:pt x="2380" y="10747"/>
                  <a:pt x="952" y="4840"/>
                  <a:pt x="0" y="2602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曲线 225"/>
          <p:cNvSpPr/>
          <p:nvPr/>
        </p:nvSpPr>
        <p:spPr>
          <a:xfrm>
            <a:off x="973080" y="3330720"/>
            <a:ext cx="251136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442"/>
                </a:moveTo>
                <a:cubicBezTo>
                  <a:pt x="1762" y="12381"/>
                  <a:pt x="6139" y="10050"/>
                  <a:pt x="9573" y="7366"/>
                </a:cubicBezTo>
                <a:cubicBezTo>
                  <a:pt x="13007" y="4682"/>
                  <a:pt x="14852" y="0"/>
                  <a:pt x="17164" y="0"/>
                </a:cubicBezTo>
                <a:cubicBezTo>
                  <a:pt x="19477" y="0"/>
                  <a:pt x="20665" y="4931"/>
                  <a:pt x="21132" y="7366"/>
                </a:cubicBezTo>
                <a:cubicBezTo>
                  <a:pt x="21600" y="9801"/>
                  <a:pt x="20425" y="11465"/>
                  <a:pt x="19494" y="12152"/>
                </a:cubicBezTo>
                <a:cubicBezTo>
                  <a:pt x="18563" y="12839"/>
                  <a:pt x="19043" y="9884"/>
                  <a:pt x="16474" y="10841"/>
                </a:cubicBezTo>
                <a:cubicBezTo>
                  <a:pt x="13904" y="11798"/>
                  <a:pt x="9399" y="14836"/>
                  <a:pt x="6640" y="16917"/>
                </a:cubicBezTo>
                <a:cubicBezTo>
                  <a:pt x="3880" y="18998"/>
                  <a:pt x="3843" y="20892"/>
                  <a:pt x="2672" y="21246"/>
                </a:cubicBezTo>
                <a:cubicBezTo>
                  <a:pt x="1501" y="21600"/>
                  <a:pt x="1311" y="20205"/>
                  <a:pt x="777" y="18645"/>
                </a:cubicBezTo>
                <a:cubicBezTo>
                  <a:pt x="244" y="17084"/>
                  <a:pt x="115" y="14420"/>
                  <a:pt x="0" y="13442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曲线 226"/>
          <p:cNvSpPr/>
          <p:nvPr/>
        </p:nvSpPr>
        <p:spPr>
          <a:xfrm>
            <a:off x="1657440" y="3610080"/>
            <a:ext cx="285840" cy="10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2" y="2190"/>
                </a:moveTo>
                <a:cubicBezTo>
                  <a:pt x="2645" y="3245"/>
                  <a:pt x="4675" y="5418"/>
                  <a:pt x="4385" y="8263"/>
                </a:cubicBezTo>
                <a:cubicBezTo>
                  <a:pt x="4095" y="11109"/>
                  <a:pt x="0" y="13790"/>
                  <a:pt x="616" y="16409"/>
                </a:cubicBezTo>
                <a:cubicBezTo>
                  <a:pt x="1232" y="19027"/>
                  <a:pt x="4240" y="21072"/>
                  <a:pt x="7393" y="21336"/>
                </a:cubicBezTo>
                <a:cubicBezTo>
                  <a:pt x="10546" y="21600"/>
                  <a:pt x="14025" y="20581"/>
                  <a:pt x="16453" y="17736"/>
                </a:cubicBezTo>
                <a:cubicBezTo>
                  <a:pt x="18881" y="14890"/>
                  <a:pt x="18881" y="9927"/>
                  <a:pt x="19497" y="7118"/>
                </a:cubicBezTo>
                <a:cubicBezTo>
                  <a:pt x="20114" y="4309"/>
                  <a:pt x="21600" y="5072"/>
                  <a:pt x="19497" y="3709"/>
                </a:cubicBezTo>
                <a:cubicBezTo>
                  <a:pt x="17395" y="2345"/>
                  <a:pt x="12394" y="600"/>
                  <a:pt x="8915" y="300"/>
                </a:cubicBezTo>
                <a:cubicBezTo>
                  <a:pt x="5436" y="0"/>
                  <a:pt x="3261" y="1745"/>
                  <a:pt x="2102" y="219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曲线 227"/>
          <p:cNvSpPr/>
          <p:nvPr/>
        </p:nvSpPr>
        <p:spPr>
          <a:xfrm>
            <a:off x="2168640" y="3560760"/>
            <a:ext cx="34740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7" y="1439"/>
                </a:moveTo>
                <a:cubicBezTo>
                  <a:pt x="2756" y="2180"/>
                  <a:pt x="6081" y="3275"/>
                  <a:pt x="6710" y="6111"/>
                </a:cubicBezTo>
                <a:cubicBezTo>
                  <a:pt x="7339" y="8946"/>
                  <a:pt x="4733" y="12868"/>
                  <a:pt x="4853" y="15635"/>
                </a:cubicBezTo>
                <a:cubicBezTo>
                  <a:pt x="4973" y="18402"/>
                  <a:pt x="5722" y="18971"/>
                  <a:pt x="7339" y="19945"/>
                </a:cubicBezTo>
                <a:cubicBezTo>
                  <a:pt x="8957" y="20919"/>
                  <a:pt x="10964" y="21600"/>
                  <a:pt x="12971" y="20488"/>
                </a:cubicBezTo>
                <a:cubicBezTo>
                  <a:pt x="14979" y="19376"/>
                  <a:pt x="16207" y="17290"/>
                  <a:pt x="17345" y="14377"/>
                </a:cubicBezTo>
                <a:cubicBezTo>
                  <a:pt x="18484" y="11463"/>
                  <a:pt x="17975" y="8084"/>
                  <a:pt x="18604" y="5930"/>
                </a:cubicBezTo>
                <a:cubicBezTo>
                  <a:pt x="19233" y="3775"/>
                  <a:pt x="21600" y="4637"/>
                  <a:pt x="20461" y="3594"/>
                </a:cubicBezTo>
                <a:cubicBezTo>
                  <a:pt x="19323" y="2551"/>
                  <a:pt x="16716" y="1361"/>
                  <a:pt x="12971" y="715"/>
                </a:cubicBezTo>
                <a:cubicBezTo>
                  <a:pt x="9227" y="68"/>
                  <a:pt x="3475" y="0"/>
                  <a:pt x="1737" y="362"/>
                </a:cubicBezTo>
                <a:cubicBezTo>
                  <a:pt x="0" y="724"/>
                  <a:pt x="4224" y="2301"/>
                  <a:pt x="4224" y="2516"/>
                </a:cubicBezTo>
                <a:cubicBezTo>
                  <a:pt x="4224" y="2732"/>
                  <a:pt x="2276" y="1698"/>
                  <a:pt x="1737" y="1439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曲线 228"/>
          <p:cNvSpPr/>
          <p:nvPr/>
        </p:nvSpPr>
        <p:spPr>
          <a:xfrm>
            <a:off x="907920" y="3841920"/>
            <a:ext cx="48600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89" y="857"/>
                </a:moveTo>
                <a:cubicBezTo>
                  <a:pt x="15507" y="3116"/>
                  <a:pt x="6773" y="9277"/>
                  <a:pt x="3386" y="12696"/>
                </a:cubicBezTo>
                <a:cubicBezTo>
                  <a:pt x="0" y="16115"/>
                  <a:pt x="1959" y="16369"/>
                  <a:pt x="1597" y="17975"/>
                </a:cubicBezTo>
                <a:cubicBezTo>
                  <a:pt x="1235" y="19582"/>
                  <a:pt x="617" y="20355"/>
                  <a:pt x="1597" y="20754"/>
                </a:cubicBezTo>
                <a:cubicBezTo>
                  <a:pt x="2577" y="21153"/>
                  <a:pt x="3386" y="21600"/>
                  <a:pt x="6497" y="19993"/>
                </a:cubicBezTo>
                <a:cubicBezTo>
                  <a:pt x="9607" y="18386"/>
                  <a:pt x="14208" y="16127"/>
                  <a:pt x="17147" y="12696"/>
                </a:cubicBezTo>
                <a:cubicBezTo>
                  <a:pt x="20087" y="9265"/>
                  <a:pt x="20705" y="5387"/>
                  <a:pt x="21152" y="2863"/>
                </a:cubicBezTo>
                <a:cubicBezTo>
                  <a:pt x="21600" y="338"/>
                  <a:pt x="20172" y="193"/>
                  <a:pt x="19363" y="96"/>
                </a:cubicBezTo>
                <a:cubicBezTo>
                  <a:pt x="18553" y="0"/>
                  <a:pt x="17510" y="2065"/>
                  <a:pt x="17147" y="2367"/>
                </a:cubicBezTo>
                <a:cubicBezTo>
                  <a:pt x="16785" y="2669"/>
                  <a:pt x="17467" y="1800"/>
                  <a:pt x="17595" y="1606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曲线 229"/>
          <p:cNvSpPr/>
          <p:nvPr/>
        </p:nvSpPr>
        <p:spPr>
          <a:xfrm>
            <a:off x="2549520" y="3897360"/>
            <a:ext cx="87480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11" y="1963"/>
                </a:moveTo>
                <a:cubicBezTo>
                  <a:pt x="5515" y="1818"/>
                  <a:pt x="11103" y="0"/>
                  <a:pt x="14574" y="2345"/>
                </a:cubicBezTo>
                <a:cubicBezTo>
                  <a:pt x="18045" y="4690"/>
                  <a:pt x="20078" y="10236"/>
                  <a:pt x="20767" y="13727"/>
                </a:cubicBezTo>
                <a:cubicBezTo>
                  <a:pt x="21457" y="17218"/>
                  <a:pt x="21600" y="21600"/>
                  <a:pt x="18033" y="19781"/>
                </a:cubicBezTo>
                <a:cubicBezTo>
                  <a:pt x="14467" y="17963"/>
                  <a:pt x="5848" y="8181"/>
                  <a:pt x="2924" y="4618"/>
                </a:cubicBezTo>
                <a:cubicBezTo>
                  <a:pt x="0" y="1054"/>
                  <a:pt x="3007" y="2200"/>
                  <a:pt x="3411" y="1963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曲线 230"/>
          <p:cNvSpPr/>
          <p:nvPr/>
        </p:nvSpPr>
        <p:spPr>
          <a:xfrm>
            <a:off x="787320" y="4568760"/>
            <a:ext cx="2035080" cy="143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113" y="2882"/>
                </a:moveTo>
                <a:cubicBezTo>
                  <a:pt x="6731" y="2940"/>
                  <a:pt x="7967" y="3279"/>
                  <a:pt x="9735" y="3010"/>
                </a:cubicBezTo>
                <a:cubicBezTo>
                  <a:pt x="11502" y="2741"/>
                  <a:pt x="13402" y="2133"/>
                  <a:pt x="14955" y="1543"/>
                </a:cubicBezTo>
                <a:cubicBezTo>
                  <a:pt x="16507" y="954"/>
                  <a:pt x="16400" y="153"/>
                  <a:pt x="17508" y="76"/>
                </a:cubicBezTo>
                <a:cubicBezTo>
                  <a:pt x="18617" y="0"/>
                  <a:pt x="19725" y="531"/>
                  <a:pt x="20491" y="1146"/>
                </a:cubicBezTo>
                <a:cubicBezTo>
                  <a:pt x="21257" y="1761"/>
                  <a:pt x="21324" y="2504"/>
                  <a:pt x="21344" y="3145"/>
                </a:cubicBezTo>
                <a:cubicBezTo>
                  <a:pt x="21365" y="3785"/>
                  <a:pt x="21600" y="2318"/>
                  <a:pt x="20598" y="4349"/>
                </a:cubicBezTo>
                <a:cubicBezTo>
                  <a:pt x="19597" y="6380"/>
                  <a:pt x="18959" y="10146"/>
                  <a:pt x="16339" y="13298"/>
                </a:cubicBezTo>
                <a:cubicBezTo>
                  <a:pt x="13718" y="16449"/>
                  <a:pt x="10695" y="18614"/>
                  <a:pt x="7497" y="20107"/>
                </a:cubicBezTo>
                <a:cubicBezTo>
                  <a:pt x="4300" y="21600"/>
                  <a:pt x="725" y="21119"/>
                  <a:pt x="362" y="20773"/>
                </a:cubicBezTo>
                <a:cubicBezTo>
                  <a:pt x="0" y="20427"/>
                  <a:pt x="3176" y="19896"/>
                  <a:pt x="5689" y="18371"/>
                </a:cubicBezTo>
                <a:cubicBezTo>
                  <a:pt x="8202" y="16846"/>
                  <a:pt x="10695" y="15623"/>
                  <a:pt x="12932" y="13163"/>
                </a:cubicBezTo>
                <a:cubicBezTo>
                  <a:pt x="15169" y="10703"/>
                  <a:pt x="16083" y="8141"/>
                  <a:pt x="16870" y="6085"/>
                </a:cubicBezTo>
                <a:cubicBezTo>
                  <a:pt x="17656" y="4029"/>
                  <a:pt x="17447" y="3414"/>
                  <a:pt x="16870" y="2882"/>
                </a:cubicBezTo>
                <a:cubicBezTo>
                  <a:pt x="16293" y="2350"/>
                  <a:pt x="15762" y="2959"/>
                  <a:pt x="13994" y="3414"/>
                </a:cubicBezTo>
                <a:cubicBezTo>
                  <a:pt x="12227" y="3869"/>
                  <a:pt x="9607" y="5259"/>
                  <a:pt x="8029" y="5150"/>
                </a:cubicBezTo>
                <a:cubicBezTo>
                  <a:pt x="6450" y="5041"/>
                  <a:pt x="6379" y="3369"/>
                  <a:pt x="6113" y="2882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曲线 231"/>
          <p:cNvSpPr/>
          <p:nvPr/>
        </p:nvSpPr>
        <p:spPr>
          <a:xfrm>
            <a:off x="1206360" y="4952880"/>
            <a:ext cx="2611440" cy="112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" y="1403"/>
                </a:moveTo>
                <a:cubicBezTo>
                  <a:pt x="1392" y="1239"/>
                  <a:pt x="1858" y="0"/>
                  <a:pt x="3135" y="1231"/>
                </a:cubicBezTo>
                <a:cubicBezTo>
                  <a:pt x="4412" y="2462"/>
                  <a:pt x="5673" y="5237"/>
                  <a:pt x="7448" y="7569"/>
                </a:cubicBezTo>
                <a:cubicBezTo>
                  <a:pt x="9222" y="9901"/>
                  <a:pt x="10085" y="11091"/>
                  <a:pt x="12011" y="12872"/>
                </a:cubicBezTo>
                <a:cubicBezTo>
                  <a:pt x="13937" y="14654"/>
                  <a:pt x="15182" y="15442"/>
                  <a:pt x="17072" y="16468"/>
                </a:cubicBezTo>
                <a:cubicBezTo>
                  <a:pt x="18962" y="17495"/>
                  <a:pt x="21600" y="17125"/>
                  <a:pt x="21468" y="18012"/>
                </a:cubicBezTo>
                <a:cubicBezTo>
                  <a:pt x="21337" y="18898"/>
                  <a:pt x="17935" y="20335"/>
                  <a:pt x="16407" y="20918"/>
                </a:cubicBezTo>
                <a:cubicBezTo>
                  <a:pt x="14880" y="21501"/>
                  <a:pt x="14864" y="21600"/>
                  <a:pt x="13833" y="20918"/>
                </a:cubicBezTo>
                <a:cubicBezTo>
                  <a:pt x="12803" y="20237"/>
                  <a:pt x="12640" y="19580"/>
                  <a:pt x="11263" y="17495"/>
                </a:cubicBezTo>
                <a:cubicBezTo>
                  <a:pt x="9886" y="15409"/>
                  <a:pt x="8458" y="12971"/>
                  <a:pt x="6950" y="10475"/>
                </a:cubicBezTo>
                <a:cubicBezTo>
                  <a:pt x="5442" y="7979"/>
                  <a:pt x="5060" y="6707"/>
                  <a:pt x="3716" y="4999"/>
                </a:cubicBezTo>
                <a:cubicBezTo>
                  <a:pt x="2371" y="3292"/>
                  <a:pt x="461" y="2742"/>
                  <a:pt x="230" y="1921"/>
                </a:cubicBezTo>
                <a:cubicBezTo>
                  <a:pt x="0" y="1100"/>
                  <a:pt x="2021" y="1034"/>
                  <a:pt x="2554" y="894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9"/>
          <p:cNvSpPr txBox="1"/>
          <p:nvPr/>
        </p:nvSpPr>
        <p:spPr>
          <a:xfrm>
            <a:off x="1295280" y="137160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biàn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238" name="Group 20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239" name="Line 21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4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25"/>
          <p:cNvSpPr/>
          <p:nvPr/>
        </p:nvSpPr>
        <p:spPr>
          <a:xfrm>
            <a:off x="5526000" y="3657600"/>
            <a:ext cx="23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词：变化  变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306360" y="1295280"/>
            <a:ext cx="1828440" cy="1828800"/>
            <a:chOff x="306360" y="1295280"/>
            <a:chExt cx="1828440" cy="1828800"/>
          </a:xfrm>
        </p:grpSpPr>
        <p:grpSp>
          <p:nvGrpSpPr>
            <p:cNvPr id="245" name="Group 3"/>
            <p:cNvGrpSpPr/>
            <p:nvPr/>
          </p:nvGrpSpPr>
          <p:grpSpPr>
            <a:xfrm>
              <a:off x="306360" y="1295280"/>
              <a:ext cx="1828440" cy="1828800"/>
              <a:chOff x="306360" y="1295280"/>
              <a:chExt cx="1828440" cy="1828800"/>
            </a:xfrm>
          </p:grpSpPr>
          <p:sp>
            <p:nvSpPr>
              <p:cNvPr id="246" name="Rectangle 4"/>
              <p:cNvSpPr/>
              <p:nvPr/>
            </p:nvSpPr>
            <p:spPr>
              <a:xfrm>
                <a:off x="306360" y="1295280"/>
                <a:ext cx="1793160" cy="182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306360" y="1295280"/>
                <a:ext cx="1828440" cy="1828800"/>
                <a:chOff x="306360" y="1295280"/>
                <a:chExt cx="1828440" cy="1828800"/>
              </a:xfrm>
            </p:grpSpPr>
            <p:sp>
              <p:nvSpPr>
                <p:cNvPr id="248" name="Line 6"/>
                <p:cNvSpPr/>
                <p:nvPr/>
              </p:nvSpPr>
              <p:spPr>
                <a:xfrm>
                  <a:off x="306360" y="1295280"/>
                  <a:ext cx="179424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"/>
                <p:cNvSpPr/>
                <p:nvPr/>
              </p:nvSpPr>
              <p:spPr>
                <a:xfrm flipV="1">
                  <a:off x="306360" y="1295280"/>
                  <a:ext cx="179424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8"/>
                <p:cNvSpPr/>
                <p:nvPr/>
              </p:nvSpPr>
              <p:spPr>
                <a:xfrm>
                  <a:off x="1203480" y="12952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"/>
                <p:cNvSpPr/>
                <p:nvPr/>
              </p:nvSpPr>
              <p:spPr>
                <a:xfrm>
                  <a:off x="340560" y="2209680"/>
                  <a:ext cx="179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WordArt 10"/>
            <p:cNvSpPr txBox="1"/>
            <p:nvPr/>
          </p:nvSpPr>
          <p:spPr>
            <a:xfrm>
              <a:off x="340560" y="1506240"/>
              <a:ext cx="1656360" cy="149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房</a:t>
              </a:r>
              <a:endParaRPr b="1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3" name="曲线 162"/>
            <p:cNvSpPr/>
            <p:nvPr/>
          </p:nvSpPr>
          <p:spPr>
            <a:xfrm>
              <a:off x="1052640" y="1506960"/>
              <a:ext cx="291600" cy="20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00" y="0"/>
                  </a:moveTo>
                  <a:cubicBezTo>
                    <a:pt x="3549" y="251"/>
                    <a:pt x="9876" y="297"/>
                    <a:pt x="13533" y="1924"/>
                  </a:cubicBezTo>
                  <a:cubicBezTo>
                    <a:pt x="17190" y="3550"/>
                    <a:pt x="18534" y="4214"/>
                    <a:pt x="19502" y="8131"/>
                  </a:cubicBezTo>
                  <a:cubicBezTo>
                    <a:pt x="20470" y="12048"/>
                    <a:pt x="21600" y="21416"/>
                    <a:pt x="18391" y="21508"/>
                  </a:cubicBezTo>
                  <a:cubicBezTo>
                    <a:pt x="15182" y="21600"/>
                    <a:pt x="6883" y="12918"/>
                    <a:pt x="3441" y="8612"/>
                  </a:cubicBezTo>
                  <a:cubicBezTo>
                    <a:pt x="0" y="4306"/>
                    <a:pt x="1344" y="1465"/>
                    <a:pt x="12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曲线 164"/>
            <p:cNvSpPr/>
            <p:nvPr/>
          </p:nvSpPr>
          <p:spPr>
            <a:xfrm>
              <a:off x="918360" y="1701000"/>
              <a:ext cx="661320" cy="3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00" y="5821"/>
                  </a:moveTo>
                  <a:cubicBezTo>
                    <a:pt x="3677" y="5846"/>
                    <a:pt x="4555" y="6399"/>
                    <a:pt x="6730" y="5557"/>
                  </a:cubicBezTo>
                  <a:cubicBezTo>
                    <a:pt x="8905" y="4714"/>
                    <a:pt x="12433" y="2615"/>
                    <a:pt x="13983" y="1621"/>
                  </a:cubicBezTo>
                  <a:cubicBezTo>
                    <a:pt x="15533" y="628"/>
                    <a:pt x="13722" y="729"/>
                    <a:pt x="14481" y="578"/>
                  </a:cubicBezTo>
                  <a:cubicBezTo>
                    <a:pt x="15241" y="427"/>
                    <a:pt x="16364" y="0"/>
                    <a:pt x="17779" y="842"/>
                  </a:cubicBezTo>
                  <a:cubicBezTo>
                    <a:pt x="19195" y="1684"/>
                    <a:pt x="21536" y="2514"/>
                    <a:pt x="21568" y="4765"/>
                  </a:cubicBezTo>
                  <a:cubicBezTo>
                    <a:pt x="21600" y="7015"/>
                    <a:pt x="18475" y="9693"/>
                    <a:pt x="17945" y="12107"/>
                  </a:cubicBezTo>
                  <a:cubicBezTo>
                    <a:pt x="17416" y="14521"/>
                    <a:pt x="18966" y="15565"/>
                    <a:pt x="18934" y="16822"/>
                  </a:cubicBezTo>
                  <a:cubicBezTo>
                    <a:pt x="18902" y="18079"/>
                    <a:pt x="18871" y="17815"/>
                    <a:pt x="17779" y="18393"/>
                  </a:cubicBezTo>
                  <a:cubicBezTo>
                    <a:pt x="16688" y="18972"/>
                    <a:pt x="14149" y="21600"/>
                    <a:pt x="13493" y="19714"/>
                  </a:cubicBezTo>
                  <a:cubicBezTo>
                    <a:pt x="12836" y="17828"/>
                    <a:pt x="14450" y="11378"/>
                    <a:pt x="14481" y="8964"/>
                  </a:cubicBezTo>
                  <a:cubicBezTo>
                    <a:pt x="14513" y="6550"/>
                    <a:pt x="16134" y="7179"/>
                    <a:pt x="13659" y="7656"/>
                  </a:cubicBezTo>
                  <a:cubicBezTo>
                    <a:pt x="11183" y="8134"/>
                    <a:pt x="4223" y="11692"/>
                    <a:pt x="2111" y="11328"/>
                  </a:cubicBezTo>
                  <a:cubicBezTo>
                    <a:pt x="0" y="10963"/>
                    <a:pt x="2673" y="6990"/>
                    <a:pt x="3100" y="5821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曲线 165"/>
            <p:cNvSpPr/>
            <p:nvPr/>
          </p:nvSpPr>
          <p:spPr>
            <a:xfrm>
              <a:off x="898560" y="1913040"/>
              <a:ext cx="677880" cy="22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85" y="12004"/>
                  </a:moveTo>
                  <a:cubicBezTo>
                    <a:pt x="4147" y="10649"/>
                    <a:pt x="9429" y="7078"/>
                    <a:pt x="12487" y="4840"/>
                  </a:cubicBezTo>
                  <a:cubicBezTo>
                    <a:pt x="15545" y="2603"/>
                    <a:pt x="16217" y="0"/>
                    <a:pt x="17476" y="796"/>
                  </a:cubicBezTo>
                  <a:cubicBezTo>
                    <a:pt x="18734" y="1592"/>
                    <a:pt x="21600" y="4819"/>
                    <a:pt x="18765" y="8863"/>
                  </a:cubicBezTo>
                  <a:cubicBezTo>
                    <a:pt x="15931" y="12908"/>
                    <a:pt x="6625" y="20352"/>
                    <a:pt x="3312" y="20976"/>
                  </a:cubicBezTo>
                  <a:cubicBezTo>
                    <a:pt x="0" y="21600"/>
                    <a:pt x="2100" y="14048"/>
                    <a:pt x="2185" y="1200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曲线 163"/>
            <p:cNvSpPr/>
            <p:nvPr/>
          </p:nvSpPr>
          <p:spPr>
            <a:xfrm>
              <a:off x="395280" y="1746000"/>
              <a:ext cx="638280" cy="11926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15082" y="977"/>
                  </a:moveTo>
                  <a:cubicBezTo>
                    <a:pt x="15319" y="1187"/>
                    <a:pt x="16384" y="945"/>
                    <a:pt x="15942" y="2747"/>
                  </a:cubicBezTo>
                  <a:cubicBezTo>
                    <a:pt x="15499" y="4549"/>
                    <a:pt x="15835" y="6553"/>
                    <a:pt x="12863" y="9991"/>
                  </a:cubicBezTo>
                  <a:cubicBezTo>
                    <a:pt x="9891" y="13430"/>
                    <a:pt x="2178" y="18262"/>
                    <a:pt x="1089" y="19931"/>
                  </a:cubicBezTo>
                  <a:cubicBezTo>
                    <a:pt x="0" y="21600"/>
                    <a:pt x="4634" y="19862"/>
                    <a:pt x="7401" y="18331"/>
                  </a:cubicBezTo>
                  <a:cubicBezTo>
                    <a:pt x="10169" y="16800"/>
                    <a:pt x="12634" y="14658"/>
                    <a:pt x="14918" y="12266"/>
                  </a:cubicBezTo>
                  <a:cubicBezTo>
                    <a:pt x="17203" y="9874"/>
                    <a:pt x="17751" y="8270"/>
                    <a:pt x="18840" y="6367"/>
                  </a:cubicBezTo>
                  <a:cubicBezTo>
                    <a:pt x="19929" y="4464"/>
                    <a:pt x="20003" y="3741"/>
                    <a:pt x="20379" y="2747"/>
                  </a:cubicBezTo>
                  <a:cubicBezTo>
                    <a:pt x="20756" y="1753"/>
                    <a:pt x="21599" y="1919"/>
                    <a:pt x="20715" y="1397"/>
                  </a:cubicBezTo>
                  <a:cubicBezTo>
                    <a:pt x="19831" y="876"/>
                    <a:pt x="17072" y="266"/>
                    <a:pt x="15942" y="133"/>
                  </a:cubicBezTo>
                  <a:cubicBezTo>
                    <a:pt x="14812" y="0"/>
                    <a:pt x="15254" y="553"/>
                    <a:pt x="15082" y="723"/>
                  </a:cubicBezTo>
                  <a:cubicBezTo>
                    <a:pt x="14910" y="892"/>
                    <a:pt x="15065" y="937"/>
                    <a:pt x="15082" y="97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曲线 166"/>
            <p:cNvSpPr/>
            <p:nvPr/>
          </p:nvSpPr>
          <p:spPr>
            <a:xfrm>
              <a:off x="1148400" y="2051280"/>
              <a:ext cx="210240" cy="20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678" y="0"/>
                  </a:moveTo>
                  <a:cubicBezTo>
                    <a:pt x="5282" y="693"/>
                    <a:pt x="12523" y="1711"/>
                    <a:pt x="16144" y="4324"/>
                  </a:cubicBezTo>
                  <a:cubicBezTo>
                    <a:pt x="19764" y="6937"/>
                    <a:pt x="19963" y="10522"/>
                    <a:pt x="20781" y="13020"/>
                  </a:cubicBezTo>
                  <a:cubicBezTo>
                    <a:pt x="21600" y="15517"/>
                    <a:pt x="20880" y="15702"/>
                    <a:pt x="20260" y="16859"/>
                  </a:cubicBezTo>
                  <a:cubicBezTo>
                    <a:pt x="19640" y="18015"/>
                    <a:pt x="19541" y="18408"/>
                    <a:pt x="17681" y="18801"/>
                  </a:cubicBezTo>
                  <a:cubicBezTo>
                    <a:pt x="15821" y="19194"/>
                    <a:pt x="14160" y="21600"/>
                    <a:pt x="10961" y="18801"/>
                  </a:cubicBezTo>
                  <a:cubicBezTo>
                    <a:pt x="7762" y="16003"/>
                    <a:pt x="3323" y="8579"/>
                    <a:pt x="1661" y="4810"/>
                  </a:cubicBezTo>
                  <a:cubicBezTo>
                    <a:pt x="0" y="1040"/>
                    <a:pt x="2281" y="670"/>
                    <a:pt x="2678" y="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曲线 167"/>
            <p:cNvSpPr/>
            <p:nvPr/>
          </p:nvSpPr>
          <p:spPr>
            <a:xfrm>
              <a:off x="845280" y="2139120"/>
              <a:ext cx="1033560" cy="26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7" y="13774"/>
                  </a:moveTo>
                  <a:cubicBezTo>
                    <a:pt x="3976" y="11684"/>
                    <a:pt x="12489" y="5734"/>
                    <a:pt x="15737" y="2983"/>
                  </a:cubicBezTo>
                  <a:cubicBezTo>
                    <a:pt x="18984" y="232"/>
                    <a:pt x="16369" y="0"/>
                    <a:pt x="17320" y="0"/>
                  </a:cubicBezTo>
                  <a:cubicBezTo>
                    <a:pt x="18271" y="0"/>
                    <a:pt x="19682" y="893"/>
                    <a:pt x="20482" y="2983"/>
                  </a:cubicBezTo>
                  <a:cubicBezTo>
                    <a:pt x="21281" y="5073"/>
                    <a:pt x="21600" y="8950"/>
                    <a:pt x="21326" y="10433"/>
                  </a:cubicBezTo>
                  <a:cubicBezTo>
                    <a:pt x="21053" y="11916"/>
                    <a:pt x="21473" y="9468"/>
                    <a:pt x="19111" y="10433"/>
                  </a:cubicBezTo>
                  <a:cubicBezTo>
                    <a:pt x="16748" y="11398"/>
                    <a:pt x="12889" y="13113"/>
                    <a:pt x="9515" y="15275"/>
                  </a:cubicBezTo>
                  <a:cubicBezTo>
                    <a:pt x="6141" y="17437"/>
                    <a:pt x="4092" y="20849"/>
                    <a:pt x="2235" y="21224"/>
                  </a:cubicBezTo>
                  <a:cubicBezTo>
                    <a:pt x="379" y="21600"/>
                    <a:pt x="465" y="18616"/>
                    <a:pt x="232" y="17133"/>
                  </a:cubicBezTo>
                  <a:cubicBezTo>
                    <a:pt x="0" y="15650"/>
                    <a:pt x="870" y="14364"/>
                    <a:pt x="1077" y="13774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曲线 169"/>
            <p:cNvSpPr/>
            <p:nvPr/>
          </p:nvSpPr>
          <p:spPr>
            <a:xfrm>
              <a:off x="1158840" y="2390040"/>
              <a:ext cx="503280" cy="62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65" y="2274"/>
                  </a:moveTo>
                  <a:cubicBezTo>
                    <a:pt x="7134" y="2129"/>
                    <a:pt x="10503" y="1792"/>
                    <a:pt x="12583" y="1470"/>
                  </a:cubicBezTo>
                  <a:cubicBezTo>
                    <a:pt x="14663" y="1148"/>
                    <a:pt x="14538" y="0"/>
                    <a:pt x="16275" y="674"/>
                  </a:cubicBezTo>
                  <a:cubicBezTo>
                    <a:pt x="18012" y="1348"/>
                    <a:pt x="20913" y="3163"/>
                    <a:pt x="21256" y="4825"/>
                  </a:cubicBezTo>
                  <a:cubicBezTo>
                    <a:pt x="21600" y="6487"/>
                    <a:pt x="19520" y="6388"/>
                    <a:pt x="18001" y="8977"/>
                  </a:cubicBezTo>
                  <a:cubicBezTo>
                    <a:pt x="16483" y="11565"/>
                    <a:pt x="15880" y="15273"/>
                    <a:pt x="13665" y="17762"/>
                  </a:cubicBezTo>
                  <a:cubicBezTo>
                    <a:pt x="11449" y="20251"/>
                    <a:pt x="8642" y="21278"/>
                    <a:pt x="6946" y="21439"/>
                  </a:cubicBezTo>
                  <a:cubicBezTo>
                    <a:pt x="5251" y="21600"/>
                    <a:pt x="6468" y="20029"/>
                    <a:pt x="5210" y="18559"/>
                  </a:cubicBezTo>
                  <a:cubicBezTo>
                    <a:pt x="3951" y="17088"/>
                    <a:pt x="0" y="14691"/>
                    <a:pt x="655" y="14085"/>
                  </a:cubicBezTo>
                  <a:cubicBezTo>
                    <a:pt x="1310" y="13480"/>
                    <a:pt x="5823" y="17188"/>
                    <a:pt x="8465" y="15525"/>
                  </a:cubicBezTo>
                  <a:cubicBezTo>
                    <a:pt x="11106" y="13863"/>
                    <a:pt x="13581" y="7797"/>
                    <a:pt x="13883" y="5782"/>
                  </a:cubicBezTo>
                  <a:cubicBezTo>
                    <a:pt x="14185" y="3768"/>
                    <a:pt x="11678" y="5530"/>
                    <a:pt x="9983" y="5468"/>
                  </a:cubicBezTo>
                  <a:cubicBezTo>
                    <a:pt x="8288" y="5407"/>
                    <a:pt x="6510" y="5691"/>
                    <a:pt x="5428" y="5468"/>
                  </a:cubicBezTo>
                  <a:cubicBezTo>
                    <a:pt x="4347" y="5246"/>
                    <a:pt x="4482" y="4986"/>
                    <a:pt x="4565" y="4350"/>
                  </a:cubicBezTo>
                  <a:cubicBezTo>
                    <a:pt x="4648" y="3714"/>
                    <a:pt x="5584" y="2665"/>
                    <a:pt x="5865" y="2274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曲线 170"/>
            <p:cNvSpPr/>
            <p:nvPr/>
          </p:nvSpPr>
          <p:spPr>
            <a:xfrm>
              <a:off x="744120" y="2303280"/>
              <a:ext cx="647640" cy="61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40" y="1441"/>
                  </a:moveTo>
                  <a:cubicBezTo>
                    <a:pt x="16153" y="1613"/>
                    <a:pt x="17187" y="1183"/>
                    <a:pt x="16040" y="3078"/>
                  </a:cubicBezTo>
                  <a:cubicBezTo>
                    <a:pt x="14892" y="4974"/>
                    <a:pt x="13414" y="7513"/>
                    <a:pt x="10311" y="10913"/>
                  </a:cubicBezTo>
                  <a:cubicBezTo>
                    <a:pt x="7208" y="14313"/>
                    <a:pt x="1082" y="18528"/>
                    <a:pt x="541" y="20064"/>
                  </a:cubicBezTo>
                  <a:cubicBezTo>
                    <a:pt x="0" y="21600"/>
                    <a:pt x="5018" y="19899"/>
                    <a:pt x="7612" y="18591"/>
                  </a:cubicBezTo>
                  <a:cubicBezTo>
                    <a:pt x="10206" y="17283"/>
                    <a:pt x="11490" y="15786"/>
                    <a:pt x="13511" y="13530"/>
                  </a:cubicBezTo>
                  <a:cubicBezTo>
                    <a:pt x="15531" y="11273"/>
                    <a:pt x="16105" y="9479"/>
                    <a:pt x="17721" y="7325"/>
                  </a:cubicBezTo>
                  <a:cubicBezTo>
                    <a:pt x="19337" y="5170"/>
                    <a:pt x="21600" y="4152"/>
                    <a:pt x="21600" y="2749"/>
                  </a:cubicBezTo>
                  <a:cubicBezTo>
                    <a:pt x="21600" y="1347"/>
                    <a:pt x="18731" y="595"/>
                    <a:pt x="17721" y="297"/>
                  </a:cubicBezTo>
                  <a:cubicBezTo>
                    <a:pt x="16711" y="0"/>
                    <a:pt x="16888" y="1049"/>
                    <a:pt x="16549" y="1277"/>
                  </a:cubicBezTo>
                  <a:cubicBezTo>
                    <a:pt x="16210" y="1504"/>
                    <a:pt x="16121" y="1425"/>
                    <a:pt x="16040" y="1441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9"/>
          <p:cNvGrpSpPr/>
          <p:nvPr/>
        </p:nvGrpSpPr>
        <p:grpSpPr>
          <a:xfrm>
            <a:off x="2440080" y="1295280"/>
            <a:ext cx="1903320" cy="1828800"/>
            <a:chOff x="2440080" y="1295280"/>
            <a:chExt cx="1903320" cy="1828800"/>
          </a:xfrm>
        </p:grpSpPr>
        <p:grpSp>
          <p:nvGrpSpPr>
            <p:cNvPr id="262" name="Group 20"/>
            <p:cNvGrpSpPr/>
            <p:nvPr/>
          </p:nvGrpSpPr>
          <p:grpSpPr>
            <a:xfrm>
              <a:off x="2440080" y="1295280"/>
              <a:ext cx="1903320" cy="1828800"/>
              <a:chOff x="2440080" y="1295280"/>
              <a:chExt cx="1903320" cy="1828800"/>
            </a:xfrm>
          </p:grpSpPr>
          <p:sp>
            <p:nvSpPr>
              <p:cNvPr id="263" name="Rectangle 21"/>
              <p:cNvSpPr/>
              <p:nvPr/>
            </p:nvSpPr>
            <p:spPr>
              <a:xfrm>
                <a:off x="2440080" y="1295280"/>
                <a:ext cx="1865880" cy="182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22"/>
              <p:cNvGrpSpPr/>
              <p:nvPr/>
            </p:nvGrpSpPr>
            <p:grpSpPr>
              <a:xfrm>
                <a:off x="2440080" y="1295280"/>
                <a:ext cx="1903320" cy="1828800"/>
                <a:chOff x="2440080" y="1295280"/>
                <a:chExt cx="1903320" cy="1828800"/>
              </a:xfrm>
            </p:grpSpPr>
            <p:sp>
              <p:nvSpPr>
                <p:cNvPr id="265" name="Line 23"/>
                <p:cNvSpPr/>
                <p:nvPr/>
              </p:nvSpPr>
              <p:spPr>
                <a:xfrm>
                  <a:off x="2440080" y="1295280"/>
                  <a:ext cx="186768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24"/>
                <p:cNvSpPr/>
                <p:nvPr/>
              </p:nvSpPr>
              <p:spPr>
                <a:xfrm flipV="1">
                  <a:off x="2440080" y="1295280"/>
                  <a:ext cx="186768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5"/>
                <p:cNvSpPr/>
                <p:nvPr/>
              </p:nvSpPr>
              <p:spPr>
                <a:xfrm>
                  <a:off x="3373560" y="12952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26"/>
                <p:cNvSpPr/>
                <p:nvPr/>
              </p:nvSpPr>
              <p:spPr>
                <a:xfrm>
                  <a:off x="2475720" y="2209680"/>
                  <a:ext cx="1867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WordArt 27"/>
            <p:cNvSpPr txBox="1"/>
            <p:nvPr/>
          </p:nvSpPr>
          <p:spPr>
            <a:xfrm>
              <a:off x="2583720" y="1578960"/>
              <a:ext cx="1616040" cy="125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很</a:t>
              </a:r>
              <a:endParaRPr b="0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70" name="曲线 173"/>
            <p:cNvSpPr/>
            <p:nvPr/>
          </p:nvSpPr>
          <p:spPr>
            <a:xfrm>
              <a:off x="2798640" y="1581840"/>
              <a:ext cx="41292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95" y="0"/>
                  </a:moveTo>
                  <a:cubicBezTo>
                    <a:pt x="12559" y="382"/>
                    <a:pt x="13113" y="646"/>
                    <a:pt x="12495" y="2657"/>
                  </a:cubicBezTo>
                  <a:cubicBezTo>
                    <a:pt x="11876" y="4669"/>
                    <a:pt x="11823" y="6526"/>
                    <a:pt x="9382" y="10058"/>
                  </a:cubicBezTo>
                  <a:cubicBezTo>
                    <a:pt x="6940" y="13589"/>
                    <a:pt x="533" y="19014"/>
                    <a:pt x="266" y="20307"/>
                  </a:cubicBezTo>
                  <a:cubicBezTo>
                    <a:pt x="0" y="21600"/>
                    <a:pt x="3955" y="19852"/>
                    <a:pt x="8049" y="16511"/>
                  </a:cubicBezTo>
                  <a:cubicBezTo>
                    <a:pt x="12143" y="13171"/>
                    <a:pt x="19830" y="6908"/>
                    <a:pt x="20715" y="3604"/>
                  </a:cubicBezTo>
                  <a:cubicBezTo>
                    <a:pt x="21600" y="300"/>
                    <a:pt x="14392" y="464"/>
                    <a:pt x="12495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曲线 174"/>
            <p:cNvSpPr/>
            <p:nvPr/>
          </p:nvSpPr>
          <p:spPr>
            <a:xfrm>
              <a:off x="2590920" y="1910520"/>
              <a:ext cx="598320" cy="70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87" y="304"/>
                  </a:moveTo>
                  <a:cubicBezTo>
                    <a:pt x="15920" y="603"/>
                    <a:pt x="16708" y="785"/>
                    <a:pt x="16096" y="2379"/>
                  </a:cubicBezTo>
                  <a:cubicBezTo>
                    <a:pt x="15485" y="3973"/>
                    <a:pt x="15728" y="4753"/>
                    <a:pt x="12715" y="8262"/>
                  </a:cubicBezTo>
                  <a:cubicBezTo>
                    <a:pt x="9702" y="11771"/>
                    <a:pt x="2092" y="18235"/>
                    <a:pt x="1046" y="19917"/>
                  </a:cubicBezTo>
                  <a:cubicBezTo>
                    <a:pt x="0" y="21600"/>
                    <a:pt x="4759" y="18738"/>
                    <a:pt x="7492" y="16685"/>
                  </a:cubicBezTo>
                  <a:cubicBezTo>
                    <a:pt x="10225" y="14632"/>
                    <a:pt x="12501" y="11976"/>
                    <a:pt x="14711" y="9646"/>
                  </a:cubicBezTo>
                  <a:cubicBezTo>
                    <a:pt x="16921" y="7316"/>
                    <a:pt x="17201" y="6253"/>
                    <a:pt x="18557" y="5030"/>
                  </a:cubicBezTo>
                  <a:cubicBezTo>
                    <a:pt x="19912" y="3807"/>
                    <a:pt x="21600" y="4405"/>
                    <a:pt x="21474" y="3530"/>
                  </a:cubicBezTo>
                  <a:cubicBezTo>
                    <a:pt x="21349" y="2656"/>
                    <a:pt x="19073" y="1295"/>
                    <a:pt x="17938" y="647"/>
                  </a:cubicBezTo>
                  <a:cubicBezTo>
                    <a:pt x="16804" y="0"/>
                    <a:pt x="16148" y="315"/>
                    <a:pt x="15787" y="30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曲线 175"/>
            <p:cNvSpPr/>
            <p:nvPr/>
          </p:nvSpPr>
          <p:spPr>
            <a:xfrm>
              <a:off x="2944080" y="2167200"/>
              <a:ext cx="125640" cy="64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743" y="2832"/>
                  </a:moveTo>
                  <a:cubicBezTo>
                    <a:pt x="5496" y="4664"/>
                    <a:pt x="5144" y="9438"/>
                    <a:pt x="4263" y="12574"/>
                  </a:cubicBezTo>
                  <a:cubicBezTo>
                    <a:pt x="3382" y="15710"/>
                    <a:pt x="0" y="16747"/>
                    <a:pt x="1338" y="18518"/>
                  </a:cubicBezTo>
                  <a:cubicBezTo>
                    <a:pt x="2677" y="20289"/>
                    <a:pt x="7364" y="21600"/>
                    <a:pt x="10888" y="21424"/>
                  </a:cubicBezTo>
                  <a:cubicBezTo>
                    <a:pt x="14411" y="21248"/>
                    <a:pt x="17336" y="21327"/>
                    <a:pt x="18957" y="17633"/>
                  </a:cubicBezTo>
                  <a:cubicBezTo>
                    <a:pt x="20578" y="13939"/>
                    <a:pt x="21600" y="5920"/>
                    <a:pt x="18957" y="2960"/>
                  </a:cubicBezTo>
                  <a:cubicBezTo>
                    <a:pt x="16314" y="0"/>
                    <a:pt x="8386" y="2565"/>
                    <a:pt x="5743" y="2832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曲线 176"/>
            <p:cNvSpPr/>
            <p:nvPr/>
          </p:nvSpPr>
          <p:spPr>
            <a:xfrm>
              <a:off x="3364200" y="1576440"/>
              <a:ext cx="479520" cy="600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" y="3701"/>
                  </a:moveTo>
                  <a:cubicBezTo>
                    <a:pt x="3306" y="3351"/>
                    <a:pt x="8155" y="2482"/>
                    <a:pt x="10570" y="1808"/>
                  </a:cubicBezTo>
                  <a:cubicBezTo>
                    <a:pt x="12985" y="1134"/>
                    <a:pt x="11608" y="0"/>
                    <a:pt x="13637" y="324"/>
                  </a:cubicBezTo>
                  <a:cubicBezTo>
                    <a:pt x="15667" y="648"/>
                    <a:pt x="19836" y="2184"/>
                    <a:pt x="20718" y="3429"/>
                  </a:cubicBezTo>
                  <a:cubicBezTo>
                    <a:pt x="21600" y="4673"/>
                    <a:pt x="19258" y="3325"/>
                    <a:pt x="18036" y="6540"/>
                  </a:cubicBezTo>
                  <a:cubicBezTo>
                    <a:pt x="16815" y="9756"/>
                    <a:pt x="15860" y="17438"/>
                    <a:pt x="14592" y="19519"/>
                  </a:cubicBezTo>
                  <a:cubicBezTo>
                    <a:pt x="13325" y="21600"/>
                    <a:pt x="12177" y="19000"/>
                    <a:pt x="11718" y="16945"/>
                  </a:cubicBezTo>
                  <a:cubicBezTo>
                    <a:pt x="11259" y="14890"/>
                    <a:pt x="12260" y="11675"/>
                    <a:pt x="12296" y="9244"/>
                  </a:cubicBezTo>
                  <a:cubicBezTo>
                    <a:pt x="12333" y="6813"/>
                    <a:pt x="12104" y="5892"/>
                    <a:pt x="11911" y="4784"/>
                  </a:cubicBezTo>
                  <a:cubicBezTo>
                    <a:pt x="11718" y="3675"/>
                    <a:pt x="13334" y="3565"/>
                    <a:pt x="11341" y="3701"/>
                  </a:cubicBezTo>
                  <a:cubicBezTo>
                    <a:pt x="9348" y="3837"/>
                    <a:pt x="3912" y="5458"/>
                    <a:pt x="1956" y="5458"/>
                  </a:cubicBezTo>
                  <a:cubicBezTo>
                    <a:pt x="0" y="5458"/>
                    <a:pt x="1460" y="4090"/>
                    <a:pt x="1570" y="3701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曲线 177"/>
            <p:cNvSpPr/>
            <p:nvPr/>
          </p:nvSpPr>
          <p:spPr>
            <a:xfrm>
              <a:off x="3368520" y="2044800"/>
              <a:ext cx="296640" cy="12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50" y="13131"/>
                  </a:moveTo>
                  <a:cubicBezTo>
                    <a:pt x="5878" y="10403"/>
                    <a:pt x="14860" y="1078"/>
                    <a:pt x="18022" y="539"/>
                  </a:cubicBezTo>
                  <a:cubicBezTo>
                    <a:pt x="21184" y="0"/>
                    <a:pt x="21600" y="6375"/>
                    <a:pt x="18630" y="10466"/>
                  </a:cubicBezTo>
                  <a:cubicBezTo>
                    <a:pt x="15661" y="14558"/>
                    <a:pt x="6324" y="20521"/>
                    <a:pt x="3162" y="21060"/>
                  </a:cubicBezTo>
                  <a:cubicBezTo>
                    <a:pt x="0" y="21600"/>
                    <a:pt x="2597" y="14939"/>
                    <a:pt x="2850" y="13131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曲线 179"/>
            <p:cNvSpPr/>
            <p:nvPr/>
          </p:nvSpPr>
          <p:spPr>
            <a:xfrm>
              <a:off x="3258360" y="1621440"/>
              <a:ext cx="395640" cy="125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9" y="1009"/>
                  </a:moveTo>
                  <a:cubicBezTo>
                    <a:pt x="5781" y="990"/>
                    <a:pt x="3063" y="891"/>
                    <a:pt x="1860" y="944"/>
                  </a:cubicBezTo>
                  <a:cubicBezTo>
                    <a:pt x="657" y="996"/>
                    <a:pt x="423" y="972"/>
                    <a:pt x="701" y="1270"/>
                  </a:cubicBezTo>
                  <a:cubicBezTo>
                    <a:pt x="980" y="1568"/>
                    <a:pt x="2562" y="77"/>
                    <a:pt x="3252" y="2434"/>
                  </a:cubicBezTo>
                  <a:cubicBezTo>
                    <a:pt x="3943" y="4792"/>
                    <a:pt x="4266" y="10022"/>
                    <a:pt x="4177" y="13053"/>
                  </a:cubicBezTo>
                  <a:cubicBezTo>
                    <a:pt x="4088" y="16084"/>
                    <a:pt x="3531" y="16460"/>
                    <a:pt x="2784" y="17587"/>
                  </a:cubicBezTo>
                  <a:cubicBezTo>
                    <a:pt x="2038" y="18714"/>
                    <a:pt x="935" y="18363"/>
                    <a:pt x="467" y="18686"/>
                  </a:cubicBezTo>
                  <a:cubicBezTo>
                    <a:pt x="0" y="19009"/>
                    <a:pt x="144" y="18792"/>
                    <a:pt x="467" y="19205"/>
                  </a:cubicBezTo>
                  <a:cubicBezTo>
                    <a:pt x="790" y="19618"/>
                    <a:pt x="1347" y="20447"/>
                    <a:pt x="2094" y="20758"/>
                  </a:cubicBezTo>
                  <a:cubicBezTo>
                    <a:pt x="2840" y="21068"/>
                    <a:pt x="512" y="21600"/>
                    <a:pt x="4177" y="20758"/>
                  </a:cubicBezTo>
                  <a:cubicBezTo>
                    <a:pt x="7842" y="19916"/>
                    <a:pt x="19282" y="17158"/>
                    <a:pt x="20441" y="16550"/>
                  </a:cubicBezTo>
                  <a:cubicBezTo>
                    <a:pt x="21600" y="15941"/>
                    <a:pt x="12498" y="18143"/>
                    <a:pt x="9992" y="17714"/>
                  </a:cubicBezTo>
                  <a:cubicBezTo>
                    <a:pt x="7485" y="17286"/>
                    <a:pt x="8265" y="17432"/>
                    <a:pt x="7898" y="14413"/>
                  </a:cubicBezTo>
                  <a:cubicBezTo>
                    <a:pt x="7530" y="11394"/>
                    <a:pt x="8087" y="5254"/>
                    <a:pt x="8132" y="2627"/>
                  </a:cubicBezTo>
                  <a:cubicBezTo>
                    <a:pt x="8176" y="0"/>
                    <a:pt x="8967" y="1633"/>
                    <a:pt x="8132" y="1270"/>
                  </a:cubicBezTo>
                  <a:cubicBezTo>
                    <a:pt x="7296" y="906"/>
                    <a:pt x="5213" y="857"/>
                    <a:pt x="3954" y="816"/>
                  </a:cubicBezTo>
                  <a:cubicBezTo>
                    <a:pt x="2695" y="776"/>
                    <a:pt x="2138" y="959"/>
                    <a:pt x="1860" y="1074"/>
                  </a:cubicBezTo>
                  <a:cubicBezTo>
                    <a:pt x="1581" y="1189"/>
                    <a:pt x="2383" y="1338"/>
                    <a:pt x="2562" y="1397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曲线 180"/>
            <p:cNvSpPr/>
            <p:nvPr/>
          </p:nvSpPr>
          <p:spPr>
            <a:xfrm>
              <a:off x="3354480" y="1860120"/>
              <a:ext cx="254160" cy="10728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3813" y="8140"/>
                  </a:moveTo>
                  <a:cubicBezTo>
                    <a:pt x="5807" y="6548"/>
                    <a:pt x="11198" y="1230"/>
                    <a:pt x="14301" y="615"/>
                  </a:cubicBezTo>
                  <a:cubicBezTo>
                    <a:pt x="17404" y="0"/>
                    <a:pt x="21600" y="1049"/>
                    <a:pt x="19363" y="5137"/>
                  </a:cubicBezTo>
                  <a:cubicBezTo>
                    <a:pt x="17127" y="9226"/>
                    <a:pt x="6206" y="20369"/>
                    <a:pt x="3103" y="20984"/>
                  </a:cubicBezTo>
                  <a:cubicBezTo>
                    <a:pt x="0" y="21599"/>
                    <a:pt x="3345" y="11035"/>
                    <a:pt x="3813" y="814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曲线 181"/>
            <p:cNvSpPr/>
            <p:nvPr/>
          </p:nvSpPr>
          <p:spPr>
            <a:xfrm>
              <a:off x="3611520" y="1991160"/>
              <a:ext cx="348480" cy="37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996"/>
                  </a:moveTo>
                  <a:cubicBezTo>
                    <a:pt x="10762" y="3151"/>
                    <a:pt x="11633" y="5428"/>
                    <a:pt x="9738" y="8725"/>
                  </a:cubicBezTo>
                  <a:cubicBezTo>
                    <a:pt x="7844" y="12021"/>
                    <a:pt x="2627" y="16264"/>
                    <a:pt x="1313" y="18480"/>
                  </a:cubicBezTo>
                  <a:cubicBezTo>
                    <a:pt x="0" y="20695"/>
                    <a:pt x="416" y="21600"/>
                    <a:pt x="3157" y="19780"/>
                  </a:cubicBezTo>
                  <a:cubicBezTo>
                    <a:pt x="5898" y="17960"/>
                    <a:pt x="11482" y="12271"/>
                    <a:pt x="15006" y="9370"/>
                  </a:cubicBezTo>
                  <a:cubicBezTo>
                    <a:pt x="18530" y="6468"/>
                    <a:pt x="21600" y="7030"/>
                    <a:pt x="20804" y="5251"/>
                  </a:cubicBezTo>
                  <a:cubicBezTo>
                    <a:pt x="20008" y="3473"/>
                    <a:pt x="13048" y="956"/>
                    <a:pt x="11052" y="478"/>
                  </a:cubicBezTo>
                  <a:cubicBezTo>
                    <a:pt x="9056" y="0"/>
                    <a:pt x="10850" y="2048"/>
                    <a:pt x="10800" y="2870"/>
                  </a:cubicBezTo>
                  <a:cubicBezTo>
                    <a:pt x="10749" y="3691"/>
                    <a:pt x="10800" y="4305"/>
                    <a:pt x="10800" y="4607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曲线 182"/>
            <p:cNvSpPr/>
            <p:nvPr/>
          </p:nvSpPr>
          <p:spPr>
            <a:xfrm>
              <a:off x="3348360" y="2136240"/>
              <a:ext cx="820800" cy="56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80" y="1090"/>
                  </a:moveTo>
                  <a:cubicBezTo>
                    <a:pt x="4239" y="3492"/>
                    <a:pt x="10552" y="10333"/>
                    <a:pt x="14319" y="13393"/>
                  </a:cubicBezTo>
                  <a:cubicBezTo>
                    <a:pt x="18085" y="16453"/>
                    <a:pt x="19805" y="15452"/>
                    <a:pt x="20702" y="16398"/>
                  </a:cubicBezTo>
                  <a:cubicBezTo>
                    <a:pt x="21600" y="17345"/>
                    <a:pt x="20235" y="17654"/>
                    <a:pt x="18800" y="18114"/>
                  </a:cubicBezTo>
                  <a:cubicBezTo>
                    <a:pt x="17365" y="18574"/>
                    <a:pt x="16828" y="21600"/>
                    <a:pt x="13534" y="18683"/>
                  </a:cubicBezTo>
                  <a:cubicBezTo>
                    <a:pt x="10241" y="15767"/>
                    <a:pt x="4663" y="7039"/>
                    <a:pt x="2331" y="3519"/>
                  </a:cubicBezTo>
                  <a:cubicBezTo>
                    <a:pt x="0" y="0"/>
                    <a:pt x="1746" y="1276"/>
                    <a:pt x="1880" y="109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4649760" y="1295280"/>
            <a:ext cx="1904760" cy="1828800"/>
            <a:chOff x="4649760" y="1295280"/>
            <a:chExt cx="1904760" cy="1828800"/>
          </a:xfrm>
        </p:grpSpPr>
        <p:grpSp>
          <p:nvGrpSpPr>
            <p:cNvPr id="280" name="Group 38"/>
            <p:cNvGrpSpPr/>
            <p:nvPr/>
          </p:nvGrpSpPr>
          <p:grpSpPr>
            <a:xfrm>
              <a:off x="4649760" y="1295280"/>
              <a:ext cx="1904760" cy="1828800"/>
              <a:chOff x="4649760" y="1295280"/>
              <a:chExt cx="1904760" cy="1828800"/>
            </a:xfrm>
          </p:grpSpPr>
          <p:sp>
            <p:nvSpPr>
              <p:cNvPr id="281" name="Rectangle 39"/>
              <p:cNvSpPr/>
              <p:nvPr/>
            </p:nvSpPr>
            <p:spPr>
              <a:xfrm>
                <a:off x="4649760" y="1295280"/>
                <a:ext cx="1867680" cy="182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40"/>
              <p:cNvGrpSpPr/>
              <p:nvPr/>
            </p:nvGrpSpPr>
            <p:grpSpPr>
              <a:xfrm>
                <a:off x="4649760" y="1295280"/>
                <a:ext cx="1904760" cy="1828800"/>
                <a:chOff x="4649760" y="1295280"/>
                <a:chExt cx="1904760" cy="1828800"/>
              </a:xfrm>
            </p:grpSpPr>
            <p:sp>
              <p:nvSpPr>
                <p:cNvPr id="283" name="Line 41"/>
                <p:cNvSpPr/>
                <p:nvPr/>
              </p:nvSpPr>
              <p:spPr>
                <a:xfrm>
                  <a:off x="4649760" y="1295280"/>
                  <a:ext cx="186912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2"/>
                <p:cNvSpPr/>
                <p:nvPr/>
              </p:nvSpPr>
              <p:spPr>
                <a:xfrm flipV="1">
                  <a:off x="4649760" y="1295280"/>
                  <a:ext cx="186912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3"/>
                <p:cNvSpPr/>
                <p:nvPr/>
              </p:nvSpPr>
              <p:spPr>
                <a:xfrm>
                  <a:off x="5584320" y="12952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4"/>
                <p:cNvSpPr/>
                <p:nvPr/>
              </p:nvSpPr>
              <p:spPr>
                <a:xfrm>
                  <a:off x="4685400" y="2209680"/>
                  <a:ext cx="186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WordArt 45"/>
            <p:cNvSpPr txBox="1"/>
            <p:nvPr/>
          </p:nvSpPr>
          <p:spPr>
            <a:xfrm>
              <a:off x="4829400" y="1523880"/>
              <a:ext cx="1581480" cy="155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却</a:t>
              </a:r>
              <a:endParaRPr b="0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8" name="曲线 184"/>
            <p:cNvSpPr/>
            <p:nvPr/>
          </p:nvSpPr>
          <p:spPr>
            <a:xfrm>
              <a:off x="5174640" y="1874880"/>
              <a:ext cx="501840" cy="13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39" y="14546"/>
                  </a:moveTo>
                  <a:cubicBezTo>
                    <a:pt x="2723" y="13151"/>
                    <a:pt x="6916" y="9808"/>
                    <a:pt x="10172" y="6906"/>
                  </a:cubicBezTo>
                  <a:cubicBezTo>
                    <a:pt x="13429" y="4004"/>
                    <a:pt x="15190" y="0"/>
                    <a:pt x="17338" y="0"/>
                  </a:cubicBezTo>
                  <a:cubicBezTo>
                    <a:pt x="19486" y="0"/>
                    <a:pt x="21600" y="3379"/>
                    <a:pt x="20921" y="6906"/>
                  </a:cubicBezTo>
                  <a:cubicBezTo>
                    <a:pt x="20242" y="10432"/>
                    <a:pt x="16874" y="14730"/>
                    <a:pt x="13936" y="17632"/>
                  </a:cubicBezTo>
                  <a:cubicBezTo>
                    <a:pt x="10997" y="20534"/>
                    <a:pt x="8806" y="21306"/>
                    <a:pt x="6229" y="21453"/>
                  </a:cubicBezTo>
                  <a:cubicBezTo>
                    <a:pt x="3651" y="21600"/>
                    <a:pt x="2079" y="19800"/>
                    <a:pt x="1039" y="18404"/>
                  </a:cubicBezTo>
                  <a:cubicBezTo>
                    <a:pt x="0" y="17008"/>
                    <a:pt x="936" y="15244"/>
                    <a:pt x="1039" y="14546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曲线 185"/>
            <p:cNvSpPr/>
            <p:nvPr/>
          </p:nvSpPr>
          <p:spPr>
            <a:xfrm>
              <a:off x="5348520" y="1506240"/>
              <a:ext cx="201240" cy="73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986"/>
                  </a:moveTo>
                  <a:cubicBezTo>
                    <a:pt x="1047" y="1235"/>
                    <a:pt x="4106" y="190"/>
                    <a:pt x="5346" y="3727"/>
                  </a:cubicBezTo>
                  <a:cubicBezTo>
                    <a:pt x="6586" y="7263"/>
                    <a:pt x="4811" y="15736"/>
                    <a:pt x="6244" y="18668"/>
                  </a:cubicBezTo>
                  <a:cubicBezTo>
                    <a:pt x="7677" y="21600"/>
                    <a:pt x="10800" y="21054"/>
                    <a:pt x="12489" y="18392"/>
                  </a:cubicBezTo>
                  <a:cubicBezTo>
                    <a:pt x="14179" y="15730"/>
                    <a:pt x="13280" y="8551"/>
                    <a:pt x="14713" y="5370"/>
                  </a:cubicBezTo>
                  <a:cubicBezTo>
                    <a:pt x="16146" y="2188"/>
                    <a:pt x="21600" y="3503"/>
                    <a:pt x="19632" y="2491"/>
                  </a:cubicBezTo>
                  <a:cubicBezTo>
                    <a:pt x="17664" y="1479"/>
                    <a:pt x="8853" y="604"/>
                    <a:pt x="4918" y="302"/>
                  </a:cubicBezTo>
                  <a:cubicBezTo>
                    <a:pt x="983" y="0"/>
                    <a:pt x="684" y="808"/>
                    <a:pt x="0" y="986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曲线 186"/>
            <p:cNvSpPr/>
            <p:nvPr/>
          </p:nvSpPr>
          <p:spPr>
            <a:xfrm>
              <a:off x="4865400" y="2098440"/>
              <a:ext cx="849960" cy="20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7" y="12757"/>
                  </a:moveTo>
                  <a:cubicBezTo>
                    <a:pt x="1498" y="12734"/>
                    <a:pt x="2376" y="13632"/>
                    <a:pt x="5256" y="11813"/>
                  </a:cubicBezTo>
                  <a:cubicBezTo>
                    <a:pt x="8136" y="9994"/>
                    <a:pt x="12564" y="5941"/>
                    <a:pt x="15210" y="3638"/>
                  </a:cubicBezTo>
                  <a:cubicBezTo>
                    <a:pt x="17856" y="1335"/>
                    <a:pt x="17349" y="552"/>
                    <a:pt x="18491" y="276"/>
                  </a:cubicBezTo>
                  <a:cubicBezTo>
                    <a:pt x="19634" y="0"/>
                    <a:pt x="20416" y="759"/>
                    <a:pt x="20924" y="2210"/>
                  </a:cubicBezTo>
                  <a:cubicBezTo>
                    <a:pt x="21432" y="3661"/>
                    <a:pt x="21600" y="6056"/>
                    <a:pt x="21031" y="7484"/>
                  </a:cubicBezTo>
                  <a:cubicBezTo>
                    <a:pt x="20462" y="8911"/>
                    <a:pt x="21584" y="6701"/>
                    <a:pt x="18070" y="9395"/>
                  </a:cubicBezTo>
                  <a:cubicBezTo>
                    <a:pt x="14555" y="12089"/>
                    <a:pt x="6907" y="20264"/>
                    <a:pt x="3453" y="20932"/>
                  </a:cubicBezTo>
                  <a:cubicBezTo>
                    <a:pt x="0" y="21600"/>
                    <a:pt x="1046" y="14622"/>
                    <a:pt x="807" y="12757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曲线 187"/>
            <p:cNvSpPr/>
            <p:nvPr/>
          </p:nvSpPr>
          <p:spPr>
            <a:xfrm>
              <a:off x="5037120" y="2178360"/>
              <a:ext cx="563760" cy="49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50" y="2132"/>
                  </a:moveTo>
                  <a:cubicBezTo>
                    <a:pt x="10474" y="2942"/>
                    <a:pt x="10436" y="4659"/>
                    <a:pt x="9380" y="6753"/>
                  </a:cubicBezTo>
                  <a:cubicBezTo>
                    <a:pt x="8324" y="8846"/>
                    <a:pt x="7077" y="10737"/>
                    <a:pt x="5386" y="12589"/>
                  </a:cubicBezTo>
                  <a:cubicBezTo>
                    <a:pt x="3695" y="14441"/>
                    <a:pt x="1851" y="14393"/>
                    <a:pt x="925" y="16004"/>
                  </a:cubicBezTo>
                  <a:cubicBezTo>
                    <a:pt x="0" y="17615"/>
                    <a:pt x="351" y="19670"/>
                    <a:pt x="765" y="20635"/>
                  </a:cubicBezTo>
                  <a:cubicBezTo>
                    <a:pt x="1178" y="21600"/>
                    <a:pt x="1981" y="21281"/>
                    <a:pt x="2999" y="20837"/>
                  </a:cubicBezTo>
                  <a:cubicBezTo>
                    <a:pt x="4017" y="20394"/>
                    <a:pt x="2456" y="20230"/>
                    <a:pt x="5868" y="18416"/>
                  </a:cubicBezTo>
                  <a:cubicBezTo>
                    <a:pt x="9281" y="16602"/>
                    <a:pt x="18539" y="13110"/>
                    <a:pt x="20069" y="11779"/>
                  </a:cubicBezTo>
                  <a:cubicBezTo>
                    <a:pt x="21600" y="10447"/>
                    <a:pt x="15953" y="11499"/>
                    <a:pt x="13527" y="11779"/>
                  </a:cubicBezTo>
                  <a:cubicBezTo>
                    <a:pt x="11102" y="12058"/>
                    <a:pt x="7590" y="14798"/>
                    <a:pt x="7942" y="13187"/>
                  </a:cubicBezTo>
                  <a:cubicBezTo>
                    <a:pt x="8294" y="11576"/>
                    <a:pt x="14453" y="6309"/>
                    <a:pt x="15279" y="3733"/>
                  </a:cubicBezTo>
                  <a:cubicBezTo>
                    <a:pt x="16106" y="1157"/>
                    <a:pt x="13015" y="636"/>
                    <a:pt x="12089" y="318"/>
                  </a:cubicBezTo>
                  <a:cubicBezTo>
                    <a:pt x="11163" y="0"/>
                    <a:pt x="10872" y="1697"/>
                    <a:pt x="10650" y="2132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曲线 188"/>
            <p:cNvSpPr/>
            <p:nvPr/>
          </p:nvSpPr>
          <p:spPr>
            <a:xfrm>
              <a:off x="5485320" y="2305800"/>
              <a:ext cx="199800" cy="31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1683" y="308"/>
                    <a:pt x="5480" y="323"/>
                    <a:pt x="9451" y="2250"/>
                  </a:cubicBezTo>
                  <a:cubicBezTo>
                    <a:pt x="13421" y="4178"/>
                    <a:pt x="18017" y="6043"/>
                    <a:pt x="19808" y="9651"/>
                  </a:cubicBezTo>
                  <a:cubicBezTo>
                    <a:pt x="21600" y="13259"/>
                    <a:pt x="20154" y="18917"/>
                    <a:pt x="18449" y="20258"/>
                  </a:cubicBezTo>
                  <a:cubicBezTo>
                    <a:pt x="16744" y="21600"/>
                    <a:pt x="14953" y="20443"/>
                    <a:pt x="11263" y="16388"/>
                  </a:cubicBezTo>
                  <a:cubicBezTo>
                    <a:pt x="7574" y="12334"/>
                    <a:pt x="2114" y="3206"/>
                    <a:pt x="0" y="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曲线 189"/>
            <p:cNvSpPr/>
            <p:nvPr/>
          </p:nvSpPr>
          <p:spPr>
            <a:xfrm>
              <a:off x="5763960" y="1857960"/>
              <a:ext cx="544320" cy="70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87"/>
                  </a:moveTo>
                  <a:cubicBezTo>
                    <a:pt x="1124" y="2317"/>
                    <a:pt x="3903" y="2816"/>
                    <a:pt x="6112" y="2761"/>
                  </a:cubicBezTo>
                  <a:cubicBezTo>
                    <a:pt x="8321" y="2706"/>
                    <a:pt x="9810" y="2194"/>
                    <a:pt x="11061" y="1907"/>
                  </a:cubicBezTo>
                  <a:cubicBezTo>
                    <a:pt x="12312" y="1620"/>
                    <a:pt x="11686" y="1702"/>
                    <a:pt x="12383" y="1332"/>
                  </a:cubicBezTo>
                  <a:cubicBezTo>
                    <a:pt x="13080" y="963"/>
                    <a:pt x="13278" y="109"/>
                    <a:pt x="14529" y="54"/>
                  </a:cubicBezTo>
                  <a:cubicBezTo>
                    <a:pt x="15780" y="0"/>
                    <a:pt x="17300" y="485"/>
                    <a:pt x="18654" y="1052"/>
                  </a:cubicBezTo>
                  <a:cubicBezTo>
                    <a:pt x="20008" y="1620"/>
                    <a:pt x="20998" y="2166"/>
                    <a:pt x="21299" y="2905"/>
                  </a:cubicBezTo>
                  <a:cubicBezTo>
                    <a:pt x="21600" y="3643"/>
                    <a:pt x="20602" y="3957"/>
                    <a:pt x="20143" y="4757"/>
                  </a:cubicBezTo>
                  <a:cubicBezTo>
                    <a:pt x="19683" y="5557"/>
                    <a:pt x="19216" y="4812"/>
                    <a:pt x="18987" y="6890"/>
                  </a:cubicBezTo>
                  <a:cubicBezTo>
                    <a:pt x="18757" y="8968"/>
                    <a:pt x="19382" y="12850"/>
                    <a:pt x="18987" y="15161"/>
                  </a:cubicBezTo>
                  <a:cubicBezTo>
                    <a:pt x="18591" y="17471"/>
                    <a:pt x="17965" y="17211"/>
                    <a:pt x="17007" y="18435"/>
                  </a:cubicBezTo>
                  <a:cubicBezTo>
                    <a:pt x="16049" y="19658"/>
                    <a:pt x="15416" y="21600"/>
                    <a:pt x="14196" y="21285"/>
                  </a:cubicBezTo>
                  <a:cubicBezTo>
                    <a:pt x="12977" y="20971"/>
                    <a:pt x="12185" y="18264"/>
                    <a:pt x="10895" y="16869"/>
                  </a:cubicBezTo>
                  <a:cubicBezTo>
                    <a:pt x="9604" y="15475"/>
                    <a:pt x="7363" y="14648"/>
                    <a:pt x="7759" y="14306"/>
                  </a:cubicBezTo>
                  <a:cubicBezTo>
                    <a:pt x="8155" y="13964"/>
                    <a:pt x="11528" y="15188"/>
                    <a:pt x="12882" y="15161"/>
                  </a:cubicBezTo>
                  <a:cubicBezTo>
                    <a:pt x="14236" y="15133"/>
                    <a:pt x="14038" y="15844"/>
                    <a:pt x="14529" y="14163"/>
                  </a:cubicBezTo>
                  <a:cubicBezTo>
                    <a:pt x="15020" y="12481"/>
                    <a:pt x="15384" y="8831"/>
                    <a:pt x="15352" y="6753"/>
                  </a:cubicBezTo>
                  <a:cubicBezTo>
                    <a:pt x="15321" y="4675"/>
                    <a:pt x="16508" y="4272"/>
                    <a:pt x="14363" y="3759"/>
                  </a:cubicBezTo>
                  <a:cubicBezTo>
                    <a:pt x="12217" y="3246"/>
                    <a:pt x="7165" y="4067"/>
                    <a:pt x="4624" y="4183"/>
                  </a:cubicBezTo>
                  <a:cubicBezTo>
                    <a:pt x="2082" y="4299"/>
                    <a:pt x="2581" y="4723"/>
                    <a:pt x="1654" y="4326"/>
                  </a:cubicBezTo>
                  <a:cubicBezTo>
                    <a:pt x="728" y="3930"/>
                    <a:pt x="269" y="2617"/>
                    <a:pt x="0" y="218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曲线 190"/>
            <p:cNvSpPr/>
            <p:nvPr/>
          </p:nvSpPr>
          <p:spPr>
            <a:xfrm>
              <a:off x="5740200" y="1899000"/>
              <a:ext cx="174960" cy="11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62"/>
                  </a:moveTo>
                  <a:cubicBezTo>
                    <a:pt x="1178" y="909"/>
                    <a:pt x="4393" y="0"/>
                    <a:pt x="6136" y="2635"/>
                  </a:cubicBezTo>
                  <a:cubicBezTo>
                    <a:pt x="7879" y="5270"/>
                    <a:pt x="8271" y="10561"/>
                    <a:pt x="8689" y="13947"/>
                  </a:cubicBezTo>
                  <a:cubicBezTo>
                    <a:pt x="9106" y="17333"/>
                    <a:pt x="7486" y="18095"/>
                    <a:pt x="8198" y="19560"/>
                  </a:cubicBezTo>
                  <a:cubicBezTo>
                    <a:pt x="8910" y="21024"/>
                    <a:pt x="10235" y="21567"/>
                    <a:pt x="12272" y="21261"/>
                  </a:cubicBezTo>
                  <a:cubicBezTo>
                    <a:pt x="14310" y="20955"/>
                    <a:pt x="17206" y="21600"/>
                    <a:pt x="18433" y="18026"/>
                  </a:cubicBezTo>
                  <a:cubicBezTo>
                    <a:pt x="19660" y="14453"/>
                    <a:pt x="18531" y="6747"/>
                    <a:pt x="18433" y="3398"/>
                  </a:cubicBezTo>
                  <a:cubicBezTo>
                    <a:pt x="18335" y="48"/>
                    <a:pt x="21600" y="1798"/>
                    <a:pt x="17918" y="1272"/>
                  </a:cubicBezTo>
                  <a:cubicBezTo>
                    <a:pt x="14236" y="746"/>
                    <a:pt x="3583" y="824"/>
                    <a:pt x="0" y="762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6858000" y="1295280"/>
            <a:ext cx="1980720" cy="1828800"/>
            <a:chOff x="6858000" y="1295280"/>
            <a:chExt cx="1980720" cy="1828800"/>
          </a:xfrm>
        </p:grpSpPr>
        <p:grpSp>
          <p:nvGrpSpPr>
            <p:cNvPr id="296" name="Group 54"/>
            <p:cNvGrpSpPr/>
            <p:nvPr/>
          </p:nvGrpSpPr>
          <p:grpSpPr>
            <a:xfrm>
              <a:off x="6858000" y="1295280"/>
              <a:ext cx="1980720" cy="1828800"/>
              <a:chOff x="6858000" y="1295280"/>
              <a:chExt cx="1980720" cy="1828800"/>
            </a:xfrm>
          </p:grpSpPr>
          <p:sp>
            <p:nvSpPr>
              <p:cNvPr id="297" name="Rectangle 55"/>
              <p:cNvSpPr/>
              <p:nvPr/>
            </p:nvSpPr>
            <p:spPr>
              <a:xfrm>
                <a:off x="6858000" y="1295280"/>
                <a:ext cx="1942200" cy="182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56"/>
              <p:cNvGrpSpPr/>
              <p:nvPr/>
            </p:nvGrpSpPr>
            <p:grpSpPr>
              <a:xfrm>
                <a:off x="6858000" y="1295280"/>
                <a:ext cx="1980720" cy="1828800"/>
                <a:chOff x="6858000" y="1295280"/>
                <a:chExt cx="1980720" cy="1828800"/>
              </a:xfrm>
            </p:grpSpPr>
            <p:sp>
              <p:nvSpPr>
                <p:cNvPr id="299" name="Line 57"/>
                <p:cNvSpPr/>
                <p:nvPr/>
              </p:nvSpPr>
              <p:spPr>
                <a:xfrm>
                  <a:off x="6858000" y="1295280"/>
                  <a:ext cx="194364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58"/>
                <p:cNvSpPr/>
                <p:nvPr/>
              </p:nvSpPr>
              <p:spPr>
                <a:xfrm flipV="1">
                  <a:off x="6858000" y="1295280"/>
                  <a:ext cx="194364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9"/>
                <p:cNvSpPr/>
                <p:nvPr/>
              </p:nvSpPr>
              <p:spPr>
                <a:xfrm>
                  <a:off x="7829640" y="12952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60"/>
                <p:cNvSpPr/>
                <p:nvPr/>
              </p:nvSpPr>
              <p:spPr>
                <a:xfrm>
                  <a:off x="6895080" y="2209680"/>
                  <a:ext cx="194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" name="WordArt 61"/>
            <p:cNvSpPr txBox="1"/>
            <p:nvPr/>
          </p:nvSpPr>
          <p:spPr>
            <a:xfrm>
              <a:off x="7044840" y="1476360"/>
              <a:ext cx="1569960" cy="142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谁</a:t>
              </a:r>
              <a:endParaRPr b="0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4" name="曲线 192"/>
            <p:cNvSpPr/>
            <p:nvPr/>
          </p:nvSpPr>
          <p:spPr>
            <a:xfrm>
              <a:off x="7356240" y="1590480"/>
              <a:ext cx="263880" cy="17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507" y="0"/>
                  </a:moveTo>
                  <a:cubicBezTo>
                    <a:pt x="4756" y="335"/>
                    <a:pt x="10791" y="773"/>
                    <a:pt x="14302" y="2165"/>
                  </a:cubicBezTo>
                  <a:cubicBezTo>
                    <a:pt x="17813" y="3557"/>
                    <a:pt x="18703" y="3969"/>
                    <a:pt x="20046" y="6985"/>
                  </a:cubicBezTo>
                  <a:cubicBezTo>
                    <a:pt x="21389" y="10000"/>
                    <a:pt x="21114" y="14279"/>
                    <a:pt x="21049" y="17192"/>
                  </a:cubicBezTo>
                  <a:cubicBezTo>
                    <a:pt x="20985" y="20105"/>
                    <a:pt x="21600" y="21393"/>
                    <a:pt x="19706" y="21496"/>
                  </a:cubicBezTo>
                  <a:cubicBezTo>
                    <a:pt x="17813" y="21600"/>
                    <a:pt x="15192" y="21290"/>
                    <a:pt x="11617" y="17733"/>
                  </a:cubicBezTo>
                  <a:cubicBezTo>
                    <a:pt x="8041" y="14176"/>
                    <a:pt x="3656" y="7320"/>
                    <a:pt x="1828" y="3763"/>
                  </a:cubicBezTo>
                  <a:cubicBezTo>
                    <a:pt x="0" y="206"/>
                    <a:pt x="2168" y="463"/>
                    <a:pt x="2507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曲线 193"/>
            <p:cNvSpPr/>
            <p:nvPr/>
          </p:nvSpPr>
          <p:spPr>
            <a:xfrm>
              <a:off x="7140600" y="1948680"/>
              <a:ext cx="600120" cy="81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" y="3168"/>
                  </a:moveTo>
                  <a:cubicBezTo>
                    <a:pt x="448" y="3168"/>
                    <a:pt x="1040" y="3303"/>
                    <a:pt x="2437" y="3054"/>
                  </a:cubicBezTo>
                  <a:cubicBezTo>
                    <a:pt x="3833" y="2806"/>
                    <a:pt x="5408" y="2358"/>
                    <a:pt x="7040" y="1932"/>
                  </a:cubicBezTo>
                  <a:cubicBezTo>
                    <a:pt x="8672" y="1505"/>
                    <a:pt x="9656" y="1300"/>
                    <a:pt x="10611" y="917"/>
                  </a:cubicBezTo>
                  <a:cubicBezTo>
                    <a:pt x="11566" y="534"/>
                    <a:pt x="10817" y="43"/>
                    <a:pt x="11801" y="21"/>
                  </a:cubicBezTo>
                  <a:cubicBezTo>
                    <a:pt x="12784" y="0"/>
                    <a:pt x="14594" y="377"/>
                    <a:pt x="15514" y="804"/>
                  </a:cubicBezTo>
                  <a:cubicBezTo>
                    <a:pt x="16433" y="1230"/>
                    <a:pt x="16640" y="1462"/>
                    <a:pt x="16404" y="2158"/>
                  </a:cubicBezTo>
                  <a:cubicBezTo>
                    <a:pt x="16169" y="2855"/>
                    <a:pt x="15008" y="2337"/>
                    <a:pt x="14323" y="4296"/>
                  </a:cubicBezTo>
                  <a:cubicBezTo>
                    <a:pt x="13639" y="6255"/>
                    <a:pt x="13255" y="9968"/>
                    <a:pt x="12984" y="11949"/>
                  </a:cubicBezTo>
                  <a:cubicBezTo>
                    <a:pt x="12713" y="13930"/>
                    <a:pt x="12834" y="13660"/>
                    <a:pt x="12984" y="14200"/>
                  </a:cubicBezTo>
                  <a:cubicBezTo>
                    <a:pt x="13133" y="14740"/>
                    <a:pt x="12129" y="15279"/>
                    <a:pt x="13732" y="14648"/>
                  </a:cubicBezTo>
                  <a:cubicBezTo>
                    <a:pt x="15335" y="14016"/>
                    <a:pt x="21600" y="9898"/>
                    <a:pt x="21008" y="11048"/>
                  </a:cubicBezTo>
                  <a:cubicBezTo>
                    <a:pt x="20417" y="12197"/>
                    <a:pt x="13433" y="19171"/>
                    <a:pt x="10760" y="20385"/>
                  </a:cubicBezTo>
                  <a:cubicBezTo>
                    <a:pt x="8088" y="21600"/>
                    <a:pt x="7732" y="18566"/>
                    <a:pt x="7639" y="17125"/>
                  </a:cubicBezTo>
                  <a:cubicBezTo>
                    <a:pt x="7546" y="15684"/>
                    <a:pt x="9656" y="15797"/>
                    <a:pt x="10311" y="13185"/>
                  </a:cubicBezTo>
                  <a:cubicBezTo>
                    <a:pt x="10967" y="10573"/>
                    <a:pt x="11266" y="5980"/>
                    <a:pt x="10910" y="4069"/>
                  </a:cubicBezTo>
                  <a:cubicBezTo>
                    <a:pt x="10554" y="2158"/>
                    <a:pt x="10375" y="3416"/>
                    <a:pt x="8530" y="3621"/>
                  </a:cubicBezTo>
                  <a:cubicBezTo>
                    <a:pt x="6684" y="3826"/>
                    <a:pt x="3392" y="5176"/>
                    <a:pt x="1696" y="5084"/>
                  </a:cubicBezTo>
                  <a:cubicBezTo>
                    <a:pt x="0" y="4992"/>
                    <a:pt x="256" y="3578"/>
                    <a:pt x="64" y="316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曲线 194"/>
            <p:cNvSpPr/>
            <p:nvPr/>
          </p:nvSpPr>
          <p:spPr>
            <a:xfrm>
              <a:off x="7577280" y="1435680"/>
              <a:ext cx="451440" cy="78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61" y="1213"/>
                  </a:moveTo>
                  <a:cubicBezTo>
                    <a:pt x="14836" y="1689"/>
                    <a:pt x="17331" y="1353"/>
                    <a:pt x="14561" y="5062"/>
                  </a:cubicBezTo>
                  <a:cubicBezTo>
                    <a:pt x="11791" y="8772"/>
                    <a:pt x="1422" y="17918"/>
                    <a:pt x="711" y="19759"/>
                  </a:cubicBezTo>
                  <a:cubicBezTo>
                    <a:pt x="0" y="21600"/>
                    <a:pt x="6962" y="17706"/>
                    <a:pt x="10994" y="14276"/>
                  </a:cubicBezTo>
                  <a:cubicBezTo>
                    <a:pt x="15026" y="10847"/>
                    <a:pt x="20177" y="5225"/>
                    <a:pt x="20888" y="2612"/>
                  </a:cubicBezTo>
                  <a:cubicBezTo>
                    <a:pt x="21600" y="0"/>
                    <a:pt x="16022" y="1258"/>
                    <a:pt x="14561" y="1213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曲线 195"/>
            <p:cNvSpPr/>
            <p:nvPr/>
          </p:nvSpPr>
          <p:spPr>
            <a:xfrm>
              <a:off x="7781040" y="1904760"/>
              <a:ext cx="124920" cy="104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01" y="1709"/>
                  </a:moveTo>
                  <a:cubicBezTo>
                    <a:pt x="4940" y="3355"/>
                    <a:pt x="6268" y="7499"/>
                    <a:pt x="5417" y="10622"/>
                  </a:cubicBezTo>
                  <a:cubicBezTo>
                    <a:pt x="4565" y="13745"/>
                    <a:pt x="0" y="15319"/>
                    <a:pt x="442" y="17329"/>
                  </a:cubicBezTo>
                  <a:cubicBezTo>
                    <a:pt x="885" y="19340"/>
                    <a:pt x="4292" y="20453"/>
                    <a:pt x="7563" y="20681"/>
                  </a:cubicBezTo>
                  <a:cubicBezTo>
                    <a:pt x="10834" y="20910"/>
                    <a:pt x="14683" y="21600"/>
                    <a:pt x="16796" y="18476"/>
                  </a:cubicBezTo>
                  <a:cubicBezTo>
                    <a:pt x="18908" y="15353"/>
                    <a:pt x="17477" y="8290"/>
                    <a:pt x="18193" y="5061"/>
                  </a:cubicBezTo>
                  <a:cubicBezTo>
                    <a:pt x="18908" y="1832"/>
                    <a:pt x="21600" y="3313"/>
                    <a:pt x="20339" y="2327"/>
                  </a:cubicBezTo>
                  <a:cubicBezTo>
                    <a:pt x="19078" y="1341"/>
                    <a:pt x="14956" y="245"/>
                    <a:pt x="11822" y="122"/>
                  </a:cubicBezTo>
                  <a:cubicBezTo>
                    <a:pt x="8687" y="0"/>
                    <a:pt x="5962" y="1350"/>
                    <a:pt x="4701" y="1709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曲线 196"/>
            <p:cNvSpPr/>
            <p:nvPr/>
          </p:nvSpPr>
          <p:spPr>
            <a:xfrm>
              <a:off x="8035560" y="1618560"/>
              <a:ext cx="218880" cy="17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935"/>
                  </a:moveTo>
                  <a:cubicBezTo>
                    <a:pt x="1368" y="1548"/>
                    <a:pt x="4476" y="0"/>
                    <a:pt x="7740" y="309"/>
                  </a:cubicBezTo>
                  <a:cubicBezTo>
                    <a:pt x="11005" y="619"/>
                    <a:pt x="13780" y="2038"/>
                    <a:pt x="16302" y="3535"/>
                  </a:cubicBezTo>
                  <a:cubicBezTo>
                    <a:pt x="18824" y="5032"/>
                    <a:pt x="19391" y="5470"/>
                    <a:pt x="20368" y="7845"/>
                  </a:cubicBezTo>
                  <a:cubicBezTo>
                    <a:pt x="21345" y="10219"/>
                    <a:pt x="21600" y="12800"/>
                    <a:pt x="21189" y="15380"/>
                  </a:cubicBezTo>
                  <a:cubicBezTo>
                    <a:pt x="20779" y="17961"/>
                    <a:pt x="21521" y="21600"/>
                    <a:pt x="18335" y="20748"/>
                  </a:cubicBezTo>
                  <a:cubicBezTo>
                    <a:pt x="15149" y="19896"/>
                    <a:pt x="8972" y="14838"/>
                    <a:pt x="5297" y="11070"/>
                  </a:cubicBezTo>
                  <a:cubicBezTo>
                    <a:pt x="1622" y="7303"/>
                    <a:pt x="801" y="3561"/>
                    <a:pt x="0" y="1935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曲线 197"/>
            <p:cNvSpPr/>
            <p:nvPr/>
          </p:nvSpPr>
          <p:spPr>
            <a:xfrm>
              <a:off x="7919640" y="1816920"/>
              <a:ext cx="531720" cy="17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823"/>
                  </a:moveTo>
                  <a:cubicBezTo>
                    <a:pt x="1576" y="13706"/>
                    <a:pt x="5510" y="11218"/>
                    <a:pt x="8559" y="8477"/>
                  </a:cubicBezTo>
                  <a:cubicBezTo>
                    <a:pt x="11608" y="5736"/>
                    <a:pt x="13080" y="2132"/>
                    <a:pt x="15260" y="1066"/>
                  </a:cubicBezTo>
                  <a:cubicBezTo>
                    <a:pt x="17440" y="0"/>
                    <a:pt x="18792" y="1370"/>
                    <a:pt x="19460" y="3172"/>
                  </a:cubicBezTo>
                  <a:cubicBezTo>
                    <a:pt x="20127" y="4974"/>
                    <a:pt x="21600" y="6548"/>
                    <a:pt x="18615" y="10051"/>
                  </a:cubicBezTo>
                  <a:cubicBezTo>
                    <a:pt x="15630" y="13553"/>
                    <a:pt x="8253" y="19670"/>
                    <a:pt x="4529" y="20635"/>
                  </a:cubicBezTo>
                  <a:cubicBezTo>
                    <a:pt x="804" y="21600"/>
                    <a:pt x="627" y="16193"/>
                    <a:pt x="0" y="14823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曲线 198"/>
            <p:cNvSpPr/>
            <p:nvPr/>
          </p:nvSpPr>
          <p:spPr>
            <a:xfrm>
              <a:off x="7943040" y="2060280"/>
              <a:ext cx="414000" cy="14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75" y="17086"/>
                  </a:moveTo>
                  <a:cubicBezTo>
                    <a:pt x="4601" y="13935"/>
                    <a:pt x="13927" y="3817"/>
                    <a:pt x="17763" y="1908"/>
                  </a:cubicBezTo>
                  <a:cubicBezTo>
                    <a:pt x="21600" y="0"/>
                    <a:pt x="21124" y="4695"/>
                    <a:pt x="20566" y="7603"/>
                  </a:cubicBezTo>
                  <a:cubicBezTo>
                    <a:pt x="20007" y="10512"/>
                    <a:pt x="18322" y="13662"/>
                    <a:pt x="14961" y="16449"/>
                  </a:cubicBezTo>
                  <a:cubicBezTo>
                    <a:pt x="11601" y="19237"/>
                    <a:pt x="6596" y="21600"/>
                    <a:pt x="3753" y="21478"/>
                  </a:cubicBezTo>
                  <a:cubicBezTo>
                    <a:pt x="909" y="21357"/>
                    <a:pt x="0" y="17843"/>
                    <a:pt x="734" y="15813"/>
                  </a:cubicBezTo>
                  <a:cubicBezTo>
                    <a:pt x="1468" y="13784"/>
                    <a:pt x="6379" y="12148"/>
                    <a:pt x="7413" y="11390"/>
                  </a:cubicBezTo>
                  <a:cubicBezTo>
                    <a:pt x="8447" y="10633"/>
                    <a:pt x="6338" y="11814"/>
                    <a:pt x="5904" y="12026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曲线 199"/>
            <p:cNvSpPr/>
            <p:nvPr/>
          </p:nvSpPr>
          <p:spPr>
            <a:xfrm>
              <a:off x="7909200" y="2281320"/>
              <a:ext cx="472680" cy="150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" y="14713"/>
                  </a:moveTo>
                  <a:cubicBezTo>
                    <a:pt x="3548" y="12977"/>
                    <a:pt x="10573" y="8445"/>
                    <a:pt x="13896" y="5502"/>
                  </a:cubicBezTo>
                  <a:cubicBezTo>
                    <a:pt x="17218" y="2560"/>
                    <a:pt x="16186" y="0"/>
                    <a:pt x="17662" y="0"/>
                  </a:cubicBezTo>
                  <a:cubicBezTo>
                    <a:pt x="19137" y="0"/>
                    <a:pt x="20911" y="3178"/>
                    <a:pt x="21255" y="5502"/>
                  </a:cubicBezTo>
                  <a:cubicBezTo>
                    <a:pt x="21600" y="7827"/>
                    <a:pt x="21102" y="9210"/>
                    <a:pt x="19363" y="11653"/>
                  </a:cubicBezTo>
                  <a:cubicBezTo>
                    <a:pt x="17625" y="14095"/>
                    <a:pt x="15371" y="15802"/>
                    <a:pt x="12574" y="17774"/>
                  </a:cubicBezTo>
                  <a:cubicBezTo>
                    <a:pt x="9777" y="19746"/>
                    <a:pt x="7740" y="21600"/>
                    <a:pt x="5395" y="21482"/>
                  </a:cubicBezTo>
                  <a:cubicBezTo>
                    <a:pt x="3050" y="21364"/>
                    <a:pt x="1738" y="18539"/>
                    <a:pt x="869" y="17185"/>
                  </a:cubicBezTo>
                  <a:cubicBezTo>
                    <a:pt x="0" y="15832"/>
                    <a:pt x="932" y="15125"/>
                    <a:pt x="1059" y="14713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曲线 200"/>
            <p:cNvSpPr/>
            <p:nvPr/>
          </p:nvSpPr>
          <p:spPr>
            <a:xfrm>
              <a:off x="8100360" y="1937160"/>
              <a:ext cx="114120" cy="70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2" y="1021"/>
                  </a:moveTo>
                  <a:cubicBezTo>
                    <a:pt x="1787" y="4468"/>
                    <a:pt x="0" y="14868"/>
                    <a:pt x="2644" y="18234"/>
                  </a:cubicBezTo>
                  <a:cubicBezTo>
                    <a:pt x="5288" y="21600"/>
                    <a:pt x="12289" y="20515"/>
                    <a:pt x="15082" y="17837"/>
                  </a:cubicBezTo>
                  <a:cubicBezTo>
                    <a:pt x="17875" y="15158"/>
                    <a:pt x="15529" y="7954"/>
                    <a:pt x="16609" y="4828"/>
                  </a:cubicBezTo>
                  <a:cubicBezTo>
                    <a:pt x="17689" y="1701"/>
                    <a:pt x="21600" y="3119"/>
                    <a:pt x="20520" y="2199"/>
                  </a:cubicBezTo>
                  <a:cubicBezTo>
                    <a:pt x="19440" y="1279"/>
                    <a:pt x="14896" y="466"/>
                    <a:pt x="11172" y="233"/>
                  </a:cubicBezTo>
                  <a:cubicBezTo>
                    <a:pt x="7448" y="0"/>
                    <a:pt x="3537" y="825"/>
                    <a:pt x="1862" y="1021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曲线 203"/>
            <p:cNvSpPr/>
            <p:nvPr/>
          </p:nvSpPr>
          <p:spPr>
            <a:xfrm>
              <a:off x="7865640" y="2486160"/>
              <a:ext cx="656640" cy="18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73" y="15157"/>
                  </a:moveTo>
                  <a:cubicBezTo>
                    <a:pt x="2426" y="13072"/>
                    <a:pt x="8076" y="7239"/>
                    <a:pt x="11697" y="4404"/>
                  </a:cubicBezTo>
                  <a:cubicBezTo>
                    <a:pt x="15317" y="1569"/>
                    <a:pt x="16433" y="0"/>
                    <a:pt x="18364" y="983"/>
                  </a:cubicBezTo>
                  <a:cubicBezTo>
                    <a:pt x="20295" y="1967"/>
                    <a:pt x="21117" y="6653"/>
                    <a:pt x="21358" y="9300"/>
                  </a:cubicBezTo>
                  <a:cubicBezTo>
                    <a:pt x="21600" y="11947"/>
                    <a:pt x="21567" y="13095"/>
                    <a:pt x="19584" y="14173"/>
                  </a:cubicBezTo>
                  <a:cubicBezTo>
                    <a:pt x="17600" y="15251"/>
                    <a:pt x="14691" y="13400"/>
                    <a:pt x="11429" y="14665"/>
                  </a:cubicBezTo>
                  <a:cubicBezTo>
                    <a:pt x="8167" y="15930"/>
                    <a:pt x="5388" y="19444"/>
                    <a:pt x="3268" y="20522"/>
                  </a:cubicBezTo>
                  <a:cubicBezTo>
                    <a:pt x="1148" y="21600"/>
                    <a:pt x="1441" y="20803"/>
                    <a:pt x="815" y="20030"/>
                  </a:cubicBezTo>
                  <a:cubicBezTo>
                    <a:pt x="189" y="19257"/>
                    <a:pt x="0" y="17781"/>
                    <a:pt x="136" y="16609"/>
                  </a:cubicBezTo>
                  <a:cubicBezTo>
                    <a:pt x="273" y="15438"/>
                    <a:pt x="1082" y="14946"/>
                    <a:pt x="1493" y="14173"/>
                  </a:cubicBezTo>
                  <a:cubicBezTo>
                    <a:pt x="1904" y="13400"/>
                    <a:pt x="2068" y="12955"/>
                    <a:pt x="2178" y="12721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1066680" y="3809880"/>
            <a:ext cx="2057040" cy="1828800"/>
            <a:chOff x="1066680" y="3809880"/>
            <a:chExt cx="2057040" cy="1828800"/>
          </a:xfrm>
        </p:grpSpPr>
        <p:grpSp>
          <p:nvGrpSpPr>
            <p:cNvPr id="315" name="Group 73"/>
            <p:cNvGrpSpPr/>
            <p:nvPr/>
          </p:nvGrpSpPr>
          <p:grpSpPr>
            <a:xfrm>
              <a:off x="1066680" y="3809880"/>
              <a:ext cx="2057040" cy="1828800"/>
              <a:chOff x="1066680" y="3809880"/>
              <a:chExt cx="2057040" cy="1828800"/>
            </a:xfrm>
          </p:grpSpPr>
          <p:sp>
            <p:nvSpPr>
              <p:cNvPr id="316" name="Rectangle 74"/>
              <p:cNvSpPr/>
              <p:nvPr/>
            </p:nvSpPr>
            <p:spPr>
              <a:xfrm>
                <a:off x="1066680" y="3809880"/>
                <a:ext cx="2017080" cy="182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75"/>
              <p:cNvGrpSpPr/>
              <p:nvPr/>
            </p:nvGrpSpPr>
            <p:grpSpPr>
              <a:xfrm>
                <a:off x="1066680" y="3809880"/>
                <a:ext cx="2057040" cy="1828800"/>
                <a:chOff x="1066680" y="3809880"/>
                <a:chExt cx="2057040" cy="1828800"/>
              </a:xfrm>
            </p:grpSpPr>
            <p:sp>
              <p:nvSpPr>
                <p:cNvPr id="318" name="Line 76"/>
                <p:cNvSpPr/>
                <p:nvPr/>
              </p:nvSpPr>
              <p:spPr>
                <a:xfrm>
                  <a:off x="1066680" y="3809880"/>
                  <a:ext cx="201852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77"/>
                <p:cNvSpPr/>
                <p:nvPr/>
              </p:nvSpPr>
              <p:spPr>
                <a:xfrm flipV="1">
                  <a:off x="1066680" y="3809880"/>
                  <a:ext cx="201852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78"/>
                <p:cNvSpPr/>
                <p:nvPr/>
              </p:nvSpPr>
              <p:spPr>
                <a:xfrm>
                  <a:off x="2075760" y="3809880"/>
                  <a:ext cx="36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79"/>
                <p:cNvSpPr/>
                <p:nvPr/>
              </p:nvSpPr>
              <p:spPr>
                <a:xfrm>
                  <a:off x="1105200" y="4724280"/>
                  <a:ext cx="201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2" name="WordArt 80"/>
            <p:cNvSpPr txBox="1"/>
            <p:nvPr/>
          </p:nvSpPr>
          <p:spPr>
            <a:xfrm>
              <a:off x="1144080" y="3970440"/>
              <a:ext cx="1863360" cy="149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珠</a:t>
              </a:r>
              <a:endParaRPr b="0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23" name="曲线 205"/>
            <p:cNvSpPr/>
            <p:nvPr/>
          </p:nvSpPr>
          <p:spPr>
            <a:xfrm>
              <a:off x="1387800" y="4219920"/>
              <a:ext cx="488520" cy="16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427"/>
                  </a:moveTo>
                  <a:cubicBezTo>
                    <a:pt x="2486" y="12184"/>
                    <a:pt x="9499" y="5760"/>
                    <a:pt x="12797" y="2880"/>
                  </a:cubicBezTo>
                  <a:cubicBezTo>
                    <a:pt x="16095" y="0"/>
                    <a:pt x="15097" y="0"/>
                    <a:pt x="16480" y="0"/>
                  </a:cubicBezTo>
                  <a:cubicBezTo>
                    <a:pt x="17864" y="0"/>
                    <a:pt x="19175" y="1273"/>
                    <a:pt x="19737" y="2880"/>
                  </a:cubicBezTo>
                  <a:cubicBezTo>
                    <a:pt x="20299" y="4486"/>
                    <a:pt x="21600" y="4735"/>
                    <a:pt x="19300" y="8086"/>
                  </a:cubicBezTo>
                  <a:cubicBezTo>
                    <a:pt x="17001" y="11436"/>
                    <a:pt x="11361" y="17667"/>
                    <a:pt x="8240" y="19633"/>
                  </a:cubicBezTo>
                  <a:cubicBezTo>
                    <a:pt x="5119" y="21600"/>
                    <a:pt x="5202" y="18941"/>
                    <a:pt x="3683" y="17889"/>
                  </a:cubicBezTo>
                  <a:cubicBezTo>
                    <a:pt x="2164" y="16836"/>
                    <a:pt x="1040" y="15341"/>
                    <a:pt x="645" y="14427"/>
                  </a:cubicBezTo>
                  <a:cubicBezTo>
                    <a:pt x="249" y="13513"/>
                    <a:pt x="1446" y="13430"/>
                    <a:pt x="1727" y="13264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曲线 208"/>
            <p:cNvSpPr/>
            <p:nvPr/>
          </p:nvSpPr>
          <p:spPr>
            <a:xfrm>
              <a:off x="1353960" y="4569840"/>
              <a:ext cx="451800" cy="16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4949"/>
                  </a:moveTo>
                  <a:cubicBezTo>
                    <a:pt x="1177" y="14255"/>
                    <a:pt x="3600" y="13012"/>
                    <a:pt x="6773" y="10727"/>
                  </a:cubicBezTo>
                  <a:cubicBezTo>
                    <a:pt x="9947" y="8443"/>
                    <a:pt x="13648" y="5551"/>
                    <a:pt x="15891" y="3498"/>
                  </a:cubicBezTo>
                  <a:cubicBezTo>
                    <a:pt x="18134" y="1445"/>
                    <a:pt x="16878" y="0"/>
                    <a:pt x="18000" y="491"/>
                  </a:cubicBezTo>
                  <a:cubicBezTo>
                    <a:pt x="19121" y="983"/>
                    <a:pt x="21420" y="3643"/>
                    <a:pt x="21510" y="5927"/>
                  </a:cubicBezTo>
                  <a:cubicBezTo>
                    <a:pt x="21600" y="8212"/>
                    <a:pt x="21600" y="8934"/>
                    <a:pt x="18471" y="11942"/>
                  </a:cubicBezTo>
                  <a:cubicBezTo>
                    <a:pt x="15342" y="14949"/>
                    <a:pt x="9532" y="20385"/>
                    <a:pt x="5842" y="20992"/>
                  </a:cubicBezTo>
                  <a:cubicBezTo>
                    <a:pt x="2153" y="21600"/>
                    <a:pt x="919" y="16337"/>
                    <a:pt x="0" y="14949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曲线 206"/>
            <p:cNvSpPr/>
            <p:nvPr/>
          </p:nvSpPr>
          <p:spPr>
            <a:xfrm>
              <a:off x="1515600" y="4328640"/>
              <a:ext cx="163800" cy="74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94"/>
                  </a:moveTo>
                  <a:cubicBezTo>
                    <a:pt x="775" y="1648"/>
                    <a:pt x="2979" y="693"/>
                    <a:pt x="3879" y="4101"/>
                  </a:cubicBezTo>
                  <a:cubicBezTo>
                    <a:pt x="4779" y="7509"/>
                    <a:pt x="2731" y="15447"/>
                    <a:pt x="4531" y="18446"/>
                  </a:cubicBezTo>
                  <a:cubicBezTo>
                    <a:pt x="6331" y="21445"/>
                    <a:pt x="10613" y="21600"/>
                    <a:pt x="12941" y="19090"/>
                  </a:cubicBezTo>
                  <a:cubicBezTo>
                    <a:pt x="15268" y="16581"/>
                    <a:pt x="14741" y="9089"/>
                    <a:pt x="16168" y="5911"/>
                  </a:cubicBezTo>
                  <a:cubicBezTo>
                    <a:pt x="17596" y="2732"/>
                    <a:pt x="21600" y="4306"/>
                    <a:pt x="20048" y="3197"/>
                  </a:cubicBezTo>
                  <a:cubicBezTo>
                    <a:pt x="18496" y="2088"/>
                    <a:pt x="12413" y="718"/>
                    <a:pt x="8410" y="359"/>
                  </a:cubicBezTo>
                  <a:cubicBezTo>
                    <a:pt x="4406" y="0"/>
                    <a:pt x="1458" y="1127"/>
                    <a:pt x="0" y="139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曲线 209"/>
            <p:cNvSpPr/>
            <p:nvPr/>
          </p:nvSpPr>
          <p:spPr>
            <a:xfrm>
              <a:off x="1199160" y="4861440"/>
              <a:ext cx="694800" cy="34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73" y="14029"/>
                  </a:moveTo>
                  <a:cubicBezTo>
                    <a:pt x="1360" y="15073"/>
                    <a:pt x="2282" y="18045"/>
                    <a:pt x="3109" y="19402"/>
                  </a:cubicBezTo>
                  <a:cubicBezTo>
                    <a:pt x="3936" y="20758"/>
                    <a:pt x="3965" y="21600"/>
                    <a:pt x="5092" y="20813"/>
                  </a:cubicBezTo>
                  <a:cubicBezTo>
                    <a:pt x="6219" y="20026"/>
                    <a:pt x="5648" y="19510"/>
                    <a:pt x="8758" y="15440"/>
                  </a:cubicBezTo>
                  <a:cubicBezTo>
                    <a:pt x="11868" y="11369"/>
                    <a:pt x="21600" y="895"/>
                    <a:pt x="20656" y="447"/>
                  </a:cubicBezTo>
                  <a:cubicBezTo>
                    <a:pt x="19712" y="0"/>
                    <a:pt x="8048" y="10515"/>
                    <a:pt x="4024" y="13174"/>
                  </a:cubicBezTo>
                  <a:cubicBezTo>
                    <a:pt x="0" y="15833"/>
                    <a:pt x="1009" y="13513"/>
                    <a:pt x="519" y="13744"/>
                  </a:cubicBezTo>
                  <a:cubicBezTo>
                    <a:pt x="29" y="13974"/>
                    <a:pt x="1302" y="14205"/>
                    <a:pt x="1587" y="14314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曲线 210"/>
            <p:cNvSpPr/>
            <p:nvPr/>
          </p:nvSpPr>
          <p:spPr>
            <a:xfrm>
              <a:off x="1852560" y="4238640"/>
              <a:ext cx="295920" cy="40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68" y="0"/>
                  </a:moveTo>
                  <a:cubicBezTo>
                    <a:pt x="11391" y="658"/>
                    <a:pt x="13313" y="820"/>
                    <a:pt x="11168" y="4819"/>
                  </a:cubicBezTo>
                  <a:cubicBezTo>
                    <a:pt x="9024" y="8817"/>
                    <a:pt x="0" y="18410"/>
                    <a:pt x="428" y="20005"/>
                  </a:cubicBezTo>
                  <a:cubicBezTo>
                    <a:pt x="857" y="21600"/>
                    <a:pt x="9161" y="16191"/>
                    <a:pt x="13313" y="12770"/>
                  </a:cubicBezTo>
                  <a:cubicBezTo>
                    <a:pt x="17465" y="9349"/>
                    <a:pt x="21600" y="5443"/>
                    <a:pt x="21171" y="2889"/>
                  </a:cubicBezTo>
                  <a:cubicBezTo>
                    <a:pt x="20742" y="335"/>
                    <a:pt x="13330" y="381"/>
                    <a:pt x="11168" y="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曲线 211"/>
            <p:cNvSpPr/>
            <p:nvPr/>
          </p:nvSpPr>
          <p:spPr>
            <a:xfrm>
              <a:off x="2007360" y="4298760"/>
              <a:ext cx="595800" cy="20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86" y="12897"/>
                  </a:moveTo>
                  <a:cubicBezTo>
                    <a:pt x="4693" y="10586"/>
                    <a:pt x="12707" y="3364"/>
                    <a:pt x="16300" y="1682"/>
                  </a:cubicBezTo>
                  <a:cubicBezTo>
                    <a:pt x="19893" y="0"/>
                    <a:pt x="21600" y="1031"/>
                    <a:pt x="19859" y="4485"/>
                  </a:cubicBezTo>
                  <a:cubicBezTo>
                    <a:pt x="18118" y="7940"/>
                    <a:pt x="11350" y="16351"/>
                    <a:pt x="7578" y="18975"/>
                  </a:cubicBezTo>
                  <a:cubicBezTo>
                    <a:pt x="3806" y="21600"/>
                    <a:pt x="1996" y="19087"/>
                    <a:pt x="998" y="17585"/>
                  </a:cubicBezTo>
                  <a:cubicBezTo>
                    <a:pt x="0" y="16082"/>
                    <a:pt x="2415" y="12426"/>
                    <a:pt x="2594" y="11484"/>
                  </a:cubicBezTo>
                  <a:cubicBezTo>
                    <a:pt x="2773" y="10542"/>
                    <a:pt x="2056" y="12493"/>
                    <a:pt x="1886" y="12897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曲线 212"/>
            <p:cNvSpPr/>
            <p:nvPr/>
          </p:nvSpPr>
          <p:spPr>
            <a:xfrm>
              <a:off x="1779120" y="4531680"/>
              <a:ext cx="1009800" cy="22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3" y="15422"/>
                  </a:moveTo>
                  <a:cubicBezTo>
                    <a:pt x="2897" y="13939"/>
                    <a:pt x="6182" y="10342"/>
                    <a:pt x="9351" y="7376"/>
                  </a:cubicBezTo>
                  <a:cubicBezTo>
                    <a:pt x="12520" y="4409"/>
                    <a:pt x="15161" y="1178"/>
                    <a:pt x="17324" y="589"/>
                  </a:cubicBezTo>
                  <a:cubicBezTo>
                    <a:pt x="19487" y="0"/>
                    <a:pt x="19970" y="2966"/>
                    <a:pt x="20156" y="4409"/>
                  </a:cubicBezTo>
                  <a:cubicBezTo>
                    <a:pt x="20342" y="5852"/>
                    <a:pt x="21600" y="4673"/>
                    <a:pt x="18264" y="7802"/>
                  </a:cubicBezTo>
                  <a:cubicBezTo>
                    <a:pt x="14929" y="10932"/>
                    <a:pt x="6961" y="18552"/>
                    <a:pt x="3480" y="20076"/>
                  </a:cubicBezTo>
                  <a:cubicBezTo>
                    <a:pt x="0" y="21600"/>
                    <a:pt x="1172" y="16520"/>
                    <a:pt x="855" y="15422"/>
                  </a:cubicBezTo>
                  <a:cubicBezTo>
                    <a:pt x="538" y="14325"/>
                    <a:pt x="1675" y="14569"/>
                    <a:pt x="1906" y="14569"/>
                  </a:cubicBezTo>
                  <a:cubicBezTo>
                    <a:pt x="2137" y="14569"/>
                    <a:pt x="2012" y="15239"/>
                    <a:pt x="2012" y="15422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曲线 213"/>
            <p:cNvSpPr/>
            <p:nvPr/>
          </p:nvSpPr>
          <p:spPr>
            <a:xfrm>
              <a:off x="2162520" y="3915360"/>
              <a:ext cx="224640" cy="163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80"/>
                  </a:moveTo>
                  <a:cubicBezTo>
                    <a:pt x="836" y="908"/>
                    <a:pt x="3189" y="0"/>
                    <a:pt x="4229" y="2497"/>
                  </a:cubicBezTo>
                  <a:cubicBezTo>
                    <a:pt x="5269" y="4995"/>
                    <a:pt x="5835" y="10118"/>
                    <a:pt x="5179" y="13266"/>
                  </a:cubicBezTo>
                  <a:cubicBezTo>
                    <a:pt x="4523" y="16414"/>
                    <a:pt x="361" y="16805"/>
                    <a:pt x="927" y="18239"/>
                  </a:cubicBezTo>
                  <a:cubicBezTo>
                    <a:pt x="1492" y="19672"/>
                    <a:pt x="5450" y="20393"/>
                    <a:pt x="8006" y="20427"/>
                  </a:cubicBezTo>
                  <a:cubicBezTo>
                    <a:pt x="10562" y="20461"/>
                    <a:pt x="12530" y="21600"/>
                    <a:pt x="13661" y="18415"/>
                  </a:cubicBezTo>
                  <a:cubicBezTo>
                    <a:pt x="14792" y="15230"/>
                    <a:pt x="12620" y="7859"/>
                    <a:pt x="13661" y="4510"/>
                  </a:cubicBezTo>
                  <a:cubicBezTo>
                    <a:pt x="14701" y="1160"/>
                    <a:pt x="21600" y="2415"/>
                    <a:pt x="18863" y="1668"/>
                  </a:cubicBezTo>
                  <a:cubicBezTo>
                    <a:pt x="16126" y="922"/>
                    <a:pt x="3867" y="902"/>
                    <a:pt x="0" y="78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曲线 214"/>
            <p:cNvSpPr/>
            <p:nvPr/>
          </p:nvSpPr>
          <p:spPr>
            <a:xfrm>
              <a:off x="1657800" y="4660560"/>
              <a:ext cx="622800" cy="59400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17178" y="2368"/>
                  </a:moveTo>
                  <a:cubicBezTo>
                    <a:pt x="16501" y="3584"/>
                    <a:pt x="15310" y="6358"/>
                    <a:pt x="13100" y="9187"/>
                  </a:cubicBezTo>
                  <a:cubicBezTo>
                    <a:pt x="10889" y="12015"/>
                    <a:pt x="8744" y="14135"/>
                    <a:pt x="6125" y="16503"/>
                  </a:cubicBezTo>
                  <a:cubicBezTo>
                    <a:pt x="3507" y="18872"/>
                    <a:pt x="0" y="20493"/>
                    <a:pt x="0" y="21046"/>
                  </a:cubicBezTo>
                  <a:cubicBezTo>
                    <a:pt x="0" y="21600"/>
                    <a:pt x="2863" y="21436"/>
                    <a:pt x="6125" y="19262"/>
                  </a:cubicBezTo>
                  <a:cubicBezTo>
                    <a:pt x="9388" y="17088"/>
                    <a:pt x="13271" y="13706"/>
                    <a:pt x="16330" y="10168"/>
                  </a:cubicBezTo>
                  <a:cubicBezTo>
                    <a:pt x="19389" y="6631"/>
                    <a:pt x="21257" y="3116"/>
                    <a:pt x="21428" y="1558"/>
                  </a:cubicBezTo>
                  <a:cubicBezTo>
                    <a:pt x="21599" y="0"/>
                    <a:pt x="18133" y="2033"/>
                    <a:pt x="17178" y="2368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曲线 215"/>
            <p:cNvSpPr/>
            <p:nvPr/>
          </p:nvSpPr>
          <p:spPr>
            <a:xfrm>
              <a:off x="2231280" y="4689000"/>
              <a:ext cx="766440" cy="49032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788" y="4978"/>
                  </a:moveTo>
                  <a:cubicBezTo>
                    <a:pt x="3351" y="5745"/>
                    <a:pt x="4616" y="7231"/>
                    <a:pt x="5967" y="9522"/>
                  </a:cubicBezTo>
                  <a:cubicBezTo>
                    <a:pt x="7319" y="11812"/>
                    <a:pt x="7902" y="14093"/>
                    <a:pt x="9558" y="16422"/>
                  </a:cubicBezTo>
                  <a:cubicBezTo>
                    <a:pt x="11213" y="18750"/>
                    <a:pt x="11909" y="20729"/>
                    <a:pt x="14254" y="21164"/>
                  </a:cubicBezTo>
                  <a:cubicBezTo>
                    <a:pt x="16599" y="21599"/>
                    <a:pt x="20990" y="19621"/>
                    <a:pt x="21295" y="18599"/>
                  </a:cubicBezTo>
                  <a:cubicBezTo>
                    <a:pt x="21600" y="17577"/>
                    <a:pt x="19526" y="19347"/>
                    <a:pt x="15771" y="16034"/>
                  </a:cubicBezTo>
                  <a:cubicBezTo>
                    <a:pt x="12015" y="12721"/>
                    <a:pt x="5020" y="4032"/>
                    <a:pt x="2510" y="2016"/>
                  </a:cubicBezTo>
                  <a:cubicBezTo>
                    <a:pt x="0" y="0"/>
                    <a:pt x="2987" y="5253"/>
                    <a:pt x="3205" y="5963"/>
                  </a:cubicBezTo>
                  <a:cubicBezTo>
                    <a:pt x="3424" y="6673"/>
                    <a:pt x="3550" y="5736"/>
                    <a:pt x="3616" y="5575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91"/>
          <p:cNvGrpSpPr/>
          <p:nvPr/>
        </p:nvGrpSpPr>
        <p:grpSpPr>
          <a:xfrm>
            <a:off x="3352680" y="3811320"/>
            <a:ext cx="2058480" cy="1903680"/>
            <a:chOff x="3352680" y="3811320"/>
            <a:chExt cx="2058480" cy="1903680"/>
          </a:xfrm>
        </p:grpSpPr>
        <p:grpSp>
          <p:nvGrpSpPr>
            <p:cNvPr id="334" name="Group 92"/>
            <p:cNvGrpSpPr/>
            <p:nvPr/>
          </p:nvGrpSpPr>
          <p:grpSpPr>
            <a:xfrm>
              <a:off x="3352680" y="3811320"/>
              <a:ext cx="2058480" cy="1903680"/>
              <a:chOff x="3352680" y="3811320"/>
              <a:chExt cx="2058480" cy="1903680"/>
            </a:xfrm>
          </p:grpSpPr>
          <p:sp>
            <p:nvSpPr>
              <p:cNvPr id="335" name="Rectangle 93"/>
              <p:cNvSpPr/>
              <p:nvPr/>
            </p:nvSpPr>
            <p:spPr>
              <a:xfrm>
                <a:off x="3352680" y="3811680"/>
                <a:ext cx="2018880" cy="190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Group 94"/>
              <p:cNvGrpSpPr/>
              <p:nvPr/>
            </p:nvGrpSpPr>
            <p:grpSpPr>
              <a:xfrm>
                <a:off x="3352680" y="3811320"/>
                <a:ext cx="2058480" cy="1903680"/>
                <a:chOff x="3352680" y="3811320"/>
                <a:chExt cx="2058480" cy="1903680"/>
              </a:xfrm>
            </p:grpSpPr>
            <p:sp>
              <p:nvSpPr>
                <p:cNvPr id="337" name="Line 95"/>
                <p:cNvSpPr/>
                <p:nvPr/>
              </p:nvSpPr>
              <p:spPr>
                <a:xfrm>
                  <a:off x="3352680" y="3811680"/>
                  <a:ext cx="2019960" cy="190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96"/>
                <p:cNvSpPr/>
                <p:nvPr/>
              </p:nvSpPr>
              <p:spPr>
                <a:xfrm flipV="1">
                  <a:off x="3352680" y="3811320"/>
                  <a:ext cx="2019960" cy="190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97"/>
                <p:cNvSpPr/>
                <p:nvPr/>
              </p:nvSpPr>
              <p:spPr>
                <a:xfrm>
                  <a:off x="4362480" y="3811680"/>
                  <a:ext cx="360" cy="190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98"/>
                <p:cNvSpPr/>
                <p:nvPr/>
              </p:nvSpPr>
              <p:spPr>
                <a:xfrm>
                  <a:off x="3391200" y="4763160"/>
                  <a:ext cx="2019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WordArt 99"/>
            <p:cNvSpPr txBox="1"/>
            <p:nvPr/>
          </p:nvSpPr>
          <p:spPr>
            <a:xfrm>
              <a:off x="3507840" y="3994560"/>
              <a:ext cx="1670760" cy="156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许</a:t>
              </a:r>
              <a:endParaRPr b="0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42" name="曲线 217"/>
            <p:cNvSpPr/>
            <p:nvPr/>
          </p:nvSpPr>
          <p:spPr>
            <a:xfrm>
              <a:off x="3833280" y="4049640"/>
              <a:ext cx="289800" cy="23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79" y="3118"/>
                  </a:moveTo>
                  <a:cubicBezTo>
                    <a:pt x="6502" y="3409"/>
                    <a:pt x="15554" y="2848"/>
                    <a:pt x="18577" y="5717"/>
                  </a:cubicBezTo>
                  <a:cubicBezTo>
                    <a:pt x="21600" y="8585"/>
                    <a:pt x="19159" y="14822"/>
                    <a:pt x="18577" y="17421"/>
                  </a:cubicBezTo>
                  <a:cubicBezTo>
                    <a:pt x="17994" y="20020"/>
                    <a:pt x="18986" y="21600"/>
                    <a:pt x="15633" y="18731"/>
                  </a:cubicBezTo>
                  <a:cubicBezTo>
                    <a:pt x="12279" y="15862"/>
                    <a:pt x="3683" y="6236"/>
                    <a:pt x="1841" y="3118"/>
                  </a:cubicBezTo>
                  <a:cubicBezTo>
                    <a:pt x="0" y="0"/>
                    <a:pt x="4864" y="3118"/>
                    <a:pt x="6439" y="3118"/>
                  </a:cubicBezTo>
                  <a:cubicBezTo>
                    <a:pt x="8013" y="3118"/>
                    <a:pt x="9383" y="3035"/>
                    <a:pt x="9713" y="3118"/>
                  </a:cubicBezTo>
                  <a:cubicBezTo>
                    <a:pt x="10044" y="3201"/>
                    <a:pt x="8469" y="3471"/>
                    <a:pt x="8076" y="3554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曲线 218"/>
            <p:cNvSpPr/>
            <p:nvPr/>
          </p:nvSpPr>
          <p:spPr>
            <a:xfrm>
              <a:off x="3629520" y="4509360"/>
              <a:ext cx="584280" cy="83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657"/>
                  </a:moveTo>
                  <a:cubicBezTo>
                    <a:pt x="1349" y="3337"/>
                    <a:pt x="5070" y="2517"/>
                    <a:pt x="6989" y="1959"/>
                  </a:cubicBezTo>
                  <a:cubicBezTo>
                    <a:pt x="8908" y="1401"/>
                    <a:pt x="8814" y="1209"/>
                    <a:pt x="9594" y="872"/>
                  </a:cubicBezTo>
                  <a:cubicBezTo>
                    <a:pt x="10374" y="534"/>
                    <a:pt x="10250" y="406"/>
                    <a:pt x="10897" y="261"/>
                  </a:cubicBezTo>
                  <a:cubicBezTo>
                    <a:pt x="11544" y="116"/>
                    <a:pt x="11739" y="0"/>
                    <a:pt x="12847" y="145"/>
                  </a:cubicBezTo>
                  <a:cubicBezTo>
                    <a:pt x="13955" y="290"/>
                    <a:pt x="15741" y="529"/>
                    <a:pt x="16428" y="988"/>
                  </a:cubicBezTo>
                  <a:cubicBezTo>
                    <a:pt x="17114" y="1447"/>
                    <a:pt x="16716" y="1814"/>
                    <a:pt x="16264" y="2447"/>
                  </a:cubicBezTo>
                  <a:cubicBezTo>
                    <a:pt x="15811" y="3081"/>
                    <a:pt x="14735" y="1819"/>
                    <a:pt x="14150" y="4145"/>
                  </a:cubicBezTo>
                  <a:cubicBezTo>
                    <a:pt x="13565" y="6471"/>
                    <a:pt x="12621" y="12239"/>
                    <a:pt x="13339" y="14082"/>
                  </a:cubicBezTo>
                  <a:cubicBezTo>
                    <a:pt x="14056" y="15925"/>
                    <a:pt x="16225" y="13669"/>
                    <a:pt x="17723" y="13355"/>
                  </a:cubicBezTo>
                  <a:cubicBezTo>
                    <a:pt x="19220" y="13041"/>
                    <a:pt x="21600" y="11535"/>
                    <a:pt x="20819" y="12506"/>
                  </a:cubicBezTo>
                  <a:cubicBezTo>
                    <a:pt x="20039" y="13477"/>
                    <a:pt x="15772" y="16553"/>
                    <a:pt x="13822" y="18204"/>
                  </a:cubicBezTo>
                  <a:cubicBezTo>
                    <a:pt x="11872" y="19855"/>
                    <a:pt x="11810" y="20070"/>
                    <a:pt x="11061" y="20751"/>
                  </a:cubicBezTo>
                  <a:cubicBezTo>
                    <a:pt x="10312" y="21431"/>
                    <a:pt x="10507" y="21600"/>
                    <a:pt x="10086" y="21600"/>
                  </a:cubicBezTo>
                  <a:cubicBezTo>
                    <a:pt x="9665" y="21600"/>
                    <a:pt x="9399" y="21332"/>
                    <a:pt x="8947" y="20751"/>
                  </a:cubicBezTo>
                  <a:cubicBezTo>
                    <a:pt x="8494" y="20169"/>
                    <a:pt x="7675" y="19634"/>
                    <a:pt x="7808" y="18687"/>
                  </a:cubicBezTo>
                  <a:cubicBezTo>
                    <a:pt x="7941" y="17739"/>
                    <a:pt x="9072" y="17163"/>
                    <a:pt x="9594" y="16024"/>
                  </a:cubicBezTo>
                  <a:cubicBezTo>
                    <a:pt x="10117" y="14884"/>
                    <a:pt x="10078" y="15274"/>
                    <a:pt x="10406" y="12994"/>
                  </a:cubicBezTo>
                  <a:cubicBezTo>
                    <a:pt x="10733" y="10715"/>
                    <a:pt x="11451" y="6663"/>
                    <a:pt x="11225" y="4628"/>
                  </a:cubicBezTo>
                  <a:cubicBezTo>
                    <a:pt x="10998" y="2593"/>
                    <a:pt x="10858" y="2709"/>
                    <a:pt x="9267" y="2808"/>
                  </a:cubicBezTo>
                  <a:cubicBezTo>
                    <a:pt x="7675" y="2907"/>
                    <a:pt x="5109" y="4942"/>
                    <a:pt x="3252" y="5110"/>
                  </a:cubicBezTo>
                  <a:cubicBezTo>
                    <a:pt x="1396" y="5279"/>
                    <a:pt x="530" y="3994"/>
                    <a:pt x="0" y="365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曲线 219"/>
            <p:cNvSpPr/>
            <p:nvPr/>
          </p:nvSpPr>
          <p:spPr>
            <a:xfrm>
              <a:off x="4205880" y="3999240"/>
              <a:ext cx="440280" cy="64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03" y="0"/>
                  </a:moveTo>
                  <a:cubicBezTo>
                    <a:pt x="14003" y="741"/>
                    <a:pt x="14789" y="1813"/>
                    <a:pt x="13363" y="4691"/>
                  </a:cubicBezTo>
                  <a:cubicBezTo>
                    <a:pt x="11936" y="7569"/>
                    <a:pt x="9435" y="11062"/>
                    <a:pt x="6893" y="14375"/>
                  </a:cubicBezTo>
                  <a:cubicBezTo>
                    <a:pt x="4351" y="17687"/>
                    <a:pt x="0" y="20910"/>
                    <a:pt x="651" y="21255"/>
                  </a:cubicBezTo>
                  <a:cubicBezTo>
                    <a:pt x="1302" y="21600"/>
                    <a:pt x="6769" y="19351"/>
                    <a:pt x="10128" y="16098"/>
                  </a:cubicBezTo>
                  <a:cubicBezTo>
                    <a:pt x="13487" y="12846"/>
                    <a:pt x="15295" y="7659"/>
                    <a:pt x="17455" y="4999"/>
                  </a:cubicBezTo>
                  <a:cubicBezTo>
                    <a:pt x="19615" y="2338"/>
                    <a:pt x="21600" y="3807"/>
                    <a:pt x="20907" y="2810"/>
                  </a:cubicBezTo>
                  <a:cubicBezTo>
                    <a:pt x="20215" y="1813"/>
                    <a:pt x="15450" y="517"/>
                    <a:pt x="14003" y="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曲线 220"/>
            <p:cNvSpPr/>
            <p:nvPr/>
          </p:nvSpPr>
          <p:spPr>
            <a:xfrm>
              <a:off x="4403160" y="4353840"/>
              <a:ext cx="524520" cy="18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1" y="10655"/>
                  </a:moveTo>
                  <a:cubicBezTo>
                    <a:pt x="2689" y="9523"/>
                    <a:pt x="8431" y="6577"/>
                    <a:pt x="11615" y="4604"/>
                  </a:cubicBezTo>
                  <a:cubicBezTo>
                    <a:pt x="14799" y="2630"/>
                    <a:pt x="14868" y="0"/>
                    <a:pt x="16499" y="762"/>
                  </a:cubicBezTo>
                  <a:cubicBezTo>
                    <a:pt x="18130" y="1525"/>
                    <a:pt x="21600" y="4709"/>
                    <a:pt x="19752" y="8445"/>
                  </a:cubicBezTo>
                  <a:cubicBezTo>
                    <a:pt x="17904" y="12181"/>
                    <a:pt x="10999" y="17232"/>
                    <a:pt x="7269" y="19416"/>
                  </a:cubicBezTo>
                  <a:cubicBezTo>
                    <a:pt x="3539" y="21600"/>
                    <a:pt x="2238" y="21600"/>
                    <a:pt x="1119" y="19416"/>
                  </a:cubicBezTo>
                  <a:cubicBezTo>
                    <a:pt x="0" y="17232"/>
                    <a:pt x="1630" y="10418"/>
                    <a:pt x="1665" y="8445"/>
                  </a:cubicBezTo>
                  <a:cubicBezTo>
                    <a:pt x="1700" y="6472"/>
                    <a:pt x="1387" y="9103"/>
                    <a:pt x="1301" y="9550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曲线 221"/>
            <p:cNvSpPr/>
            <p:nvPr/>
          </p:nvSpPr>
          <p:spPr>
            <a:xfrm>
              <a:off x="4074120" y="4737240"/>
              <a:ext cx="103824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40" y="9894"/>
                  </a:moveTo>
                  <a:cubicBezTo>
                    <a:pt x="2044" y="9486"/>
                    <a:pt x="5250" y="8925"/>
                    <a:pt x="8505" y="7217"/>
                  </a:cubicBezTo>
                  <a:cubicBezTo>
                    <a:pt x="11760" y="5508"/>
                    <a:pt x="14870" y="2754"/>
                    <a:pt x="16919" y="1377"/>
                  </a:cubicBezTo>
                  <a:cubicBezTo>
                    <a:pt x="18967" y="0"/>
                    <a:pt x="18055" y="306"/>
                    <a:pt x="18748" y="306"/>
                  </a:cubicBezTo>
                  <a:cubicBezTo>
                    <a:pt x="19441" y="306"/>
                    <a:pt x="19862" y="306"/>
                    <a:pt x="20393" y="1377"/>
                  </a:cubicBezTo>
                  <a:cubicBezTo>
                    <a:pt x="20924" y="2448"/>
                    <a:pt x="21288" y="3723"/>
                    <a:pt x="21398" y="5635"/>
                  </a:cubicBezTo>
                  <a:cubicBezTo>
                    <a:pt x="21507" y="7548"/>
                    <a:pt x="21600" y="9996"/>
                    <a:pt x="20941" y="10940"/>
                  </a:cubicBezTo>
                  <a:cubicBezTo>
                    <a:pt x="20283" y="11883"/>
                    <a:pt x="20889" y="9231"/>
                    <a:pt x="18108" y="10404"/>
                  </a:cubicBezTo>
                  <a:cubicBezTo>
                    <a:pt x="15327" y="11577"/>
                    <a:pt x="10076" y="14791"/>
                    <a:pt x="7040" y="16805"/>
                  </a:cubicBezTo>
                  <a:cubicBezTo>
                    <a:pt x="4005" y="18820"/>
                    <a:pt x="4241" y="21600"/>
                    <a:pt x="2925" y="20528"/>
                  </a:cubicBezTo>
                  <a:cubicBezTo>
                    <a:pt x="1609" y="19457"/>
                    <a:pt x="912" y="13592"/>
                    <a:pt x="456" y="11475"/>
                  </a:cubicBezTo>
                  <a:cubicBezTo>
                    <a:pt x="0" y="9359"/>
                    <a:pt x="552" y="10022"/>
                    <a:pt x="640" y="9894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曲线 222"/>
            <p:cNvSpPr/>
            <p:nvPr/>
          </p:nvSpPr>
          <p:spPr>
            <a:xfrm>
              <a:off x="4522320" y="4461480"/>
              <a:ext cx="154440" cy="118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93"/>
                  </a:moveTo>
                  <a:cubicBezTo>
                    <a:pt x="739" y="1021"/>
                    <a:pt x="3077" y="0"/>
                    <a:pt x="3698" y="2696"/>
                  </a:cubicBezTo>
                  <a:cubicBezTo>
                    <a:pt x="4320" y="5393"/>
                    <a:pt x="2988" y="10886"/>
                    <a:pt x="3106" y="14369"/>
                  </a:cubicBezTo>
                  <a:cubicBezTo>
                    <a:pt x="3225" y="17853"/>
                    <a:pt x="2100" y="19261"/>
                    <a:pt x="4320" y="20121"/>
                  </a:cubicBezTo>
                  <a:cubicBezTo>
                    <a:pt x="6539" y="20982"/>
                    <a:pt x="11746" y="21600"/>
                    <a:pt x="14202" y="18664"/>
                  </a:cubicBezTo>
                  <a:cubicBezTo>
                    <a:pt x="16658" y="15728"/>
                    <a:pt x="16155" y="8465"/>
                    <a:pt x="16658" y="5443"/>
                  </a:cubicBezTo>
                  <a:cubicBezTo>
                    <a:pt x="17161" y="2421"/>
                    <a:pt x="16037" y="4224"/>
                    <a:pt x="16658" y="3553"/>
                  </a:cubicBezTo>
                  <a:cubicBezTo>
                    <a:pt x="17280" y="2882"/>
                    <a:pt x="21600" y="2680"/>
                    <a:pt x="19765" y="2095"/>
                  </a:cubicBezTo>
                  <a:cubicBezTo>
                    <a:pt x="17930" y="1511"/>
                    <a:pt x="11007" y="790"/>
                    <a:pt x="7426" y="634"/>
                  </a:cubicBezTo>
                  <a:cubicBezTo>
                    <a:pt x="3846" y="477"/>
                    <a:pt x="2485" y="1202"/>
                    <a:pt x="1864" y="1321"/>
                  </a:cubicBezTo>
                  <a:cubicBezTo>
                    <a:pt x="1242" y="1441"/>
                    <a:pt x="3728" y="1268"/>
                    <a:pt x="4320" y="1235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06"/>
          <p:cNvGrpSpPr/>
          <p:nvPr/>
        </p:nvGrpSpPr>
        <p:grpSpPr>
          <a:xfrm>
            <a:off x="5638680" y="3809880"/>
            <a:ext cx="1981080" cy="1905120"/>
            <a:chOff x="5638680" y="3809880"/>
            <a:chExt cx="1981080" cy="1905120"/>
          </a:xfrm>
        </p:grpSpPr>
        <p:grpSp>
          <p:nvGrpSpPr>
            <p:cNvPr id="349" name="Group 107"/>
            <p:cNvGrpSpPr/>
            <p:nvPr/>
          </p:nvGrpSpPr>
          <p:grpSpPr>
            <a:xfrm>
              <a:off x="5638680" y="3809880"/>
              <a:ext cx="1981080" cy="1905120"/>
              <a:chOff x="5638680" y="3809880"/>
              <a:chExt cx="1981080" cy="1905120"/>
            </a:xfrm>
          </p:grpSpPr>
          <p:sp>
            <p:nvSpPr>
              <p:cNvPr id="350" name="Rectangle 108"/>
              <p:cNvSpPr/>
              <p:nvPr/>
            </p:nvSpPr>
            <p:spPr>
              <a:xfrm>
                <a:off x="5638680" y="3809880"/>
                <a:ext cx="1942560" cy="190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Group 109"/>
              <p:cNvGrpSpPr/>
              <p:nvPr/>
            </p:nvGrpSpPr>
            <p:grpSpPr>
              <a:xfrm>
                <a:off x="5638680" y="3809880"/>
                <a:ext cx="1981080" cy="1905120"/>
                <a:chOff x="5638680" y="3809880"/>
                <a:chExt cx="1981080" cy="1905120"/>
              </a:xfrm>
            </p:grpSpPr>
            <p:sp>
              <p:nvSpPr>
                <p:cNvPr id="352" name="Line 110"/>
                <p:cNvSpPr/>
                <p:nvPr/>
              </p:nvSpPr>
              <p:spPr>
                <a:xfrm>
                  <a:off x="5638680" y="3809880"/>
                  <a:ext cx="1944000" cy="19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11"/>
                <p:cNvSpPr/>
                <p:nvPr/>
              </p:nvSpPr>
              <p:spPr>
                <a:xfrm flipV="1">
                  <a:off x="5638680" y="3809880"/>
                  <a:ext cx="1944000" cy="19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12"/>
                <p:cNvSpPr/>
                <p:nvPr/>
              </p:nvSpPr>
              <p:spPr>
                <a:xfrm>
                  <a:off x="6610680" y="3809880"/>
                  <a:ext cx="0" cy="19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13"/>
                <p:cNvSpPr/>
                <p:nvPr/>
              </p:nvSpPr>
              <p:spPr>
                <a:xfrm>
                  <a:off x="5675760" y="4762440"/>
                  <a:ext cx="194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WordArt 114"/>
            <p:cNvSpPr txBox="1"/>
            <p:nvPr/>
          </p:nvSpPr>
          <p:spPr>
            <a:xfrm>
              <a:off x="5638680" y="4005000"/>
              <a:ext cx="1869480" cy="142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变</a:t>
              </a:r>
              <a:endParaRPr b="0" lang="en-US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57" name="曲线 224"/>
            <p:cNvSpPr/>
            <p:nvPr/>
          </p:nvSpPr>
          <p:spPr>
            <a:xfrm>
              <a:off x="6386400" y="3992760"/>
              <a:ext cx="267840" cy="17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602"/>
                  </a:moveTo>
                  <a:cubicBezTo>
                    <a:pt x="1409" y="2081"/>
                    <a:pt x="4533" y="0"/>
                    <a:pt x="7942" y="442"/>
                  </a:cubicBezTo>
                  <a:cubicBezTo>
                    <a:pt x="11352" y="884"/>
                    <a:pt x="14380" y="1951"/>
                    <a:pt x="17085" y="4762"/>
                  </a:cubicBezTo>
                  <a:cubicBezTo>
                    <a:pt x="19790" y="7573"/>
                    <a:pt x="21295" y="11190"/>
                    <a:pt x="21447" y="14547"/>
                  </a:cubicBezTo>
                  <a:cubicBezTo>
                    <a:pt x="21600" y="17904"/>
                    <a:pt x="20971" y="21600"/>
                    <a:pt x="17866" y="21600"/>
                  </a:cubicBezTo>
                  <a:cubicBezTo>
                    <a:pt x="14761" y="21600"/>
                    <a:pt x="9542" y="18346"/>
                    <a:pt x="5961" y="14547"/>
                  </a:cubicBezTo>
                  <a:cubicBezTo>
                    <a:pt x="2380" y="10747"/>
                    <a:pt x="952" y="4840"/>
                    <a:pt x="0" y="2602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曲线 225"/>
            <p:cNvSpPr/>
            <p:nvPr/>
          </p:nvSpPr>
          <p:spPr>
            <a:xfrm>
              <a:off x="5966640" y="4128840"/>
              <a:ext cx="1232280" cy="21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442"/>
                  </a:moveTo>
                  <a:cubicBezTo>
                    <a:pt x="1762" y="12381"/>
                    <a:pt x="6139" y="10050"/>
                    <a:pt x="9573" y="7366"/>
                  </a:cubicBezTo>
                  <a:cubicBezTo>
                    <a:pt x="13007" y="4682"/>
                    <a:pt x="14852" y="0"/>
                    <a:pt x="17164" y="0"/>
                  </a:cubicBezTo>
                  <a:cubicBezTo>
                    <a:pt x="19477" y="0"/>
                    <a:pt x="20665" y="4931"/>
                    <a:pt x="21132" y="7366"/>
                  </a:cubicBezTo>
                  <a:cubicBezTo>
                    <a:pt x="21600" y="9801"/>
                    <a:pt x="20425" y="11465"/>
                    <a:pt x="19494" y="12152"/>
                  </a:cubicBezTo>
                  <a:cubicBezTo>
                    <a:pt x="18563" y="12839"/>
                    <a:pt x="19043" y="9884"/>
                    <a:pt x="16474" y="10841"/>
                  </a:cubicBezTo>
                  <a:cubicBezTo>
                    <a:pt x="13904" y="11798"/>
                    <a:pt x="9399" y="14836"/>
                    <a:pt x="6640" y="16917"/>
                  </a:cubicBezTo>
                  <a:cubicBezTo>
                    <a:pt x="3880" y="18998"/>
                    <a:pt x="3843" y="20892"/>
                    <a:pt x="2672" y="21246"/>
                  </a:cubicBezTo>
                  <a:cubicBezTo>
                    <a:pt x="1501" y="21600"/>
                    <a:pt x="1311" y="20205"/>
                    <a:pt x="777" y="18645"/>
                  </a:cubicBezTo>
                  <a:cubicBezTo>
                    <a:pt x="244" y="17084"/>
                    <a:pt x="115" y="14420"/>
                    <a:pt x="0" y="13442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曲线 226"/>
            <p:cNvSpPr/>
            <p:nvPr/>
          </p:nvSpPr>
          <p:spPr>
            <a:xfrm>
              <a:off x="6302160" y="4263120"/>
              <a:ext cx="140040" cy="48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2" y="2190"/>
                  </a:moveTo>
                  <a:cubicBezTo>
                    <a:pt x="2645" y="3245"/>
                    <a:pt x="4675" y="5418"/>
                    <a:pt x="4385" y="8263"/>
                  </a:cubicBezTo>
                  <a:cubicBezTo>
                    <a:pt x="4095" y="11109"/>
                    <a:pt x="0" y="13790"/>
                    <a:pt x="616" y="16409"/>
                  </a:cubicBezTo>
                  <a:cubicBezTo>
                    <a:pt x="1232" y="19027"/>
                    <a:pt x="4240" y="21072"/>
                    <a:pt x="7393" y="21336"/>
                  </a:cubicBezTo>
                  <a:cubicBezTo>
                    <a:pt x="10546" y="21600"/>
                    <a:pt x="14025" y="20581"/>
                    <a:pt x="16453" y="17736"/>
                  </a:cubicBezTo>
                  <a:cubicBezTo>
                    <a:pt x="18881" y="14890"/>
                    <a:pt x="18881" y="9927"/>
                    <a:pt x="19497" y="7118"/>
                  </a:cubicBezTo>
                  <a:cubicBezTo>
                    <a:pt x="20114" y="4309"/>
                    <a:pt x="21600" y="5072"/>
                    <a:pt x="19497" y="3709"/>
                  </a:cubicBezTo>
                  <a:cubicBezTo>
                    <a:pt x="17395" y="2345"/>
                    <a:pt x="12394" y="600"/>
                    <a:pt x="8915" y="300"/>
                  </a:cubicBezTo>
                  <a:cubicBezTo>
                    <a:pt x="5436" y="0"/>
                    <a:pt x="3261" y="1745"/>
                    <a:pt x="2102" y="2190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曲线 227"/>
            <p:cNvSpPr/>
            <p:nvPr/>
          </p:nvSpPr>
          <p:spPr>
            <a:xfrm>
              <a:off x="6553080" y="4239720"/>
              <a:ext cx="170640" cy="51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37" y="1439"/>
                  </a:moveTo>
                  <a:cubicBezTo>
                    <a:pt x="2756" y="2180"/>
                    <a:pt x="6081" y="3275"/>
                    <a:pt x="6710" y="6111"/>
                  </a:cubicBezTo>
                  <a:cubicBezTo>
                    <a:pt x="7339" y="8946"/>
                    <a:pt x="4733" y="12868"/>
                    <a:pt x="4853" y="15635"/>
                  </a:cubicBezTo>
                  <a:cubicBezTo>
                    <a:pt x="4973" y="18402"/>
                    <a:pt x="5722" y="18971"/>
                    <a:pt x="7339" y="19945"/>
                  </a:cubicBezTo>
                  <a:cubicBezTo>
                    <a:pt x="8957" y="20919"/>
                    <a:pt x="10964" y="21600"/>
                    <a:pt x="12971" y="20488"/>
                  </a:cubicBezTo>
                  <a:cubicBezTo>
                    <a:pt x="14979" y="19376"/>
                    <a:pt x="16207" y="17290"/>
                    <a:pt x="17345" y="14377"/>
                  </a:cubicBezTo>
                  <a:cubicBezTo>
                    <a:pt x="18484" y="11463"/>
                    <a:pt x="17975" y="8084"/>
                    <a:pt x="18604" y="5930"/>
                  </a:cubicBezTo>
                  <a:cubicBezTo>
                    <a:pt x="19233" y="3775"/>
                    <a:pt x="21600" y="4637"/>
                    <a:pt x="20461" y="3594"/>
                  </a:cubicBezTo>
                  <a:cubicBezTo>
                    <a:pt x="19323" y="2551"/>
                    <a:pt x="16716" y="1361"/>
                    <a:pt x="12971" y="715"/>
                  </a:cubicBezTo>
                  <a:cubicBezTo>
                    <a:pt x="9227" y="68"/>
                    <a:pt x="3475" y="0"/>
                    <a:pt x="1737" y="362"/>
                  </a:cubicBezTo>
                  <a:cubicBezTo>
                    <a:pt x="0" y="724"/>
                    <a:pt x="4224" y="2301"/>
                    <a:pt x="4224" y="2516"/>
                  </a:cubicBezTo>
                  <a:cubicBezTo>
                    <a:pt x="4224" y="2732"/>
                    <a:pt x="2276" y="1698"/>
                    <a:pt x="1737" y="1439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曲线 228"/>
            <p:cNvSpPr/>
            <p:nvPr/>
          </p:nvSpPr>
          <p:spPr>
            <a:xfrm>
              <a:off x="5934600" y="4374720"/>
              <a:ext cx="238320" cy="36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89" y="857"/>
                  </a:moveTo>
                  <a:cubicBezTo>
                    <a:pt x="15507" y="3116"/>
                    <a:pt x="6773" y="9277"/>
                    <a:pt x="3386" y="12696"/>
                  </a:cubicBezTo>
                  <a:cubicBezTo>
                    <a:pt x="0" y="16115"/>
                    <a:pt x="1959" y="16369"/>
                    <a:pt x="1597" y="17975"/>
                  </a:cubicBezTo>
                  <a:cubicBezTo>
                    <a:pt x="1235" y="19582"/>
                    <a:pt x="617" y="20355"/>
                    <a:pt x="1597" y="20754"/>
                  </a:cubicBezTo>
                  <a:cubicBezTo>
                    <a:pt x="2577" y="21153"/>
                    <a:pt x="3386" y="21600"/>
                    <a:pt x="6497" y="19993"/>
                  </a:cubicBezTo>
                  <a:cubicBezTo>
                    <a:pt x="9607" y="18386"/>
                    <a:pt x="14208" y="16127"/>
                    <a:pt x="17147" y="12696"/>
                  </a:cubicBezTo>
                  <a:cubicBezTo>
                    <a:pt x="20087" y="9265"/>
                    <a:pt x="20705" y="5387"/>
                    <a:pt x="21152" y="2863"/>
                  </a:cubicBezTo>
                  <a:cubicBezTo>
                    <a:pt x="21600" y="338"/>
                    <a:pt x="20172" y="193"/>
                    <a:pt x="19363" y="96"/>
                  </a:cubicBezTo>
                  <a:cubicBezTo>
                    <a:pt x="18553" y="0"/>
                    <a:pt x="17510" y="2065"/>
                    <a:pt x="17147" y="2367"/>
                  </a:cubicBezTo>
                  <a:cubicBezTo>
                    <a:pt x="16785" y="2669"/>
                    <a:pt x="17467" y="1800"/>
                    <a:pt x="17595" y="1606"/>
                  </a:cubicBezTo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曲线 229"/>
            <p:cNvSpPr/>
            <p:nvPr/>
          </p:nvSpPr>
          <p:spPr>
            <a:xfrm>
              <a:off x="6739920" y="4401360"/>
              <a:ext cx="429120" cy="2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411" y="1963"/>
                  </a:moveTo>
                  <a:cubicBezTo>
                    <a:pt x="5515" y="1818"/>
                    <a:pt x="11103" y="0"/>
                    <a:pt x="14574" y="2345"/>
                  </a:cubicBezTo>
                  <a:cubicBezTo>
                    <a:pt x="18045" y="4690"/>
                    <a:pt x="20078" y="10236"/>
                    <a:pt x="20767" y="13727"/>
                  </a:cubicBezTo>
                  <a:cubicBezTo>
                    <a:pt x="21457" y="17218"/>
                    <a:pt x="21600" y="21600"/>
                    <a:pt x="18033" y="19781"/>
                  </a:cubicBezTo>
                  <a:cubicBezTo>
                    <a:pt x="14467" y="17963"/>
                    <a:pt x="5848" y="8181"/>
                    <a:pt x="2924" y="4618"/>
                  </a:cubicBezTo>
                  <a:cubicBezTo>
                    <a:pt x="0" y="1054"/>
                    <a:pt x="3007" y="2200"/>
                    <a:pt x="3411" y="1963"/>
                  </a:cubicBezTo>
                  <a:close/>
                </a:path>
              </a:pathLst>
            </a:custGeom>
            <a:solidFill>
              <a:srgbClr val="00a8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曲线 230"/>
            <p:cNvSpPr/>
            <p:nvPr/>
          </p:nvSpPr>
          <p:spPr>
            <a:xfrm>
              <a:off x="5875200" y="4724280"/>
              <a:ext cx="998640" cy="68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113" y="2882"/>
                  </a:moveTo>
                  <a:cubicBezTo>
                    <a:pt x="6731" y="2940"/>
                    <a:pt x="7967" y="3279"/>
                    <a:pt x="9735" y="3010"/>
                  </a:cubicBezTo>
                  <a:cubicBezTo>
                    <a:pt x="11502" y="2741"/>
                    <a:pt x="13402" y="2133"/>
                    <a:pt x="14955" y="1543"/>
                  </a:cubicBezTo>
                  <a:cubicBezTo>
                    <a:pt x="16507" y="954"/>
                    <a:pt x="16400" y="153"/>
                    <a:pt x="17508" y="76"/>
                  </a:cubicBezTo>
                  <a:cubicBezTo>
                    <a:pt x="18617" y="0"/>
                    <a:pt x="19725" y="531"/>
                    <a:pt x="20491" y="1146"/>
                  </a:cubicBezTo>
                  <a:cubicBezTo>
                    <a:pt x="21257" y="1761"/>
                    <a:pt x="21324" y="2504"/>
                    <a:pt x="21344" y="3145"/>
                  </a:cubicBezTo>
                  <a:cubicBezTo>
                    <a:pt x="21365" y="3785"/>
                    <a:pt x="21600" y="2318"/>
                    <a:pt x="20598" y="4349"/>
                  </a:cubicBezTo>
                  <a:cubicBezTo>
                    <a:pt x="19597" y="6380"/>
                    <a:pt x="18959" y="10146"/>
                    <a:pt x="16339" y="13298"/>
                  </a:cubicBezTo>
                  <a:cubicBezTo>
                    <a:pt x="13718" y="16449"/>
                    <a:pt x="10695" y="18614"/>
                    <a:pt x="7497" y="20107"/>
                  </a:cubicBezTo>
                  <a:cubicBezTo>
                    <a:pt x="4300" y="21600"/>
                    <a:pt x="725" y="21119"/>
                    <a:pt x="362" y="20773"/>
                  </a:cubicBezTo>
                  <a:cubicBezTo>
                    <a:pt x="0" y="20427"/>
                    <a:pt x="3176" y="19896"/>
                    <a:pt x="5689" y="18371"/>
                  </a:cubicBezTo>
                  <a:cubicBezTo>
                    <a:pt x="8202" y="16846"/>
                    <a:pt x="10695" y="15623"/>
                    <a:pt x="12932" y="13163"/>
                  </a:cubicBezTo>
                  <a:cubicBezTo>
                    <a:pt x="15169" y="10703"/>
                    <a:pt x="16083" y="8141"/>
                    <a:pt x="16870" y="6085"/>
                  </a:cubicBezTo>
                  <a:cubicBezTo>
                    <a:pt x="17656" y="4029"/>
                    <a:pt x="17447" y="3414"/>
                    <a:pt x="16870" y="2882"/>
                  </a:cubicBezTo>
                  <a:cubicBezTo>
                    <a:pt x="16293" y="2350"/>
                    <a:pt x="15762" y="2959"/>
                    <a:pt x="13994" y="3414"/>
                  </a:cubicBezTo>
                  <a:cubicBezTo>
                    <a:pt x="12227" y="3869"/>
                    <a:pt x="9607" y="5259"/>
                    <a:pt x="8029" y="5150"/>
                  </a:cubicBezTo>
                  <a:cubicBezTo>
                    <a:pt x="6450" y="5041"/>
                    <a:pt x="6379" y="3369"/>
                    <a:pt x="6113" y="2882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曲线 231"/>
            <p:cNvSpPr/>
            <p:nvPr/>
          </p:nvSpPr>
          <p:spPr>
            <a:xfrm>
              <a:off x="6081120" y="4908960"/>
              <a:ext cx="1281240" cy="53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62" y="1403"/>
                  </a:moveTo>
                  <a:cubicBezTo>
                    <a:pt x="1392" y="1239"/>
                    <a:pt x="1858" y="0"/>
                    <a:pt x="3135" y="1231"/>
                  </a:cubicBezTo>
                  <a:cubicBezTo>
                    <a:pt x="4412" y="2462"/>
                    <a:pt x="5673" y="5237"/>
                    <a:pt x="7448" y="7569"/>
                  </a:cubicBezTo>
                  <a:cubicBezTo>
                    <a:pt x="9222" y="9901"/>
                    <a:pt x="10085" y="11091"/>
                    <a:pt x="12011" y="12872"/>
                  </a:cubicBezTo>
                  <a:cubicBezTo>
                    <a:pt x="13937" y="14654"/>
                    <a:pt x="15182" y="15442"/>
                    <a:pt x="17072" y="16468"/>
                  </a:cubicBezTo>
                  <a:cubicBezTo>
                    <a:pt x="18962" y="17495"/>
                    <a:pt x="21600" y="17125"/>
                    <a:pt x="21468" y="18012"/>
                  </a:cubicBezTo>
                  <a:cubicBezTo>
                    <a:pt x="21337" y="18898"/>
                    <a:pt x="17935" y="20335"/>
                    <a:pt x="16407" y="20918"/>
                  </a:cubicBezTo>
                  <a:cubicBezTo>
                    <a:pt x="14880" y="21501"/>
                    <a:pt x="14864" y="21600"/>
                    <a:pt x="13833" y="20918"/>
                  </a:cubicBezTo>
                  <a:cubicBezTo>
                    <a:pt x="12803" y="20237"/>
                    <a:pt x="12640" y="19580"/>
                    <a:pt x="11263" y="17495"/>
                  </a:cubicBezTo>
                  <a:cubicBezTo>
                    <a:pt x="9886" y="15409"/>
                    <a:pt x="8458" y="12971"/>
                    <a:pt x="6950" y="10475"/>
                  </a:cubicBezTo>
                  <a:cubicBezTo>
                    <a:pt x="5442" y="7979"/>
                    <a:pt x="5060" y="6707"/>
                    <a:pt x="3716" y="4999"/>
                  </a:cubicBezTo>
                  <a:cubicBezTo>
                    <a:pt x="2371" y="3292"/>
                    <a:pt x="461" y="2742"/>
                    <a:pt x="230" y="1921"/>
                  </a:cubicBezTo>
                  <a:cubicBezTo>
                    <a:pt x="0" y="1100"/>
                    <a:pt x="2021" y="1034"/>
                    <a:pt x="2554" y="894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374840" y="1495440"/>
            <a:ext cx="75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33920" y="1523880"/>
            <a:ext cx="137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ě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á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24480" y="1600200"/>
            <a:ext cx="137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露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也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冷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228600"/>
            <a:ext cx="13064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我会连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685800" y="2527200"/>
            <a:ext cx="76201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  瞧  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露珠）（瞧见） （魔法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1676520" y="182880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875400" y="1828800"/>
            <a:ext cx="132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327000" y="1906560"/>
            <a:ext cx="10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1787400" y="76320"/>
            <a:ext cx="1800360" cy="156816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10800000">
            <a:off x="1787040" y="1906560"/>
            <a:ext cx="1800360" cy="15667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587520" y="3003480"/>
            <a:ext cx="1800000" cy="15685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 rot="3660000">
            <a:off x="3617280" y="957240"/>
            <a:ext cx="1648080" cy="17110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2987640" y="3084480"/>
            <a:ext cx="1798560" cy="15667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16560000">
            <a:off x="107640" y="955080"/>
            <a:ext cx="1644840" cy="171144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0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 rot="4620000">
            <a:off x="7576920" y="3700440"/>
            <a:ext cx="1646280" cy="1712880"/>
          </a:xfrm>
          <a:prstGeom prst="pentagon">
            <a:avLst/>
          </a:prstGeom>
          <a:gradFill rotWithShape="0">
            <a:gsLst>
              <a:gs pos="0">
                <a:srgbClr val="ffb9dc"/>
              </a:gs>
              <a:gs pos="100000">
                <a:srgbClr val="bddeff"/>
              </a:gs>
            </a:gsLst>
            <a:lin ang="7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9"/>
          <p:cNvSpPr/>
          <p:nvPr/>
        </p:nvSpPr>
        <p:spPr>
          <a:xfrm rot="21120000">
            <a:off x="5562360" y="4952520"/>
            <a:ext cx="1800000" cy="1567080"/>
          </a:xfrm>
          <a:prstGeom prst="pentagon">
            <a:avLst/>
          </a:prstGeom>
          <a:gradFill rotWithShape="0">
            <a:gsLst>
              <a:gs pos="0">
                <a:srgbClr val="00a800"/>
              </a:gs>
              <a:gs pos="100000">
                <a:srgbClr val="edffc9"/>
              </a:gs>
            </a:gsLst>
            <a:lin ang="58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1680000">
            <a:off x="7162560" y="5028840"/>
            <a:ext cx="1800000" cy="1566720"/>
          </a:xfrm>
          <a:prstGeom prst="pentagon">
            <a:avLst/>
          </a:prstGeom>
          <a:gradFill rotWithShape="0">
            <a:gsLst>
              <a:gs pos="0">
                <a:srgbClr val="00a800"/>
              </a:gs>
              <a:gs pos="100000">
                <a:srgbClr val="edffc9"/>
              </a:gs>
            </a:gsLst>
            <a:lin ang="3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1"/>
          <p:cNvSpPr/>
          <p:nvPr/>
        </p:nvSpPr>
        <p:spPr>
          <a:xfrm rot="4620000">
            <a:off x="6053040" y="3700440"/>
            <a:ext cx="1646280" cy="1712880"/>
          </a:xfrm>
          <a:prstGeom prst="pentagon">
            <a:avLst/>
          </a:prstGeom>
          <a:gradFill rotWithShape="0">
            <a:gsLst>
              <a:gs pos="0">
                <a:srgbClr val="ffb9dc"/>
              </a:gs>
              <a:gs pos="100000">
                <a:srgbClr val="bddeff"/>
              </a:gs>
            </a:gsLst>
            <a:lin ang="7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2"/>
          <p:cNvSpPr txBox="1"/>
          <p:nvPr/>
        </p:nvSpPr>
        <p:spPr>
          <a:xfrm>
            <a:off x="5791320" y="1066680"/>
            <a:ext cx="2971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谁不见了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247040" y="115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谁说得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2057400" y="1066680"/>
            <a:ext cx="1098720" cy="2139840"/>
            <a:chOff x="2057400" y="1066680"/>
            <a:chExt cx="1098720" cy="2139840"/>
          </a:xfrm>
        </p:grpSpPr>
        <p:sp>
          <p:nvSpPr>
            <p:cNvPr id="386" name="Oval 4"/>
            <p:cNvSpPr/>
            <p:nvPr/>
          </p:nvSpPr>
          <p:spPr>
            <a:xfrm>
              <a:off x="2057400" y="1066680"/>
              <a:ext cx="1098720" cy="133956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露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"/>
            <p:cNvSpPr/>
            <p:nvPr/>
          </p:nvSpPr>
          <p:spPr>
            <a:xfrm>
              <a:off x="2546280" y="2329920"/>
              <a:ext cx="286920" cy="87660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0" y="0"/>
                  </a:moveTo>
                  <a:cubicBezTo>
                    <a:pt x="7" y="94"/>
                    <a:pt x="15" y="189"/>
                    <a:pt x="45" y="227"/>
                  </a:cubicBezTo>
                  <a:cubicBezTo>
                    <a:pt x="75" y="265"/>
                    <a:pt x="181" y="182"/>
                    <a:pt x="181" y="227"/>
                  </a:cubicBezTo>
                  <a:cubicBezTo>
                    <a:pt x="181" y="272"/>
                    <a:pt x="68" y="446"/>
                    <a:pt x="45" y="499"/>
                  </a:cubicBezTo>
                  <a:cubicBezTo>
                    <a:pt x="22" y="552"/>
                    <a:pt x="45" y="537"/>
                    <a:pt x="45" y="5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"/>
          <p:cNvGrpSpPr/>
          <p:nvPr/>
        </p:nvGrpSpPr>
        <p:grpSpPr>
          <a:xfrm>
            <a:off x="1066680" y="4191120"/>
            <a:ext cx="1871640" cy="1685520"/>
            <a:chOff x="1066680" y="4191120"/>
            <a:chExt cx="1871640" cy="1685520"/>
          </a:xfrm>
        </p:grpSpPr>
        <p:sp>
          <p:nvSpPr>
            <p:cNvPr id="389" name="Oval 7"/>
            <p:cNvSpPr/>
            <p:nvPr/>
          </p:nvSpPr>
          <p:spPr>
            <a:xfrm>
              <a:off x="1066680" y="4191120"/>
              <a:ext cx="1871640" cy="72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</a:rPr>
                <a:t>是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1860120" y="4868640"/>
              <a:ext cx="419040" cy="1008000"/>
            </a:xfrm>
            <a:custGeom>
              <a:avLst/>
              <a:gdLst/>
              <a:ahLst/>
              <a:rect l="l" t="t" r="r" b="b"/>
              <a:pathLst>
                <a:path w="264" h="635">
                  <a:moveTo>
                    <a:pt x="75" y="0"/>
                  </a:moveTo>
                  <a:cubicBezTo>
                    <a:pt x="169" y="94"/>
                    <a:pt x="264" y="189"/>
                    <a:pt x="257" y="227"/>
                  </a:cubicBezTo>
                  <a:cubicBezTo>
                    <a:pt x="250" y="265"/>
                    <a:pt x="60" y="204"/>
                    <a:pt x="30" y="227"/>
                  </a:cubicBezTo>
                  <a:cubicBezTo>
                    <a:pt x="0" y="250"/>
                    <a:pt x="68" y="310"/>
                    <a:pt x="75" y="363"/>
                  </a:cubicBezTo>
                  <a:cubicBezTo>
                    <a:pt x="82" y="416"/>
                    <a:pt x="82" y="500"/>
                    <a:pt x="75" y="545"/>
                  </a:cubicBezTo>
                  <a:cubicBezTo>
                    <a:pt x="68" y="590"/>
                    <a:pt x="49" y="612"/>
                    <a:pt x="30" y="6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"/>
          <p:cNvGrpSpPr/>
          <p:nvPr/>
        </p:nvGrpSpPr>
        <p:grpSpPr>
          <a:xfrm>
            <a:off x="3276720" y="2590920"/>
            <a:ext cx="1371600" cy="1828800"/>
            <a:chOff x="3276720" y="2590920"/>
            <a:chExt cx="1371600" cy="1828800"/>
          </a:xfrm>
        </p:grpSpPr>
        <p:sp>
          <p:nvSpPr>
            <p:cNvPr id="392" name="Oval 10"/>
            <p:cNvSpPr/>
            <p:nvPr/>
          </p:nvSpPr>
          <p:spPr>
            <a:xfrm>
              <a:off x="3276720" y="2590920"/>
              <a:ext cx="1371600" cy="1203120"/>
            </a:xfrm>
            <a:prstGeom prst="ellipse">
              <a:avLst/>
            </a:prstGeom>
            <a:solidFill>
              <a:srgbClr val="00339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ef6f1"/>
                  </a:solidFill>
                  <a:latin typeface="Arial"/>
                </a:rPr>
                <a:t>房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3935520" y="3649680"/>
              <a:ext cx="211320" cy="770040"/>
            </a:xfrm>
            <a:custGeom>
              <a:avLst/>
              <a:gdLst/>
              <a:ahLst/>
              <a:rect l="l" t="t" r="r" b="b"/>
              <a:pathLst>
                <a:path w="182" h="726">
                  <a:moveTo>
                    <a:pt x="23" y="0"/>
                  </a:moveTo>
                  <a:cubicBezTo>
                    <a:pt x="11" y="151"/>
                    <a:pt x="0" y="302"/>
                    <a:pt x="23" y="363"/>
                  </a:cubicBezTo>
                  <a:cubicBezTo>
                    <a:pt x="46" y="424"/>
                    <a:pt x="136" y="302"/>
                    <a:pt x="159" y="363"/>
                  </a:cubicBezTo>
                  <a:cubicBezTo>
                    <a:pt x="182" y="424"/>
                    <a:pt x="159" y="666"/>
                    <a:pt x="159" y="7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5867280" y="3733920"/>
            <a:ext cx="1143000" cy="1904760"/>
            <a:chOff x="5867280" y="3733920"/>
            <a:chExt cx="1143000" cy="1904760"/>
          </a:xfrm>
        </p:grpSpPr>
        <p:sp>
          <p:nvSpPr>
            <p:cNvPr id="395" name="Oval 13"/>
            <p:cNvSpPr/>
            <p:nvPr/>
          </p:nvSpPr>
          <p:spPr>
            <a:xfrm>
              <a:off x="5867280" y="3733920"/>
              <a:ext cx="1143000" cy="1290960"/>
            </a:xfrm>
            <a:prstGeom prst="ellipse">
              <a:avLst/>
            </a:prstGeom>
            <a:solidFill>
              <a:srgbClr val="ffb9d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瞧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"/>
            <p:cNvSpPr/>
            <p:nvPr/>
          </p:nvSpPr>
          <p:spPr>
            <a:xfrm>
              <a:off x="6317280" y="4924080"/>
              <a:ext cx="299880" cy="714600"/>
            </a:xfrm>
            <a:custGeom>
              <a:avLst/>
              <a:gdLst/>
              <a:ahLst/>
              <a:rect l="l" t="t" r="r" b="b"/>
              <a:pathLst>
                <a:path w="151" h="545">
                  <a:moveTo>
                    <a:pt x="15" y="0"/>
                  </a:moveTo>
                  <a:cubicBezTo>
                    <a:pt x="83" y="83"/>
                    <a:pt x="151" y="167"/>
                    <a:pt x="151" y="227"/>
                  </a:cubicBezTo>
                  <a:cubicBezTo>
                    <a:pt x="151" y="287"/>
                    <a:pt x="30" y="333"/>
                    <a:pt x="15" y="363"/>
                  </a:cubicBezTo>
                  <a:cubicBezTo>
                    <a:pt x="0" y="393"/>
                    <a:pt x="53" y="379"/>
                    <a:pt x="60" y="409"/>
                  </a:cubicBezTo>
                  <a:cubicBezTo>
                    <a:pt x="67" y="439"/>
                    <a:pt x="63" y="492"/>
                    <a:pt x="60" y="5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3657600" y="4724280"/>
            <a:ext cx="990720" cy="1981440"/>
            <a:chOff x="3657600" y="4724280"/>
            <a:chExt cx="990720" cy="1981440"/>
          </a:xfrm>
        </p:grpSpPr>
        <p:sp>
          <p:nvSpPr>
            <p:cNvPr id="398" name="Oval 16"/>
            <p:cNvSpPr/>
            <p:nvPr/>
          </p:nvSpPr>
          <p:spPr>
            <a:xfrm>
              <a:off x="3657600" y="4724280"/>
              <a:ext cx="990720" cy="126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800080"/>
                  </a:solidFill>
                  <a:latin typeface="Arial"/>
                </a:rPr>
                <a:t>却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4071240" y="5880600"/>
              <a:ext cx="226440" cy="825120"/>
            </a:xfrm>
            <a:custGeom>
              <a:avLst/>
              <a:gdLst/>
              <a:ahLst/>
              <a:rect l="l" t="t" r="r" b="b"/>
              <a:pathLst>
                <a:path w="166" h="680">
                  <a:moveTo>
                    <a:pt x="60" y="0"/>
                  </a:moveTo>
                  <a:cubicBezTo>
                    <a:pt x="30" y="94"/>
                    <a:pt x="0" y="189"/>
                    <a:pt x="15" y="272"/>
                  </a:cubicBezTo>
                  <a:cubicBezTo>
                    <a:pt x="30" y="355"/>
                    <a:pt x="136" y="431"/>
                    <a:pt x="151" y="499"/>
                  </a:cubicBezTo>
                  <a:cubicBezTo>
                    <a:pt x="166" y="567"/>
                    <a:pt x="136" y="623"/>
                    <a:pt x="106" y="6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8"/>
          <p:cNvGrpSpPr/>
          <p:nvPr/>
        </p:nvGrpSpPr>
        <p:grpSpPr>
          <a:xfrm>
            <a:off x="7772400" y="3124080"/>
            <a:ext cx="1006560" cy="1698840"/>
            <a:chOff x="7772400" y="3124080"/>
            <a:chExt cx="1006560" cy="1698840"/>
          </a:xfrm>
        </p:grpSpPr>
        <p:sp>
          <p:nvSpPr>
            <p:cNvPr id="401" name="Oval 19"/>
            <p:cNvSpPr/>
            <p:nvPr/>
          </p:nvSpPr>
          <p:spPr>
            <a:xfrm>
              <a:off x="7772400" y="3124080"/>
              <a:ext cx="1006560" cy="903240"/>
            </a:xfrm>
            <a:prstGeom prst="ellipse">
              <a:avLst/>
            </a:prstGeom>
            <a:solidFill>
              <a:srgbClr val="fff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许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>
              <a:off x="8152920" y="3886200"/>
              <a:ext cx="288360" cy="936720"/>
            </a:xfrm>
            <a:custGeom>
              <a:avLst/>
              <a:gdLst/>
              <a:ahLst/>
              <a:rect l="l" t="t" r="r" b="b"/>
              <a:pathLst>
                <a:path w="182" h="590">
                  <a:moveTo>
                    <a:pt x="136" y="0"/>
                  </a:moveTo>
                  <a:cubicBezTo>
                    <a:pt x="68" y="106"/>
                    <a:pt x="0" y="212"/>
                    <a:pt x="0" y="272"/>
                  </a:cubicBezTo>
                  <a:cubicBezTo>
                    <a:pt x="0" y="332"/>
                    <a:pt x="106" y="310"/>
                    <a:pt x="136" y="363"/>
                  </a:cubicBezTo>
                  <a:cubicBezTo>
                    <a:pt x="166" y="416"/>
                    <a:pt x="174" y="503"/>
                    <a:pt x="182" y="5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4495680" y="533520"/>
            <a:ext cx="1152720" cy="2593800"/>
            <a:chOff x="4495680" y="533520"/>
            <a:chExt cx="1152720" cy="2593800"/>
          </a:xfrm>
        </p:grpSpPr>
        <p:sp>
          <p:nvSpPr>
            <p:cNvPr id="404" name="Oval 22"/>
            <p:cNvSpPr/>
            <p:nvPr/>
          </p:nvSpPr>
          <p:spPr>
            <a:xfrm>
              <a:off x="4495680" y="533520"/>
              <a:ext cx="1152720" cy="1657800"/>
            </a:xfrm>
            <a:prstGeom prst="ellipse">
              <a:avLst/>
            </a:prstGeom>
            <a:solidFill>
              <a:srgbClr val="def6f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800080"/>
                  </a:solidFill>
                  <a:latin typeface="Arial"/>
                </a:rPr>
                <a:t>很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"/>
            <p:cNvSpPr/>
            <p:nvPr/>
          </p:nvSpPr>
          <p:spPr>
            <a:xfrm>
              <a:off x="4977000" y="2047320"/>
              <a:ext cx="263520" cy="1080000"/>
            </a:xfrm>
            <a:custGeom>
              <a:avLst/>
              <a:gdLst/>
              <a:ahLst/>
              <a:rect l="l" t="t" r="r" b="b"/>
              <a:pathLst>
                <a:path w="166" h="680">
                  <a:moveTo>
                    <a:pt x="60" y="0"/>
                  </a:moveTo>
                  <a:cubicBezTo>
                    <a:pt x="30" y="94"/>
                    <a:pt x="0" y="189"/>
                    <a:pt x="15" y="272"/>
                  </a:cubicBezTo>
                  <a:cubicBezTo>
                    <a:pt x="30" y="355"/>
                    <a:pt x="136" y="431"/>
                    <a:pt x="151" y="499"/>
                  </a:cubicBezTo>
                  <a:cubicBezTo>
                    <a:pt x="166" y="567"/>
                    <a:pt x="136" y="623"/>
                    <a:pt x="106" y="6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24"/>
          <p:cNvGrpSpPr/>
          <p:nvPr/>
        </p:nvGrpSpPr>
        <p:grpSpPr>
          <a:xfrm>
            <a:off x="5867280" y="1525680"/>
            <a:ext cx="1152720" cy="2058840"/>
            <a:chOff x="5867280" y="1525680"/>
            <a:chExt cx="1152720" cy="2058840"/>
          </a:xfrm>
        </p:grpSpPr>
        <p:sp>
          <p:nvSpPr>
            <p:cNvPr id="407" name="Oval 25"/>
            <p:cNvSpPr/>
            <p:nvPr/>
          </p:nvSpPr>
          <p:spPr>
            <a:xfrm>
              <a:off x="5867280" y="1525680"/>
              <a:ext cx="1152720" cy="1316160"/>
            </a:xfrm>
            <a:prstGeom prst="ellipse">
              <a:avLst/>
            </a:prstGeom>
            <a:solidFill>
              <a:srgbClr val="def6f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变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6348600" y="2727360"/>
              <a:ext cx="263520" cy="857160"/>
            </a:xfrm>
            <a:custGeom>
              <a:avLst/>
              <a:gdLst/>
              <a:ahLst/>
              <a:rect l="l" t="t" r="r" b="b"/>
              <a:pathLst>
                <a:path w="166" h="680">
                  <a:moveTo>
                    <a:pt x="60" y="0"/>
                  </a:moveTo>
                  <a:cubicBezTo>
                    <a:pt x="30" y="94"/>
                    <a:pt x="0" y="189"/>
                    <a:pt x="15" y="272"/>
                  </a:cubicBezTo>
                  <a:cubicBezTo>
                    <a:pt x="30" y="355"/>
                    <a:pt x="136" y="431"/>
                    <a:pt x="151" y="499"/>
                  </a:cubicBezTo>
                  <a:cubicBezTo>
                    <a:pt x="166" y="567"/>
                    <a:pt x="136" y="623"/>
                    <a:pt x="106" y="6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27"/>
          <p:cNvGrpSpPr/>
          <p:nvPr/>
        </p:nvGrpSpPr>
        <p:grpSpPr>
          <a:xfrm>
            <a:off x="152280" y="2058840"/>
            <a:ext cx="1152720" cy="2363760"/>
            <a:chOff x="152280" y="2058840"/>
            <a:chExt cx="1152720" cy="2363760"/>
          </a:xfrm>
        </p:grpSpPr>
        <p:sp>
          <p:nvSpPr>
            <p:cNvPr id="410" name="Oval 28"/>
            <p:cNvSpPr/>
            <p:nvPr/>
          </p:nvSpPr>
          <p:spPr>
            <a:xfrm>
              <a:off x="152280" y="2058840"/>
              <a:ext cx="1152720" cy="1510920"/>
            </a:xfrm>
            <a:prstGeom prst="ellipse">
              <a:avLst/>
            </a:prstGeom>
            <a:solidFill>
              <a:srgbClr val="bdde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露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"/>
            <p:cNvSpPr/>
            <p:nvPr/>
          </p:nvSpPr>
          <p:spPr>
            <a:xfrm>
              <a:off x="633600" y="3438360"/>
              <a:ext cx="263520" cy="984240"/>
            </a:xfrm>
            <a:custGeom>
              <a:avLst/>
              <a:gdLst/>
              <a:ahLst/>
              <a:rect l="l" t="t" r="r" b="b"/>
              <a:pathLst>
                <a:path w="166" h="680">
                  <a:moveTo>
                    <a:pt x="60" y="0"/>
                  </a:moveTo>
                  <a:cubicBezTo>
                    <a:pt x="30" y="94"/>
                    <a:pt x="0" y="189"/>
                    <a:pt x="15" y="272"/>
                  </a:cubicBezTo>
                  <a:cubicBezTo>
                    <a:pt x="30" y="355"/>
                    <a:pt x="136" y="431"/>
                    <a:pt x="151" y="499"/>
                  </a:cubicBezTo>
                  <a:cubicBezTo>
                    <a:pt x="166" y="567"/>
                    <a:pt x="136" y="623"/>
                    <a:pt x="106" y="680"/>
                  </a:cubicBezTo>
                </a:path>
              </a:pathLst>
            </a:custGeom>
            <a:solidFill>
              <a:srgbClr val="bdde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30"/>
          <p:cNvGrpSpPr/>
          <p:nvPr/>
        </p:nvGrpSpPr>
        <p:grpSpPr>
          <a:xfrm>
            <a:off x="7315200" y="533520"/>
            <a:ext cx="1098720" cy="2139840"/>
            <a:chOff x="7315200" y="533520"/>
            <a:chExt cx="1098720" cy="2139840"/>
          </a:xfrm>
        </p:grpSpPr>
        <p:sp>
          <p:nvSpPr>
            <p:cNvPr id="413" name="Oval 31"/>
            <p:cNvSpPr/>
            <p:nvPr/>
          </p:nvSpPr>
          <p:spPr>
            <a:xfrm>
              <a:off x="7315200" y="533520"/>
              <a:ext cx="1098720" cy="1339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魔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2"/>
            <p:cNvSpPr/>
            <p:nvPr/>
          </p:nvSpPr>
          <p:spPr>
            <a:xfrm>
              <a:off x="7804080" y="1796760"/>
              <a:ext cx="286920" cy="87660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0" y="0"/>
                  </a:moveTo>
                  <a:cubicBezTo>
                    <a:pt x="7" y="94"/>
                    <a:pt x="15" y="189"/>
                    <a:pt x="45" y="227"/>
                  </a:cubicBezTo>
                  <a:cubicBezTo>
                    <a:pt x="75" y="265"/>
                    <a:pt x="181" y="182"/>
                    <a:pt x="181" y="227"/>
                  </a:cubicBezTo>
                  <a:cubicBezTo>
                    <a:pt x="181" y="272"/>
                    <a:pt x="68" y="446"/>
                    <a:pt x="45" y="499"/>
                  </a:cubicBezTo>
                  <a:cubicBezTo>
                    <a:pt x="22" y="552"/>
                    <a:pt x="45" y="537"/>
                    <a:pt x="45" y="5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3"/>
          <p:cNvGrpSpPr/>
          <p:nvPr/>
        </p:nvGrpSpPr>
        <p:grpSpPr>
          <a:xfrm>
            <a:off x="4724280" y="4114800"/>
            <a:ext cx="1098720" cy="2139840"/>
            <a:chOff x="4724280" y="4114800"/>
            <a:chExt cx="1098720" cy="2139840"/>
          </a:xfrm>
        </p:grpSpPr>
        <p:sp>
          <p:nvSpPr>
            <p:cNvPr id="416" name="Oval 34"/>
            <p:cNvSpPr/>
            <p:nvPr/>
          </p:nvSpPr>
          <p:spPr>
            <a:xfrm>
              <a:off x="4724280" y="4114800"/>
              <a:ext cx="1098720" cy="133920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微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"/>
            <p:cNvSpPr/>
            <p:nvPr/>
          </p:nvSpPr>
          <p:spPr>
            <a:xfrm>
              <a:off x="5213160" y="5378040"/>
              <a:ext cx="286920" cy="876600"/>
            </a:xfrm>
            <a:custGeom>
              <a:avLst/>
              <a:gdLst/>
              <a:ahLst/>
              <a:rect l="l" t="t" r="r" b="b"/>
              <a:pathLst>
                <a:path w="181" h="552">
                  <a:moveTo>
                    <a:pt x="0" y="0"/>
                  </a:moveTo>
                  <a:cubicBezTo>
                    <a:pt x="7" y="94"/>
                    <a:pt x="15" y="189"/>
                    <a:pt x="45" y="227"/>
                  </a:cubicBezTo>
                  <a:cubicBezTo>
                    <a:pt x="75" y="265"/>
                    <a:pt x="181" y="182"/>
                    <a:pt x="181" y="227"/>
                  </a:cubicBezTo>
                  <a:cubicBezTo>
                    <a:pt x="181" y="272"/>
                    <a:pt x="68" y="446"/>
                    <a:pt x="45" y="499"/>
                  </a:cubicBezTo>
                  <a:cubicBezTo>
                    <a:pt x="22" y="552"/>
                    <a:pt x="45" y="537"/>
                    <a:pt x="45" y="5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6613560" y="22096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6613200" y="297180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6156360" y="342900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7786400">
            <a:off x="5925960" y="2604600"/>
            <a:ext cx="685800" cy="65376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92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3670800">
            <a:off x="7281360" y="2604600"/>
            <a:ext cx="685800" cy="6541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7070760" y="346248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2286000" y="220968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285640" y="297180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>
            <a:off x="1828800" y="342900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1"/>
          <p:cNvSpPr/>
          <p:nvPr/>
        </p:nvSpPr>
        <p:spPr>
          <a:xfrm rot="3670800">
            <a:off x="2954520" y="2604960"/>
            <a:ext cx="685800" cy="65376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7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2"/>
          <p:cNvSpPr/>
          <p:nvPr/>
        </p:nvSpPr>
        <p:spPr>
          <a:xfrm>
            <a:off x="2743200" y="3462480"/>
            <a:ext cx="685800" cy="65232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3"/>
          <p:cNvSpPr/>
          <p:nvPr/>
        </p:nvSpPr>
        <p:spPr>
          <a:xfrm rot="16598400">
            <a:off x="1615320" y="2605320"/>
            <a:ext cx="685800" cy="652680"/>
          </a:xfrm>
          <a:prstGeom prst="pentagon">
            <a:avLst/>
          </a:prstGeom>
          <a:gradFill rotWithShape="0">
            <a:gsLst>
              <a:gs pos="0">
                <a:srgbClr val="ff99cc"/>
              </a:gs>
              <a:gs pos="100000">
                <a:srgbClr val="ffdbed"/>
              </a:gs>
            </a:gsLst>
            <a:lin ang="104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469800" y="453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374840" y="1495440"/>
            <a:ext cx="75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733920" y="1523880"/>
            <a:ext cx="137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ě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á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6324480" y="1600200"/>
            <a:ext cx="137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露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也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冷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533520" y="228600"/>
            <a:ext cx="13064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我会连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曲线 549"/>
          <p:cNvSpPr/>
          <p:nvPr/>
        </p:nvSpPr>
        <p:spPr>
          <a:xfrm>
            <a:off x="152280" y="304920"/>
            <a:ext cx="8715600" cy="533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639" y="4433"/>
                </a:moveTo>
                <a:cubicBezTo>
                  <a:pt x="5695" y="3468"/>
                  <a:pt x="8078" y="66"/>
                  <a:pt x="10579" y="33"/>
                </a:cubicBezTo>
                <a:cubicBezTo>
                  <a:pt x="13080" y="0"/>
                  <a:pt x="15082" y="1245"/>
                  <a:pt x="17142" y="4271"/>
                </a:cubicBezTo>
                <a:cubicBezTo>
                  <a:pt x="19202" y="7296"/>
                  <a:pt x="21600" y="11858"/>
                  <a:pt x="20883" y="15162"/>
                </a:cubicBezTo>
                <a:cubicBezTo>
                  <a:pt x="20167" y="18466"/>
                  <a:pt x="17385" y="20161"/>
                  <a:pt x="13565" y="20794"/>
                </a:cubicBezTo>
                <a:cubicBezTo>
                  <a:pt x="9745" y="21427"/>
                  <a:pt x="3569" y="21600"/>
                  <a:pt x="1784" y="18327"/>
                </a:cubicBezTo>
                <a:cubicBezTo>
                  <a:pt x="0" y="15054"/>
                  <a:pt x="3832" y="7163"/>
                  <a:pt x="4639" y="4433"/>
                </a:cubicBezTo>
                <a:close/>
              </a:path>
            </a:pathLst>
          </a:custGeom>
          <a:solidFill>
            <a:srgbClr val="5dff5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曲线 550"/>
          <p:cNvSpPr/>
          <p:nvPr/>
        </p:nvSpPr>
        <p:spPr>
          <a:xfrm>
            <a:off x="2533680" y="3052800"/>
            <a:ext cx="3879720" cy="430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67" y="7875"/>
                </a:moveTo>
                <a:cubicBezTo>
                  <a:pt x="4642" y="10162"/>
                  <a:pt x="1873" y="17026"/>
                  <a:pt x="4822" y="19313"/>
                </a:cubicBezTo>
                <a:cubicBezTo>
                  <a:pt x="7771" y="21600"/>
                  <a:pt x="17823" y="21309"/>
                  <a:pt x="19711" y="19313"/>
                </a:cubicBezTo>
                <a:cubicBezTo>
                  <a:pt x="21600" y="17316"/>
                  <a:pt x="14196" y="12155"/>
                  <a:pt x="14256" y="9335"/>
                </a:cubicBezTo>
                <a:cubicBezTo>
                  <a:pt x="14316" y="6516"/>
                  <a:pt x="20479" y="5974"/>
                  <a:pt x="20008" y="5215"/>
                </a:cubicBezTo>
                <a:cubicBezTo>
                  <a:pt x="19538" y="4455"/>
                  <a:pt x="13934" y="6532"/>
                  <a:pt x="11897" y="5546"/>
                </a:cubicBezTo>
                <a:cubicBezTo>
                  <a:pt x="9861" y="4561"/>
                  <a:pt x="10628" y="0"/>
                  <a:pt x="9832" y="293"/>
                </a:cubicBezTo>
                <a:cubicBezTo>
                  <a:pt x="9037" y="586"/>
                  <a:pt x="9758" y="6647"/>
                  <a:pt x="7916" y="7007"/>
                </a:cubicBezTo>
                <a:cubicBezTo>
                  <a:pt x="6074" y="7367"/>
                  <a:pt x="1237" y="1795"/>
                  <a:pt x="618" y="2089"/>
                </a:cubicBezTo>
                <a:cubicBezTo>
                  <a:pt x="0" y="2382"/>
                  <a:pt x="3836" y="7096"/>
                  <a:pt x="4822" y="8471"/>
                </a:cubicBezTo>
              </a:path>
            </a:pathLst>
          </a:custGeom>
          <a:solidFill>
            <a:srgbClr val="ae7042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341280" y="317520"/>
            <a:ext cx="118260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5"/>
          <p:cNvGrpSpPr/>
          <p:nvPr/>
        </p:nvGrpSpPr>
        <p:grpSpPr>
          <a:xfrm>
            <a:off x="2058840" y="2352600"/>
            <a:ext cx="914400" cy="1067040"/>
            <a:chOff x="2058840" y="2352600"/>
            <a:chExt cx="914400" cy="1067040"/>
          </a:xfrm>
        </p:grpSpPr>
        <p:grpSp>
          <p:nvGrpSpPr>
            <p:cNvPr id="439" name="Group 6"/>
            <p:cNvGrpSpPr/>
            <p:nvPr/>
          </p:nvGrpSpPr>
          <p:grpSpPr>
            <a:xfrm>
              <a:off x="2058840" y="2352600"/>
              <a:ext cx="914400" cy="1067040"/>
              <a:chOff x="2058840" y="2352600"/>
              <a:chExt cx="914400" cy="1067040"/>
            </a:xfrm>
          </p:grpSpPr>
          <p:sp>
            <p:nvSpPr>
              <p:cNvPr id="440" name="任意多边形 551"/>
              <p:cNvSpPr/>
              <p:nvPr/>
            </p:nvSpPr>
            <p:spPr>
              <a:xfrm>
                <a:off x="2058840" y="2489400"/>
                <a:ext cx="914400" cy="93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曲线 552"/>
              <p:cNvSpPr/>
              <p:nvPr/>
            </p:nvSpPr>
            <p:spPr>
              <a:xfrm>
                <a:off x="2408760" y="267264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曲线 553"/>
              <p:cNvSpPr/>
              <p:nvPr/>
            </p:nvSpPr>
            <p:spPr>
              <a:xfrm>
                <a:off x="2476080" y="2352600"/>
                <a:ext cx="100440" cy="43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Text Box 10"/>
            <p:cNvSpPr/>
            <p:nvPr/>
          </p:nvSpPr>
          <p:spPr>
            <a:xfrm>
              <a:off x="2187000" y="2733480"/>
              <a:ext cx="561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露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1"/>
          <p:cNvGrpSpPr/>
          <p:nvPr/>
        </p:nvGrpSpPr>
        <p:grpSpPr>
          <a:xfrm>
            <a:off x="5149440" y="1071360"/>
            <a:ext cx="1100160" cy="1151640"/>
            <a:chOff x="5149440" y="1071360"/>
            <a:chExt cx="1100160" cy="1151640"/>
          </a:xfrm>
        </p:grpSpPr>
        <p:grpSp>
          <p:nvGrpSpPr>
            <p:cNvPr id="445" name="Group 12"/>
            <p:cNvGrpSpPr/>
            <p:nvPr/>
          </p:nvGrpSpPr>
          <p:grpSpPr>
            <a:xfrm>
              <a:off x="5149440" y="1071360"/>
              <a:ext cx="1100160" cy="1151640"/>
              <a:chOff x="5149440" y="1071360"/>
              <a:chExt cx="1100160" cy="1151640"/>
            </a:xfrm>
          </p:grpSpPr>
          <p:sp>
            <p:nvSpPr>
              <p:cNvPr id="446" name="任意多边形 551"/>
              <p:cNvSpPr/>
              <p:nvPr/>
            </p:nvSpPr>
            <p:spPr>
              <a:xfrm rot="780000">
                <a:off x="5241960" y="1201680"/>
                <a:ext cx="914400" cy="93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曲线 552"/>
              <p:cNvSpPr/>
              <p:nvPr/>
            </p:nvSpPr>
            <p:spPr>
              <a:xfrm rot="780000">
                <a:off x="5647320" y="138924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曲线 553"/>
              <p:cNvSpPr/>
              <p:nvPr/>
            </p:nvSpPr>
            <p:spPr>
              <a:xfrm rot="780000">
                <a:off x="5745240" y="1076760"/>
                <a:ext cx="100440" cy="43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Text Box 16"/>
            <p:cNvSpPr/>
            <p:nvPr/>
          </p:nvSpPr>
          <p:spPr>
            <a:xfrm rot="780000">
              <a:off x="5339520" y="1433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很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7"/>
          <p:cNvGrpSpPr/>
          <p:nvPr/>
        </p:nvGrpSpPr>
        <p:grpSpPr>
          <a:xfrm>
            <a:off x="3962520" y="228600"/>
            <a:ext cx="914400" cy="1066680"/>
            <a:chOff x="3962520" y="228600"/>
            <a:chExt cx="914400" cy="1066680"/>
          </a:xfrm>
        </p:grpSpPr>
        <p:grpSp>
          <p:nvGrpSpPr>
            <p:cNvPr id="451" name="Group 18"/>
            <p:cNvGrpSpPr/>
            <p:nvPr/>
          </p:nvGrpSpPr>
          <p:grpSpPr>
            <a:xfrm>
              <a:off x="3962520" y="228600"/>
              <a:ext cx="914400" cy="1066680"/>
              <a:chOff x="3962520" y="228600"/>
              <a:chExt cx="914400" cy="1066680"/>
            </a:xfrm>
          </p:grpSpPr>
          <p:sp>
            <p:nvSpPr>
              <p:cNvPr id="452" name="任意多边形 551"/>
              <p:cNvSpPr/>
              <p:nvPr/>
            </p:nvSpPr>
            <p:spPr>
              <a:xfrm>
                <a:off x="3962520" y="365400"/>
                <a:ext cx="914400" cy="92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曲线 552"/>
              <p:cNvSpPr/>
              <p:nvPr/>
            </p:nvSpPr>
            <p:spPr>
              <a:xfrm>
                <a:off x="4312440" y="54864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曲线 553"/>
              <p:cNvSpPr/>
              <p:nvPr/>
            </p:nvSpPr>
            <p:spPr>
              <a:xfrm>
                <a:off x="4379760" y="228600"/>
                <a:ext cx="100440" cy="43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22"/>
            <p:cNvSpPr/>
            <p:nvPr/>
          </p:nvSpPr>
          <p:spPr>
            <a:xfrm>
              <a:off x="4067640" y="609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是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3"/>
          <p:cNvGrpSpPr/>
          <p:nvPr/>
        </p:nvGrpSpPr>
        <p:grpSpPr>
          <a:xfrm>
            <a:off x="2901960" y="1271520"/>
            <a:ext cx="990720" cy="1244520"/>
            <a:chOff x="2901960" y="1271520"/>
            <a:chExt cx="990720" cy="1244520"/>
          </a:xfrm>
        </p:grpSpPr>
        <p:grpSp>
          <p:nvGrpSpPr>
            <p:cNvPr id="457" name="Group 24"/>
            <p:cNvGrpSpPr/>
            <p:nvPr/>
          </p:nvGrpSpPr>
          <p:grpSpPr>
            <a:xfrm>
              <a:off x="2901960" y="1271520"/>
              <a:ext cx="990720" cy="1244520"/>
              <a:chOff x="2901960" y="1271520"/>
              <a:chExt cx="990720" cy="1244520"/>
            </a:xfrm>
          </p:grpSpPr>
          <p:sp>
            <p:nvSpPr>
              <p:cNvPr id="458" name="任意多边形 551"/>
              <p:cNvSpPr/>
              <p:nvPr/>
            </p:nvSpPr>
            <p:spPr>
              <a:xfrm>
                <a:off x="2901960" y="1431000"/>
                <a:ext cx="990720" cy="10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曲线 552"/>
              <p:cNvSpPr/>
              <p:nvPr/>
            </p:nvSpPr>
            <p:spPr>
              <a:xfrm>
                <a:off x="3281040" y="1644840"/>
                <a:ext cx="214560" cy="88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曲线 553"/>
              <p:cNvSpPr/>
              <p:nvPr/>
            </p:nvSpPr>
            <p:spPr>
              <a:xfrm>
                <a:off x="3354120" y="1271520"/>
                <a:ext cx="109080" cy="51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Text Box 28"/>
            <p:cNvSpPr/>
            <p:nvPr/>
          </p:nvSpPr>
          <p:spPr>
            <a:xfrm>
              <a:off x="3041280" y="1715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9"/>
          <p:cNvGrpSpPr/>
          <p:nvPr/>
        </p:nvGrpSpPr>
        <p:grpSpPr>
          <a:xfrm>
            <a:off x="6400800" y="1828800"/>
            <a:ext cx="914400" cy="1066680"/>
            <a:chOff x="6400800" y="1828800"/>
            <a:chExt cx="914400" cy="1066680"/>
          </a:xfrm>
        </p:grpSpPr>
        <p:grpSp>
          <p:nvGrpSpPr>
            <p:cNvPr id="463" name="Group 30"/>
            <p:cNvGrpSpPr/>
            <p:nvPr/>
          </p:nvGrpSpPr>
          <p:grpSpPr>
            <a:xfrm>
              <a:off x="6400800" y="1828800"/>
              <a:ext cx="914400" cy="1066680"/>
              <a:chOff x="6400800" y="1828800"/>
              <a:chExt cx="914400" cy="1066680"/>
            </a:xfrm>
          </p:grpSpPr>
          <p:sp>
            <p:nvSpPr>
              <p:cNvPr id="464" name="任意多边形 551"/>
              <p:cNvSpPr/>
              <p:nvPr/>
            </p:nvSpPr>
            <p:spPr>
              <a:xfrm>
                <a:off x="6400800" y="1965600"/>
                <a:ext cx="914400" cy="92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曲线 552"/>
              <p:cNvSpPr/>
              <p:nvPr/>
            </p:nvSpPr>
            <p:spPr>
              <a:xfrm>
                <a:off x="6750720" y="214884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曲线 553"/>
              <p:cNvSpPr/>
              <p:nvPr/>
            </p:nvSpPr>
            <p:spPr>
              <a:xfrm>
                <a:off x="6818040" y="1828800"/>
                <a:ext cx="100440" cy="43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Text Box 34"/>
            <p:cNvSpPr/>
            <p:nvPr/>
          </p:nvSpPr>
          <p:spPr>
            <a:xfrm>
              <a:off x="6528960" y="2209680"/>
              <a:ext cx="561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房子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35"/>
          <p:cNvGrpSpPr/>
          <p:nvPr/>
        </p:nvGrpSpPr>
        <p:grpSpPr>
          <a:xfrm>
            <a:off x="4875120" y="2362320"/>
            <a:ext cx="914400" cy="1066680"/>
            <a:chOff x="4875120" y="2362320"/>
            <a:chExt cx="914400" cy="1066680"/>
          </a:xfrm>
        </p:grpSpPr>
        <p:grpSp>
          <p:nvGrpSpPr>
            <p:cNvPr id="469" name="Group 36"/>
            <p:cNvGrpSpPr/>
            <p:nvPr/>
          </p:nvGrpSpPr>
          <p:grpSpPr>
            <a:xfrm>
              <a:off x="4875120" y="2362320"/>
              <a:ext cx="914400" cy="1066680"/>
              <a:chOff x="4875120" y="2362320"/>
              <a:chExt cx="914400" cy="1066680"/>
            </a:xfrm>
          </p:grpSpPr>
          <p:sp>
            <p:nvSpPr>
              <p:cNvPr id="470" name="任意多边形 551"/>
              <p:cNvSpPr/>
              <p:nvPr/>
            </p:nvSpPr>
            <p:spPr>
              <a:xfrm>
                <a:off x="4875120" y="2499120"/>
                <a:ext cx="914400" cy="92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曲线 552"/>
              <p:cNvSpPr/>
              <p:nvPr/>
            </p:nvSpPr>
            <p:spPr>
              <a:xfrm>
                <a:off x="5225040" y="268236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曲线 553"/>
              <p:cNvSpPr/>
              <p:nvPr/>
            </p:nvSpPr>
            <p:spPr>
              <a:xfrm>
                <a:off x="5292360" y="2362320"/>
                <a:ext cx="100440" cy="43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Text Box 40"/>
            <p:cNvSpPr/>
            <p:nvPr/>
          </p:nvSpPr>
          <p:spPr>
            <a:xfrm>
              <a:off x="4980240" y="2743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也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41"/>
          <p:cNvGrpSpPr/>
          <p:nvPr/>
        </p:nvGrpSpPr>
        <p:grpSpPr>
          <a:xfrm>
            <a:off x="2286000" y="4024440"/>
            <a:ext cx="914400" cy="1066680"/>
            <a:chOff x="2286000" y="4024440"/>
            <a:chExt cx="914400" cy="1066680"/>
          </a:xfrm>
        </p:grpSpPr>
        <p:grpSp>
          <p:nvGrpSpPr>
            <p:cNvPr id="475" name="Group 42"/>
            <p:cNvGrpSpPr/>
            <p:nvPr/>
          </p:nvGrpSpPr>
          <p:grpSpPr>
            <a:xfrm>
              <a:off x="2286000" y="4024440"/>
              <a:ext cx="914400" cy="1066680"/>
              <a:chOff x="2286000" y="4024440"/>
              <a:chExt cx="914400" cy="1066680"/>
            </a:xfrm>
          </p:grpSpPr>
          <p:sp>
            <p:nvSpPr>
              <p:cNvPr id="476" name="任意多边形 551"/>
              <p:cNvSpPr/>
              <p:nvPr/>
            </p:nvSpPr>
            <p:spPr>
              <a:xfrm>
                <a:off x="2286000" y="4161240"/>
                <a:ext cx="914400" cy="92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曲线 552"/>
              <p:cNvSpPr/>
              <p:nvPr/>
            </p:nvSpPr>
            <p:spPr>
              <a:xfrm>
                <a:off x="2635920" y="434448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曲线 553"/>
              <p:cNvSpPr/>
              <p:nvPr/>
            </p:nvSpPr>
            <p:spPr>
              <a:xfrm>
                <a:off x="2703240" y="4024440"/>
                <a:ext cx="100440" cy="43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Text Box 46"/>
            <p:cNvSpPr/>
            <p:nvPr/>
          </p:nvSpPr>
          <p:spPr>
            <a:xfrm>
              <a:off x="2391120" y="4405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冷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47"/>
          <p:cNvGrpSpPr/>
          <p:nvPr/>
        </p:nvGrpSpPr>
        <p:grpSpPr>
          <a:xfrm>
            <a:off x="3886200" y="3352680"/>
            <a:ext cx="914400" cy="1067040"/>
            <a:chOff x="3886200" y="3352680"/>
            <a:chExt cx="914400" cy="1067040"/>
          </a:xfrm>
        </p:grpSpPr>
        <p:grpSp>
          <p:nvGrpSpPr>
            <p:cNvPr id="481" name="Group 48"/>
            <p:cNvGrpSpPr/>
            <p:nvPr/>
          </p:nvGrpSpPr>
          <p:grpSpPr>
            <a:xfrm>
              <a:off x="3886200" y="3352680"/>
              <a:ext cx="914400" cy="1067040"/>
              <a:chOff x="3886200" y="3352680"/>
              <a:chExt cx="914400" cy="1067040"/>
            </a:xfrm>
          </p:grpSpPr>
          <p:sp>
            <p:nvSpPr>
              <p:cNvPr id="482" name="任意多边形 551"/>
              <p:cNvSpPr/>
              <p:nvPr/>
            </p:nvSpPr>
            <p:spPr>
              <a:xfrm>
                <a:off x="3886200" y="3489480"/>
                <a:ext cx="914400" cy="93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曲线 552"/>
              <p:cNvSpPr/>
              <p:nvPr/>
            </p:nvSpPr>
            <p:spPr>
              <a:xfrm>
                <a:off x="4236120" y="367272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曲线 553"/>
              <p:cNvSpPr/>
              <p:nvPr/>
            </p:nvSpPr>
            <p:spPr>
              <a:xfrm>
                <a:off x="4303440" y="3352680"/>
                <a:ext cx="100440" cy="43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52"/>
            <p:cNvSpPr/>
            <p:nvPr/>
          </p:nvSpPr>
          <p:spPr>
            <a:xfrm>
              <a:off x="3991320" y="3733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瞧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53"/>
          <p:cNvGrpSpPr/>
          <p:nvPr/>
        </p:nvGrpSpPr>
        <p:grpSpPr>
          <a:xfrm>
            <a:off x="6399360" y="3429000"/>
            <a:ext cx="914400" cy="1066680"/>
            <a:chOff x="6399360" y="3429000"/>
            <a:chExt cx="914400" cy="1066680"/>
          </a:xfrm>
        </p:grpSpPr>
        <p:grpSp>
          <p:nvGrpSpPr>
            <p:cNvPr id="487" name="Group 54"/>
            <p:cNvGrpSpPr/>
            <p:nvPr/>
          </p:nvGrpSpPr>
          <p:grpSpPr>
            <a:xfrm>
              <a:off x="6399360" y="3429000"/>
              <a:ext cx="914400" cy="1066680"/>
              <a:chOff x="6399360" y="3429000"/>
              <a:chExt cx="914400" cy="1066680"/>
            </a:xfrm>
          </p:grpSpPr>
          <p:sp>
            <p:nvSpPr>
              <p:cNvPr id="488" name="任意多边形 551"/>
              <p:cNvSpPr/>
              <p:nvPr/>
            </p:nvSpPr>
            <p:spPr>
              <a:xfrm>
                <a:off x="6399360" y="3565800"/>
                <a:ext cx="914400" cy="92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曲线 552"/>
              <p:cNvSpPr/>
              <p:nvPr/>
            </p:nvSpPr>
            <p:spPr>
              <a:xfrm>
                <a:off x="6749280" y="374904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曲线 553"/>
              <p:cNvSpPr/>
              <p:nvPr/>
            </p:nvSpPr>
            <p:spPr>
              <a:xfrm>
                <a:off x="6816600" y="3429000"/>
                <a:ext cx="100440" cy="43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 Box 58"/>
            <p:cNvSpPr/>
            <p:nvPr/>
          </p:nvSpPr>
          <p:spPr>
            <a:xfrm>
              <a:off x="6504480" y="3809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魔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59"/>
          <p:cNvGrpSpPr/>
          <p:nvPr/>
        </p:nvGrpSpPr>
        <p:grpSpPr>
          <a:xfrm>
            <a:off x="1066680" y="2743200"/>
            <a:ext cx="914400" cy="1066680"/>
            <a:chOff x="1066680" y="2743200"/>
            <a:chExt cx="914400" cy="1066680"/>
          </a:xfrm>
        </p:grpSpPr>
        <p:grpSp>
          <p:nvGrpSpPr>
            <p:cNvPr id="493" name="Group 60"/>
            <p:cNvGrpSpPr/>
            <p:nvPr/>
          </p:nvGrpSpPr>
          <p:grpSpPr>
            <a:xfrm>
              <a:off x="1066680" y="2743200"/>
              <a:ext cx="914400" cy="1066680"/>
              <a:chOff x="1066680" y="2743200"/>
              <a:chExt cx="914400" cy="1066680"/>
            </a:xfrm>
          </p:grpSpPr>
          <p:sp>
            <p:nvSpPr>
              <p:cNvPr id="494" name="任意多边形 551"/>
              <p:cNvSpPr/>
              <p:nvPr/>
            </p:nvSpPr>
            <p:spPr>
              <a:xfrm>
                <a:off x="1066680" y="2880000"/>
                <a:ext cx="914400" cy="92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883" y="5315"/>
                    </a:moveTo>
                    <a:lnTo>
                      <a:pt x="5387" y="2479"/>
                    </a:lnTo>
                    <a:lnTo>
                      <a:pt x="7562" y="1426"/>
                    </a:lnTo>
                    <a:lnTo>
                      <a:pt x="9358" y="1069"/>
                    </a:lnTo>
                    <a:lnTo>
                      <a:pt x="11153" y="0"/>
                    </a:lnTo>
                    <a:lnTo>
                      <a:pt x="12949" y="0"/>
                    </a:lnTo>
                    <a:lnTo>
                      <a:pt x="15107" y="0"/>
                    </a:lnTo>
                    <a:lnTo>
                      <a:pt x="17266" y="1426"/>
                    </a:lnTo>
                    <a:lnTo>
                      <a:pt x="18716" y="3192"/>
                    </a:lnTo>
                    <a:lnTo>
                      <a:pt x="20512" y="4958"/>
                    </a:lnTo>
                    <a:lnTo>
                      <a:pt x="20874" y="6741"/>
                    </a:lnTo>
                    <a:lnTo>
                      <a:pt x="21237" y="8507"/>
                    </a:lnTo>
                    <a:lnTo>
                      <a:pt x="21600" y="10273"/>
                    </a:lnTo>
                    <a:lnTo>
                      <a:pt x="21600" y="12396"/>
                    </a:lnTo>
                    <a:lnTo>
                      <a:pt x="21600" y="14162"/>
                    </a:lnTo>
                    <a:lnTo>
                      <a:pt x="20874" y="15945"/>
                    </a:lnTo>
                    <a:lnTo>
                      <a:pt x="19441" y="17711"/>
                    </a:lnTo>
                    <a:lnTo>
                      <a:pt x="17628" y="19120"/>
                    </a:lnTo>
                    <a:lnTo>
                      <a:pt x="15833" y="20190"/>
                    </a:lnTo>
                    <a:lnTo>
                      <a:pt x="14037" y="20903"/>
                    </a:lnTo>
                    <a:lnTo>
                      <a:pt x="12241" y="21243"/>
                    </a:lnTo>
                    <a:lnTo>
                      <a:pt x="10428" y="21243"/>
                    </a:lnTo>
                    <a:lnTo>
                      <a:pt x="8633" y="21600"/>
                    </a:lnTo>
                    <a:lnTo>
                      <a:pt x="6837" y="20903"/>
                    </a:lnTo>
                    <a:lnTo>
                      <a:pt x="5041" y="19477"/>
                    </a:lnTo>
                    <a:lnTo>
                      <a:pt x="3228" y="18067"/>
                    </a:lnTo>
                    <a:lnTo>
                      <a:pt x="1433" y="16641"/>
                    </a:lnTo>
                    <a:lnTo>
                      <a:pt x="707" y="14875"/>
                    </a:lnTo>
                    <a:lnTo>
                      <a:pt x="0" y="13109"/>
                    </a:lnTo>
                    <a:lnTo>
                      <a:pt x="0" y="11343"/>
                    </a:lnTo>
                    <a:lnTo>
                      <a:pt x="0" y="9560"/>
                    </a:lnTo>
                    <a:lnTo>
                      <a:pt x="1070" y="7794"/>
                    </a:lnTo>
                    <a:lnTo>
                      <a:pt x="2158" y="6028"/>
                    </a:lnTo>
                    <a:lnTo>
                      <a:pt x="3953" y="4601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曲线 552"/>
              <p:cNvSpPr/>
              <p:nvPr/>
            </p:nvSpPr>
            <p:spPr>
              <a:xfrm>
                <a:off x="1416600" y="3063240"/>
                <a:ext cx="198000" cy="7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753" y="4776"/>
                      <a:pt x="5659" y="21600"/>
                      <a:pt x="9963" y="21600"/>
                    </a:cubicBezTo>
                    <a:cubicBezTo>
                      <a:pt x="14267" y="21600"/>
                      <a:pt x="19447" y="4776"/>
                      <a:pt x="2160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曲线 553"/>
              <p:cNvSpPr/>
              <p:nvPr/>
            </p:nvSpPr>
            <p:spPr>
              <a:xfrm>
                <a:off x="1483920" y="2743200"/>
                <a:ext cx="100440" cy="43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530" y="3600"/>
                      <a:pt x="4069" y="14400"/>
                      <a:pt x="2034" y="18000"/>
                    </a:cubicBezTo>
                    <a:cubicBezTo>
                      <a:pt x="0" y="21600"/>
                      <a:pt x="9391" y="18360"/>
                      <a:pt x="11739" y="180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Text Box 64"/>
            <p:cNvSpPr/>
            <p:nvPr/>
          </p:nvSpPr>
          <p:spPr>
            <a:xfrm>
              <a:off x="1171800" y="312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微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80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452760" y="838080"/>
            <a:ext cx="22381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谜语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一位老公公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面孔红通通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晴天早早起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按时来上工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44f6a94fc95a9520c9943f1f3d1a_402_396"/>
          <p:cNvPicPr/>
          <p:nvPr/>
        </p:nvPicPr>
        <p:blipFill>
          <a:blip r:embed="rId2"/>
          <a:stretch/>
        </p:blipFill>
        <p:spPr>
          <a:xfrm>
            <a:off x="6024600" y="3860640"/>
            <a:ext cx="3024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774800" y="1127160"/>
            <a:ext cx="3784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2" action="ppaction://hlinksldjump"/>
              </a:rPr>
              <a:t>很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3" action="ppaction://hlinksldjump"/>
              </a:rPr>
              <a:t>房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f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子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4" action="ppaction://hlinksldjump"/>
              </a:rPr>
              <a:t>却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qu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5" action="ppaction://hlinksldjump"/>
              </a:rPr>
              <a:t>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s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i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要是不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请往露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6" action="ppaction://hlinksldjump"/>
              </a:rPr>
              <a:t>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z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里瞧瞧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个又红又大的太阳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躲在小小的露珠里微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也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7" action="ppaction://hlinksldjump"/>
              </a:rPr>
              <a:t>许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x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会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8" action="ppaction://hlinksldjump"/>
              </a:rPr>
              <a:t>变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bi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魔法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天上很大很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走进小小的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变得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1417680" y="3049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太阳的小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626640" y="1736640"/>
            <a:ext cx="200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很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房子却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谁要是不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请往露珠里瞧瞧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659040" y="6699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太阳的小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486400" y="990720"/>
            <a:ext cx="3048120" cy="1600200"/>
          </a:xfrm>
          <a:prstGeom prst="cloudCallout">
            <a:avLst>
              <a:gd name="adj1" fmla="val 64532"/>
              <a:gd name="adj2" fmla="val 55060"/>
            </a:avLst>
          </a:prstGeom>
          <a:solidFill>
            <a:srgbClr val="ffb9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大太阳的小房子指的是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3925080" y="31114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露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4268880" y="1752480"/>
            <a:ext cx="56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个又红又大的太阳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躲在小小的露珠里微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3875040" y="3454560"/>
            <a:ext cx="2743200" cy="812520"/>
          </a:xfrm>
          <a:prstGeom prst="wedgeRoundRectCallout">
            <a:avLst>
              <a:gd name="adj1" fmla="val -45486"/>
              <a:gd name="adj2" fmla="val -103328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觉得这是一个什么样的太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750960" y="2590920"/>
            <a:ext cx="151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红又大的太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44520" y="3581280"/>
            <a:ext cx="26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186080" y="319248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在露珠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139160" y="259092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6770880" y="356400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6324480" y="27432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8"/>
          <p:cNvSpPr/>
          <p:nvPr/>
        </p:nvSpPr>
        <p:spPr>
          <a:xfrm flipH="1">
            <a:off x="3276000" y="2743200"/>
            <a:ext cx="152280" cy="1143000"/>
          </a:xfrm>
          <a:custGeom>
            <a:avLst/>
            <a:gdLst>
              <a:gd name="textAreaLeft" fmla="*/ 96840 w 152280"/>
              <a:gd name="textAreaRight" fmla="*/ 1522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"/>
          <p:cNvSpPr/>
          <p:nvPr/>
        </p:nvSpPr>
        <p:spPr>
          <a:xfrm>
            <a:off x="3276720" y="533520"/>
            <a:ext cx="4419360" cy="1371600"/>
          </a:xfrm>
          <a:prstGeom prst="cloudCallout">
            <a:avLst>
              <a:gd name="adj1" fmla="val -36384"/>
              <a:gd name="adj2" fmla="val 91087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还会有什么景物走进小小的露珠里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3583080" y="1508040"/>
            <a:ext cx="2238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也许太阳会变魔法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天上很大很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走进小小的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变得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5562720" y="762120"/>
            <a:ext cx="3504960" cy="457200"/>
          </a:xfrm>
          <a:prstGeom prst="wedgeRoundRectCallout">
            <a:avLst>
              <a:gd name="adj1" fmla="val -51949"/>
              <a:gd name="adj2" fmla="val 93402"/>
              <a:gd name="adj3" fmla="val 16667"/>
            </a:avLst>
          </a:prstGeom>
          <a:solidFill>
            <a:srgbClr val="5d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公公真的会变魔法吗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"/>
          <p:cNvSpPr/>
          <p:nvPr/>
        </p:nvSpPr>
        <p:spPr>
          <a:xfrm>
            <a:off x="3048120" y="20574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5562720" y="3760920"/>
            <a:ext cx="3504960" cy="887400"/>
          </a:xfrm>
          <a:prstGeom prst="wedgeRoundRectCallout">
            <a:avLst>
              <a:gd name="adj1" fmla="val -51532"/>
              <a:gd name="adj2" fmla="val -93467"/>
              <a:gd name="adj3" fmla="val 16667"/>
            </a:avLst>
          </a:prstGeom>
          <a:solidFill>
            <a:srgbClr val="ffb9d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是怎么躲到露珠里的？他在里面干些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1716120" y="209088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316320" y="209088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大大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4804560" y="2117880"/>
            <a:ext cx="166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6785640" y="2117880"/>
            <a:ext cx="1662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95520" y="3733920"/>
            <a:ext cx="124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大很大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449880" y="3760920"/>
            <a:ext cx="202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6193080" y="3760920"/>
            <a:ext cx="202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81240" y="2933640"/>
            <a:ext cx="2581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又红又大    </a:t>
            </a:r>
            <a:r>
              <a:rPr b="0" lang="zh-CN" sz="35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3411000" y="2921040"/>
            <a:ext cx="202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273360" y="3032280"/>
            <a:ext cx="202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810440" y="1149480"/>
            <a:ext cx="3099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房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要是不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请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露珠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瞧瞧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又红又大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躲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露珠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微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也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会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魔法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天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大很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走进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变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417680" y="3049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太阳的小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475560" y="395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" descr="232_10301"/>
          <p:cNvPicPr/>
          <p:nvPr/>
        </p:nvPicPr>
        <p:blipFill>
          <a:blip r:embed="rId1"/>
          <a:stretch/>
        </p:blipFill>
        <p:spPr>
          <a:xfrm>
            <a:off x="933480" y="895320"/>
            <a:ext cx="7219800" cy="51246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4"/>
          <p:cNvSpPr/>
          <p:nvPr/>
        </p:nvSpPr>
        <p:spPr>
          <a:xfrm>
            <a:off x="4380120" y="61578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露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em070809022"/>
          <p:cNvPicPr/>
          <p:nvPr/>
        </p:nvPicPr>
        <p:blipFill>
          <a:blip r:embed="rId1"/>
          <a:stretch/>
        </p:blipFill>
        <p:spPr>
          <a:xfrm>
            <a:off x="5029200" y="762120"/>
            <a:ext cx="3483000" cy="4572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m"/>
          <p:cNvPicPr/>
          <p:nvPr/>
        </p:nvPicPr>
        <p:blipFill>
          <a:blip r:embed="rId2"/>
          <a:stretch/>
        </p:blipFill>
        <p:spPr>
          <a:xfrm>
            <a:off x="380880" y="685800"/>
            <a:ext cx="4129200" cy="47242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4291200" y="61578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露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"/>
          <p:cNvSpPr/>
          <p:nvPr/>
        </p:nvSpPr>
        <p:spPr>
          <a:xfrm>
            <a:off x="133200" y="5410080"/>
            <a:ext cx="747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385128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774800" y="1127160"/>
            <a:ext cx="3784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2" action="ppaction://hlinksldjump"/>
              </a:rPr>
              <a:t>很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3" action="ppaction://hlinksldjump"/>
              </a:rPr>
              <a:t>房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f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子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4" action="ppaction://hlinksldjump"/>
              </a:rPr>
              <a:t>却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qu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5" action="ppaction://hlinksldjump"/>
              </a:rPr>
              <a:t>谁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s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i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要是不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请往露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6" action="ppaction://hlinksldjump"/>
              </a:rPr>
              <a:t>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z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里瞧瞧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个又红又大的太阳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躲在小小的露珠里微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也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7" action="ppaction://hlinksldjump"/>
              </a:rPr>
              <a:t>许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x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太阳会</a:t>
            </a:r>
            <a:r>
              <a:rPr b="0" lang="zh-CN" sz="3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8" action="ppaction://hlinksldjump"/>
              </a:rPr>
              <a:t>变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bi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魔法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天上很大很大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走进小小的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就变得很小很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17680" y="3049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太阳的小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7"/>
            </a:gs>
            <a:gs pos="100000">
              <a:srgbClr val="ffff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067-D098-4407-91E6-74E19E8FD4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3276720" y="152280"/>
            <a:ext cx="2666880" cy="21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生字宝宝</a:t>
            </a:r>
            <a:endParaRPr b="0" lang="en-US" sz="25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58560" y="2743200"/>
            <a:ext cx="7520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406320" y="2744640"/>
            <a:ext cx="860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767480" y="2757600"/>
            <a:ext cx="750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qu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675880" y="4191120"/>
            <a:ext cx="790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303600" y="2744640"/>
            <a:ext cx="7232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781960" y="4268880"/>
            <a:ext cx="5450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183560" y="4267080"/>
            <a:ext cx="832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bi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64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66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WordArt 9"/>
          <p:cNvSpPr txBox="1"/>
          <p:nvPr/>
        </p:nvSpPr>
        <p:spPr>
          <a:xfrm>
            <a:off x="380880" y="3124080"/>
            <a:ext cx="3657600" cy="324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房</a:t>
            </a:r>
            <a:endParaRPr b="1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曲线 162"/>
          <p:cNvSpPr/>
          <p:nvPr/>
        </p:nvSpPr>
        <p:spPr>
          <a:xfrm>
            <a:off x="1952640" y="3125880"/>
            <a:ext cx="6444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0" y="0"/>
                </a:moveTo>
                <a:cubicBezTo>
                  <a:pt x="3549" y="251"/>
                  <a:pt x="9876" y="297"/>
                  <a:pt x="13533" y="1924"/>
                </a:cubicBezTo>
                <a:cubicBezTo>
                  <a:pt x="17190" y="3550"/>
                  <a:pt x="18534" y="4214"/>
                  <a:pt x="19502" y="8131"/>
                </a:cubicBezTo>
                <a:cubicBezTo>
                  <a:pt x="20470" y="12048"/>
                  <a:pt x="21600" y="21416"/>
                  <a:pt x="18391" y="21508"/>
                </a:cubicBezTo>
                <a:cubicBezTo>
                  <a:pt x="15182" y="21600"/>
                  <a:pt x="6883" y="12918"/>
                  <a:pt x="3441" y="8612"/>
                </a:cubicBezTo>
                <a:cubicBezTo>
                  <a:pt x="0" y="4306"/>
                  <a:pt x="1344" y="1465"/>
                  <a:pt x="12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曲线 164"/>
          <p:cNvSpPr/>
          <p:nvPr/>
        </p:nvSpPr>
        <p:spPr>
          <a:xfrm>
            <a:off x="1655640" y="3546360"/>
            <a:ext cx="1460520" cy="83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00" y="5821"/>
                </a:moveTo>
                <a:cubicBezTo>
                  <a:pt x="3677" y="5846"/>
                  <a:pt x="4555" y="6399"/>
                  <a:pt x="6730" y="5557"/>
                </a:cubicBezTo>
                <a:cubicBezTo>
                  <a:pt x="8905" y="4714"/>
                  <a:pt x="12433" y="2615"/>
                  <a:pt x="13983" y="1621"/>
                </a:cubicBezTo>
                <a:cubicBezTo>
                  <a:pt x="15533" y="628"/>
                  <a:pt x="13722" y="729"/>
                  <a:pt x="14481" y="578"/>
                </a:cubicBezTo>
                <a:cubicBezTo>
                  <a:pt x="15241" y="427"/>
                  <a:pt x="16364" y="0"/>
                  <a:pt x="17779" y="842"/>
                </a:cubicBezTo>
                <a:cubicBezTo>
                  <a:pt x="19195" y="1684"/>
                  <a:pt x="21536" y="2514"/>
                  <a:pt x="21568" y="4765"/>
                </a:cubicBezTo>
                <a:cubicBezTo>
                  <a:pt x="21600" y="7015"/>
                  <a:pt x="18475" y="9693"/>
                  <a:pt x="17945" y="12107"/>
                </a:cubicBezTo>
                <a:cubicBezTo>
                  <a:pt x="17416" y="14521"/>
                  <a:pt x="18966" y="15565"/>
                  <a:pt x="18934" y="16822"/>
                </a:cubicBezTo>
                <a:cubicBezTo>
                  <a:pt x="18902" y="18079"/>
                  <a:pt x="18871" y="17815"/>
                  <a:pt x="17779" y="18393"/>
                </a:cubicBezTo>
                <a:cubicBezTo>
                  <a:pt x="16688" y="18972"/>
                  <a:pt x="14149" y="21600"/>
                  <a:pt x="13493" y="19714"/>
                </a:cubicBezTo>
                <a:cubicBezTo>
                  <a:pt x="12836" y="17828"/>
                  <a:pt x="14450" y="11378"/>
                  <a:pt x="14481" y="8964"/>
                </a:cubicBezTo>
                <a:cubicBezTo>
                  <a:pt x="14513" y="6550"/>
                  <a:pt x="16134" y="7179"/>
                  <a:pt x="13659" y="7656"/>
                </a:cubicBezTo>
                <a:cubicBezTo>
                  <a:pt x="11183" y="8134"/>
                  <a:pt x="4223" y="11692"/>
                  <a:pt x="2111" y="11328"/>
                </a:cubicBezTo>
                <a:cubicBezTo>
                  <a:pt x="0" y="10963"/>
                  <a:pt x="2673" y="6990"/>
                  <a:pt x="3100" y="582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曲线 165"/>
          <p:cNvSpPr/>
          <p:nvPr/>
        </p:nvSpPr>
        <p:spPr>
          <a:xfrm>
            <a:off x="1612800" y="4005360"/>
            <a:ext cx="14972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85" y="12004"/>
                </a:moveTo>
                <a:cubicBezTo>
                  <a:pt x="4147" y="10649"/>
                  <a:pt x="9429" y="7078"/>
                  <a:pt x="12487" y="4840"/>
                </a:cubicBezTo>
                <a:cubicBezTo>
                  <a:pt x="15545" y="2603"/>
                  <a:pt x="16217" y="0"/>
                  <a:pt x="17476" y="796"/>
                </a:cubicBezTo>
                <a:cubicBezTo>
                  <a:pt x="18734" y="1592"/>
                  <a:pt x="21600" y="4819"/>
                  <a:pt x="18765" y="8863"/>
                </a:cubicBezTo>
                <a:cubicBezTo>
                  <a:pt x="15931" y="12908"/>
                  <a:pt x="6625" y="20352"/>
                  <a:pt x="3312" y="20976"/>
                </a:cubicBezTo>
                <a:cubicBezTo>
                  <a:pt x="0" y="21600"/>
                  <a:pt x="2100" y="14048"/>
                  <a:pt x="2185" y="1200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曲线 163"/>
          <p:cNvSpPr/>
          <p:nvPr/>
        </p:nvSpPr>
        <p:spPr>
          <a:xfrm>
            <a:off x="501480" y="3643200"/>
            <a:ext cx="1409760" cy="2584440"/>
          </a:xfrm>
          <a:custGeom>
            <a:avLst/>
            <a:gdLst/>
            <a:ahLst/>
            <a:rect l="l" t="t" r="r" b="b"/>
            <a:pathLst>
              <a:path w="21599" h="21600">
                <a:moveTo>
                  <a:pt x="15082" y="977"/>
                </a:moveTo>
                <a:cubicBezTo>
                  <a:pt x="15319" y="1187"/>
                  <a:pt x="16384" y="945"/>
                  <a:pt x="15942" y="2747"/>
                </a:cubicBezTo>
                <a:cubicBezTo>
                  <a:pt x="15499" y="4549"/>
                  <a:pt x="15835" y="6553"/>
                  <a:pt x="12863" y="9991"/>
                </a:cubicBezTo>
                <a:cubicBezTo>
                  <a:pt x="9891" y="13430"/>
                  <a:pt x="2178" y="18262"/>
                  <a:pt x="1089" y="19931"/>
                </a:cubicBezTo>
                <a:cubicBezTo>
                  <a:pt x="0" y="21600"/>
                  <a:pt x="4634" y="19862"/>
                  <a:pt x="7401" y="18331"/>
                </a:cubicBezTo>
                <a:cubicBezTo>
                  <a:pt x="10169" y="16800"/>
                  <a:pt x="12634" y="14658"/>
                  <a:pt x="14918" y="12266"/>
                </a:cubicBezTo>
                <a:cubicBezTo>
                  <a:pt x="17203" y="9874"/>
                  <a:pt x="17751" y="8270"/>
                  <a:pt x="18840" y="6367"/>
                </a:cubicBezTo>
                <a:cubicBezTo>
                  <a:pt x="19929" y="4464"/>
                  <a:pt x="20003" y="3741"/>
                  <a:pt x="20379" y="2747"/>
                </a:cubicBezTo>
                <a:cubicBezTo>
                  <a:pt x="20756" y="1753"/>
                  <a:pt x="21599" y="1919"/>
                  <a:pt x="20715" y="1397"/>
                </a:cubicBezTo>
                <a:cubicBezTo>
                  <a:pt x="19831" y="876"/>
                  <a:pt x="17072" y="266"/>
                  <a:pt x="15942" y="133"/>
                </a:cubicBezTo>
                <a:cubicBezTo>
                  <a:pt x="14812" y="0"/>
                  <a:pt x="15254" y="553"/>
                  <a:pt x="15082" y="723"/>
                </a:cubicBezTo>
                <a:cubicBezTo>
                  <a:pt x="14910" y="892"/>
                  <a:pt x="15065" y="937"/>
                  <a:pt x="15082" y="97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曲线 166"/>
          <p:cNvSpPr/>
          <p:nvPr/>
        </p:nvSpPr>
        <p:spPr>
          <a:xfrm>
            <a:off x="2163600" y="4305240"/>
            <a:ext cx="465480" cy="45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678" y="0"/>
                </a:moveTo>
                <a:cubicBezTo>
                  <a:pt x="5282" y="693"/>
                  <a:pt x="12523" y="1711"/>
                  <a:pt x="16144" y="4324"/>
                </a:cubicBezTo>
                <a:cubicBezTo>
                  <a:pt x="19764" y="6937"/>
                  <a:pt x="19963" y="10522"/>
                  <a:pt x="20781" y="13020"/>
                </a:cubicBezTo>
                <a:cubicBezTo>
                  <a:pt x="21600" y="15517"/>
                  <a:pt x="20880" y="15702"/>
                  <a:pt x="20260" y="16859"/>
                </a:cubicBezTo>
                <a:cubicBezTo>
                  <a:pt x="19640" y="18015"/>
                  <a:pt x="19541" y="18408"/>
                  <a:pt x="17681" y="18801"/>
                </a:cubicBezTo>
                <a:cubicBezTo>
                  <a:pt x="15821" y="19194"/>
                  <a:pt x="14160" y="21600"/>
                  <a:pt x="10961" y="18801"/>
                </a:cubicBezTo>
                <a:cubicBezTo>
                  <a:pt x="7762" y="16003"/>
                  <a:pt x="3323" y="8579"/>
                  <a:pt x="1661" y="4810"/>
                </a:cubicBezTo>
                <a:cubicBezTo>
                  <a:pt x="0" y="1040"/>
                  <a:pt x="2281" y="670"/>
                  <a:pt x="2678" y="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曲线 167"/>
          <p:cNvSpPr/>
          <p:nvPr/>
        </p:nvSpPr>
        <p:spPr>
          <a:xfrm>
            <a:off x="1495440" y="4495680"/>
            <a:ext cx="2282760" cy="58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7" y="13774"/>
                </a:moveTo>
                <a:cubicBezTo>
                  <a:pt x="3976" y="11684"/>
                  <a:pt x="12489" y="5734"/>
                  <a:pt x="15737" y="2983"/>
                </a:cubicBezTo>
                <a:cubicBezTo>
                  <a:pt x="18984" y="232"/>
                  <a:pt x="16369" y="0"/>
                  <a:pt x="17320" y="0"/>
                </a:cubicBezTo>
                <a:cubicBezTo>
                  <a:pt x="18271" y="0"/>
                  <a:pt x="19682" y="893"/>
                  <a:pt x="20482" y="2983"/>
                </a:cubicBezTo>
                <a:cubicBezTo>
                  <a:pt x="21281" y="5073"/>
                  <a:pt x="21600" y="8950"/>
                  <a:pt x="21326" y="10433"/>
                </a:cubicBezTo>
                <a:cubicBezTo>
                  <a:pt x="21053" y="11916"/>
                  <a:pt x="21473" y="9468"/>
                  <a:pt x="19111" y="10433"/>
                </a:cubicBezTo>
                <a:cubicBezTo>
                  <a:pt x="16748" y="11398"/>
                  <a:pt x="12889" y="13113"/>
                  <a:pt x="9515" y="15275"/>
                </a:cubicBezTo>
                <a:cubicBezTo>
                  <a:pt x="6141" y="17437"/>
                  <a:pt x="4092" y="20849"/>
                  <a:pt x="2235" y="21224"/>
                </a:cubicBezTo>
                <a:cubicBezTo>
                  <a:pt x="379" y="21600"/>
                  <a:pt x="465" y="18616"/>
                  <a:pt x="232" y="17133"/>
                </a:cubicBezTo>
                <a:cubicBezTo>
                  <a:pt x="0" y="15650"/>
                  <a:pt x="870" y="14364"/>
                  <a:pt x="1077" y="13774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曲线 169"/>
          <p:cNvSpPr/>
          <p:nvPr/>
        </p:nvSpPr>
        <p:spPr>
          <a:xfrm>
            <a:off x="2187720" y="5038560"/>
            <a:ext cx="1110960" cy="136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865" y="2274"/>
                </a:moveTo>
                <a:cubicBezTo>
                  <a:pt x="7134" y="2129"/>
                  <a:pt x="10503" y="1792"/>
                  <a:pt x="12583" y="1470"/>
                </a:cubicBezTo>
                <a:cubicBezTo>
                  <a:pt x="14663" y="1148"/>
                  <a:pt x="14538" y="0"/>
                  <a:pt x="16275" y="674"/>
                </a:cubicBezTo>
                <a:cubicBezTo>
                  <a:pt x="18012" y="1348"/>
                  <a:pt x="20913" y="3163"/>
                  <a:pt x="21256" y="4825"/>
                </a:cubicBezTo>
                <a:cubicBezTo>
                  <a:pt x="21600" y="6487"/>
                  <a:pt x="19520" y="6388"/>
                  <a:pt x="18001" y="8977"/>
                </a:cubicBezTo>
                <a:cubicBezTo>
                  <a:pt x="16483" y="11565"/>
                  <a:pt x="15880" y="15273"/>
                  <a:pt x="13665" y="17762"/>
                </a:cubicBezTo>
                <a:cubicBezTo>
                  <a:pt x="11449" y="20251"/>
                  <a:pt x="8642" y="21278"/>
                  <a:pt x="6946" y="21439"/>
                </a:cubicBezTo>
                <a:cubicBezTo>
                  <a:pt x="5251" y="21600"/>
                  <a:pt x="6468" y="20029"/>
                  <a:pt x="5210" y="18559"/>
                </a:cubicBezTo>
                <a:cubicBezTo>
                  <a:pt x="3951" y="17088"/>
                  <a:pt x="0" y="14691"/>
                  <a:pt x="655" y="14085"/>
                </a:cubicBezTo>
                <a:cubicBezTo>
                  <a:pt x="1310" y="13480"/>
                  <a:pt x="5823" y="17188"/>
                  <a:pt x="8465" y="15525"/>
                </a:cubicBezTo>
                <a:cubicBezTo>
                  <a:pt x="11106" y="13863"/>
                  <a:pt x="13581" y="7797"/>
                  <a:pt x="13883" y="5782"/>
                </a:cubicBezTo>
                <a:cubicBezTo>
                  <a:pt x="14185" y="3768"/>
                  <a:pt x="11678" y="5530"/>
                  <a:pt x="9983" y="5468"/>
                </a:cubicBezTo>
                <a:cubicBezTo>
                  <a:pt x="8288" y="5407"/>
                  <a:pt x="6510" y="5691"/>
                  <a:pt x="5428" y="5468"/>
                </a:cubicBezTo>
                <a:cubicBezTo>
                  <a:pt x="4347" y="5246"/>
                  <a:pt x="4482" y="4986"/>
                  <a:pt x="4565" y="4350"/>
                </a:cubicBezTo>
                <a:cubicBezTo>
                  <a:pt x="4648" y="3714"/>
                  <a:pt x="5584" y="2665"/>
                  <a:pt x="5865" y="2274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曲线 170"/>
          <p:cNvSpPr/>
          <p:nvPr/>
        </p:nvSpPr>
        <p:spPr>
          <a:xfrm>
            <a:off x="1271520" y="4851360"/>
            <a:ext cx="1430280" cy="13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040" y="1441"/>
                </a:moveTo>
                <a:cubicBezTo>
                  <a:pt x="16153" y="1613"/>
                  <a:pt x="17187" y="1183"/>
                  <a:pt x="16040" y="3078"/>
                </a:cubicBezTo>
                <a:cubicBezTo>
                  <a:pt x="14892" y="4974"/>
                  <a:pt x="13414" y="7513"/>
                  <a:pt x="10311" y="10913"/>
                </a:cubicBezTo>
                <a:cubicBezTo>
                  <a:pt x="7208" y="14313"/>
                  <a:pt x="1082" y="18528"/>
                  <a:pt x="541" y="20064"/>
                </a:cubicBezTo>
                <a:cubicBezTo>
                  <a:pt x="0" y="21600"/>
                  <a:pt x="5018" y="19899"/>
                  <a:pt x="7612" y="18591"/>
                </a:cubicBezTo>
                <a:cubicBezTo>
                  <a:pt x="10206" y="17283"/>
                  <a:pt x="11490" y="15786"/>
                  <a:pt x="13511" y="13530"/>
                </a:cubicBezTo>
                <a:cubicBezTo>
                  <a:pt x="15531" y="11273"/>
                  <a:pt x="16105" y="9479"/>
                  <a:pt x="17721" y="7325"/>
                </a:cubicBezTo>
                <a:cubicBezTo>
                  <a:pt x="19337" y="5170"/>
                  <a:pt x="21600" y="4152"/>
                  <a:pt x="21600" y="2749"/>
                </a:cubicBezTo>
                <a:cubicBezTo>
                  <a:pt x="21600" y="1347"/>
                  <a:pt x="18731" y="595"/>
                  <a:pt x="17721" y="297"/>
                </a:cubicBezTo>
                <a:cubicBezTo>
                  <a:pt x="16711" y="0"/>
                  <a:pt x="16888" y="1049"/>
                  <a:pt x="16549" y="1277"/>
                </a:cubicBezTo>
                <a:cubicBezTo>
                  <a:pt x="16210" y="1504"/>
                  <a:pt x="16121" y="1425"/>
                  <a:pt x="16040" y="1441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3754440" y="457200"/>
            <a:ext cx="151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大太阳的小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房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9"/>
          <p:cNvSpPr txBox="1"/>
          <p:nvPr/>
        </p:nvSpPr>
        <p:spPr>
          <a:xfrm>
            <a:off x="1447920" y="137160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fáng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81" name="Group 20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82" name="Line 21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25"/>
          <p:cNvSpPr/>
          <p:nvPr/>
        </p:nvSpPr>
        <p:spPr>
          <a:xfrm>
            <a:off x="4572000" y="5869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词：房间  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205740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7"/>
          <p:cNvSpPr/>
          <p:nvPr/>
        </p:nvSpPr>
        <p:spPr>
          <a:xfrm>
            <a:off x="4572000" y="5184720"/>
            <a:ext cx="40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624560" y="4481640"/>
            <a:ext cx="40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＋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91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93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Rectangle 9"/>
          <p:cNvSpPr/>
          <p:nvPr/>
        </p:nvSpPr>
        <p:spPr>
          <a:xfrm>
            <a:off x="4724280" y="6095880"/>
            <a:ext cx="43434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很”字是“双人旁”，不要写成单人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124080" y="38088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太阳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大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房子却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小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609480" y="3281400"/>
            <a:ext cx="3429000" cy="27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很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曲线 173"/>
          <p:cNvSpPr/>
          <p:nvPr/>
        </p:nvSpPr>
        <p:spPr>
          <a:xfrm>
            <a:off x="1065240" y="3287880"/>
            <a:ext cx="87624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495" y="0"/>
                </a:moveTo>
                <a:cubicBezTo>
                  <a:pt x="12559" y="382"/>
                  <a:pt x="13113" y="646"/>
                  <a:pt x="12495" y="2657"/>
                </a:cubicBezTo>
                <a:cubicBezTo>
                  <a:pt x="11876" y="4669"/>
                  <a:pt x="11823" y="6526"/>
                  <a:pt x="9382" y="10058"/>
                </a:cubicBezTo>
                <a:cubicBezTo>
                  <a:pt x="6940" y="13589"/>
                  <a:pt x="533" y="19014"/>
                  <a:pt x="266" y="20307"/>
                </a:cubicBezTo>
                <a:cubicBezTo>
                  <a:pt x="0" y="21600"/>
                  <a:pt x="3955" y="19852"/>
                  <a:pt x="8049" y="16511"/>
                </a:cubicBezTo>
                <a:cubicBezTo>
                  <a:pt x="12143" y="13171"/>
                  <a:pt x="19830" y="6908"/>
                  <a:pt x="20715" y="3604"/>
                </a:cubicBezTo>
                <a:cubicBezTo>
                  <a:pt x="21600" y="300"/>
                  <a:pt x="14392" y="464"/>
                  <a:pt x="12495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曲线 174"/>
          <p:cNvSpPr/>
          <p:nvPr/>
        </p:nvSpPr>
        <p:spPr>
          <a:xfrm>
            <a:off x="625320" y="4000680"/>
            <a:ext cx="127008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787" y="304"/>
                </a:moveTo>
                <a:cubicBezTo>
                  <a:pt x="15920" y="603"/>
                  <a:pt x="16708" y="785"/>
                  <a:pt x="16096" y="2379"/>
                </a:cubicBezTo>
                <a:cubicBezTo>
                  <a:pt x="15485" y="3973"/>
                  <a:pt x="15728" y="4753"/>
                  <a:pt x="12715" y="8262"/>
                </a:cubicBezTo>
                <a:cubicBezTo>
                  <a:pt x="9702" y="11771"/>
                  <a:pt x="2092" y="18235"/>
                  <a:pt x="1046" y="19917"/>
                </a:cubicBezTo>
                <a:cubicBezTo>
                  <a:pt x="0" y="21600"/>
                  <a:pt x="4759" y="18738"/>
                  <a:pt x="7492" y="16685"/>
                </a:cubicBezTo>
                <a:cubicBezTo>
                  <a:pt x="10225" y="14632"/>
                  <a:pt x="12501" y="11976"/>
                  <a:pt x="14711" y="9646"/>
                </a:cubicBezTo>
                <a:cubicBezTo>
                  <a:pt x="16921" y="7316"/>
                  <a:pt x="17201" y="6253"/>
                  <a:pt x="18557" y="5030"/>
                </a:cubicBezTo>
                <a:cubicBezTo>
                  <a:pt x="19912" y="3807"/>
                  <a:pt x="21600" y="4405"/>
                  <a:pt x="21474" y="3530"/>
                </a:cubicBezTo>
                <a:cubicBezTo>
                  <a:pt x="21349" y="2656"/>
                  <a:pt x="19073" y="1295"/>
                  <a:pt x="17938" y="647"/>
                </a:cubicBezTo>
                <a:cubicBezTo>
                  <a:pt x="16804" y="0"/>
                  <a:pt x="16148" y="315"/>
                  <a:pt x="15787" y="30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曲线 175"/>
          <p:cNvSpPr/>
          <p:nvPr/>
        </p:nvSpPr>
        <p:spPr>
          <a:xfrm>
            <a:off x="1374840" y="4556160"/>
            <a:ext cx="266760" cy="139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743" y="2832"/>
                </a:moveTo>
                <a:cubicBezTo>
                  <a:pt x="5496" y="4664"/>
                  <a:pt x="5144" y="9438"/>
                  <a:pt x="4263" y="12574"/>
                </a:cubicBezTo>
                <a:cubicBezTo>
                  <a:pt x="3382" y="15710"/>
                  <a:pt x="0" y="16747"/>
                  <a:pt x="1338" y="18518"/>
                </a:cubicBezTo>
                <a:cubicBezTo>
                  <a:pt x="2677" y="20289"/>
                  <a:pt x="7364" y="21600"/>
                  <a:pt x="10888" y="21424"/>
                </a:cubicBezTo>
                <a:cubicBezTo>
                  <a:pt x="14411" y="21248"/>
                  <a:pt x="17336" y="21327"/>
                  <a:pt x="18957" y="17633"/>
                </a:cubicBezTo>
                <a:cubicBezTo>
                  <a:pt x="20578" y="13939"/>
                  <a:pt x="21600" y="5920"/>
                  <a:pt x="18957" y="2960"/>
                </a:cubicBezTo>
                <a:cubicBezTo>
                  <a:pt x="16314" y="0"/>
                  <a:pt x="8386" y="2565"/>
                  <a:pt x="5743" y="2832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176"/>
          <p:cNvSpPr/>
          <p:nvPr/>
        </p:nvSpPr>
        <p:spPr>
          <a:xfrm>
            <a:off x="2265480" y="3276720"/>
            <a:ext cx="1017360" cy="130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70" y="3701"/>
                </a:moveTo>
                <a:cubicBezTo>
                  <a:pt x="3306" y="3351"/>
                  <a:pt x="8155" y="2482"/>
                  <a:pt x="10570" y="1808"/>
                </a:cubicBezTo>
                <a:cubicBezTo>
                  <a:pt x="12985" y="1134"/>
                  <a:pt x="11608" y="0"/>
                  <a:pt x="13637" y="324"/>
                </a:cubicBezTo>
                <a:cubicBezTo>
                  <a:pt x="15667" y="648"/>
                  <a:pt x="19836" y="2184"/>
                  <a:pt x="20718" y="3429"/>
                </a:cubicBezTo>
                <a:cubicBezTo>
                  <a:pt x="21600" y="4673"/>
                  <a:pt x="19258" y="3325"/>
                  <a:pt x="18036" y="6540"/>
                </a:cubicBezTo>
                <a:cubicBezTo>
                  <a:pt x="16815" y="9756"/>
                  <a:pt x="15860" y="17438"/>
                  <a:pt x="14592" y="19519"/>
                </a:cubicBezTo>
                <a:cubicBezTo>
                  <a:pt x="13325" y="21600"/>
                  <a:pt x="12177" y="19000"/>
                  <a:pt x="11718" y="16945"/>
                </a:cubicBezTo>
                <a:cubicBezTo>
                  <a:pt x="11259" y="14890"/>
                  <a:pt x="12260" y="11675"/>
                  <a:pt x="12296" y="9244"/>
                </a:cubicBezTo>
                <a:cubicBezTo>
                  <a:pt x="12333" y="6813"/>
                  <a:pt x="12104" y="5892"/>
                  <a:pt x="11911" y="4784"/>
                </a:cubicBezTo>
                <a:cubicBezTo>
                  <a:pt x="11718" y="3675"/>
                  <a:pt x="13334" y="3565"/>
                  <a:pt x="11341" y="3701"/>
                </a:cubicBezTo>
                <a:cubicBezTo>
                  <a:pt x="9348" y="3837"/>
                  <a:pt x="3912" y="5458"/>
                  <a:pt x="1956" y="5458"/>
                </a:cubicBezTo>
                <a:cubicBezTo>
                  <a:pt x="0" y="5458"/>
                  <a:pt x="1460" y="4090"/>
                  <a:pt x="1570" y="3701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177"/>
          <p:cNvSpPr/>
          <p:nvPr/>
        </p:nvSpPr>
        <p:spPr>
          <a:xfrm>
            <a:off x="2274840" y="4290840"/>
            <a:ext cx="6303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0" y="13131"/>
                </a:moveTo>
                <a:cubicBezTo>
                  <a:pt x="5878" y="10403"/>
                  <a:pt x="14860" y="1078"/>
                  <a:pt x="18022" y="539"/>
                </a:cubicBezTo>
                <a:cubicBezTo>
                  <a:pt x="21184" y="0"/>
                  <a:pt x="21600" y="6375"/>
                  <a:pt x="18630" y="10466"/>
                </a:cubicBezTo>
                <a:cubicBezTo>
                  <a:pt x="15661" y="14558"/>
                  <a:pt x="6324" y="20521"/>
                  <a:pt x="3162" y="21060"/>
                </a:cubicBezTo>
                <a:cubicBezTo>
                  <a:pt x="0" y="21600"/>
                  <a:pt x="2597" y="14939"/>
                  <a:pt x="2850" y="13131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180"/>
          <p:cNvSpPr/>
          <p:nvPr/>
        </p:nvSpPr>
        <p:spPr>
          <a:xfrm>
            <a:off x="2244600" y="3890880"/>
            <a:ext cx="540000" cy="23328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3813" y="8140"/>
                </a:moveTo>
                <a:cubicBezTo>
                  <a:pt x="5807" y="6548"/>
                  <a:pt x="11198" y="1230"/>
                  <a:pt x="14301" y="615"/>
                </a:cubicBezTo>
                <a:cubicBezTo>
                  <a:pt x="17404" y="0"/>
                  <a:pt x="21600" y="1049"/>
                  <a:pt x="19363" y="5137"/>
                </a:cubicBezTo>
                <a:cubicBezTo>
                  <a:pt x="17127" y="9226"/>
                  <a:pt x="6206" y="20369"/>
                  <a:pt x="3103" y="20984"/>
                </a:cubicBezTo>
                <a:cubicBezTo>
                  <a:pt x="0" y="21599"/>
                  <a:pt x="3345" y="11035"/>
                  <a:pt x="3813" y="814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曲线 179"/>
          <p:cNvSpPr/>
          <p:nvPr/>
        </p:nvSpPr>
        <p:spPr>
          <a:xfrm>
            <a:off x="2041560" y="3373560"/>
            <a:ext cx="839880" cy="271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739" y="1009"/>
                </a:moveTo>
                <a:cubicBezTo>
                  <a:pt x="5781" y="990"/>
                  <a:pt x="3063" y="891"/>
                  <a:pt x="1860" y="944"/>
                </a:cubicBezTo>
                <a:cubicBezTo>
                  <a:pt x="657" y="996"/>
                  <a:pt x="423" y="972"/>
                  <a:pt x="701" y="1270"/>
                </a:cubicBezTo>
                <a:cubicBezTo>
                  <a:pt x="980" y="1568"/>
                  <a:pt x="2562" y="77"/>
                  <a:pt x="3252" y="2434"/>
                </a:cubicBezTo>
                <a:cubicBezTo>
                  <a:pt x="3943" y="4792"/>
                  <a:pt x="4266" y="10022"/>
                  <a:pt x="4177" y="13053"/>
                </a:cubicBezTo>
                <a:cubicBezTo>
                  <a:pt x="4088" y="16084"/>
                  <a:pt x="3531" y="16460"/>
                  <a:pt x="2784" y="17587"/>
                </a:cubicBezTo>
                <a:cubicBezTo>
                  <a:pt x="2038" y="18714"/>
                  <a:pt x="935" y="18363"/>
                  <a:pt x="467" y="18686"/>
                </a:cubicBezTo>
                <a:cubicBezTo>
                  <a:pt x="0" y="19009"/>
                  <a:pt x="144" y="18792"/>
                  <a:pt x="467" y="19205"/>
                </a:cubicBezTo>
                <a:cubicBezTo>
                  <a:pt x="790" y="19618"/>
                  <a:pt x="1347" y="20447"/>
                  <a:pt x="2094" y="20758"/>
                </a:cubicBezTo>
                <a:cubicBezTo>
                  <a:pt x="2840" y="21068"/>
                  <a:pt x="512" y="21600"/>
                  <a:pt x="4177" y="20758"/>
                </a:cubicBezTo>
                <a:cubicBezTo>
                  <a:pt x="7842" y="19916"/>
                  <a:pt x="19282" y="17158"/>
                  <a:pt x="20441" y="16550"/>
                </a:cubicBezTo>
                <a:cubicBezTo>
                  <a:pt x="21600" y="15941"/>
                  <a:pt x="12498" y="18143"/>
                  <a:pt x="9992" y="17714"/>
                </a:cubicBezTo>
                <a:cubicBezTo>
                  <a:pt x="7485" y="17286"/>
                  <a:pt x="8265" y="17432"/>
                  <a:pt x="7898" y="14413"/>
                </a:cubicBezTo>
                <a:cubicBezTo>
                  <a:pt x="7530" y="11394"/>
                  <a:pt x="8087" y="5254"/>
                  <a:pt x="8132" y="2627"/>
                </a:cubicBezTo>
                <a:cubicBezTo>
                  <a:pt x="8176" y="0"/>
                  <a:pt x="8967" y="1633"/>
                  <a:pt x="8132" y="1270"/>
                </a:cubicBezTo>
                <a:cubicBezTo>
                  <a:pt x="7296" y="906"/>
                  <a:pt x="5213" y="857"/>
                  <a:pt x="3954" y="816"/>
                </a:cubicBezTo>
                <a:cubicBezTo>
                  <a:pt x="2695" y="776"/>
                  <a:pt x="2138" y="959"/>
                  <a:pt x="1860" y="1074"/>
                </a:cubicBezTo>
                <a:cubicBezTo>
                  <a:pt x="1581" y="1189"/>
                  <a:pt x="2383" y="1338"/>
                  <a:pt x="2562" y="1397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曲线 181"/>
          <p:cNvSpPr/>
          <p:nvPr/>
        </p:nvSpPr>
        <p:spPr>
          <a:xfrm>
            <a:off x="2790720" y="4175280"/>
            <a:ext cx="739800" cy="81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996"/>
                </a:moveTo>
                <a:cubicBezTo>
                  <a:pt x="10762" y="3151"/>
                  <a:pt x="11633" y="5428"/>
                  <a:pt x="9738" y="8725"/>
                </a:cubicBezTo>
                <a:cubicBezTo>
                  <a:pt x="7844" y="12021"/>
                  <a:pt x="2627" y="16264"/>
                  <a:pt x="1313" y="18480"/>
                </a:cubicBezTo>
                <a:cubicBezTo>
                  <a:pt x="0" y="20695"/>
                  <a:pt x="416" y="21600"/>
                  <a:pt x="3157" y="19780"/>
                </a:cubicBezTo>
                <a:cubicBezTo>
                  <a:pt x="5898" y="17960"/>
                  <a:pt x="11482" y="12271"/>
                  <a:pt x="15006" y="9370"/>
                </a:cubicBezTo>
                <a:cubicBezTo>
                  <a:pt x="18530" y="6468"/>
                  <a:pt x="21600" y="7030"/>
                  <a:pt x="20804" y="5251"/>
                </a:cubicBezTo>
                <a:cubicBezTo>
                  <a:pt x="20008" y="3473"/>
                  <a:pt x="13048" y="956"/>
                  <a:pt x="11052" y="478"/>
                </a:cubicBezTo>
                <a:cubicBezTo>
                  <a:pt x="9056" y="0"/>
                  <a:pt x="10850" y="2048"/>
                  <a:pt x="10800" y="2870"/>
                </a:cubicBezTo>
                <a:cubicBezTo>
                  <a:pt x="10749" y="3691"/>
                  <a:pt x="10800" y="4305"/>
                  <a:pt x="10800" y="4607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曲线 182"/>
          <p:cNvSpPr/>
          <p:nvPr/>
        </p:nvSpPr>
        <p:spPr>
          <a:xfrm>
            <a:off x="2232000" y="4489560"/>
            <a:ext cx="1741680" cy="12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80" y="1090"/>
                </a:moveTo>
                <a:cubicBezTo>
                  <a:pt x="4239" y="3492"/>
                  <a:pt x="10552" y="10333"/>
                  <a:pt x="14319" y="13393"/>
                </a:cubicBezTo>
                <a:cubicBezTo>
                  <a:pt x="18085" y="16453"/>
                  <a:pt x="19805" y="15452"/>
                  <a:pt x="20702" y="16398"/>
                </a:cubicBezTo>
                <a:cubicBezTo>
                  <a:pt x="21600" y="17345"/>
                  <a:pt x="20235" y="17654"/>
                  <a:pt x="18800" y="18114"/>
                </a:cubicBezTo>
                <a:cubicBezTo>
                  <a:pt x="17365" y="18574"/>
                  <a:pt x="16828" y="21600"/>
                  <a:pt x="13534" y="18683"/>
                </a:cubicBezTo>
                <a:cubicBezTo>
                  <a:pt x="10241" y="15767"/>
                  <a:pt x="4663" y="7039"/>
                  <a:pt x="2331" y="3519"/>
                </a:cubicBezTo>
                <a:cubicBezTo>
                  <a:pt x="0" y="0"/>
                  <a:pt x="1746" y="1276"/>
                  <a:pt x="1880" y="109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21"/>
          <p:cNvSpPr txBox="1"/>
          <p:nvPr/>
        </p:nvSpPr>
        <p:spPr>
          <a:xfrm>
            <a:off x="1371600" y="1371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hěn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110" name="Group 22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111" name="Line 23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27"/>
          <p:cNvSpPr/>
          <p:nvPr/>
        </p:nvSpPr>
        <p:spPr>
          <a:xfrm>
            <a:off x="4419720" y="3352680"/>
            <a:ext cx="449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组词：很多 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6172200" y="1442880"/>
            <a:ext cx="2666520" cy="1739880"/>
            <a:chOff x="6172200" y="1442880"/>
            <a:chExt cx="2666520" cy="1739880"/>
          </a:xfrm>
        </p:grpSpPr>
        <p:sp>
          <p:nvSpPr>
            <p:cNvPr id="117" name="AutoShape 29"/>
            <p:cNvSpPr/>
            <p:nvPr/>
          </p:nvSpPr>
          <p:spPr>
            <a:xfrm>
              <a:off x="6172200" y="1600200"/>
              <a:ext cx="397440" cy="1448640"/>
            </a:xfrm>
            <a:custGeom>
              <a:avLst/>
              <a:gdLst>
                <a:gd name="textAreaLeft" fmla="*/ 253800 w 397440"/>
                <a:gd name="textAreaRight" fmla="*/ 397800 w 397440"/>
                <a:gd name="textAreaTop" fmla="*/ 37440 h 1448640"/>
                <a:gd name="textAreaBottom" fmla="*/ 1411200 h 144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0"/>
            <p:cNvSpPr/>
            <p:nvPr/>
          </p:nvSpPr>
          <p:spPr>
            <a:xfrm>
              <a:off x="6560640" y="1442880"/>
              <a:ext cx="2278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很（很多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得（得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120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122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Rectangle 9"/>
          <p:cNvSpPr/>
          <p:nvPr/>
        </p:nvSpPr>
        <p:spPr>
          <a:xfrm>
            <a:off x="3124080" y="457200"/>
            <a:ext cx="281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太阳很大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房子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却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很小很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572000" y="5943600"/>
            <a:ext cx="43434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却”右边是“卩 ”不是“阝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1"/>
          <p:cNvSpPr txBox="1"/>
          <p:nvPr/>
        </p:nvSpPr>
        <p:spPr>
          <a:xfrm>
            <a:off x="685800" y="3162240"/>
            <a:ext cx="3352680" cy="33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却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曲线 184"/>
          <p:cNvSpPr/>
          <p:nvPr/>
        </p:nvSpPr>
        <p:spPr>
          <a:xfrm>
            <a:off x="1417680" y="3922560"/>
            <a:ext cx="1063440" cy="28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9" y="14546"/>
                </a:moveTo>
                <a:cubicBezTo>
                  <a:pt x="2723" y="13151"/>
                  <a:pt x="6916" y="9808"/>
                  <a:pt x="10172" y="6906"/>
                </a:cubicBezTo>
                <a:cubicBezTo>
                  <a:pt x="13429" y="4004"/>
                  <a:pt x="15190" y="0"/>
                  <a:pt x="17338" y="0"/>
                </a:cubicBezTo>
                <a:cubicBezTo>
                  <a:pt x="19486" y="0"/>
                  <a:pt x="21600" y="3379"/>
                  <a:pt x="20921" y="6906"/>
                </a:cubicBezTo>
                <a:cubicBezTo>
                  <a:pt x="20242" y="10432"/>
                  <a:pt x="16874" y="14730"/>
                  <a:pt x="13936" y="17632"/>
                </a:cubicBezTo>
                <a:cubicBezTo>
                  <a:pt x="10997" y="20534"/>
                  <a:pt x="8806" y="21306"/>
                  <a:pt x="6229" y="21453"/>
                </a:cubicBezTo>
                <a:cubicBezTo>
                  <a:pt x="3651" y="21600"/>
                  <a:pt x="2079" y="19800"/>
                  <a:pt x="1039" y="18404"/>
                </a:cubicBezTo>
                <a:cubicBezTo>
                  <a:pt x="0" y="17008"/>
                  <a:pt x="936" y="15244"/>
                  <a:pt x="1039" y="14546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曲线 185"/>
          <p:cNvSpPr/>
          <p:nvPr/>
        </p:nvSpPr>
        <p:spPr>
          <a:xfrm>
            <a:off x="1785960" y="3124080"/>
            <a:ext cx="426960" cy="158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86"/>
                </a:moveTo>
                <a:cubicBezTo>
                  <a:pt x="1047" y="1235"/>
                  <a:pt x="4106" y="190"/>
                  <a:pt x="5346" y="3727"/>
                </a:cubicBezTo>
                <a:cubicBezTo>
                  <a:pt x="6586" y="7263"/>
                  <a:pt x="4811" y="15736"/>
                  <a:pt x="6244" y="18668"/>
                </a:cubicBezTo>
                <a:cubicBezTo>
                  <a:pt x="7677" y="21600"/>
                  <a:pt x="10800" y="21054"/>
                  <a:pt x="12489" y="18392"/>
                </a:cubicBezTo>
                <a:cubicBezTo>
                  <a:pt x="14179" y="15730"/>
                  <a:pt x="13280" y="8551"/>
                  <a:pt x="14713" y="5370"/>
                </a:cubicBezTo>
                <a:cubicBezTo>
                  <a:pt x="16146" y="2188"/>
                  <a:pt x="21600" y="3503"/>
                  <a:pt x="19632" y="2491"/>
                </a:cubicBezTo>
                <a:cubicBezTo>
                  <a:pt x="17664" y="1479"/>
                  <a:pt x="8853" y="604"/>
                  <a:pt x="4918" y="302"/>
                </a:cubicBezTo>
                <a:cubicBezTo>
                  <a:pt x="983" y="0"/>
                  <a:pt x="684" y="808"/>
                  <a:pt x="0" y="986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曲线 186"/>
          <p:cNvSpPr/>
          <p:nvPr/>
        </p:nvSpPr>
        <p:spPr>
          <a:xfrm>
            <a:off x="762120" y="4406760"/>
            <a:ext cx="1801800" cy="4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7" y="12757"/>
                </a:moveTo>
                <a:cubicBezTo>
                  <a:pt x="1498" y="12734"/>
                  <a:pt x="2376" y="13632"/>
                  <a:pt x="5256" y="11813"/>
                </a:cubicBezTo>
                <a:cubicBezTo>
                  <a:pt x="8136" y="9994"/>
                  <a:pt x="12564" y="5941"/>
                  <a:pt x="15210" y="3638"/>
                </a:cubicBezTo>
                <a:cubicBezTo>
                  <a:pt x="17856" y="1335"/>
                  <a:pt x="17349" y="552"/>
                  <a:pt x="18491" y="276"/>
                </a:cubicBezTo>
                <a:cubicBezTo>
                  <a:pt x="19634" y="0"/>
                  <a:pt x="20416" y="759"/>
                  <a:pt x="20924" y="2210"/>
                </a:cubicBezTo>
                <a:cubicBezTo>
                  <a:pt x="21432" y="3661"/>
                  <a:pt x="21600" y="6056"/>
                  <a:pt x="21031" y="7484"/>
                </a:cubicBezTo>
                <a:cubicBezTo>
                  <a:pt x="20462" y="8911"/>
                  <a:pt x="21584" y="6701"/>
                  <a:pt x="18070" y="9395"/>
                </a:cubicBezTo>
                <a:cubicBezTo>
                  <a:pt x="14555" y="12089"/>
                  <a:pt x="6907" y="20264"/>
                  <a:pt x="3453" y="20932"/>
                </a:cubicBezTo>
                <a:cubicBezTo>
                  <a:pt x="0" y="21600"/>
                  <a:pt x="1046" y="14622"/>
                  <a:pt x="807" y="12757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曲线 187"/>
          <p:cNvSpPr/>
          <p:nvPr/>
        </p:nvSpPr>
        <p:spPr>
          <a:xfrm>
            <a:off x="1125360" y="4579920"/>
            <a:ext cx="119556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50" y="2132"/>
                </a:moveTo>
                <a:cubicBezTo>
                  <a:pt x="10474" y="2942"/>
                  <a:pt x="10436" y="4659"/>
                  <a:pt x="9380" y="6753"/>
                </a:cubicBezTo>
                <a:cubicBezTo>
                  <a:pt x="8324" y="8846"/>
                  <a:pt x="7077" y="10737"/>
                  <a:pt x="5386" y="12589"/>
                </a:cubicBezTo>
                <a:cubicBezTo>
                  <a:pt x="3695" y="14441"/>
                  <a:pt x="1851" y="14393"/>
                  <a:pt x="925" y="16004"/>
                </a:cubicBezTo>
                <a:cubicBezTo>
                  <a:pt x="0" y="17615"/>
                  <a:pt x="351" y="19670"/>
                  <a:pt x="765" y="20635"/>
                </a:cubicBezTo>
                <a:cubicBezTo>
                  <a:pt x="1178" y="21600"/>
                  <a:pt x="1981" y="21281"/>
                  <a:pt x="2999" y="20837"/>
                </a:cubicBezTo>
                <a:cubicBezTo>
                  <a:pt x="4017" y="20394"/>
                  <a:pt x="2456" y="20230"/>
                  <a:pt x="5868" y="18416"/>
                </a:cubicBezTo>
                <a:cubicBezTo>
                  <a:pt x="9281" y="16602"/>
                  <a:pt x="18539" y="13110"/>
                  <a:pt x="20069" y="11779"/>
                </a:cubicBezTo>
                <a:cubicBezTo>
                  <a:pt x="21600" y="10447"/>
                  <a:pt x="15953" y="11499"/>
                  <a:pt x="13527" y="11779"/>
                </a:cubicBezTo>
                <a:cubicBezTo>
                  <a:pt x="11102" y="12058"/>
                  <a:pt x="7590" y="14798"/>
                  <a:pt x="7942" y="13187"/>
                </a:cubicBezTo>
                <a:cubicBezTo>
                  <a:pt x="8294" y="11576"/>
                  <a:pt x="14453" y="6309"/>
                  <a:pt x="15279" y="3733"/>
                </a:cubicBezTo>
                <a:cubicBezTo>
                  <a:pt x="16106" y="1157"/>
                  <a:pt x="13015" y="636"/>
                  <a:pt x="12089" y="318"/>
                </a:cubicBezTo>
                <a:cubicBezTo>
                  <a:pt x="11163" y="0"/>
                  <a:pt x="10872" y="1697"/>
                  <a:pt x="10650" y="2132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曲线 188"/>
          <p:cNvSpPr/>
          <p:nvPr/>
        </p:nvSpPr>
        <p:spPr>
          <a:xfrm>
            <a:off x="2076480" y="4856040"/>
            <a:ext cx="423720" cy="67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683" y="308"/>
                  <a:pt x="5480" y="323"/>
                  <a:pt x="9451" y="2250"/>
                </a:cubicBezTo>
                <a:cubicBezTo>
                  <a:pt x="13421" y="4178"/>
                  <a:pt x="18017" y="6043"/>
                  <a:pt x="19808" y="9651"/>
                </a:cubicBezTo>
                <a:cubicBezTo>
                  <a:pt x="21600" y="13259"/>
                  <a:pt x="20154" y="18917"/>
                  <a:pt x="18449" y="20258"/>
                </a:cubicBezTo>
                <a:cubicBezTo>
                  <a:pt x="16744" y="21600"/>
                  <a:pt x="14953" y="20443"/>
                  <a:pt x="11263" y="16388"/>
                </a:cubicBezTo>
                <a:cubicBezTo>
                  <a:pt x="7574" y="12334"/>
                  <a:pt x="2114" y="3206"/>
                  <a:pt x="0" y="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曲线 189"/>
          <p:cNvSpPr/>
          <p:nvPr/>
        </p:nvSpPr>
        <p:spPr>
          <a:xfrm>
            <a:off x="2666880" y="3886200"/>
            <a:ext cx="1154160" cy="15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87"/>
                </a:moveTo>
                <a:cubicBezTo>
                  <a:pt x="1124" y="2317"/>
                  <a:pt x="3903" y="2816"/>
                  <a:pt x="6112" y="2761"/>
                </a:cubicBezTo>
                <a:cubicBezTo>
                  <a:pt x="8321" y="2706"/>
                  <a:pt x="9810" y="2194"/>
                  <a:pt x="11061" y="1907"/>
                </a:cubicBezTo>
                <a:cubicBezTo>
                  <a:pt x="12312" y="1620"/>
                  <a:pt x="11686" y="1702"/>
                  <a:pt x="12383" y="1332"/>
                </a:cubicBezTo>
                <a:cubicBezTo>
                  <a:pt x="13080" y="963"/>
                  <a:pt x="13278" y="109"/>
                  <a:pt x="14529" y="54"/>
                </a:cubicBezTo>
                <a:cubicBezTo>
                  <a:pt x="15780" y="0"/>
                  <a:pt x="17300" y="485"/>
                  <a:pt x="18654" y="1052"/>
                </a:cubicBezTo>
                <a:cubicBezTo>
                  <a:pt x="20008" y="1620"/>
                  <a:pt x="20998" y="2166"/>
                  <a:pt x="21299" y="2905"/>
                </a:cubicBezTo>
                <a:cubicBezTo>
                  <a:pt x="21600" y="3643"/>
                  <a:pt x="20602" y="3957"/>
                  <a:pt x="20143" y="4757"/>
                </a:cubicBezTo>
                <a:cubicBezTo>
                  <a:pt x="19683" y="5557"/>
                  <a:pt x="19216" y="4812"/>
                  <a:pt x="18987" y="6890"/>
                </a:cubicBezTo>
                <a:cubicBezTo>
                  <a:pt x="18757" y="8968"/>
                  <a:pt x="19382" y="12850"/>
                  <a:pt x="18987" y="15161"/>
                </a:cubicBezTo>
                <a:cubicBezTo>
                  <a:pt x="18591" y="17471"/>
                  <a:pt x="17965" y="17211"/>
                  <a:pt x="17007" y="18435"/>
                </a:cubicBezTo>
                <a:cubicBezTo>
                  <a:pt x="16049" y="19658"/>
                  <a:pt x="15416" y="21600"/>
                  <a:pt x="14196" y="21285"/>
                </a:cubicBezTo>
                <a:cubicBezTo>
                  <a:pt x="12977" y="20971"/>
                  <a:pt x="12185" y="18264"/>
                  <a:pt x="10895" y="16869"/>
                </a:cubicBezTo>
                <a:cubicBezTo>
                  <a:pt x="9604" y="15475"/>
                  <a:pt x="7363" y="14648"/>
                  <a:pt x="7759" y="14306"/>
                </a:cubicBezTo>
                <a:cubicBezTo>
                  <a:pt x="8155" y="13964"/>
                  <a:pt x="11528" y="15188"/>
                  <a:pt x="12882" y="15161"/>
                </a:cubicBezTo>
                <a:cubicBezTo>
                  <a:pt x="14236" y="15133"/>
                  <a:pt x="14038" y="15844"/>
                  <a:pt x="14529" y="14163"/>
                </a:cubicBezTo>
                <a:cubicBezTo>
                  <a:pt x="15020" y="12481"/>
                  <a:pt x="15384" y="8831"/>
                  <a:pt x="15352" y="6753"/>
                </a:cubicBezTo>
                <a:cubicBezTo>
                  <a:pt x="15321" y="4675"/>
                  <a:pt x="16508" y="4272"/>
                  <a:pt x="14363" y="3759"/>
                </a:cubicBezTo>
                <a:cubicBezTo>
                  <a:pt x="12217" y="3246"/>
                  <a:pt x="7165" y="4067"/>
                  <a:pt x="4624" y="4183"/>
                </a:cubicBezTo>
                <a:cubicBezTo>
                  <a:pt x="2082" y="4299"/>
                  <a:pt x="2581" y="4723"/>
                  <a:pt x="1654" y="4326"/>
                </a:cubicBezTo>
                <a:cubicBezTo>
                  <a:pt x="728" y="3930"/>
                  <a:pt x="269" y="2617"/>
                  <a:pt x="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曲线 190"/>
          <p:cNvSpPr/>
          <p:nvPr/>
        </p:nvSpPr>
        <p:spPr>
          <a:xfrm>
            <a:off x="2616120" y="3975120"/>
            <a:ext cx="371520" cy="25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62"/>
                </a:moveTo>
                <a:cubicBezTo>
                  <a:pt x="1178" y="909"/>
                  <a:pt x="4393" y="0"/>
                  <a:pt x="6136" y="2635"/>
                </a:cubicBezTo>
                <a:cubicBezTo>
                  <a:pt x="7879" y="5270"/>
                  <a:pt x="8271" y="10561"/>
                  <a:pt x="8689" y="13947"/>
                </a:cubicBezTo>
                <a:cubicBezTo>
                  <a:pt x="9106" y="17333"/>
                  <a:pt x="7486" y="18095"/>
                  <a:pt x="8198" y="19560"/>
                </a:cubicBezTo>
                <a:cubicBezTo>
                  <a:pt x="8910" y="21024"/>
                  <a:pt x="10235" y="21567"/>
                  <a:pt x="12272" y="21261"/>
                </a:cubicBezTo>
                <a:cubicBezTo>
                  <a:pt x="14310" y="20955"/>
                  <a:pt x="17206" y="21600"/>
                  <a:pt x="18433" y="18026"/>
                </a:cubicBezTo>
                <a:cubicBezTo>
                  <a:pt x="19660" y="14453"/>
                  <a:pt x="18531" y="6747"/>
                  <a:pt x="18433" y="3398"/>
                </a:cubicBezTo>
                <a:cubicBezTo>
                  <a:pt x="18335" y="48"/>
                  <a:pt x="21600" y="1798"/>
                  <a:pt x="17918" y="1272"/>
                </a:cubicBezTo>
                <a:cubicBezTo>
                  <a:pt x="14236" y="746"/>
                  <a:pt x="3583" y="824"/>
                  <a:pt x="0" y="762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9"/>
          <p:cNvSpPr txBox="1"/>
          <p:nvPr/>
        </p:nvSpPr>
        <p:spPr>
          <a:xfrm>
            <a:off x="1295280" y="1371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què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138" name="Line 21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3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5"/>
          <p:cNvSpPr/>
          <p:nvPr/>
        </p:nvSpPr>
        <p:spPr>
          <a:xfrm>
            <a:off x="4419720" y="3429000"/>
            <a:ext cx="45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词：冷却  却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144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146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9"/>
          <p:cNvSpPr/>
          <p:nvPr/>
        </p:nvSpPr>
        <p:spPr>
          <a:xfrm>
            <a:off x="3581280" y="6172200"/>
            <a:ext cx="54864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谁”字的右边“佳”应与“住”比较，不能少写一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200400" y="38088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谁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要是不信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请往露珠里瞧瞧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685800" y="3059280"/>
            <a:ext cx="3200400" cy="30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谁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曲线 192"/>
          <p:cNvSpPr/>
          <p:nvPr/>
        </p:nvSpPr>
        <p:spPr>
          <a:xfrm>
            <a:off x="1320840" y="3306600"/>
            <a:ext cx="538200" cy="37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07" y="0"/>
                </a:moveTo>
                <a:cubicBezTo>
                  <a:pt x="4756" y="335"/>
                  <a:pt x="10791" y="773"/>
                  <a:pt x="14302" y="2165"/>
                </a:cubicBezTo>
                <a:cubicBezTo>
                  <a:pt x="17813" y="3557"/>
                  <a:pt x="18703" y="3969"/>
                  <a:pt x="20046" y="6985"/>
                </a:cubicBezTo>
                <a:cubicBezTo>
                  <a:pt x="21389" y="10000"/>
                  <a:pt x="21114" y="14279"/>
                  <a:pt x="21049" y="17192"/>
                </a:cubicBezTo>
                <a:cubicBezTo>
                  <a:pt x="20985" y="20105"/>
                  <a:pt x="21600" y="21393"/>
                  <a:pt x="19706" y="21496"/>
                </a:cubicBezTo>
                <a:cubicBezTo>
                  <a:pt x="17813" y="21600"/>
                  <a:pt x="15192" y="21290"/>
                  <a:pt x="11617" y="17733"/>
                </a:cubicBezTo>
                <a:cubicBezTo>
                  <a:pt x="8041" y="14176"/>
                  <a:pt x="3656" y="7320"/>
                  <a:pt x="1828" y="3763"/>
                </a:cubicBezTo>
                <a:cubicBezTo>
                  <a:pt x="0" y="206"/>
                  <a:pt x="2168" y="463"/>
                  <a:pt x="2507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曲线 193"/>
          <p:cNvSpPr/>
          <p:nvPr/>
        </p:nvSpPr>
        <p:spPr>
          <a:xfrm>
            <a:off x="880920" y="4083120"/>
            <a:ext cx="1224000" cy="17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" y="3168"/>
                </a:moveTo>
                <a:cubicBezTo>
                  <a:pt x="448" y="3168"/>
                  <a:pt x="1040" y="3303"/>
                  <a:pt x="2437" y="3054"/>
                </a:cubicBezTo>
                <a:cubicBezTo>
                  <a:pt x="3833" y="2806"/>
                  <a:pt x="5408" y="2358"/>
                  <a:pt x="7040" y="1932"/>
                </a:cubicBezTo>
                <a:cubicBezTo>
                  <a:pt x="8672" y="1505"/>
                  <a:pt x="9656" y="1300"/>
                  <a:pt x="10611" y="917"/>
                </a:cubicBezTo>
                <a:cubicBezTo>
                  <a:pt x="11566" y="534"/>
                  <a:pt x="10817" y="43"/>
                  <a:pt x="11801" y="21"/>
                </a:cubicBezTo>
                <a:cubicBezTo>
                  <a:pt x="12784" y="0"/>
                  <a:pt x="14594" y="377"/>
                  <a:pt x="15514" y="804"/>
                </a:cubicBezTo>
                <a:cubicBezTo>
                  <a:pt x="16433" y="1230"/>
                  <a:pt x="16640" y="1462"/>
                  <a:pt x="16404" y="2158"/>
                </a:cubicBezTo>
                <a:cubicBezTo>
                  <a:pt x="16169" y="2855"/>
                  <a:pt x="15008" y="2337"/>
                  <a:pt x="14323" y="4296"/>
                </a:cubicBezTo>
                <a:cubicBezTo>
                  <a:pt x="13639" y="6255"/>
                  <a:pt x="13255" y="9968"/>
                  <a:pt x="12984" y="11949"/>
                </a:cubicBezTo>
                <a:cubicBezTo>
                  <a:pt x="12713" y="13930"/>
                  <a:pt x="12834" y="13660"/>
                  <a:pt x="12984" y="14200"/>
                </a:cubicBezTo>
                <a:cubicBezTo>
                  <a:pt x="13133" y="14740"/>
                  <a:pt x="12129" y="15279"/>
                  <a:pt x="13732" y="14648"/>
                </a:cubicBezTo>
                <a:cubicBezTo>
                  <a:pt x="15335" y="14016"/>
                  <a:pt x="21600" y="9898"/>
                  <a:pt x="21008" y="11048"/>
                </a:cubicBezTo>
                <a:cubicBezTo>
                  <a:pt x="20417" y="12197"/>
                  <a:pt x="13433" y="19171"/>
                  <a:pt x="10760" y="20385"/>
                </a:cubicBezTo>
                <a:cubicBezTo>
                  <a:pt x="8088" y="21600"/>
                  <a:pt x="7732" y="18566"/>
                  <a:pt x="7639" y="17125"/>
                </a:cubicBezTo>
                <a:cubicBezTo>
                  <a:pt x="7546" y="15684"/>
                  <a:pt x="9656" y="15797"/>
                  <a:pt x="10311" y="13185"/>
                </a:cubicBezTo>
                <a:cubicBezTo>
                  <a:pt x="10967" y="10573"/>
                  <a:pt x="11266" y="5980"/>
                  <a:pt x="10910" y="4069"/>
                </a:cubicBezTo>
                <a:cubicBezTo>
                  <a:pt x="10554" y="2158"/>
                  <a:pt x="10375" y="3416"/>
                  <a:pt x="8530" y="3621"/>
                </a:cubicBezTo>
                <a:cubicBezTo>
                  <a:pt x="6684" y="3826"/>
                  <a:pt x="3392" y="5176"/>
                  <a:pt x="1696" y="5084"/>
                </a:cubicBezTo>
                <a:cubicBezTo>
                  <a:pt x="0" y="4992"/>
                  <a:pt x="256" y="3578"/>
                  <a:pt x="64" y="316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曲线 194"/>
          <p:cNvSpPr/>
          <p:nvPr/>
        </p:nvSpPr>
        <p:spPr>
          <a:xfrm>
            <a:off x="1771560" y="2971800"/>
            <a:ext cx="920880" cy="170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61" y="1213"/>
                </a:moveTo>
                <a:cubicBezTo>
                  <a:pt x="14836" y="1689"/>
                  <a:pt x="17331" y="1353"/>
                  <a:pt x="14561" y="5062"/>
                </a:cubicBezTo>
                <a:cubicBezTo>
                  <a:pt x="11791" y="8772"/>
                  <a:pt x="1422" y="17918"/>
                  <a:pt x="711" y="19759"/>
                </a:cubicBezTo>
                <a:cubicBezTo>
                  <a:pt x="0" y="21600"/>
                  <a:pt x="6962" y="17706"/>
                  <a:pt x="10994" y="14276"/>
                </a:cubicBezTo>
                <a:cubicBezTo>
                  <a:pt x="15026" y="10847"/>
                  <a:pt x="20177" y="5225"/>
                  <a:pt x="20888" y="2612"/>
                </a:cubicBezTo>
                <a:cubicBezTo>
                  <a:pt x="21600" y="0"/>
                  <a:pt x="16022" y="1258"/>
                  <a:pt x="14561" y="1213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曲线 195"/>
          <p:cNvSpPr/>
          <p:nvPr/>
        </p:nvSpPr>
        <p:spPr>
          <a:xfrm>
            <a:off x="2185920" y="3987720"/>
            <a:ext cx="255600" cy="226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01" y="1709"/>
                </a:moveTo>
                <a:cubicBezTo>
                  <a:pt x="4940" y="3355"/>
                  <a:pt x="6268" y="7499"/>
                  <a:pt x="5417" y="10622"/>
                </a:cubicBezTo>
                <a:cubicBezTo>
                  <a:pt x="4565" y="13745"/>
                  <a:pt x="0" y="15319"/>
                  <a:pt x="442" y="17329"/>
                </a:cubicBezTo>
                <a:cubicBezTo>
                  <a:pt x="885" y="19340"/>
                  <a:pt x="4292" y="20453"/>
                  <a:pt x="7563" y="20681"/>
                </a:cubicBezTo>
                <a:cubicBezTo>
                  <a:pt x="10834" y="20910"/>
                  <a:pt x="14683" y="21600"/>
                  <a:pt x="16796" y="18476"/>
                </a:cubicBezTo>
                <a:cubicBezTo>
                  <a:pt x="18908" y="15353"/>
                  <a:pt x="17477" y="8290"/>
                  <a:pt x="18193" y="5061"/>
                </a:cubicBezTo>
                <a:cubicBezTo>
                  <a:pt x="18908" y="1832"/>
                  <a:pt x="21600" y="3313"/>
                  <a:pt x="20339" y="2327"/>
                </a:cubicBezTo>
                <a:cubicBezTo>
                  <a:pt x="19078" y="1341"/>
                  <a:pt x="14956" y="245"/>
                  <a:pt x="11822" y="122"/>
                </a:cubicBezTo>
                <a:cubicBezTo>
                  <a:pt x="8687" y="0"/>
                  <a:pt x="5962" y="1350"/>
                  <a:pt x="4701" y="1709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曲线 196"/>
          <p:cNvSpPr/>
          <p:nvPr/>
        </p:nvSpPr>
        <p:spPr>
          <a:xfrm>
            <a:off x="2705040" y="3367080"/>
            <a:ext cx="446040" cy="37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5"/>
                </a:moveTo>
                <a:cubicBezTo>
                  <a:pt x="1368" y="1548"/>
                  <a:pt x="4476" y="0"/>
                  <a:pt x="7740" y="309"/>
                </a:cubicBezTo>
                <a:cubicBezTo>
                  <a:pt x="11005" y="619"/>
                  <a:pt x="13780" y="2038"/>
                  <a:pt x="16302" y="3535"/>
                </a:cubicBezTo>
                <a:cubicBezTo>
                  <a:pt x="18824" y="5032"/>
                  <a:pt x="19391" y="5470"/>
                  <a:pt x="20368" y="7845"/>
                </a:cubicBezTo>
                <a:cubicBezTo>
                  <a:pt x="21345" y="10219"/>
                  <a:pt x="21600" y="12800"/>
                  <a:pt x="21189" y="15380"/>
                </a:cubicBezTo>
                <a:cubicBezTo>
                  <a:pt x="20779" y="17961"/>
                  <a:pt x="21521" y="21600"/>
                  <a:pt x="18335" y="20748"/>
                </a:cubicBezTo>
                <a:cubicBezTo>
                  <a:pt x="15149" y="19896"/>
                  <a:pt x="8972" y="14838"/>
                  <a:pt x="5297" y="11070"/>
                </a:cubicBezTo>
                <a:cubicBezTo>
                  <a:pt x="1622" y="7303"/>
                  <a:pt x="801" y="3561"/>
                  <a:pt x="0" y="1935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曲线 197"/>
          <p:cNvSpPr/>
          <p:nvPr/>
        </p:nvSpPr>
        <p:spPr>
          <a:xfrm>
            <a:off x="2468520" y="3797280"/>
            <a:ext cx="108432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823"/>
                </a:moveTo>
                <a:cubicBezTo>
                  <a:pt x="1576" y="13706"/>
                  <a:pt x="5510" y="11218"/>
                  <a:pt x="8559" y="8477"/>
                </a:cubicBezTo>
                <a:cubicBezTo>
                  <a:pt x="11608" y="5736"/>
                  <a:pt x="13080" y="2132"/>
                  <a:pt x="15260" y="1066"/>
                </a:cubicBezTo>
                <a:cubicBezTo>
                  <a:pt x="17440" y="0"/>
                  <a:pt x="18792" y="1370"/>
                  <a:pt x="19460" y="3172"/>
                </a:cubicBezTo>
                <a:cubicBezTo>
                  <a:pt x="20127" y="4974"/>
                  <a:pt x="21600" y="6548"/>
                  <a:pt x="18615" y="10051"/>
                </a:cubicBezTo>
                <a:cubicBezTo>
                  <a:pt x="15630" y="13553"/>
                  <a:pt x="8253" y="19670"/>
                  <a:pt x="4529" y="20635"/>
                </a:cubicBezTo>
                <a:cubicBezTo>
                  <a:pt x="804" y="21600"/>
                  <a:pt x="627" y="16193"/>
                  <a:pt x="0" y="14823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曲线 198"/>
          <p:cNvSpPr/>
          <p:nvPr/>
        </p:nvSpPr>
        <p:spPr>
          <a:xfrm>
            <a:off x="2516040" y="4324320"/>
            <a:ext cx="844560" cy="3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5" y="17086"/>
                </a:moveTo>
                <a:cubicBezTo>
                  <a:pt x="4601" y="13935"/>
                  <a:pt x="13927" y="3817"/>
                  <a:pt x="17763" y="1908"/>
                </a:cubicBezTo>
                <a:cubicBezTo>
                  <a:pt x="21600" y="0"/>
                  <a:pt x="21124" y="4695"/>
                  <a:pt x="20566" y="7603"/>
                </a:cubicBezTo>
                <a:cubicBezTo>
                  <a:pt x="20007" y="10512"/>
                  <a:pt x="18322" y="13662"/>
                  <a:pt x="14961" y="16449"/>
                </a:cubicBezTo>
                <a:cubicBezTo>
                  <a:pt x="11601" y="19237"/>
                  <a:pt x="6596" y="21600"/>
                  <a:pt x="3753" y="21478"/>
                </a:cubicBezTo>
                <a:cubicBezTo>
                  <a:pt x="909" y="21357"/>
                  <a:pt x="0" y="17843"/>
                  <a:pt x="734" y="15813"/>
                </a:cubicBezTo>
                <a:cubicBezTo>
                  <a:pt x="1468" y="13784"/>
                  <a:pt x="6379" y="12148"/>
                  <a:pt x="7413" y="11390"/>
                </a:cubicBezTo>
                <a:cubicBezTo>
                  <a:pt x="8447" y="10633"/>
                  <a:pt x="6338" y="11814"/>
                  <a:pt x="5904" y="12026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曲线 199"/>
          <p:cNvSpPr/>
          <p:nvPr/>
        </p:nvSpPr>
        <p:spPr>
          <a:xfrm>
            <a:off x="2448000" y="4803840"/>
            <a:ext cx="963360" cy="3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9" y="14713"/>
                </a:moveTo>
                <a:cubicBezTo>
                  <a:pt x="3548" y="12977"/>
                  <a:pt x="10573" y="8445"/>
                  <a:pt x="13896" y="5502"/>
                </a:cubicBezTo>
                <a:cubicBezTo>
                  <a:pt x="17218" y="2560"/>
                  <a:pt x="16186" y="0"/>
                  <a:pt x="17662" y="0"/>
                </a:cubicBezTo>
                <a:cubicBezTo>
                  <a:pt x="19137" y="0"/>
                  <a:pt x="20911" y="3178"/>
                  <a:pt x="21255" y="5502"/>
                </a:cubicBezTo>
                <a:cubicBezTo>
                  <a:pt x="21600" y="7827"/>
                  <a:pt x="21102" y="9210"/>
                  <a:pt x="19363" y="11653"/>
                </a:cubicBezTo>
                <a:cubicBezTo>
                  <a:pt x="17625" y="14095"/>
                  <a:pt x="15371" y="15802"/>
                  <a:pt x="12574" y="17774"/>
                </a:cubicBezTo>
                <a:cubicBezTo>
                  <a:pt x="9777" y="19746"/>
                  <a:pt x="7740" y="21600"/>
                  <a:pt x="5395" y="21482"/>
                </a:cubicBezTo>
                <a:cubicBezTo>
                  <a:pt x="3050" y="21364"/>
                  <a:pt x="1738" y="18539"/>
                  <a:pt x="869" y="17185"/>
                </a:cubicBezTo>
                <a:cubicBezTo>
                  <a:pt x="0" y="15832"/>
                  <a:pt x="932" y="15125"/>
                  <a:pt x="1059" y="14713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曲线 200"/>
          <p:cNvSpPr/>
          <p:nvPr/>
        </p:nvSpPr>
        <p:spPr>
          <a:xfrm>
            <a:off x="2836800" y="4057560"/>
            <a:ext cx="233280" cy="151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62" y="1021"/>
                </a:moveTo>
                <a:cubicBezTo>
                  <a:pt x="1787" y="4468"/>
                  <a:pt x="0" y="14868"/>
                  <a:pt x="2644" y="18234"/>
                </a:cubicBezTo>
                <a:cubicBezTo>
                  <a:pt x="5288" y="21600"/>
                  <a:pt x="12289" y="20515"/>
                  <a:pt x="15082" y="17837"/>
                </a:cubicBezTo>
                <a:cubicBezTo>
                  <a:pt x="17875" y="15158"/>
                  <a:pt x="15529" y="7954"/>
                  <a:pt x="16609" y="4828"/>
                </a:cubicBezTo>
                <a:cubicBezTo>
                  <a:pt x="17689" y="1701"/>
                  <a:pt x="21600" y="3119"/>
                  <a:pt x="20520" y="2199"/>
                </a:cubicBezTo>
                <a:cubicBezTo>
                  <a:pt x="19440" y="1279"/>
                  <a:pt x="14896" y="466"/>
                  <a:pt x="11172" y="233"/>
                </a:cubicBezTo>
                <a:cubicBezTo>
                  <a:pt x="7448" y="0"/>
                  <a:pt x="3537" y="825"/>
                  <a:pt x="1862" y="1021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曲线 203"/>
          <p:cNvSpPr/>
          <p:nvPr/>
        </p:nvSpPr>
        <p:spPr>
          <a:xfrm>
            <a:off x="2359080" y="5246640"/>
            <a:ext cx="1338120" cy="40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3" y="15157"/>
                </a:moveTo>
                <a:cubicBezTo>
                  <a:pt x="2426" y="13072"/>
                  <a:pt x="8076" y="7239"/>
                  <a:pt x="11697" y="4404"/>
                </a:cubicBezTo>
                <a:cubicBezTo>
                  <a:pt x="15317" y="1569"/>
                  <a:pt x="16433" y="0"/>
                  <a:pt x="18364" y="983"/>
                </a:cubicBezTo>
                <a:cubicBezTo>
                  <a:pt x="20295" y="1967"/>
                  <a:pt x="21117" y="6653"/>
                  <a:pt x="21358" y="9300"/>
                </a:cubicBezTo>
                <a:cubicBezTo>
                  <a:pt x="21600" y="11947"/>
                  <a:pt x="21567" y="13095"/>
                  <a:pt x="19584" y="14173"/>
                </a:cubicBezTo>
                <a:cubicBezTo>
                  <a:pt x="17600" y="15251"/>
                  <a:pt x="14691" y="13400"/>
                  <a:pt x="11429" y="14665"/>
                </a:cubicBezTo>
                <a:cubicBezTo>
                  <a:pt x="8167" y="15930"/>
                  <a:pt x="5388" y="19444"/>
                  <a:pt x="3268" y="20522"/>
                </a:cubicBezTo>
                <a:cubicBezTo>
                  <a:pt x="1148" y="21600"/>
                  <a:pt x="1441" y="20803"/>
                  <a:pt x="815" y="20030"/>
                </a:cubicBezTo>
                <a:cubicBezTo>
                  <a:pt x="189" y="19257"/>
                  <a:pt x="0" y="17781"/>
                  <a:pt x="136" y="16609"/>
                </a:cubicBezTo>
                <a:cubicBezTo>
                  <a:pt x="273" y="15438"/>
                  <a:pt x="1082" y="14946"/>
                  <a:pt x="1493" y="14173"/>
                </a:cubicBezTo>
                <a:cubicBezTo>
                  <a:pt x="1904" y="13400"/>
                  <a:pt x="2068" y="12955"/>
                  <a:pt x="2178" y="12721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295280" y="137160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shéi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165" name="Line 24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28"/>
          <p:cNvSpPr/>
          <p:nvPr/>
        </p:nvSpPr>
        <p:spPr>
          <a:xfrm>
            <a:off x="5144760" y="3809880"/>
            <a:ext cx="233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词：是谁  谁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304920" y="2666520"/>
            <a:ext cx="4038480" cy="3962880"/>
            <a:chOff x="304920" y="2666520"/>
            <a:chExt cx="4038480" cy="3962880"/>
          </a:xfrm>
        </p:grpSpPr>
        <p:sp>
          <p:nvSpPr>
            <p:cNvPr id="171" name="Rectangle 3"/>
            <p:cNvSpPr/>
            <p:nvPr/>
          </p:nvSpPr>
          <p:spPr>
            <a:xfrm>
              <a:off x="304920" y="2666880"/>
              <a:ext cx="3959280" cy="39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4"/>
            <p:cNvGrpSpPr/>
            <p:nvPr/>
          </p:nvGrpSpPr>
          <p:grpSpPr>
            <a:xfrm>
              <a:off x="305280" y="2666520"/>
              <a:ext cx="4038120" cy="3962880"/>
              <a:chOff x="305280" y="2666520"/>
              <a:chExt cx="4038120" cy="3962880"/>
            </a:xfrm>
          </p:grpSpPr>
          <p:sp>
            <p:nvSpPr>
              <p:cNvPr id="173" name="Line 5"/>
              <p:cNvSpPr/>
              <p:nvPr/>
            </p:nvSpPr>
            <p:spPr>
              <a:xfrm>
                <a:off x="305280" y="266688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6"/>
              <p:cNvSpPr/>
              <p:nvPr/>
            </p:nvSpPr>
            <p:spPr>
              <a:xfrm flipV="1">
                <a:off x="305280" y="2666520"/>
                <a:ext cx="39621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7"/>
              <p:cNvSpPr/>
              <p:nvPr/>
            </p:nvSpPr>
            <p:spPr>
              <a:xfrm>
                <a:off x="2286000" y="2666880"/>
                <a:ext cx="360" cy="39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8"/>
              <p:cNvSpPr/>
              <p:nvPr/>
            </p:nvSpPr>
            <p:spPr>
              <a:xfrm>
                <a:off x="381240" y="4647960"/>
                <a:ext cx="3962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Rectangle 9"/>
          <p:cNvSpPr/>
          <p:nvPr/>
        </p:nvSpPr>
        <p:spPr>
          <a:xfrm>
            <a:off x="2666880" y="38088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一个又红又大的太阳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躲在小小的露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珠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里微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572000" y="6095880"/>
            <a:ext cx="43434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珠”卷舌音，注意读准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1"/>
          <p:cNvSpPr txBox="1"/>
          <p:nvPr/>
        </p:nvSpPr>
        <p:spPr>
          <a:xfrm>
            <a:off x="457200" y="3014640"/>
            <a:ext cx="3657600" cy="32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珠</a:t>
            </a:r>
            <a:endParaRPr b="0" lang="en-US" sz="25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曲线 205"/>
          <p:cNvSpPr/>
          <p:nvPr/>
        </p:nvSpPr>
        <p:spPr>
          <a:xfrm>
            <a:off x="934920" y="3556080"/>
            <a:ext cx="95904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427"/>
                </a:moveTo>
                <a:cubicBezTo>
                  <a:pt x="2486" y="12184"/>
                  <a:pt x="9499" y="5760"/>
                  <a:pt x="12797" y="2880"/>
                </a:cubicBezTo>
                <a:cubicBezTo>
                  <a:pt x="16095" y="0"/>
                  <a:pt x="15097" y="0"/>
                  <a:pt x="16480" y="0"/>
                </a:cubicBezTo>
                <a:cubicBezTo>
                  <a:pt x="17864" y="0"/>
                  <a:pt x="19175" y="1273"/>
                  <a:pt x="19737" y="2880"/>
                </a:cubicBezTo>
                <a:cubicBezTo>
                  <a:pt x="20299" y="4486"/>
                  <a:pt x="21600" y="4735"/>
                  <a:pt x="19300" y="8086"/>
                </a:cubicBezTo>
                <a:cubicBezTo>
                  <a:pt x="17001" y="11436"/>
                  <a:pt x="11361" y="17667"/>
                  <a:pt x="8240" y="19633"/>
                </a:cubicBezTo>
                <a:cubicBezTo>
                  <a:pt x="5119" y="21600"/>
                  <a:pt x="5202" y="18941"/>
                  <a:pt x="3683" y="17889"/>
                </a:cubicBezTo>
                <a:cubicBezTo>
                  <a:pt x="2164" y="16836"/>
                  <a:pt x="1040" y="15341"/>
                  <a:pt x="645" y="14427"/>
                </a:cubicBezTo>
                <a:cubicBezTo>
                  <a:pt x="249" y="13513"/>
                  <a:pt x="1446" y="13430"/>
                  <a:pt x="1727" y="13264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曲线 208"/>
          <p:cNvSpPr/>
          <p:nvPr/>
        </p:nvSpPr>
        <p:spPr>
          <a:xfrm>
            <a:off x="868320" y="4313160"/>
            <a:ext cx="88740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949"/>
                </a:moveTo>
                <a:cubicBezTo>
                  <a:pt x="1177" y="14255"/>
                  <a:pt x="3600" y="13012"/>
                  <a:pt x="6773" y="10727"/>
                </a:cubicBezTo>
                <a:cubicBezTo>
                  <a:pt x="9947" y="8443"/>
                  <a:pt x="13648" y="5551"/>
                  <a:pt x="15891" y="3498"/>
                </a:cubicBezTo>
                <a:cubicBezTo>
                  <a:pt x="18134" y="1445"/>
                  <a:pt x="16878" y="0"/>
                  <a:pt x="18000" y="491"/>
                </a:cubicBezTo>
                <a:cubicBezTo>
                  <a:pt x="19121" y="983"/>
                  <a:pt x="21420" y="3643"/>
                  <a:pt x="21510" y="5927"/>
                </a:cubicBezTo>
                <a:cubicBezTo>
                  <a:pt x="21600" y="8212"/>
                  <a:pt x="21600" y="8934"/>
                  <a:pt x="18471" y="11942"/>
                </a:cubicBezTo>
                <a:cubicBezTo>
                  <a:pt x="15342" y="14949"/>
                  <a:pt x="9532" y="20385"/>
                  <a:pt x="5842" y="20992"/>
                </a:cubicBezTo>
                <a:cubicBezTo>
                  <a:pt x="2153" y="21600"/>
                  <a:pt x="919" y="16337"/>
                  <a:pt x="0" y="1494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曲线 206"/>
          <p:cNvSpPr/>
          <p:nvPr/>
        </p:nvSpPr>
        <p:spPr>
          <a:xfrm>
            <a:off x="1185840" y="3790800"/>
            <a:ext cx="322200" cy="16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94"/>
                </a:moveTo>
                <a:cubicBezTo>
                  <a:pt x="775" y="1648"/>
                  <a:pt x="2979" y="693"/>
                  <a:pt x="3879" y="4101"/>
                </a:cubicBezTo>
                <a:cubicBezTo>
                  <a:pt x="4779" y="7509"/>
                  <a:pt x="2731" y="15447"/>
                  <a:pt x="4531" y="18446"/>
                </a:cubicBezTo>
                <a:cubicBezTo>
                  <a:pt x="6331" y="21445"/>
                  <a:pt x="10613" y="21600"/>
                  <a:pt x="12941" y="19090"/>
                </a:cubicBezTo>
                <a:cubicBezTo>
                  <a:pt x="15268" y="16581"/>
                  <a:pt x="14741" y="9089"/>
                  <a:pt x="16168" y="5911"/>
                </a:cubicBezTo>
                <a:cubicBezTo>
                  <a:pt x="17596" y="2732"/>
                  <a:pt x="21600" y="4306"/>
                  <a:pt x="20048" y="3197"/>
                </a:cubicBezTo>
                <a:cubicBezTo>
                  <a:pt x="18496" y="2088"/>
                  <a:pt x="12413" y="718"/>
                  <a:pt x="8410" y="359"/>
                </a:cubicBezTo>
                <a:cubicBezTo>
                  <a:pt x="4406" y="0"/>
                  <a:pt x="1458" y="1127"/>
                  <a:pt x="0" y="139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曲线 209"/>
          <p:cNvSpPr/>
          <p:nvPr/>
        </p:nvSpPr>
        <p:spPr>
          <a:xfrm>
            <a:off x="565200" y="4944960"/>
            <a:ext cx="1363680" cy="74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3" y="14029"/>
                </a:moveTo>
                <a:cubicBezTo>
                  <a:pt x="1360" y="15073"/>
                  <a:pt x="2282" y="18045"/>
                  <a:pt x="3109" y="19402"/>
                </a:cubicBezTo>
                <a:cubicBezTo>
                  <a:pt x="3936" y="20758"/>
                  <a:pt x="3965" y="21600"/>
                  <a:pt x="5092" y="20813"/>
                </a:cubicBezTo>
                <a:cubicBezTo>
                  <a:pt x="6219" y="20026"/>
                  <a:pt x="5648" y="19510"/>
                  <a:pt x="8758" y="15440"/>
                </a:cubicBezTo>
                <a:cubicBezTo>
                  <a:pt x="11868" y="11369"/>
                  <a:pt x="21600" y="895"/>
                  <a:pt x="20656" y="447"/>
                </a:cubicBezTo>
                <a:cubicBezTo>
                  <a:pt x="19712" y="0"/>
                  <a:pt x="8048" y="10515"/>
                  <a:pt x="4024" y="13174"/>
                </a:cubicBezTo>
                <a:cubicBezTo>
                  <a:pt x="0" y="15833"/>
                  <a:pt x="1009" y="13513"/>
                  <a:pt x="519" y="13744"/>
                </a:cubicBezTo>
                <a:cubicBezTo>
                  <a:pt x="29" y="13974"/>
                  <a:pt x="1302" y="14205"/>
                  <a:pt x="1587" y="14314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曲线 210"/>
          <p:cNvSpPr/>
          <p:nvPr/>
        </p:nvSpPr>
        <p:spPr>
          <a:xfrm>
            <a:off x="1847880" y="3595680"/>
            <a:ext cx="58104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168" y="0"/>
                </a:moveTo>
                <a:cubicBezTo>
                  <a:pt x="11391" y="658"/>
                  <a:pt x="13313" y="820"/>
                  <a:pt x="11168" y="4819"/>
                </a:cubicBezTo>
                <a:cubicBezTo>
                  <a:pt x="9024" y="8817"/>
                  <a:pt x="0" y="18410"/>
                  <a:pt x="428" y="20005"/>
                </a:cubicBezTo>
                <a:cubicBezTo>
                  <a:pt x="857" y="21600"/>
                  <a:pt x="9161" y="16191"/>
                  <a:pt x="13313" y="12770"/>
                </a:cubicBezTo>
                <a:cubicBezTo>
                  <a:pt x="17465" y="9349"/>
                  <a:pt x="21600" y="5443"/>
                  <a:pt x="21171" y="2889"/>
                </a:cubicBezTo>
                <a:cubicBezTo>
                  <a:pt x="20742" y="335"/>
                  <a:pt x="13330" y="381"/>
                  <a:pt x="11168" y="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曲线 211"/>
          <p:cNvSpPr/>
          <p:nvPr/>
        </p:nvSpPr>
        <p:spPr>
          <a:xfrm>
            <a:off x="2151000" y="3726000"/>
            <a:ext cx="11700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86" y="12897"/>
                </a:moveTo>
                <a:cubicBezTo>
                  <a:pt x="4693" y="10586"/>
                  <a:pt x="12707" y="3364"/>
                  <a:pt x="16300" y="1682"/>
                </a:cubicBezTo>
                <a:cubicBezTo>
                  <a:pt x="19893" y="0"/>
                  <a:pt x="21600" y="1031"/>
                  <a:pt x="19859" y="4485"/>
                </a:cubicBezTo>
                <a:cubicBezTo>
                  <a:pt x="18118" y="7940"/>
                  <a:pt x="11350" y="16351"/>
                  <a:pt x="7578" y="18975"/>
                </a:cubicBezTo>
                <a:cubicBezTo>
                  <a:pt x="3806" y="21600"/>
                  <a:pt x="1996" y="19087"/>
                  <a:pt x="998" y="17585"/>
                </a:cubicBezTo>
                <a:cubicBezTo>
                  <a:pt x="0" y="16082"/>
                  <a:pt x="2415" y="12426"/>
                  <a:pt x="2594" y="11484"/>
                </a:cubicBezTo>
                <a:cubicBezTo>
                  <a:pt x="2773" y="10542"/>
                  <a:pt x="2056" y="12493"/>
                  <a:pt x="1886" y="12897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曲线 212"/>
          <p:cNvSpPr/>
          <p:nvPr/>
        </p:nvSpPr>
        <p:spPr>
          <a:xfrm>
            <a:off x="1703520" y="4230720"/>
            <a:ext cx="1982520" cy="49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3" y="15422"/>
                </a:moveTo>
                <a:cubicBezTo>
                  <a:pt x="2897" y="13939"/>
                  <a:pt x="6182" y="10342"/>
                  <a:pt x="9351" y="7376"/>
                </a:cubicBezTo>
                <a:cubicBezTo>
                  <a:pt x="12520" y="4409"/>
                  <a:pt x="15161" y="1178"/>
                  <a:pt x="17324" y="589"/>
                </a:cubicBezTo>
                <a:cubicBezTo>
                  <a:pt x="19487" y="0"/>
                  <a:pt x="19970" y="2966"/>
                  <a:pt x="20156" y="4409"/>
                </a:cubicBezTo>
                <a:cubicBezTo>
                  <a:pt x="20342" y="5852"/>
                  <a:pt x="21600" y="4673"/>
                  <a:pt x="18264" y="7802"/>
                </a:cubicBezTo>
                <a:cubicBezTo>
                  <a:pt x="14929" y="10932"/>
                  <a:pt x="6961" y="18552"/>
                  <a:pt x="3480" y="20076"/>
                </a:cubicBezTo>
                <a:cubicBezTo>
                  <a:pt x="0" y="21600"/>
                  <a:pt x="1172" y="16520"/>
                  <a:pt x="855" y="15422"/>
                </a:cubicBezTo>
                <a:cubicBezTo>
                  <a:pt x="538" y="14325"/>
                  <a:pt x="1675" y="14569"/>
                  <a:pt x="1906" y="14569"/>
                </a:cubicBezTo>
                <a:cubicBezTo>
                  <a:pt x="2137" y="14569"/>
                  <a:pt x="2012" y="15239"/>
                  <a:pt x="2012" y="15422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曲线 213"/>
          <p:cNvSpPr/>
          <p:nvPr/>
        </p:nvSpPr>
        <p:spPr>
          <a:xfrm>
            <a:off x="2455920" y="2895480"/>
            <a:ext cx="441360" cy="353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80"/>
                </a:moveTo>
                <a:cubicBezTo>
                  <a:pt x="836" y="908"/>
                  <a:pt x="3189" y="0"/>
                  <a:pt x="4229" y="2497"/>
                </a:cubicBezTo>
                <a:cubicBezTo>
                  <a:pt x="5269" y="4995"/>
                  <a:pt x="5835" y="10118"/>
                  <a:pt x="5179" y="13266"/>
                </a:cubicBezTo>
                <a:cubicBezTo>
                  <a:pt x="4523" y="16414"/>
                  <a:pt x="361" y="16805"/>
                  <a:pt x="927" y="18239"/>
                </a:cubicBezTo>
                <a:cubicBezTo>
                  <a:pt x="1492" y="19672"/>
                  <a:pt x="5450" y="20393"/>
                  <a:pt x="8006" y="20427"/>
                </a:cubicBezTo>
                <a:cubicBezTo>
                  <a:pt x="10562" y="20461"/>
                  <a:pt x="12530" y="21600"/>
                  <a:pt x="13661" y="18415"/>
                </a:cubicBezTo>
                <a:cubicBezTo>
                  <a:pt x="14792" y="15230"/>
                  <a:pt x="12620" y="7859"/>
                  <a:pt x="13661" y="4510"/>
                </a:cubicBezTo>
                <a:cubicBezTo>
                  <a:pt x="14701" y="1160"/>
                  <a:pt x="21600" y="2415"/>
                  <a:pt x="18863" y="1668"/>
                </a:cubicBezTo>
                <a:cubicBezTo>
                  <a:pt x="16126" y="922"/>
                  <a:pt x="3867" y="902"/>
                  <a:pt x="0" y="780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曲线 214"/>
          <p:cNvSpPr/>
          <p:nvPr/>
        </p:nvSpPr>
        <p:spPr>
          <a:xfrm>
            <a:off x="1465200" y="4510080"/>
            <a:ext cx="1222560" cy="1287360"/>
          </a:xfrm>
          <a:custGeom>
            <a:avLst/>
            <a:gdLst/>
            <a:ahLst/>
            <a:rect l="l" t="t" r="r" b="b"/>
            <a:pathLst>
              <a:path w="21599" h="21600">
                <a:moveTo>
                  <a:pt x="17178" y="2368"/>
                </a:moveTo>
                <a:cubicBezTo>
                  <a:pt x="16501" y="3584"/>
                  <a:pt x="15310" y="6358"/>
                  <a:pt x="13100" y="9187"/>
                </a:cubicBezTo>
                <a:cubicBezTo>
                  <a:pt x="10889" y="12015"/>
                  <a:pt x="8744" y="14135"/>
                  <a:pt x="6125" y="16503"/>
                </a:cubicBezTo>
                <a:cubicBezTo>
                  <a:pt x="3507" y="18872"/>
                  <a:pt x="0" y="20493"/>
                  <a:pt x="0" y="21046"/>
                </a:cubicBezTo>
                <a:cubicBezTo>
                  <a:pt x="0" y="21600"/>
                  <a:pt x="2863" y="21436"/>
                  <a:pt x="6125" y="19262"/>
                </a:cubicBezTo>
                <a:cubicBezTo>
                  <a:pt x="9388" y="17088"/>
                  <a:pt x="13271" y="13706"/>
                  <a:pt x="16330" y="10168"/>
                </a:cubicBezTo>
                <a:cubicBezTo>
                  <a:pt x="19389" y="6631"/>
                  <a:pt x="21257" y="3116"/>
                  <a:pt x="21428" y="1558"/>
                </a:cubicBezTo>
                <a:cubicBezTo>
                  <a:pt x="21599" y="0"/>
                  <a:pt x="18133" y="2033"/>
                  <a:pt x="17178" y="2368"/>
                </a:cubicBezTo>
                <a:close/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曲线 215"/>
          <p:cNvSpPr/>
          <p:nvPr/>
        </p:nvSpPr>
        <p:spPr>
          <a:xfrm>
            <a:off x="2590920" y="4572000"/>
            <a:ext cx="1504800" cy="10620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2788" y="4978"/>
                </a:moveTo>
                <a:cubicBezTo>
                  <a:pt x="3351" y="5745"/>
                  <a:pt x="4616" y="7231"/>
                  <a:pt x="5967" y="9522"/>
                </a:cubicBezTo>
                <a:cubicBezTo>
                  <a:pt x="7319" y="11812"/>
                  <a:pt x="7902" y="14093"/>
                  <a:pt x="9558" y="16422"/>
                </a:cubicBezTo>
                <a:cubicBezTo>
                  <a:pt x="11213" y="18750"/>
                  <a:pt x="11909" y="20729"/>
                  <a:pt x="14254" y="21164"/>
                </a:cubicBezTo>
                <a:cubicBezTo>
                  <a:pt x="16599" y="21599"/>
                  <a:pt x="20990" y="19621"/>
                  <a:pt x="21295" y="18599"/>
                </a:cubicBezTo>
                <a:cubicBezTo>
                  <a:pt x="21600" y="17577"/>
                  <a:pt x="19526" y="19347"/>
                  <a:pt x="15771" y="16034"/>
                </a:cubicBezTo>
                <a:cubicBezTo>
                  <a:pt x="12015" y="12721"/>
                  <a:pt x="5020" y="4032"/>
                  <a:pt x="2510" y="2016"/>
                </a:cubicBezTo>
                <a:cubicBezTo>
                  <a:pt x="0" y="0"/>
                  <a:pt x="2987" y="5253"/>
                  <a:pt x="3205" y="5963"/>
                </a:cubicBezTo>
                <a:cubicBezTo>
                  <a:pt x="3424" y="6673"/>
                  <a:pt x="3550" y="5736"/>
                  <a:pt x="3616" y="5575"/>
                </a:cubicBezTo>
              </a:path>
            </a:pathLst>
          </a:custGeom>
          <a:solidFill>
            <a:srgbClr val="00a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22"/>
          <p:cNvSpPr txBox="1"/>
          <p:nvPr/>
        </p:nvSpPr>
        <p:spPr>
          <a:xfrm>
            <a:off x="1371600" y="1371600"/>
            <a:ext cx="1676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2844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微软雅黑"/>
              </a:rPr>
              <a:t>zhū</a:t>
            </a:r>
            <a:endParaRPr b="0" lang="en-US" sz="2500" spc="1" strike="noStrike">
              <a:ln w="2844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grpSp>
        <p:nvGrpSpPr>
          <p:cNvPr id="191" name="Group 23"/>
          <p:cNvGrpSpPr/>
          <p:nvPr/>
        </p:nvGrpSpPr>
        <p:grpSpPr>
          <a:xfrm>
            <a:off x="457200" y="1219320"/>
            <a:ext cx="3809880" cy="1218960"/>
            <a:chOff x="457200" y="1219320"/>
            <a:chExt cx="3809880" cy="1218960"/>
          </a:xfrm>
        </p:grpSpPr>
        <p:sp>
          <p:nvSpPr>
            <p:cNvPr id="192" name="Line 24"/>
            <p:cNvSpPr/>
            <p:nvPr/>
          </p:nvSpPr>
          <p:spPr>
            <a:xfrm>
              <a:off x="533160" y="121932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533160" y="1599840"/>
              <a:ext cx="373356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>
              <a:off x="532800" y="2057040"/>
              <a:ext cx="3733560" cy="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>
              <a:off x="457200" y="2437920"/>
              <a:ext cx="3809880" cy="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28"/>
          <p:cNvSpPr/>
          <p:nvPr/>
        </p:nvSpPr>
        <p:spPr>
          <a:xfrm>
            <a:off x="5298120" y="4649760"/>
            <a:ext cx="23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部首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词：露珠  珍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9" descr="m"/>
          <p:cNvPicPr/>
          <p:nvPr/>
        </p:nvPicPr>
        <p:blipFill>
          <a:blip r:embed="rId1"/>
          <a:stretch/>
        </p:blipFill>
        <p:spPr>
          <a:xfrm>
            <a:off x="5943600" y="304920"/>
            <a:ext cx="3139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0:07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42Z</dcterms:modified>
  <cp:revision>1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