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DFB6-1A4F-4C93-BC66-FD1935F797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DCC8-9201-4E73-8097-FADFB0E689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163-4D41-4A00-ACE9-F0D1565B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9C6-70E6-431E-B955-DD777B8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9A2-FC3D-4CC6-9471-664EF09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F68-DDC8-40CA-8E90-0DD2C80A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4ED-DC35-4C1F-AD1C-64D2915B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507-1165-43FD-A6C3-CC2604E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96F-17EC-4562-9FCD-BDC7B57D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631-EA55-40CE-81B1-D55B6E81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5DB-0BEA-4E64-A21E-EBB85B1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AB6-F77B-4EF6-8B9E-6574250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811-2C58-4CC7-9D79-13B2F92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FCE-FD62-4586-8F9E-C59D88D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85FB-55FD-491A-82EC-CDCBDD2F3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enannews.com.cn/newcnsnews/59/2007-07-20/news-59-39356.shtm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ob.hxonl.com/school/Web_School_Pic_View.asp?picid=5700&amp;id=592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卡通~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132000" y="1989000"/>
            <a:ext cx="48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个愿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35280" y="765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湘教版一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3217320" y="5661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6920" y="2781360"/>
            <a:ext cx="771552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看到升国旗的情景，你的心情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亲眼在天安广门场看见解放军叔叔升国旗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256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近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       缓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2050920" y="2060640"/>
            <a:ext cx="4969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E58E-0FA3-4EBC-B789-CD85E3A08B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99640" y="2133360"/>
            <a:ext cx="75596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正确理解课文的内容，进一步激发热爱五星红旗、热爱祖国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602160" y="420840"/>
            <a:ext cx="5219640" cy="574344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 rot="5400000">
            <a:off x="681840" y="292320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课文欣赏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028880" y="6164280"/>
            <a:ext cx="58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4572000" cy="627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5720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843280" y="119700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763640" y="2492280"/>
            <a:ext cx="605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热  爱  京  卫   士  齐  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g1184890098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98100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995640" y="515772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威武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592_ningbu_12420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197000"/>
            <a:ext cx="6059520" cy="454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152960" y="207000"/>
            <a:ext cx="91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庄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课文理解重点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卡通~19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5002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484360" y="364500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梅十分激动，眼中闪着泪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1403280" y="1773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句话写出了冬梅被庄严的国歌感动着，心理似有千言万语要说。她实现了自己的愿望，激动得眼泪要掉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39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08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