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2E3C-B803-4339-A4FC-2AF5BB5093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CDFD-8E71-4402-8B7F-0CE8F8BEAE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B1C-E44B-4B24-9CF2-C4DFB51D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E6D1-0BC0-4ACB-90C1-CFA3E2DE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51C9-6F25-4BEF-91BA-F6BA4516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161-12F4-4CC9-9ECC-FE5A7E48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05F-7E6D-4592-9781-E74C3420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60B-4A79-4F45-8B2E-02393228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EDF-4124-4AF5-8593-CFB11C8E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647-54FF-48D1-8734-BF6873FC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999-1081-4CB4-8A5B-162ED011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3BA-4EE1-468F-8274-77796535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61A8-5DC7-443D-8EF0-D6FE6EB6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9830-4762-4812-A61C-F5D8F93F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E486-C550-418B-AAA5-0363F4340E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3280" y="1125000"/>
            <a:ext cx="619128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dēng guàn què  lóu</a:t>
            </a:r>
            <a:r>
              <a:rPr b="1" lang="en-US" sz="11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br>
              <a:rPr sz="11500"/>
            </a:br>
            <a:r>
              <a:rPr b="1" lang="zh-CN" sz="8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登 鹳 雀 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53512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7246800" y="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登鹳雀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1725120" y="5792760"/>
            <a:ext cx="5490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u=4962392,242096713&amp;fm=23&amp;gp=0"/>
          <p:cNvPicPr/>
          <p:nvPr/>
        </p:nvPicPr>
        <p:blipFill>
          <a:blip r:embed="rId1"/>
          <a:stretch/>
        </p:blipFill>
        <p:spPr>
          <a:xfrm>
            <a:off x="181080" y="477720"/>
            <a:ext cx="8783640" cy="4815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685880" y="5446800"/>
            <a:ext cx="569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楷体_GB2312"/>
              </a:rPr>
              <a:t>白 日 依 山 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LOCAL201210150953000448546108057"/>
          <p:cNvPicPr/>
          <p:nvPr/>
        </p:nvPicPr>
        <p:blipFill>
          <a:blip r:embed="rId1"/>
          <a:stretch/>
        </p:blipFill>
        <p:spPr>
          <a:xfrm>
            <a:off x="181080" y="477720"/>
            <a:ext cx="8783640" cy="4392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2387520" y="5157720"/>
            <a:ext cx="607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黄 河 入 海 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4E4FDB436414FC68F252210F8C7CE233"/>
          <p:cNvPicPr/>
          <p:nvPr/>
        </p:nvPicPr>
        <p:blipFill>
          <a:blip r:embed="rId1"/>
          <a:stretch/>
        </p:blipFill>
        <p:spPr>
          <a:xfrm>
            <a:off x="182520" y="477720"/>
            <a:ext cx="8783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406520" y="2349360"/>
            <a:ext cx="841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只有站得高，才能看得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121278_0_1353638571"/>
          <p:cNvPicPr/>
          <p:nvPr/>
        </p:nvPicPr>
        <p:blipFill>
          <a:blip r:embed="rId1"/>
          <a:stretch/>
        </p:blipFill>
        <p:spPr>
          <a:xfrm>
            <a:off x="181080" y="477720"/>
            <a:ext cx="8785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72145051-3"/>
          <p:cNvPicPr/>
          <p:nvPr/>
        </p:nvPicPr>
        <p:blipFill>
          <a:blip r:embed="rId1"/>
          <a:stretch/>
        </p:blipFill>
        <p:spPr>
          <a:xfrm>
            <a:off x="109440" y="477720"/>
            <a:ext cx="88585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u=1241219876,2742143252&amp;fm=23&amp;gp=0"/>
          <p:cNvPicPr/>
          <p:nvPr/>
        </p:nvPicPr>
        <p:blipFill>
          <a:blip r:embed="rId1"/>
          <a:stretch/>
        </p:blipFill>
        <p:spPr>
          <a:xfrm>
            <a:off x="2413080" y="554040"/>
            <a:ext cx="4751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541440" y="1630440"/>
            <a:ext cx="81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语文作业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背诵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52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登鹳雀楼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，认读绿色通道里的生字，口头组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在田格本上抄写本课四个生字并组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1954080" y="5504040"/>
            <a:ext cx="52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0339-602B-4614-993A-C5AE46A35D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138565_233550041_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181080" y="693720"/>
            <a:ext cx="8856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4f1c"/>
                </a:solidFill>
                <a:latin typeface="Arial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鹳雀楼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在山西省的永济县。因为经常有一种形状像鹤的鹳鸟停留在上面，所以叫做鹳雀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楼一共三层，在楼上可以望见雄伟的中条山和浩浩荡荡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黄河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，是当地的名胜。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鹳雀楼简介.wav" descr=""/>
          <p:cNvPicPr/>
          <p:nvPr/>
        </p:nvPicPr>
        <p:blipFill>
          <a:blip r:embed="rId1"/>
          <a:stretch/>
        </p:blipFill>
        <p:spPr>
          <a:xfrm>
            <a:off x="8415360" y="6129360"/>
            <a:ext cx="7286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delay="0"/>
                </p:stCondLst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494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4"/>
          <p:cNvSpPr/>
          <p:nvPr/>
        </p:nvSpPr>
        <p:spPr>
          <a:xfrm>
            <a:off x="2340000" y="2906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4a36acaf2edda3ccf7ea675702e93901213f92bf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6364080" y="1776240"/>
            <a:ext cx="1521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王 之 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125800" y="2708280"/>
            <a:ext cx="5759280" cy="37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白日依山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黄河入海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欲穷千里目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更上一层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627280" y="549360"/>
            <a:ext cx="3889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登鹳雀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002640" y="1773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（唐）王之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7246800" y="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登鹳雀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1403280" y="2852640"/>
            <a:ext cx="1224000" cy="1224000"/>
            <a:chOff x="1403280" y="2852640"/>
            <a:chExt cx="1224000" cy="1224000"/>
          </a:xfrm>
        </p:grpSpPr>
        <p:sp>
          <p:nvSpPr>
            <p:cNvPr id="65" name="Rectangle 8"/>
            <p:cNvSpPr/>
            <p:nvPr/>
          </p:nvSpPr>
          <p:spPr>
            <a:xfrm>
              <a:off x="1403280" y="2852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9"/>
            <p:cNvSpPr/>
            <p:nvPr/>
          </p:nvSpPr>
          <p:spPr>
            <a:xfrm flipH="1">
              <a:off x="1403280" y="3464640"/>
              <a:ext cx="1224000" cy="3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0"/>
            <p:cNvSpPr/>
            <p:nvPr/>
          </p:nvSpPr>
          <p:spPr>
            <a:xfrm>
              <a:off x="2015640" y="2882880"/>
              <a:ext cx="36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7"/>
          <p:cNvGrpSpPr/>
          <p:nvPr/>
        </p:nvGrpSpPr>
        <p:grpSpPr>
          <a:xfrm>
            <a:off x="2627280" y="2852640"/>
            <a:ext cx="1224000" cy="1224000"/>
            <a:chOff x="2627280" y="2852640"/>
            <a:chExt cx="1224000" cy="1224000"/>
          </a:xfrm>
        </p:grpSpPr>
        <p:sp>
          <p:nvSpPr>
            <p:cNvPr id="69" name="Rectangle 12"/>
            <p:cNvSpPr/>
            <p:nvPr/>
          </p:nvSpPr>
          <p:spPr>
            <a:xfrm>
              <a:off x="2627280" y="2852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 flipH="1">
              <a:off x="2627280" y="3464640"/>
              <a:ext cx="1224000" cy="3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3239640" y="2882880"/>
              <a:ext cx="36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1"/>
          <p:cNvGrpSpPr/>
          <p:nvPr/>
        </p:nvGrpSpPr>
        <p:grpSpPr>
          <a:xfrm>
            <a:off x="3851280" y="2852640"/>
            <a:ext cx="1224000" cy="1224000"/>
            <a:chOff x="3851280" y="2852640"/>
            <a:chExt cx="1224000" cy="1224000"/>
          </a:xfrm>
        </p:grpSpPr>
        <p:sp>
          <p:nvSpPr>
            <p:cNvPr id="73" name="Rectangle 16"/>
            <p:cNvSpPr/>
            <p:nvPr/>
          </p:nvSpPr>
          <p:spPr>
            <a:xfrm>
              <a:off x="3851280" y="2852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7"/>
            <p:cNvSpPr/>
            <p:nvPr/>
          </p:nvSpPr>
          <p:spPr>
            <a:xfrm flipH="1">
              <a:off x="3851280" y="3464640"/>
              <a:ext cx="1224000" cy="3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>
              <a:off x="4463640" y="2882880"/>
              <a:ext cx="36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5"/>
          <p:cNvGrpSpPr/>
          <p:nvPr/>
        </p:nvGrpSpPr>
        <p:grpSpPr>
          <a:xfrm>
            <a:off x="5076720" y="2852640"/>
            <a:ext cx="1224000" cy="1224000"/>
            <a:chOff x="5076720" y="2852640"/>
            <a:chExt cx="1224000" cy="1224000"/>
          </a:xfrm>
        </p:grpSpPr>
        <p:sp>
          <p:nvSpPr>
            <p:cNvPr id="77" name="Rectangle 20"/>
            <p:cNvSpPr/>
            <p:nvPr/>
          </p:nvSpPr>
          <p:spPr>
            <a:xfrm>
              <a:off x="5076720" y="2852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1"/>
            <p:cNvSpPr/>
            <p:nvPr/>
          </p:nvSpPr>
          <p:spPr>
            <a:xfrm flipH="1">
              <a:off x="5076720" y="3464640"/>
              <a:ext cx="1224000" cy="3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2"/>
            <p:cNvSpPr/>
            <p:nvPr/>
          </p:nvSpPr>
          <p:spPr>
            <a:xfrm>
              <a:off x="5689080" y="2882880"/>
              <a:ext cx="36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23"/>
          <p:cNvSpPr/>
          <p:nvPr/>
        </p:nvSpPr>
        <p:spPr>
          <a:xfrm>
            <a:off x="1117440" y="2708280"/>
            <a:ext cx="1827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0" lang="zh-CN" sz="8800" spc="-1" strike="noStrike">
                <a:solidFill>
                  <a:srgbClr val="ff3300"/>
                </a:solidFill>
                <a:latin typeface="Arial"/>
                <a:ea typeface="楷体"/>
              </a:rPr>
              <a:t>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2852280" y="27082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Arial"/>
                <a:ea typeface="楷体"/>
              </a:rPr>
              <a:t>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4076280" y="27082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Arial"/>
                <a:ea typeface="楷体"/>
              </a:rPr>
              <a:t>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5076720" y="270828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Arial"/>
                <a:ea typeface="楷体"/>
              </a:rPr>
              <a:t>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125800" y="2708280"/>
            <a:ext cx="5759280" cy="37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白日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⁄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依山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黄河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⁄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入海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欲穷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⁄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千里目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更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⁄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一层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627280" y="549360"/>
            <a:ext cx="3889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登鹳雀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6002640" y="1773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（唐）王之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7246800" y="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登鹳雀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125800" y="2708280"/>
            <a:ext cx="5759280" cy="37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白日依山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黄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河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入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海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欲穷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千里目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更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上一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层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627280" y="549360"/>
            <a:ext cx="3889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登鹳雀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002640" y="1773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（唐）王之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7246800" y="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登鹳雀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403280" y="1990800"/>
            <a:ext cx="7128000" cy="46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ái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ī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ān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ì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4f1c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白   日   依   山   尽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án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é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ù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ǎi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黄      河  入   海   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1c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óng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ā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ǐ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4f1c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54f1c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欲    穷    千    里   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èng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éng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ó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4f1c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更     上     一   层   楼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900000" y="622440"/>
            <a:ext cx="5402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ēng</a:t>
            </a:r>
            <a:r>
              <a:rPr b="1" lang="en-US" sz="3200" spc="-1" strike="noStrike">
                <a:solidFill>
                  <a:srgbClr val="054f1c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uàn</a:t>
            </a:r>
            <a:r>
              <a:rPr b="1" lang="en-US" sz="3200" spc="-1" strike="noStrike">
                <a:solidFill>
                  <a:srgbClr val="054f1c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uè</a:t>
            </a:r>
            <a:r>
              <a:rPr b="1" lang="en-US" sz="3200" spc="-1" strike="noStrike">
                <a:solidFill>
                  <a:srgbClr val="054f1c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óu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登  鹳  雀 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651640" y="1486080"/>
            <a:ext cx="26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（唐）王之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7246800" y="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登鹳雀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03:45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3:20Z</dcterms:modified>
  <cp:revision>6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