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21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23AE-FF46-41A7-A393-513A6F8DE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0E66-BAA8-49FB-9D58-9A3979D1B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3E6-4190-4746-AEC2-DC5DB9C5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C6E-9BF2-4673-B70D-421C446E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F22-2519-499D-8EC7-8F7BD81D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877-D771-47D3-8A78-F9B50B5B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50D-C8F2-4E5B-838C-9531A5FA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C08-2E7D-4234-B0D8-3A4FD6B6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295-5C2B-4A39-8C4A-002D2A5D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D19-440C-45CF-8153-C01A37B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058-70BC-44C8-972B-C0C242AE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2D7-59F6-47CC-988D-7932A23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336-09D3-4F28-97DD-48A2B77A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95D-F8CB-4FD9-BD6C-6066CB28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218D-CB4A-44A8-9E9F-CAC05C5D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baike.baidu.com/view/122293.htm" TargetMode="External"/><Relationship Id="rId3" Type="http://schemas.openxmlformats.org/officeDocument/2006/relationships/hyperlink" Target="http://baike.baidu.com/view/149435.htm" TargetMode="External"/><Relationship Id="rId4" Type="http://schemas.openxmlformats.org/officeDocument/2006/relationships/hyperlink" Target="http://baike.baidu.com/view/3622.htm" TargetMode="External"/><Relationship Id="rId5" Type="http://schemas.openxmlformats.org/officeDocument/2006/relationships/hyperlink" Target="http://baike.baidu.com/view/4276.ht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2311560" y="1700280"/>
            <a:ext cx="482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c000"/>
                </a:solidFill>
                <a:latin typeface="华文新魏"/>
                <a:ea typeface="华文新魏"/>
              </a:rPr>
              <a:t>风铃草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18270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u=152481951,163685813&amp;fm=0&amp;gp=0"/>
          <p:cNvPicPr/>
          <p:nvPr/>
        </p:nvPicPr>
        <p:blipFill>
          <a:blip r:embed="rId2"/>
          <a:stretch/>
        </p:blipFill>
        <p:spPr>
          <a:xfrm>
            <a:off x="179280" y="18900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u=152481951,163685813&amp;fm=0&amp;gp=0"/>
          <p:cNvPicPr/>
          <p:nvPr/>
        </p:nvPicPr>
        <p:blipFill>
          <a:blip r:embed="rId3"/>
          <a:stretch/>
        </p:blipFill>
        <p:spPr>
          <a:xfrm>
            <a:off x="1979640" y="18900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u=152481951,163685813&amp;fm=0&amp;gp=0"/>
          <p:cNvPicPr/>
          <p:nvPr/>
        </p:nvPicPr>
        <p:blipFill>
          <a:blip r:embed="rId4"/>
          <a:stretch/>
        </p:blipFill>
        <p:spPr>
          <a:xfrm>
            <a:off x="3924360" y="26028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u=152481951,163685813&amp;fm=0&amp;gp=0"/>
          <p:cNvPicPr/>
          <p:nvPr/>
        </p:nvPicPr>
        <p:blipFill>
          <a:blip r:embed="rId5"/>
          <a:stretch/>
        </p:blipFill>
        <p:spPr>
          <a:xfrm>
            <a:off x="0" y="191628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u=152481951,163685813&amp;fm=0&amp;gp=0"/>
          <p:cNvPicPr/>
          <p:nvPr/>
        </p:nvPicPr>
        <p:blipFill>
          <a:blip r:embed="rId6"/>
          <a:stretch/>
        </p:blipFill>
        <p:spPr>
          <a:xfrm>
            <a:off x="1763640" y="371628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u=152481951,163685813&amp;fm=0&amp;gp=0"/>
          <p:cNvPicPr/>
          <p:nvPr/>
        </p:nvPicPr>
        <p:blipFill>
          <a:blip r:embed="rId7"/>
          <a:stretch/>
        </p:blipFill>
        <p:spPr>
          <a:xfrm>
            <a:off x="0" y="350028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u=152481951,163685813&amp;fm=0&amp;gp=0"/>
          <p:cNvPicPr/>
          <p:nvPr/>
        </p:nvPicPr>
        <p:blipFill>
          <a:blip r:embed="rId8"/>
          <a:stretch/>
        </p:blipFill>
        <p:spPr>
          <a:xfrm>
            <a:off x="3780000" y="2060640"/>
            <a:ext cx="177768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324000" y="62064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2195640" y="54936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3924360" y="620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0" y="2276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924360" y="2349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0" y="3860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9" descr="u=152481951,163685813&amp;fm=0&amp;gp=0"/>
          <p:cNvPicPr/>
          <p:nvPr/>
        </p:nvPicPr>
        <p:blipFill>
          <a:blip r:embed="rId9"/>
          <a:stretch/>
        </p:blipFill>
        <p:spPr>
          <a:xfrm>
            <a:off x="1835280" y="1989000"/>
            <a:ext cx="1778040" cy="1600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1979640" y="2349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0" descr="u=152481951,163685813&amp;fm=0&amp;gp=0"/>
          <p:cNvPicPr/>
          <p:nvPr/>
        </p:nvPicPr>
        <p:blipFill>
          <a:blip r:embed="rId10"/>
          <a:stretch/>
        </p:blipFill>
        <p:spPr>
          <a:xfrm>
            <a:off x="3708360" y="357336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u=152481951,163685813&amp;fm=0&amp;gp=0"/>
          <p:cNvPicPr/>
          <p:nvPr/>
        </p:nvPicPr>
        <p:blipFill>
          <a:blip r:embed="rId11"/>
          <a:stretch/>
        </p:blipFill>
        <p:spPr>
          <a:xfrm>
            <a:off x="1979640" y="525780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u=152481951,163685813&amp;fm=0&amp;gp=0"/>
          <p:cNvPicPr/>
          <p:nvPr/>
        </p:nvPicPr>
        <p:blipFill>
          <a:blip r:embed="rId12"/>
          <a:stretch/>
        </p:blipFill>
        <p:spPr>
          <a:xfrm>
            <a:off x="0" y="501336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u=152481951,163685813&amp;fm=0&amp;gp=0"/>
          <p:cNvPicPr/>
          <p:nvPr/>
        </p:nvPicPr>
        <p:blipFill>
          <a:blip r:embed="rId13"/>
          <a:stretch/>
        </p:blipFill>
        <p:spPr>
          <a:xfrm>
            <a:off x="4140360" y="5257800"/>
            <a:ext cx="1777680" cy="16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u=152481951,163685813&amp;fm=0&amp;gp=0"/>
          <p:cNvPicPr/>
          <p:nvPr/>
        </p:nvPicPr>
        <p:blipFill>
          <a:blip r:embed="rId14"/>
          <a:stretch/>
        </p:blipFill>
        <p:spPr>
          <a:xfrm>
            <a:off x="6227640" y="501336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u=152481951,163685813&amp;fm=0&amp;gp=0"/>
          <p:cNvPicPr/>
          <p:nvPr/>
        </p:nvPicPr>
        <p:blipFill>
          <a:blip r:embed="rId15"/>
          <a:stretch/>
        </p:blipFill>
        <p:spPr>
          <a:xfrm>
            <a:off x="5724360" y="3141720"/>
            <a:ext cx="177804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6"/>
          <p:cNvSpPr/>
          <p:nvPr/>
        </p:nvSpPr>
        <p:spPr>
          <a:xfrm>
            <a:off x="1835280" y="4149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4211640" y="5661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2050920" y="551664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0" y="5373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5796000" y="350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3780000" y="4076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3"/>
          <p:cNvSpPr/>
          <p:nvPr/>
        </p:nvSpPr>
        <p:spPr>
          <a:xfrm>
            <a:off x="6300720" y="544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u=152481951,163685813&amp;fm=0&amp;gp=0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79280" y="18900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u=152481951,163685813&amp;fm=0&amp;gp=0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979640" y="26028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u=152481951,163685813&amp;fm=0&amp;gp=0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2050920" y="184464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u=152481951,163685813&amp;fm=0&amp;gp=0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3995640" y="191628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u=152481951,163685813&amp;fm=0&amp;gp=0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2268360" y="494172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u=152481951,163685813&amp;fm=0&amp;gp=0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0" y="508464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u=152481951,163685813&amp;fm=0&amp;gp=0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4140360" y="5084640"/>
            <a:ext cx="177768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6"/>
          <p:cNvSpPr/>
          <p:nvPr/>
        </p:nvSpPr>
        <p:spPr>
          <a:xfrm>
            <a:off x="468360" y="54936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铃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340000" y="620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嫩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2340000" y="2205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4140360" y="2349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舞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3" descr="u=152481951,163685813&amp;fm=0&amp;gp=0"/>
          <p:cNvPicPr/>
          <p:nvPr/>
        </p:nvPicPr>
        <p:blipFill>
          <a:blip r:embed="rId9">
            <a:lum bright="6000"/>
          </a:blip>
          <a:stretch/>
        </p:blipFill>
        <p:spPr>
          <a:xfrm>
            <a:off x="6012000" y="508464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u=152481951,163685813&amp;fm=0&amp;gp=0"/>
          <p:cNvPicPr/>
          <p:nvPr/>
        </p:nvPicPr>
        <p:blipFill>
          <a:blip r:embed="rId10">
            <a:lum bright="6000"/>
          </a:blip>
          <a:stretch/>
        </p:blipFill>
        <p:spPr>
          <a:xfrm>
            <a:off x="3995640" y="342900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u=152481951,163685813&amp;fm=0&amp;gp=0"/>
          <p:cNvPicPr/>
          <p:nvPr/>
        </p:nvPicPr>
        <p:blipFill>
          <a:blip r:embed="rId11">
            <a:lum bright="6000"/>
          </a:blip>
          <a:stretch/>
        </p:blipFill>
        <p:spPr>
          <a:xfrm>
            <a:off x="3851280" y="26028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u=152481951,163685813&amp;fm=0&amp;gp=0"/>
          <p:cNvPicPr/>
          <p:nvPr/>
        </p:nvPicPr>
        <p:blipFill>
          <a:blip r:embed="rId12">
            <a:lum bright="6000"/>
          </a:blip>
          <a:stretch/>
        </p:blipFill>
        <p:spPr>
          <a:xfrm>
            <a:off x="2268360" y="350028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u=152481951,163685813&amp;fm=0&amp;gp=0"/>
          <p:cNvPicPr/>
          <p:nvPr/>
        </p:nvPicPr>
        <p:blipFill>
          <a:blip r:embed="rId13">
            <a:lum bright="6000"/>
          </a:blip>
          <a:stretch/>
        </p:blipFill>
        <p:spPr>
          <a:xfrm>
            <a:off x="179280" y="350028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u=152481951,163685813&amp;fm=0&amp;gp=0"/>
          <p:cNvPicPr/>
          <p:nvPr/>
        </p:nvPicPr>
        <p:blipFill>
          <a:blip r:embed="rId14">
            <a:lum bright="6000"/>
          </a:blip>
          <a:stretch/>
        </p:blipFill>
        <p:spPr>
          <a:xfrm>
            <a:off x="5867280" y="335772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9" descr="u=152481951,163685813&amp;fm=0&amp;gp=0"/>
          <p:cNvPicPr/>
          <p:nvPr/>
        </p:nvPicPr>
        <p:blipFill>
          <a:blip r:embed="rId15">
            <a:lum bright="6000"/>
          </a:blip>
          <a:stretch/>
        </p:blipFill>
        <p:spPr>
          <a:xfrm>
            <a:off x="0" y="1773360"/>
            <a:ext cx="1778040" cy="1600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8"/>
          <p:cNvSpPr/>
          <p:nvPr/>
        </p:nvSpPr>
        <p:spPr>
          <a:xfrm>
            <a:off x="3924360" y="620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零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250920" y="213372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清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24000" y="3789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树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6227640" y="558972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唱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4427640" y="5516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变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2556000" y="5300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松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250920" y="544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一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6156360" y="3789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清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4356000" y="3933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细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2556000" y="3860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身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241H045-2-QE2-l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2007103142033189_1"/>
          <p:cNvPicPr/>
          <p:nvPr/>
        </p:nvPicPr>
        <p:blipFill>
          <a:blip r:embed="rId2"/>
          <a:stretch/>
        </p:blipFill>
        <p:spPr>
          <a:xfrm>
            <a:off x="1763640" y="2924280"/>
            <a:ext cx="2305080" cy="1944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1692360" y="4365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流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2" descr="2007103142033189_1"/>
          <p:cNvPicPr/>
          <p:nvPr/>
        </p:nvPicPr>
        <p:blipFill>
          <a:blip r:embed="rId3"/>
          <a:stretch/>
        </p:blipFill>
        <p:spPr>
          <a:xfrm>
            <a:off x="3419640" y="692280"/>
            <a:ext cx="2304720" cy="2087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3"/>
          <p:cNvSpPr/>
          <p:nvPr/>
        </p:nvSpPr>
        <p:spPr>
          <a:xfrm>
            <a:off x="3348000" y="22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爱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4" descr="2007103142033189_1"/>
          <p:cNvPicPr/>
          <p:nvPr/>
        </p:nvPicPr>
        <p:blipFill>
          <a:blip r:embed="rId4"/>
          <a:stretch/>
        </p:blipFill>
        <p:spPr>
          <a:xfrm>
            <a:off x="5219640" y="2781360"/>
            <a:ext cx="2303640" cy="2016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6"/>
          <p:cNvSpPr/>
          <p:nvPr/>
        </p:nvSpPr>
        <p:spPr>
          <a:xfrm>
            <a:off x="5148360" y="4292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声音洪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mul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627280" y="189000"/>
            <a:ext cx="75596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林边长着风铃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尖尖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嫩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叶细细的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紫色小铃挂满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对着鸟儿点头笑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零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零，丁零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清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脆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的铃声阵阵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那是鸟儿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还是风儿把铃轻轻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7"/>
          <p:cNvSpPr txBox="1"/>
          <p:nvPr/>
        </p:nvSpPr>
        <p:spPr>
          <a:xfrm rot="5400000">
            <a:off x="-863640" y="2527200"/>
            <a:ext cx="4248000" cy="129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8f43"/>
                  </a:solidFill>
                  <a:round/>
                </a:ln>
                <a:solidFill>
                  <a:srgbClr val="ff8f43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风铃草</a:t>
            </a:r>
            <a:endParaRPr b="1" lang="en-US" sz="6000" spc="1" strike="noStrike">
              <a:ln w="9360">
                <a:solidFill>
                  <a:srgbClr val="ff8f43"/>
                </a:solidFill>
                <a:round/>
              </a:ln>
              <a:solidFill>
                <a:srgbClr val="ff8f43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mul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2700360" y="189000"/>
            <a:ext cx="6696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我问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风在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快活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地舞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蹈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我问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鸟飞上高高的树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梢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问松、问云、问小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好像都说不知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丁零零，丁零零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啊，我猜那是一群小姑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变成了美丽的风铃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丁零零，丁零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她们摇着铃儿轻轻唱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生活在这里多美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6"/>
          <p:cNvSpPr txBox="1"/>
          <p:nvPr/>
        </p:nvSpPr>
        <p:spPr>
          <a:xfrm rot="5400000">
            <a:off x="-863640" y="2527200"/>
            <a:ext cx="4248000" cy="129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8f43"/>
                  </a:solidFill>
                  <a:round/>
                </a:ln>
                <a:solidFill>
                  <a:srgbClr val="ff8f43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风铃草</a:t>
            </a:r>
            <a:endParaRPr b="1" lang="en-US" sz="6000" spc="1" strike="noStrike">
              <a:ln w="9360">
                <a:solidFill>
                  <a:srgbClr val="ff8f43"/>
                </a:solidFill>
                <a:round/>
              </a:ln>
              <a:solidFill>
                <a:srgbClr val="ff8f43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9a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风铃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嫩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铃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树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舞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3"/>
          <p:cNvSpPr/>
          <p:nvPr/>
        </p:nvSpPr>
        <p:spPr>
          <a:xfrm>
            <a:off x="395280" y="24256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6"/>
          <p:cNvSpPr/>
          <p:nvPr/>
        </p:nvSpPr>
        <p:spPr>
          <a:xfrm>
            <a:off x="506520" y="244584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风铃草又名钟花，原产南欧。株形粗壮，花朵钟状似风铃，花色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丽素雅，在欧洲十分盛行，是春末夏初小庭园中常见的草本花卉，常以它表达健康、温柔的爱。在我国尚处于引种阶段，但在花卉商场和艺术图画中可见到。 </a:t>
            </a:r>
            <a:br>
              <a:rPr sz="1800"/>
            </a:b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●品 种     二年生草本。株高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0~100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厘米，茎粗壮直立、基部叶卵状披针形，茎生叶披针形，总状花序顶生，花冠膨大，钟形。常见品种有蓝色的“蓝钟”，紫色的“紫晶”，白色的“铃档”，粉红的“尖项”等。 </a:t>
            </a:r>
            <a:br>
              <a:rPr sz="1800"/>
            </a:b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●繁 殖      温暖地区以秋播为好、种子细小，覆土不宜太厚、发芽适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为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~24℃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，播种后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4~16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天发芽、冬季注意幼苗防寒。 </a:t>
            </a:r>
            <a:br>
              <a:rPr sz="1800"/>
            </a:b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●栽 培      风铃草耐寒，怕热。喜阳光充足和肥沃、疏松的沙质壤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幼苗需移栽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次，生长期保持土壤湿润，每半月施肥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次、夏季适当遮阴，避免烈日暴晒。 </a:t>
            </a:r>
            <a:br>
              <a:rPr sz="1800"/>
            </a:b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●应 用      风铃草适于配置小庭园作花坛、花境材料。若用风铃草和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赏向日葵为主材，配上常春藤、海金砂、丝石竹篮插、表现生机篷勃、欣欣向荣的欢乐气氛。如以紫色风铃草为主花，配上白色百合、飞燕草、天门冬做花插，将显得娴静柔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dfd9400fd64d20d57acbe1bf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395280" y="69228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读拼音，写汉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biān     qīng       sōng             h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          (    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脆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                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GB Pinyinok-C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g       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B Pinyinok-C"/>
              </a:rPr>
              <a:t>ì</a:t>
            </a:r>
            <a:r>
              <a:rPr b="0" lang="en-US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           b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GB Pinyinok-C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           z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B Pinyinok-C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歌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化               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比一比，再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边（     ）   阵（     ）   清（     ）   话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（     ）   陈（     ）   请（     ）   活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根据课文内容填空，再读一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边长着风铃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(           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嫩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)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着鸟儿点头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丁零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丁零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她们摇着铃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  ),(              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d0d0e606492a11d27a894788"/>
          <p:cNvPicPr/>
          <p:nvPr/>
        </p:nvPicPr>
        <p:blipFill>
          <a:blip r:embed="rId1"/>
          <a:stretch/>
        </p:blipFill>
        <p:spPr>
          <a:xfrm>
            <a:off x="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900000" y="155736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、词语找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美好                       美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猜那是一群小姑娘，变成了（      ）的风铃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她们摇着铃儿轻轻唱：生活在这里多（      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快活                        快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问风，风在（      ）地舞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群孩子真（      ）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2732040" y="4667400"/>
            <a:ext cx="58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7261-9478-4746-9476-5206789DF2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图片1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330118sj2_192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3666hc2_2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24776hc2_208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图片1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20090120_a1568d4ae95d58d260fcewT2DX03THzv.mp3" descr=""/>
          <p:cNvPicPr/>
          <p:nvPr/>
        </p:nvPicPr>
        <p:blipFill>
          <a:blip r:embed="rId2"/>
          <a:stretch/>
        </p:blipFill>
        <p:spPr>
          <a:xfrm>
            <a:off x="8559720" y="6273720"/>
            <a:ext cx="584280" cy="58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5338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风铃图片2"/>
          <p:cNvPicPr/>
          <p:nvPr/>
        </p:nvPicPr>
        <p:blipFill>
          <a:blip r:embed="rId1"/>
          <a:stretch/>
        </p:blipFill>
        <p:spPr>
          <a:xfrm>
            <a:off x="2843280" y="2781360"/>
            <a:ext cx="6300720" cy="407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风铃图片3"/>
          <p:cNvPicPr/>
          <p:nvPr/>
        </p:nvPicPr>
        <p:blipFill>
          <a:blip r:embed="rId2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风铃图片"/>
          <p:cNvPicPr/>
          <p:nvPr/>
        </p:nvPicPr>
        <p:blipFill>
          <a:blip r:embed="rId3"/>
          <a:stretch/>
        </p:blipFill>
        <p:spPr>
          <a:xfrm>
            <a:off x="2843280" y="0"/>
            <a:ext cx="18162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4659480" y="-243000"/>
            <a:ext cx="4484520" cy="3141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指可以在风吹动的情况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发出声音的物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用来作为饰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可在风的吹动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各个铃铛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他物体的碰撞来发出声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012000000323901363233820027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33"/>
                </a:solidFill>
                <a:latin typeface="Arial"/>
              </a:rPr>
              <a:t>风铃草知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风铃草又名钟花，原产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南欧</a:t>
            </a:r>
            <a:r>
              <a:rPr b="1" i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。株形粗壮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花朵</a:t>
            </a:r>
            <a:r>
              <a:rPr b="1" i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钟状似风铃，花色明丽素雅，在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欧洲</a:t>
            </a:r>
            <a:r>
              <a:rPr b="1" i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十分盛行，是春末夏初小庭园中常见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草本花卉</a:t>
            </a:r>
            <a:r>
              <a:rPr b="1" i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，常以它表达健康、温柔的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风铃草颜色鲜艳，品种繁多，除了具有较高的欣赏价值外，还具有极高的药用效果，是很用应用价值的草木花卉</a:t>
            </a: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6:12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2:03Z</dcterms:modified>
  <cp:revision>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