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chimes.wav" ContentType="audio/x-wav"/>
  <Override PartName="/ppt/media/image1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png" ContentType="image/png"/>
  <Override PartName="/ppt/media/image25.jpeg" ContentType="image/jpeg"/>
  <Override PartName="/ppt/media/image22.png" ContentType="image/png"/>
  <Override PartName="/ppt/media/image2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74E-5FB5-4A3B-8E6F-A1874BF8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EBC-F900-4CA7-8FC1-75B0DBA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F9A-22FB-4D87-B93B-5EBC5DD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5DD-4AD3-4903-BECB-0C7E01DF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5B0-E994-40D5-9397-6D54EF3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2C8-1509-44DE-B0A8-24B64B5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B67-E2FE-443F-AEBE-874E350A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C99-E8CE-49E5-B6E7-061B6F6B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FCF-FDCA-44D3-9E6C-73B89F8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70F-E3F3-4333-9BE5-4360769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F42-292F-46A2-A7C8-E0A8FBE1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B94-8867-41D5-B554-861C1D0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5DF-444A-4AC5-8B1F-007ED8AB5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438120" y="361800"/>
            <a:ext cx="8267760" cy="6134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579600" y="493560"/>
            <a:ext cx="7984800" cy="587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b-k03"/>
          <p:cNvPicPr/>
          <p:nvPr/>
        </p:nvPicPr>
        <p:blipFill>
          <a:blip r:embed="rId4"/>
          <a:stretch/>
        </p:blipFill>
        <p:spPr>
          <a:xfrm>
            <a:off x="609480" y="533520"/>
            <a:ext cx="289584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u-c"/>
          <p:cNvPicPr/>
          <p:nvPr/>
        </p:nvPicPr>
        <p:blipFill>
          <a:blip r:embed="rId5"/>
          <a:stretch/>
        </p:blipFill>
        <p:spPr>
          <a:xfrm>
            <a:off x="7467480" y="495288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n-c"/>
          <p:cNvPicPr/>
          <p:nvPr/>
        </p:nvPicPr>
        <p:blipFill>
          <a:blip r:embed="rId6"/>
          <a:stretch/>
        </p:blipFill>
        <p:spPr>
          <a:xfrm>
            <a:off x="5410080" y="480060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b-line01"/>
          <p:cNvPicPr/>
          <p:nvPr/>
        </p:nvPicPr>
        <p:blipFill>
          <a:blip r:embed="rId7"/>
          <a:stretch/>
        </p:blipFill>
        <p:spPr>
          <a:xfrm>
            <a:off x="1820880" y="3886200"/>
            <a:ext cx="6180120" cy="7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6172200" y="5638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835720" y="1477800"/>
            <a:ext cx="370116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歌唱二小放牛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16"/>
          <p:cNvSpPr/>
          <p:nvPr/>
        </p:nvSpPr>
        <p:spPr>
          <a:xfrm>
            <a:off x="1829520" y="54039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9900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3135600" y="1371600"/>
            <a:ext cx="35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39680" y="91440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663280" y="182880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640960" y="182880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Object 2" descr=""/>
            <p:cNvPicPr/>
            <p:nvPr/>
          </p:nvPicPr>
          <p:blipFill>
            <a:blip r:embed="rId1"/>
            <a:stretch/>
          </p:blipFill>
          <p:spPr>
            <a:xfrm>
              <a:off x="0" y="1025640"/>
              <a:ext cx="9144000" cy="58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Group 8"/>
          <p:cNvGrpSpPr/>
          <p:nvPr/>
        </p:nvGrpSpPr>
        <p:grpSpPr>
          <a:xfrm>
            <a:off x="2839680" y="228600"/>
            <a:ext cx="3868920" cy="1434600"/>
            <a:chOff x="2839680" y="228600"/>
            <a:chExt cx="3868920" cy="1434600"/>
          </a:xfrm>
        </p:grpSpPr>
        <p:sp>
          <p:nvSpPr>
            <p:cNvPr id="84" name="Text Box 6"/>
            <p:cNvSpPr/>
            <p:nvPr/>
          </p:nvSpPr>
          <p:spPr>
            <a:xfrm>
              <a:off x="2839680" y="228600"/>
              <a:ext cx="3868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山沟里潜伏着后方机关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还隐藏着几千个老乡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>
              <a:off x="2840040" y="228600"/>
              <a:ext cx="3868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山沟里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潜伏着</a:t>
              </a: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后方机关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还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隐藏着</a:t>
              </a: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几千个老乡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839680" y="91440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600200" y="990720"/>
            <a:ext cx="6043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昏头昏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迷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025640" y="228600"/>
            <a:ext cx="322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他假装顺从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600200" y="990720"/>
            <a:ext cx="6043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323440" y="1565280"/>
            <a:ext cx="520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84360" y="692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抗日战争时期，在河北省出现了一位全国闻名的抗日小英雄，他的名字叫王二小。王二小牺牲时才十三岁，在日本鬼子扫荡一条山沟的时候，为了掩护几千名老乡和干部，他不顾自己的生命危险，把敌人带进了八路军的埋伏圈。气急败坏的日本鬼子把王二小挑在枪尖摔死在大石头的旁边。干部和老乡因此脱离了危险，英勇牺牲的王二小事迹很快传遍了解放区，每一个老乡都含着眼泪，歌唱二小放牛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602080" y="243828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64400" y="2438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敌人领进我们的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埋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伏圈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323440" y="1600200"/>
            <a:ext cx="52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323440" y="1565280"/>
            <a:ext cx="520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28600" y="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敌人把二小挑在枪尖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摔死在大石头的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八路军战士从山上冲下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复仇的子弹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将敌人的胸膛射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676520" y="1371600"/>
            <a:ext cx="699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666880" y="6858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843280" y="1484280"/>
            <a:ext cx="65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676520" y="1371600"/>
            <a:ext cx="601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3240" y="4863960"/>
            <a:ext cx="75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0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077840" y="30492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92720" y="43434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52280" y="236232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091840" y="30492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191120" y="4267080"/>
            <a:ext cx="462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唱着二小放牛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191120" y="228600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把二小挑在枪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摔死在大石头的上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路军战士从山上冲下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仇的子弹将敌人的胸膛射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773174927473"/>
          <p:cNvPicPr/>
          <p:nvPr/>
        </p:nvPicPr>
        <p:blipFill>
          <a:blip r:embed="rId1"/>
          <a:stretch/>
        </p:blipFill>
        <p:spPr>
          <a:xfrm>
            <a:off x="324000" y="225360"/>
            <a:ext cx="4762440" cy="6372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292720" y="1904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今天这里，山清水秀，鸟语花香。山坡上果满枝头，牛羊成群，谁能想到六十多年前，王二小惨死在敌人的屠刀下。让我们永远记住这位大山里的小英雄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90440"/>
            <a:ext cx="1871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60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楷体_GB2312"/>
              </a:rPr>
              <a:t>英雄王二小永垂不朽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BFF-7212-48D2-9A55-91659B2338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51125014249848"/>
          <p:cNvPicPr/>
          <p:nvPr/>
        </p:nvPicPr>
        <p:blipFill>
          <a:blip r:embed="rId1"/>
          <a:stretch/>
        </p:blipFill>
        <p:spPr>
          <a:xfrm>
            <a:off x="4861080" y="3240"/>
            <a:ext cx="4284360" cy="688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8160" y="6480"/>
            <a:ext cx="4822920" cy="6878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348000" y="40464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小英雄王二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58" name="Picture 3" descr="roseW-E0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4" descr="roseW-E021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5" descr="roseW-E021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6"/>
          <p:cNvSpPr/>
          <p:nvPr/>
        </p:nvSpPr>
        <p:spPr>
          <a:xfrm>
            <a:off x="1219320" y="83808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ōu   yǐn      zhuā    pīnɡp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抓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乒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u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ǐ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胸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uān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n                chóu          y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复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仇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传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63" name="Picture 3" descr="roseW-E0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roseW-E021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roseW-E021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6"/>
          <p:cNvSpPr/>
          <p:nvPr/>
        </p:nvSpPr>
        <p:spPr>
          <a:xfrm>
            <a:off x="1219320" y="83808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抓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乒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胸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复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仇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传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135600" y="1371600"/>
            <a:ext cx="35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907000" y="68580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432080" y="175248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10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07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