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854-4D43-4BF8-964A-64E7B2FD68FA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F86-AD1A-47FD-A4D7-C3A95ED82EA0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4BD-38AC-49A5-8B46-41C3E6E6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4CE-0E81-4014-A440-87EF258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30B-9600-4470-AE34-BCA19522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421-C3A5-4AF6-AE8B-EC97D495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66EE-7179-48F0-BDF2-E05F622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5F8-F8D8-4766-8CCE-54061158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3E36-78A1-444B-BDC6-8C614A63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C2D-06B4-47B9-AF3C-F230CCA8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77C1-0F52-42E2-8127-E5975E8B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9F7B-D451-458A-AF42-52DCCEB6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CE30-EAF7-47A8-B5B5-CCD3240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16E-B123-44E7-8F88-9AB16B2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2B19-0577-46E9-8BAC-F4513D2C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5AA5-B7B7-4C29-85C2-A20E6E0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641B-AA28-4035-9D56-520B186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AE36-50F8-4058-AD03-89C155FD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5557-0357-459C-91D5-72560DFD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FE29-4C8B-491D-BD53-95C9933D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BE79-DB55-4B46-8E2D-B73E3A8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BE48-9E1C-4A73-B088-6F67C025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4622-F14B-4244-9BB9-CC4A159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7B51-A1F1-41B9-817D-60187EC6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FC0-4BAB-4271-8B73-BB83017B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945C-62B5-4E82-AEB2-F2E3C1B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6C4A-C0C9-4C45-9DE3-78C82D7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05DA-CCA4-4F9E-A824-4D48470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15C4-13B5-4FDF-AEF8-B64AC17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334D-0572-4D94-BC4D-34CF55C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CD56-0500-4799-A992-C324C5C4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4830-66BC-4511-84DE-1C927FA7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A38-5B44-493D-8D01-5076858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AE2-6E1D-4760-B487-A0F600E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FF-F6FC-4C84-B839-ACF8F6DB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D28-7940-46CC-9092-DB7432D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711-00CF-43C8-8B96-8377522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923-EA5C-4792-AEAC-575FDBF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1B1-1B96-4D92-8DBC-AB8F1CA3BC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7C5-BA48-44BB-8F9D-79FECB33E8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33cc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B6F-8C6B-4E5B-BC59-1D9D3199577D}" type="slidenum"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2" descr=""/>
          <p:cNvPicPr/>
          <p:nvPr/>
        </p:nvPicPr>
        <p:blipFill>
          <a:blip r:embed="rId2"/>
          <a:stretch/>
        </p:blipFill>
        <p:spPr>
          <a:xfrm>
            <a:off x="2455920" y="2320920"/>
            <a:ext cx="4784760" cy="2216160"/>
          </a:xfrm>
          <a:prstGeom prst="rect">
            <a:avLst/>
          </a:prstGeom>
          <a:ln w="0">
            <a:noFill/>
          </a:ln>
        </p:spPr>
      </p:pic>
      <p:sp>
        <p:nvSpPr>
          <p:cNvPr id="132" name="矩形 8"/>
          <p:cNvSpPr/>
          <p:nvPr/>
        </p:nvSpPr>
        <p:spPr>
          <a:xfrm>
            <a:off x="2209320" y="5732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1187280" y="1413000"/>
            <a:ext cx="6840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一、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语言富于音韵美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四言为主，富有节奏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重章叠唱，富于旋律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使用尾韵、叠音词、双声词、叠韵词增强声韵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26920" y="26676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特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aochai"/>
          <p:cNvPicPr/>
          <p:nvPr/>
        </p:nvPicPr>
        <p:blipFill>
          <a:blip r:embed="rId1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01840" y="2565360"/>
          <a:ext cx="2739960" cy="2432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42"/>
          <p:cNvSpPr/>
          <p:nvPr/>
        </p:nvSpPr>
        <p:spPr>
          <a:xfrm>
            <a:off x="0" y="4075920"/>
            <a:ext cx="8820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采之。窈窕淑女，琴瑟友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芼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窈窕淑女，钟鼓乐之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692360" y="1413000"/>
            <a:ext cx="21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3320" y="17002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关关雎鸠，在河之洲。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0" y="2565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流之。窈窕淑女，寤寐求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187280" y="1341360"/>
            <a:ext cx="64090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一、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语言富于音韵美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四言为主，富有节奏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重章叠唱，富于旋律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使用尾韵、叠音词、双声词、        叠韵词增强声韵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26920" y="26676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特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ochai"/>
          <p:cNvPicPr/>
          <p:nvPr/>
        </p:nvPicPr>
        <p:blipFill>
          <a:blip r:embed="rId1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42"/>
          <p:cNvSpPr/>
          <p:nvPr/>
        </p:nvSpPr>
        <p:spPr>
          <a:xfrm>
            <a:off x="0" y="4075920"/>
            <a:ext cx="8820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采之。窈窕淑女，琴瑟友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芼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窈窕淑女，钟鼓乐之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883320" y="17002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关关雎鸠，在河之洲。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0" y="2565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3883320" y="24732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流之。窈窕淑女，寤寐求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baochai"/>
          <p:cNvPicPr/>
          <p:nvPr/>
        </p:nvPicPr>
        <p:blipFill>
          <a:blip r:embed="rId1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42"/>
          <p:cNvSpPr/>
          <p:nvPr/>
        </p:nvSpPr>
        <p:spPr>
          <a:xfrm>
            <a:off x="0" y="4075920"/>
            <a:ext cx="8820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采之。窈窕淑女，琴瑟友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芼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窈窕淑女，钟鼓乐之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1692360" y="1413000"/>
            <a:ext cx="21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3883320" y="17002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关关雎鸠，在河之洲。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0" y="2565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流之。窈窕淑女，寤寐求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1332000" y="1125360"/>
            <a:ext cx="684036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一、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隶书"/>
              </a:rPr>
              <a:t>语言富于音韵美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四言为主，富有节奏美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使用尾韵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括富韵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叠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音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词、双声词、叠韵词增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声韵美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826920" y="26676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特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58720" y="2276640"/>
            <a:ext cx="9057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重章叠唱，富于旋律美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aochai"/>
          <p:cNvPicPr/>
          <p:nvPr/>
        </p:nvPicPr>
        <p:blipFill>
          <a:blip r:embed="rId1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201840" y="2484360"/>
          <a:ext cx="2739960" cy="252900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42"/>
          <p:cNvSpPr/>
          <p:nvPr/>
        </p:nvSpPr>
        <p:spPr>
          <a:xfrm>
            <a:off x="3995640" y="4220280"/>
            <a:ext cx="460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7474a2"/>
                </a:solidFill>
                <a:uFillTx/>
                <a:latin typeface="隶书"/>
                <a:ea typeface="隶书"/>
              </a:rPr>
              <a:t>窈窕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淑女，钟鼓乐</a:t>
            </a:r>
            <a:r>
              <a:rPr b="1" lang="zh-CN" sz="3200" spc="-1" strike="noStrike">
                <a:solidFill>
                  <a:srgbClr val="7474a2"/>
                </a:solidFill>
                <a:latin typeface="黑体"/>
              </a:rPr>
              <a:t>之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8" name="8.mp3" descr=""/>
          <p:cNvPicPr/>
          <p:nvPr/>
        </p:nvPicPr>
        <p:blipFill>
          <a:blip r:embed="rId2"/>
          <a:stretch/>
        </p:blipFill>
        <p:spPr>
          <a:xfrm>
            <a:off x="658800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5"/>
          <p:cNvSpPr/>
          <p:nvPr/>
        </p:nvSpPr>
        <p:spPr>
          <a:xfrm>
            <a:off x="0" y="1700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关关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鸠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，在河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洲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3995640" y="1700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窈窕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淑女，君子好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逑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</a:t>
            </a: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辗转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0" y="2708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参差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荇菜，左右流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4211640" y="263700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窈窕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淑女，寤寐求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45280" y="42210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参差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荇菜，左右采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4840920" y="42926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窈窕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淑女，琴瑟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45280" y="47973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7474a2"/>
                </a:solidFill>
                <a:uFillTx/>
                <a:latin typeface="Arial"/>
                <a:ea typeface="隶书"/>
              </a:rPr>
              <a:t>参差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荇菜，左右芼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AutoShape 53"/>
          <p:cNvSpPr/>
          <p:nvPr/>
        </p:nvSpPr>
        <p:spPr>
          <a:xfrm>
            <a:off x="395280" y="907920"/>
            <a:ext cx="2519280" cy="578160"/>
          </a:xfrm>
          <a:prstGeom prst="wedgeEllipseCallout">
            <a:avLst>
              <a:gd name="adj1" fmla="val -42314"/>
              <a:gd name="adj2" fmla="val 10934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angua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AutoShape 54"/>
          <p:cNvSpPr/>
          <p:nvPr/>
        </p:nvSpPr>
        <p:spPr>
          <a:xfrm>
            <a:off x="4427640" y="1052640"/>
            <a:ext cx="2305080" cy="647640"/>
          </a:xfrm>
          <a:prstGeom prst="wedgeEllipseCallout">
            <a:avLst>
              <a:gd name="adj1" fmla="val -44282"/>
              <a:gd name="adj2" fmla="val 6764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otia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AutoShape 55"/>
          <p:cNvSpPr/>
          <p:nvPr/>
        </p:nvSpPr>
        <p:spPr>
          <a:xfrm>
            <a:off x="611280" y="2276640"/>
            <a:ext cx="2376360" cy="577800"/>
          </a:xfrm>
          <a:prstGeom prst="wedgeEllipseCallout">
            <a:avLst>
              <a:gd name="adj1" fmla="val -56277"/>
              <a:gd name="adj2" fmla="val 7060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ci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AutoShape 56"/>
          <p:cNvSpPr/>
          <p:nvPr/>
        </p:nvSpPr>
        <p:spPr>
          <a:xfrm>
            <a:off x="3780000" y="3933720"/>
            <a:ext cx="2665080" cy="465120"/>
          </a:xfrm>
          <a:prstGeom prst="wedgeEllipseCallout">
            <a:avLst>
              <a:gd name="adj1" fmla="val 55537"/>
              <a:gd name="adj2" fmla="val -9709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anzhua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042920" y="907920"/>
            <a:ext cx="69120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、比、兴的表现手法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比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当于比喻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先言他物以引起所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吟咏之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26920" y="26676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特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baochai"/>
          <p:cNvPicPr/>
          <p:nvPr/>
        </p:nvPicPr>
        <p:blipFill>
          <a:blip r:embed="rId1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201840" y="2484360"/>
          <a:ext cx="2739960" cy="252900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2"/>
          <p:cNvSpPr/>
          <p:nvPr/>
        </p:nvSpPr>
        <p:spPr>
          <a:xfrm>
            <a:off x="4284720" y="4220280"/>
            <a:ext cx="46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窈窕淑女，钟鼓乐之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Text Box 44"/>
          <p:cNvSpPr/>
          <p:nvPr/>
        </p:nvSpPr>
        <p:spPr>
          <a:xfrm>
            <a:off x="0" y="1700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关关雎鸠，在河之洲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Rectangle 45"/>
          <p:cNvSpPr/>
          <p:nvPr/>
        </p:nvSpPr>
        <p:spPr>
          <a:xfrm>
            <a:off x="4067280" y="1700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Rectangle 47"/>
          <p:cNvSpPr/>
          <p:nvPr/>
        </p:nvSpPr>
        <p:spPr>
          <a:xfrm>
            <a:off x="0" y="2708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流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Rectangle 48"/>
          <p:cNvSpPr/>
          <p:nvPr/>
        </p:nvSpPr>
        <p:spPr>
          <a:xfrm>
            <a:off x="4067280" y="2637000"/>
            <a:ext cx="55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窈窕淑女，寤寐求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194256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采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50"/>
          <p:cNvSpPr/>
          <p:nvPr/>
        </p:nvSpPr>
        <p:spPr>
          <a:xfrm>
            <a:off x="615420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窈窕淑女，琴瑟友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194256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芼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250" autoRev="1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116000" y="1700280"/>
            <a:ext cx="64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诵读本诗，体会作品的声韵美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析诗中比兴手法的使用方法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2050920" y="115920"/>
            <a:ext cx="58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隶书"/>
              </a:rPr>
              <a:t>关于</a:t>
            </a:r>
            <a:r>
              <a:rPr b="0" lang="en-US" sz="6000" spc="-1" strike="noStrike">
                <a:solidFill>
                  <a:srgbClr val="660066"/>
                </a:solidFill>
                <a:latin typeface="Arial"/>
                <a:ea typeface="隶书"/>
              </a:rPr>
              <a:t>《</a:t>
            </a: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隶书"/>
              </a:rPr>
              <a:t>诗经</a:t>
            </a:r>
            <a:r>
              <a:rPr b="0" lang="en-US" sz="6000" spc="-1" strike="noStrike">
                <a:solidFill>
                  <a:srgbClr val="660066"/>
                </a:solidFill>
                <a:latin typeface="Arial"/>
                <a:ea typeface="隶书"/>
              </a:rPr>
              <a:t>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19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诗经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是我国最早的一部诗歌总集，也是我国现实主义文学的源头。它原名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诗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或</a:t>
            </a:r>
            <a:r>
              <a:rPr b="1" lang="en-US" sz="3600" spc="-1" strike="noStrike">
                <a:solidFill>
                  <a:srgbClr val="7474a2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诗三百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，到了汉代，被儒家列为经典之一，始称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诗经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。它收集了从西周初年至春秋中叶五百年间的</a:t>
            </a:r>
            <a:r>
              <a:rPr b="1" lang="en-US" sz="3600" spc="-1" strike="noStrike">
                <a:solidFill>
                  <a:srgbClr val="7474a2"/>
                </a:solidFill>
                <a:latin typeface="隶书"/>
                <a:ea typeface="隶书"/>
              </a:rPr>
              <a:t>305</a:t>
            </a:r>
            <a:r>
              <a:rPr b="1" lang="zh-CN" sz="3600" spc="-1" strike="noStrike">
                <a:solidFill>
                  <a:srgbClr val="7474a2"/>
                </a:solidFill>
                <a:latin typeface="隶书"/>
                <a:ea typeface="隶书"/>
              </a:rPr>
              <a:t>篇乐歌。作品按乐调可以分为风、雅、颂三个部分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" dur="1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2" dur="1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3" dur="1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A7E9-17D0-4C33-8DC7-A278BB80A4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风是不同地区的土风歌谣。 雅是周王朝直辖地区的音乐，即所谓正声雅乐。颂是宗庙祭祀时使用的乐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79360" y="484992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更多免费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模板尽在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ochai"/>
          <p:cNvPicPr/>
          <p:nvPr/>
        </p:nvPicPr>
        <p:blipFill>
          <a:blip r:embed="rId2"/>
          <a:stretch/>
        </p:blipFill>
        <p:spPr>
          <a:xfrm>
            <a:off x="7756560" y="1528920"/>
            <a:ext cx="1387440" cy="53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201840" y="2484360"/>
          <a:ext cx="2739960" cy="2513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192480" y="2475000"/>
          <a:ext cx="2759040" cy="190980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201840" y="2565360"/>
          <a:ext cx="2739960" cy="2432160"/>
        </p:xfrm>
        <a:graphic>
          <a:graphicData uri="http://schemas.openxmlformats.org/drawingml/2006/table">
            <a:tbl>
              <a:tblPr/>
              <a:tblGrid>
                <a:gridCol w="27399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 雎</a:t>
                      </a: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 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关关雎鸠，在河之洲。窈窕淑女，君子好逑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流之。窈窕淑女，寤寐求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求之不得，寤寐思服。悠哉悠哉，辗转反侧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采之。窈窕淑女，琴瑟友之。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Arial"/>
                          <a:ea typeface="ˎ̥"/>
                        </a:rPr>
                        <a:t>参差荇菜，左右芼之。窈窕淑女，钟鼓乐之。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42"/>
          <p:cNvSpPr/>
          <p:nvPr/>
        </p:nvSpPr>
        <p:spPr>
          <a:xfrm>
            <a:off x="0" y="4075920"/>
            <a:ext cx="8820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采之。窈窕淑女，琴瑟友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参差荇菜，左右芼之</a:t>
            </a:r>
            <a:r>
              <a:rPr b="1" lang="zh-CN" sz="3600" spc="-1" strike="noStrike">
                <a:solidFill>
                  <a:srgbClr val="7474a2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7474a2"/>
                </a:solidFill>
                <a:latin typeface="隶书"/>
                <a:ea typeface="隶书"/>
              </a:rPr>
              <a:t>窈窕淑女，钟鼓乐之。</a:t>
            </a:r>
            <a:r>
              <a:rPr b="1" lang="zh-CN" sz="4000" spc="-1" strike="noStrike">
                <a:solidFill>
                  <a:srgbClr val="7474a2"/>
                </a:solidFill>
                <a:latin typeface="隶书"/>
                <a:ea typeface="隶书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Rectangle 43"/>
          <p:cNvSpPr/>
          <p:nvPr/>
        </p:nvSpPr>
        <p:spPr>
          <a:xfrm>
            <a:off x="3132000" y="549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474a2"/>
                </a:solidFill>
                <a:latin typeface="隶书"/>
                <a:ea typeface="隶书"/>
              </a:rPr>
              <a:t>关  </a:t>
            </a:r>
            <a:r>
              <a:rPr b="1" lang="zh-CN" sz="4400" spc="-1" strike="noStrike">
                <a:solidFill>
                  <a:srgbClr val="7474a2"/>
                </a:solidFill>
                <a:latin typeface="Arial"/>
                <a:ea typeface="隶书"/>
              </a:rPr>
              <a:t>雎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1692360" y="1413000"/>
            <a:ext cx="21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Rectangle 45"/>
          <p:cNvSpPr/>
          <p:nvPr/>
        </p:nvSpPr>
        <p:spPr>
          <a:xfrm>
            <a:off x="3883320" y="170028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关关雎鸠，在河之洲。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Rectangle 46"/>
          <p:cNvSpPr/>
          <p:nvPr/>
        </p:nvSpPr>
        <p:spPr>
          <a:xfrm>
            <a:off x="0" y="2565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参差荇菜，左右流之。窈窕淑女，寤寐求之。</a:t>
            </a:r>
            <a:br>
              <a:rPr sz="3200"/>
            </a:br>
            <a:r>
              <a:rPr b="1" lang="zh-CN" sz="3200" spc="-1" strike="noStrike">
                <a:solidFill>
                  <a:srgbClr val="7474a2"/>
                </a:solidFill>
                <a:latin typeface="Arial"/>
                <a:ea typeface="隶书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00000" y="249228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品味作品的情韵美和音乐美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析作品中使用的修辞手法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8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9528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关雎鸠，在河之洲。窈窕淑女，君子好逑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971640" y="2924280"/>
            <a:ext cx="3529080" cy="936360"/>
          </a:xfrm>
          <a:prstGeom prst="wedgeEllipseCallout">
            <a:avLst>
              <a:gd name="adj1" fmla="val -50134"/>
              <a:gd name="adj2" fmla="val -8864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象声词，鸟类雌雄相和的鸣声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476360" y="836640"/>
            <a:ext cx="2211480" cy="609480"/>
          </a:xfrm>
          <a:prstGeom prst="wedgeEllipseCallout">
            <a:avLst>
              <a:gd name="adj1" fmla="val -34421"/>
              <a:gd name="adj2" fmla="val 16458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种水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851280" y="907920"/>
            <a:ext cx="3384720" cy="648000"/>
          </a:xfrm>
          <a:prstGeom prst="wedgeEllipseCallout">
            <a:avLst>
              <a:gd name="adj1" fmla="val -41884"/>
              <a:gd name="adj2" fmla="val 13946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中的小片陆地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6659640" y="3141720"/>
            <a:ext cx="2484360" cy="647640"/>
          </a:xfrm>
          <a:prstGeom prst="wedgeEllipseCallout">
            <a:avLst>
              <a:gd name="adj1" fmla="val 7379"/>
              <a:gd name="adj2" fmla="val -13897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配偶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468360" y="1268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差荇菜，左右流之。窈窕淑女，寤寐求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之不得，寤寐思服。悠哉悠哉，辗转反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19280" y="0"/>
            <a:ext cx="2808360" cy="981000"/>
          </a:xfrm>
          <a:prstGeom prst="wedgeEllipseCallout">
            <a:avLst>
              <a:gd name="adj1" fmla="val -45194"/>
              <a:gd name="adj2" fmla="val 9223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种可食用水生植物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708360" y="620640"/>
            <a:ext cx="1346400" cy="576360"/>
          </a:xfrm>
          <a:prstGeom prst="wedgeEllipseCallout">
            <a:avLst>
              <a:gd name="adj1" fmla="val -45518"/>
              <a:gd name="adj2" fmla="val 8608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采摘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084720" y="549360"/>
            <a:ext cx="1152720" cy="609480"/>
          </a:xfrm>
          <a:prstGeom prst="wedgeEllipseCallout">
            <a:avLst>
              <a:gd name="adj1" fmla="val 21351"/>
              <a:gd name="adj2" fmla="val 9817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醒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7308720" y="620640"/>
            <a:ext cx="1079640" cy="609840"/>
          </a:xfrm>
          <a:prstGeom prst="wedgeEllipseCallout">
            <a:avLst>
              <a:gd name="adj1" fmla="val -39412"/>
              <a:gd name="adj2" fmla="val 7812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140360" y="2924280"/>
            <a:ext cx="1152360" cy="609480"/>
          </a:xfrm>
          <a:prstGeom prst="wedgeEllipseCallout">
            <a:avLst>
              <a:gd name="adj1" fmla="val -61569"/>
              <a:gd name="adj2" fmla="val -8619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796000" y="2924280"/>
            <a:ext cx="1657440" cy="609480"/>
          </a:xfrm>
          <a:prstGeom prst="wedgeEllipseCallout">
            <a:avLst>
              <a:gd name="adj1" fmla="val -53162"/>
              <a:gd name="adj2" fmla="val -7682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忧思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004825212599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0" y="476280"/>
            <a:ext cx="9144000" cy="4246560"/>
          </a:xfrm>
          <a:prstGeom prst="ellipse">
            <a:avLst/>
          </a:prstGeom>
          <a:solidFill>
            <a:srgbClr val="f4f2f3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差荇菜，左右采之。窈窕淑女，琴瑟友之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差荇菜，左右芼之。窈窕淑女，钟鼓乐之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5219640" y="549360"/>
            <a:ext cx="3673440" cy="1006560"/>
          </a:xfrm>
          <a:prstGeom prst="wedgeEllipseCallout">
            <a:avLst>
              <a:gd name="adj1" fmla="val 25624"/>
              <a:gd name="adj2" fmla="val 7981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词活用为动词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亲近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2771640" y="3789360"/>
            <a:ext cx="2160720" cy="720720"/>
          </a:xfrm>
          <a:prstGeom prst="wedgeEllipseCallout">
            <a:avLst>
              <a:gd name="adj1" fmla="val -9296"/>
              <a:gd name="adj2" fmla="val -10330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采摘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627280" y="1341360"/>
            <a:ext cx="53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情热烈健康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三百，一言以蔽之，  曰：‘思无邪’。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87280" y="33336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想特征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01:30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6:17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