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0F4D-9B97-4AA9-94FA-091A4CBFE9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E95D-AE0C-4D17-9CCA-4AD04605C99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943C-44A0-4C54-A36E-AB833518E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8F6-7F12-418A-A6C8-33FADEC6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804-4B48-434F-8431-D2242BAA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F5F0-0401-496E-8646-15655DE5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9976-4ED3-476A-A976-5F989F61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3162-B951-4047-98BC-BE3E4015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EB7-AF7A-4ED6-835C-BF8045C3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9CE7-CDC0-4EB2-A562-96E7D29F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95E-51DF-49BE-8269-45F98F59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EE4C-A590-4A95-9826-5917C01E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2CF-C462-45F9-A5E2-6244F3CE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D58D-D6F6-4BDC-B0E9-3584ADC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7D7E-93CD-42A8-966C-387EC59451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会变色的报春花_05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2" descr=""/>
          <p:cNvPicPr/>
          <p:nvPr/>
        </p:nvPicPr>
        <p:blipFill>
          <a:blip r:embed="rId2"/>
          <a:stretch/>
        </p:blipFill>
        <p:spPr>
          <a:xfrm>
            <a:off x="880920" y="2320920"/>
            <a:ext cx="7521840" cy="13651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8" descr=""/>
          <p:cNvPicPr/>
          <p:nvPr/>
        </p:nvPicPr>
        <p:blipFill>
          <a:blip r:embed="rId3"/>
          <a:stretch/>
        </p:blipFill>
        <p:spPr>
          <a:xfrm>
            <a:off x="1447920" y="5869080"/>
            <a:ext cx="6400800" cy="56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380880" y="6094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这很简单，</a:t>
            </a:r>
            <a:r>
              <a:rPr b="1" lang="zh-CN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昨天下午我折了一束白色的报春花，插在红墨水瓶里，今天它就变得红艳艳的了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。”小达尔文</a:t>
            </a: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带着自信的口吻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说，“爸爸，这可不是大自然赐给的，是我让它改变颜色的。</a:t>
            </a:r>
            <a:r>
              <a:rPr b="1" lang="zh-CN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花每时每刻都在用自己的根喝水，把水传到身体的各部分去。让它喝了红水，传到白色的花朵上去，花自然也就透出红色来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2373120" y="4648320"/>
            <a:ext cx="4326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小达尔文的话中，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3643200" y="56386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敢于探索、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51920" y="30492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听了小达尔文的话，爸爸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激动</a:t>
            </a:r>
            <a:r>
              <a:rPr b="1" lang="zh-CN" sz="3200" spc="-1" strike="noStrike">
                <a:solidFill>
                  <a:srgbClr val="0000cc"/>
                </a:solidFill>
                <a:latin typeface="新宋体"/>
                <a:ea typeface="新宋体"/>
              </a:rPr>
              <a:t>地举起手中的报春花，说：“我的花园里又多了一种新的报春花，我们英国又多了一种红色的报春花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533520" y="3276000"/>
            <a:ext cx="822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奠基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一领域奠定基础的人，开创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近代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去距离现在较近的时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129528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达尔文长大以后成了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近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物学和进化论的伟大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奠基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物种起源"/>
          <p:cNvPicPr/>
          <p:nvPr/>
        </p:nvPicPr>
        <p:blipFill>
          <a:blip r:embed="rId1"/>
          <a:stretch/>
        </p:blipFill>
        <p:spPr>
          <a:xfrm>
            <a:off x="83808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5257800"/>
            <a:ext cx="76212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335560" y="19051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达尔文五十岁那年出版的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200712216730865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762120" y="9907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微软雅黑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达尔文从小就是一个敢想、敢干，勇于实践的孩子，最终他成为了一个人类历史上伟大的自然科学家。学习了本文你受到了什么启迪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38080" y="37339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方正姚体"/>
              </a:rPr>
              <a:t>我们要学习小达尔文敢想敢干，勇于探索、创新的精神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1216080" y="5654520"/>
            <a:ext cx="59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3200400" cy="11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实践活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要是让你把白色的报春花变成红成的，你应该怎么做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？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会变色的报春花_03"/>
          <p:cNvPicPr/>
          <p:nvPr/>
        </p:nvPicPr>
        <p:blipFill>
          <a:blip r:embed="rId1"/>
          <a:stretch/>
        </p:blipFill>
        <p:spPr>
          <a:xfrm>
            <a:off x="76320" y="2666880"/>
            <a:ext cx="906768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35C8-2BE4-4868-AE83-3915312E30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会变色的报春花_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会变色的报春花_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20079181437649_2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4920" y="1523880"/>
            <a:ext cx="8839080" cy="56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幼稚     折断      怒放      拔掉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献上     口吻      恭恭敬敬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为所欲为   舒枝展叶   满有把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阳光明媚  哭笑不得    气喘吁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819520" y="45720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微软雅黑"/>
              </a:rPr>
              <a:t>我会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06668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报春花原本只有（     ）和（     ）两种颜色。小达尔文把报春花变成（   ）颜色的了。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6019920" y="114300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黄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838080" y="1752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白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733920" y="2438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80880" y="327672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Comic Sans MS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Comic Sans MS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你觉得小达尔文是一个什么样的孩子？是从哪里看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304920" y="457200"/>
            <a:ext cx="88390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新宋体"/>
                <a:ea typeface="新宋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新宋体"/>
                <a:ea typeface="新宋体"/>
              </a:rPr>
              <a:t>爸爸，报春花就只有黄的和白的两种吗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新宋体"/>
                <a:ea typeface="新宋体"/>
              </a:rPr>
              <a:t>对。”爸爸的回答很简单，也很肯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4000" spc="-1" strike="noStrike">
                <a:solidFill>
                  <a:srgbClr val="0000cc"/>
                </a:solidFill>
                <a:latin typeface="新宋体"/>
                <a:ea typeface="新宋体"/>
              </a:rPr>
              <a:t>“</a:t>
            </a:r>
            <a:r>
              <a:rPr b="1" lang="zh-CN" sz="4000" spc="-1" strike="noStrike">
                <a:solidFill>
                  <a:srgbClr val="0000cc"/>
                </a:solidFill>
                <a:latin typeface="新宋体"/>
                <a:ea typeface="新宋体"/>
              </a:rPr>
              <a:t>要是红的、黄的、蓝的、白的、黑的都有该多好哇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80880" y="2819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012400" y="4572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大胆想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838080"/>
            <a:ext cx="868680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孩子，那是不可能的。花是什么颜色，那是大自然赐给的，我们不能想让花是什么颜色就是什么颜色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新宋体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能，我看准能！”小达尔文像是</a:t>
            </a:r>
            <a:r>
              <a:rPr b="1" lang="zh-CN" sz="2800" spc="-1" strike="noStrike">
                <a:solidFill>
                  <a:srgbClr val="ff0066"/>
                </a:solidFill>
                <a:latin typeface="新宋体"/>
                <a:ea typeface="新宋体"/>
              </a:rPr>
              <a:t>满有把握</a:t>
            </a:r>
            <a:r>
              <a:rPr b="1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，他跑到花棚里拿来一把喷水壶，“爸爸，办法就在这里，要它开红花，就浇红水；要它开蓝花，就浇蓝水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新宋体"/>
                <a:ea typeface="新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爸爸被这幼稚的举动闹得哭笑不得，故意说：“要让花红的、黄的、蓝的颜色都有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新宋体"/>
                <a:ea typeface="新宋体"/>
              </a:rPr>
              <a:t>   </a:t>
            </a:r>
            <a:r>
              <a:rPr b="1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新宋体"/>
                <a:ea typeface="新宋体"/>
              </a:rPr>
              <a:t>那很简单，就把几种颜色一齐浇上去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2490120" y="510552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敢想  敢说  自信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会变色的报春花01"/>
          <p:cNvPicPr/>
          <p:nvPr/>
        </p:nvPicPr>
        <p:blipFill>
          <a:blip r:embed="rId1"/>
          <a:stretch/>
        </p:blipFill>
        <p:spPr>
          <a:xfrm>
            <a:off x="4495680" y="3048120"/>
            <a:ext cx="4648320" cy="38098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380880" y="2819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60948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新宋体"/>
                <a:ea typeface="新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花怎么能改变颜色呢？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小孩子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敢想敢说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不是坏事，但也不能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为所欲为</a:t>
            </a:r>
            <a:r>
              <a:rPr b="1" lang="zh-CN" sz="3200" spc="-1" strike="noStrike">
                <a:solidFill>
                  <a:srgbClr val="000000"/>
                </a:solidFill>
                <a:latin typeface="新宋体"/>
                <a:ea typeface="新宋体"/>
              </a:rPr>
              <a:t>，更不能乱来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2895480"/>
            <a:ext cx="4495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小达尔文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不再作声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了，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心里可不服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。他想：我</a:t>
            </a:r>
            <a:r>
              <a:rPr b="1" lang="zh-CN" sz="3200" spc="-1" strike="noStrike">
                <a:solidFill>
                  <a:srgbClr val="ff0000"/>
                </a:solidFill>
                <a:latin typeface="新宋体"/>
                <a:ea typeface="新宋体"/>
              </a:rPr>
              <a:t>一定</a:t>
            </a:r>
            <a:r>
              <a:rPr b="1" lang="zh-CN" sz="3200" spc="-1" strike="noStrike">
                <a:solidFill>
                  <a:srgbClr val="3333ff"/>
                </a:solidFill>
                <a:latin typeface="新宋体"/>
                <a:ea typeface="新宋体"/>
              </a:rPr>
              <a:t>要想办法让花改变颜色，变出一朵红色的报春花让爸爸瞧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219320" y="1981080"/>
            <a:ext cx="767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听到这样的话，达尔文是怎样做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270800" y="571500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服气  很有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会变色的报春花0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33520" y="228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新宋体"/>
              </a:rPr>
              <a:t>一天，爸爸正在河边钓鱼，小达尔文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新宋体"/>
              </a:rPr>
              <a:t>气喘吁吁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新宋体"/>
              </a:rPr>
              <a:t>地跑了过来，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新宋体"/>
              </a:rPr>
              <a:t>恭恭敬敬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新宋体"/>
              </a:rPr>
              <a:t>地向爸爸献上了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新宋体"/>
              </a:rPr>
              <a:t>一束报春花，一束红色的报春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0T11:03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34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