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DB6-DD65-4CAA-9824-6C7C1349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233-BF7C-40B8-9D3E-E2190982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996-CC9B-466A-93F9-B7D40CEE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E90-9BA5-4FC3-8456-FC2D594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D3A-76E1-44A3-B31B-CE60B20F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125-6DC1-48D8-B01D-CAD7064F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C3D0-96F5-454D-8100-E8737380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B345-1CA2-42AA-B3EA-0804BF5A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4A90-D74E-4F52-B413-C5BCB302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BE0-2D41-4A6E-A19B-BD7397D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4CA-CB27-4253-A278-609593E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46D-8089-48A3-84C6-42F4D2F5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07E-7221-4D1A-8EB2-07C0266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A23-8A51-44CF-8008-F50F6CF4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2AA7-1F7A-4F13-9E50-B78E435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60A-5430-4977-A418-8377E75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229-EFD9-4CF7-8EF9-2709D33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80F-6F3A-4B66-A1D1-B3619505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7895-6908-4286-AC41-5D926935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07BC-4A53-4051-88E6-37BCE029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0100-FF84-4F1D-A3A4-46B64E82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6853-E993-4848-ABA8-FBDFDCD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EA67-3975-4599-811E-B80E8CF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B51A-E681-4176-AFE3-4684E52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29F-33C0-41ED-AB63-BD6C5164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7597-7382-4A14-A41F-A898F4CB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3FDB-1AF2-48B9-A934-8879F866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7A41-8C1A-424B-AB3C-AF75C53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D7D5-FC01-4598-9BCE-1BAF181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2A81-0B73-49CA-8CFC-6C16335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29CB-6C9F-4206-AF68-E0FF4C0C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93CD-7FFE-4170-89CF-D8E199AB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9A2F-6C5B-4427-B56D-AED28CBE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ADD0-169F-4090-B704-CD7183A3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266D-B495-4FB8-BCE0-6ED09A33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34A-500A-46C4-AFFC-A502B579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3605-24F3-4BD0-9353-0B9E24A3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EFA6-6B1C-45E0-B7BC-8FFB971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EB72-78A2-48A1-B307-4F3F6749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B13B-44C5-417D-9EB9-9CE91E1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33B2-A4CF-4B54-9EDA-9480F4BB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DCD5-5901-46AD-9879-1EEEE79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3B84-6808-4635-8F68-234598C8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460E-F2B5-4709-B0DC-49587E2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1F09-7E76-4A78-BD22-9017142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017C-3057-46C3-B197-EFB0FB2C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984-22C3-4680-A345-5DB9191C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889C-402E-416E-8546-2380BDF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3E22-45B5-47DC-A484-1E01A4F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C7126-EC7B-48D6-8124-C00F57C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BD2E-2721-460F-822D-BC51BE70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A9B6-DBCD-4482-B90D-E0993EE9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5F80-EE36-4E5C-805F-A0A4592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DAB9-D5BC-440A-B854-8CFB9E9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9A21B-8FCC-46A0-90A5-8389F35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7378-F0F0-4300-A778-3E3CF243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3A66-7AAF-4547-9E11-9667776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3C8-8891-4C6D-8671-5D342C0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8D8E-55A0-480D-AD0D-8B321F0B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EAA-DA55-4532-8122-0886759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1E0-197B-44BD-B230-1186388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4AD-FFA2-42CB-B8E8-E5D79E6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FB80-9825-4C81-BC92-11751677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239C-7232-4458-B61A-9F9DEB0614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23A-C487-46DF-8E02-D88AEBA69F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FD5-831A-4CF3-9052-AD760760D8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D5D-8DD4-4093-9AA4-977887B45D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87280" y="1484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虎大王开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"/>
          <p:cNvSpPr/>
          <p:nvPr/>
        </p:nvSpPr>
        <p:spPr>
          <a:xfrm>
            <a:off x="1829880" y="5210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84360" y="1125360"/>
            <a:ext cx="77040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一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的动物是怎样来开会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20070818002934798[1]"/>
          <p:cNvPicPr/>
          <p:nvPr/>
        </p:nvPicPr>
        <p:blipFill>
          <a:blip r:embed="rId2"/>
          <a:stretch/>
        </p:blipFill>
        <p:spPr>
          <a:xfrm>
            <a:off x="5148360" y="3429000"/>
            <a:ext cx="3168720" cy="2421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755640" y="1197000"/>
            <a:ext cx="7561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想一想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虎王这次开会，你认为还有哪些动物也该来呢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怎样来的呢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6"/>
          <p:cNvSpPr/>
          <p:nvPr/>
        </p:nvSpPr>
        <p:spPr>
          <a:xfrm>
            <a:off x="1619280" y="3932280"/>
            <a:ext cx="374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  乌鸦  啄木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971640" y="5372280"/>
            <a:ext cx="49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子  豹子   狐狸  大灰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411280" y="1484280"/>
            <a:ext cx="23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   熊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411280" y="3139920"/>
            <a:ext cx="252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鼠   青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411280" y="2276640"/>
            <a:ext cx="259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鱼   小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1187280" y="4653000"/>
            <a:ext cx="432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  鳄鱼  蛇  小蜗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24032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240320" y="24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240320" y="313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7164360" y="45799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7240320" y="537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7240320" y="386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9"/>
          <p:cNvSpPr/>
          <p:nvPr/>
        </p:nvSpPr>
        <p:spPr>
          <a:xfrm>
            <a:off x="4427640" y="1844640"/>
            <a:ext cx="2808360" cy="863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4356000" y="2637000"/>
            <a:ext cx="2737080" cy="792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4355640" y="1844640"/>
            <a:ext cx="2808360" cy="1584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861080" y="4292640"/>
            <a:ext cx="2447640" cy="13683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5219640" y="4869000"/>
            <a:ext cx="1944720" cy="71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25"/>
          <p:cNvSpPr txBox="1"/>
          <p:nvPr/>
        </p:nvSpPr>
        <p:spPr>
          <a:xfrm>
            <a:off x="179280" y="0"/>
            <a:ext cx="201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连一连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Line 26"/>
          <p:cNvSpPr/>
          <p:nvPr/>
        </p:nvSpPr>
        <p:spPr>
          <a:xfrm flipH="1">
            <a:off x="5435280" y="4221000"/>
            <a:ext cx="1800360" cy="13669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0" y="1773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"/>
          <p:cNvSpPr/>
          <p:nvPr/>
        </p:nvSpPr>
        <p:spPr>
          <a:xfrm>
            <a:off x="2195640" y="574560"/>
            <a:ext cx="51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3DE-073E-4117-8975-9FCBFC9DDF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33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读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79930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到读准字音，不丢字，不加字，不错字，注意停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标出读不准的字，借助拼音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1908000" y="765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字学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"/>
          <p:cNvSpPr/>
          <p:nvPr/>
        </p:nvSpPr>
        <p:spPr>
          <a:xfrm>
            <a:off x="1476360" y="206064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"/>
                <a:ea typeface="GB Pinyinok"/>
              </a:rPr>
              <a:t>wáng 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3348000" y="206064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"/>
                <a:ea typeface="GB Pinyinok"/>
              </a:rPr>
              <a:t>kāi 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4643280" y="2060640"/>
            <a:ext cx="246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"/>
                <a:ea typeface="GB Pinyinok"/>
              </a:rPr>
              <a:t> </a:t>
            </a:r>
            <a:r>
              <a:rPr b="0" lang="en-US" sz="4800" spc="-1" strike="noStrike">
                <a:solidFill>
                  <a:srgbClr val="000000"/>
                </a:solidFill>
                <a:latin typeface="GB Pinyinok"/>
                <a:ea typeface="GB Pinyinok"/>
              </a:rPr>
              <a:t>fēn 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5"/>
          <p:cNvSpPr/>
          <p:nvPr/>
        </p:nvSpPr>
        <p:spPr>
          <a:xfrm>
            <a:off x="6516720" y="2060640"/>
            <a:ext cx="93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"/>
                <a:ea typeface="GB Pinyinok"/>
              </a:rPr>
              <a:t>w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6" descr="QQ截图20140728092410.jpg"/>
          <p:cNvPicPr/>
          <p:nvPr/>
        </p:nvPicPr>
        <p:blipFill>
          <a:blip r:embed="rId2"/>
          <a:stretch/>
        </p:blipFill>
        <p:spPr>
          <a:xfrm>
            <a:off x="147636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7" descr="QQ截图20140728092452.jpg"/>
          <p:cNvPicPr/>
          <p:nvPr/>
        </p:nvPicPr>
        <p:blipFill>
          <a:blip r:embed="rId3"/>
          <a:stretch/>
        </p:blipFill>
        <p:spPr>
          <a:xfrm>
            <a:off x="3059280" y="314172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" descr="QQ截图20140728092546.jpg"/>
          <p:cNvPicPr/>
          <p:nvPr/>
        </p:nvPicPr>
        <p:blipFill>
          <a:blip r:embed="rId4"/>
          <a:stretch/>
        </p:blipFill>
        <p:spPr>
          <a:xfrm>
            <a:off x="4643280" y="314172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9" descr="QQ截图20140728092647.jpg"/>
          <p:cNvPicPr/>
          <p:nvPr/>
        </p:nvPicPr>
        <p:blipFill>
          <a:blip r:embed="rId5"/>
          <a:stretch/>
        </p:blipFill>
        <p:spPr>
          <a:xfrm>
            <a:off x="6227640" y="313704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556000" y="23508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生字认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1116000" y="1197000"/>
            <a:ext cx="72723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hǔ  wáng  kāi  h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  王  开  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diǎn zhào wū   hu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  召  乌  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xiàng </a:t>
            </a:r>
            <a:r>
              <a:rPr b="0" lang="en-US" sz="1000" spc="-1" strike="noStrike">
                <a:solidFill>
                  <a:srgbClr val="000000"/>
                </a:solidFill>
                <a:latin typeface="GB Pinyinok"/>
                <a:ea typeface="GB Pinyinok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zǒu niú  zěn c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  走  牛  怎  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619280" y="692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语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116000" y="1773360"/>
            <a:ext cx="68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会（</a:t>
            </a: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kāi huì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（</a:t>
            </a: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zǎo shàng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（</a:t>
            </a: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zěn me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到（</a:t>
            </a:r>
            <a:r>
              <a:rPr b="0" lang="en-US" sz="4400" spc="-1" strike="noStrike">
                <a:solidFill>
                  <a:srgbClr val="000000"/>
                </a:solidFill>
                <a:latin typeface="GB Pinyinok"/>
                <a:ea typeface="GB Pinyinok"/>
              </a:rPr>
              <a:t>chí dào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刚八点，燕子、乌鸦、啄木鸟       来了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0" y="692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狮子、豹子、狸狐、大灰狼        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6588000" y="-2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飞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580000" y="7002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跑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1" descr="未命名3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0" y="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八点零三分，大象、熊猫        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0" y="6922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鼠、青蛙        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244000" y="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724360" y="-2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走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763640" y="7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蹦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未命名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360360" y="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八点零四分，鲤鱼、小虾        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90792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鳄鱼、蛇        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993080" y="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乌龟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867280" y="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游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835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爬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4" descr="未命名2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20"/>
          <p:cNvSpPr/>
          <p:nvPr/>
        </p:nvSpPr>
        <p:spPr>
          <a:xfrm>
            <a:off x="108000" y="620640"/>
            <a:ext cx="6048360" cy="1224000"/>
          </a:xfrm>
          <a:prstGeom prst="wedgeEllipseCallout">
            <a:avLst>
              <a:gd name="adj1" fmla="val -14226"/>
              <a:gd name="adj2" fmla="val 92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小蜗牛怎么还没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5"/>
          <p:cNvSpPr/>
          <p:nvPr/>
        </p:nvSpPr>
        <p:spPr>
          <a:xfrm flipV="1">
            <a:off x="4932360" y="1772280"/>
            <a:ext cx="4211640" cy="1584360"/>
          </a:xfrm>
          <a:prstGeom prst="wedgeEllipseCallout">
            <a:avLst>
              <a:gd name="adj1" fmla="val -41523"/>
              <a:gd name="adj2" fmla="val -85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我在这儿呢，我也没迟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11:46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2:20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