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C41-6DC8-404A-82A7-216C641E40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770-1E0B-49C9-83AF-BAB94EC809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59A-22D7-4A27-A07E-512501BC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995-4F6C-41DE-A448-2DFF9F0A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373-234F-4FBD-906A-37D90F26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FB5-B003-4497-94EE-C162C13E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F2C-EE87-48AE-B14E-17258C6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17F-0057-4820-86BE-A3D2A918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576-7142-4E2A-822F-3A9F897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60D-0B4B-46D8-98D6-19FA24C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6B7-E433-4D6F-A721-DAD305E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A87-0B5D-4EB9-BB44-69F0392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16F-29A4-46D1-BEAD-E2B79E2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438-08ED-4A06-BC46-4C4E475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289-8D5C-4635-81CE-75978790F0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792cb3936aafca73b87ce24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baike.baidu.com/view/74768.htm" TargetMode="External"/><Relationship Id="rId4" Type="http://schemas.openxmlformats.org/officeDocument/2006/relationships/hyperlink" Target="http://baike.baidu.com/view/61891.htm" TargetMode="External"/><Relationship Id="rId5" Type="http://schemas.openxmlformats.org/officeDocument/2006/relationships/hyperlink" Target="http://baike.baidu.com/view/6527.htm" TargetMode="External"/><Relationship Id="rId6" Type="http://schemas.openxmlformats.org/officeDocument/2006/relationships/hyperlink" Target="http://baike.baidu.com/view/15168.htm" TargetMode="External"/><Relationship Id="rId7" Type="http://schemas.openxmlformats.org/officeDocument/2006/relationships/hyperlink" Target="http://baike.baidu.com/view/22654.htm" TargetMode="External"/><Relationship Id="rId8" Type="http://schemas.openxmlformats.org/officeDocument/2006/relationships/hyperlink" Target="http://baike.baidu.com/view/7785.htm" TargetMode="External"/><Relationship Id="rId9" Type="http://schemas.openxmlformats.org/officeDocument/2006/relationships/hyperlink" Target="http://baike.baidu.com/view/437048.htm" TargetMode="External"/><Relationship Id="rId10" Type="http://schemas.openxmlformats.org/officeDocument/2006/relationships/hyperlink" Target="http://baike.baidu.com/view/4043774.htm" TargetMode="External"/><Relationship Id="rId11" Type="http://schemas.openxmlformats.org/officeDocument/2006/relationships/hyperlink" Target="http://baike.baidu.com/view/36976.htm" TargetMode="External"/><Relationship Id="rId12" Type="http://schemas.openxmlformats.org/officeDocument/2006/relationships/hyperlink" Target="http://baike.baidu.com/view/460499.htm" TargetMode="External"/><Relationship Id="rId13" Type="http://schemas.openxmlformats.org/officeDocument/2006/relationships/hyperlink" Target="http://baike.baidu.com/view/663164.htm" TargetMode="External"/><Relationship Id="rId14" Type="http://schemas.openxmlformats.org/officeDocument/2006/relationships/hyperlink" Target="http://baike.baidu.com/view/437678.htm" TargetMode="External"/><Relationship Id="rId15" Type="http://schemas.openxmlformats.org/officeDocument/2006/relationships/hyperlink" Target="http://baike.baidu.com/view/804465.htm" TargetMode="External"/><Relationship Id="rId16" Type="http://schemas.openxmlformats.org/officeDocument/2006/relationships/hyperlink" Target="http://baike.baidu.com/view/3407399.htm" TargetMode="External"/><Relationship Id="rId17" Type="http://schemas.openxmlformats.org/officeDocument/2006/relationships/hyperlink" Target="http://baike.baidu.com/view/377992.htm" TargetMode="External"/><Relationship Id="rId18" Type="http://schemas.openxmlformats.org/officeDocument/2006/relationships/hyperlink" Target="http://baike.baidu.com/view/2433620.htm" TargetMode="External"/><Relationship Id="rId19" Type="http://schemas.openxmlformats.org/officeDocument/2006/relationships/hyperlink" Target="http://baike.baidu.com/view/205002.htm" TargetMode="External"/><Relationship Id="rId20" Type="http://schemas.openxmlformats.org/officeDocument/2006/relationships/hyperlink" Target="http://baike.baidu.com/view/2673.htm" TargetMode="External"/><Relationship Id="rId21" Type="http://schemas.openxmlformats.org/officeDocument/2006/relationships/hyperlink" Target="http://baike.baidu.com/view/184671.htm" TargetMode="External"/><Relationship Id="rId22" Type="http://schemas.openxmlformats.org/officeDocument/2006/relationships/hyperlink" Target="http://baike.baidu.com/view/4380.htm" TargetMode="External"/><Relationship Id="rId23" Type="http://schemas.openxmlformats.org/officeDocument/2006/relationships/hyperlink" Target="http://baike.baidu.com/view/184675.htm" TargetMode="External"/><Relationship Id="rId24" Type="http://schemas.openxmlformats.org/officeDocument/2006/relationships/hyperlink" Target="http://baike.baidu.com/view/155370.htm" TargetMode="External"/><Relationship Id="rId25" Type="http://schemas.openxmlformats.org/officeDocument/2006/relationships/hyperlink" Target="http://baike.baidu.com/view/155398.htm" TargetMode="External"/><Relationship Id="rId26" Type="http://schemas.openxmlformats.org/officeDocument/2006/relationships/hyperlink" Target="http://baike.baidu.com/view/155413.htm" TargetMode="External"/><Relationship Id="rId27" Type="http://schemas.openxmlformats.org/officeDocument/2006/relationships/hyperlink" Target="http://baike.baidu.com/view/31478.htm" TargetMode="External"/><Relationship Id="rId28" Type="http://schemas.openxmlformats.org/officeDocument/2006/relationships/hyperlink" Target="http://baike.baidu.com/view/47169.htm" TargetMode="External"/><Relationship Id="rId29" Type="http://schemas.openxmlformats.org/officeDocument/2006/relationships/hyperlink" Target="http://baike.baidu.com/view/291484.htm" TargetMode="External"/><Relationship Id="rId3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10edc5c6655a505d0b97ff6726dbcef05f2e7b3edf53307a16bc21601d4a59da9649468e41bbd0ada55c6e562c49e31e253f18bc827b91851184e2fde1ebef04fbec319&amp;a=29&amp;b=24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10edc5c6655a505d0b97ff6726dbcef05f2e7b3edf53307a16bc21601d4a59da9649468e41bbd0ada55c6e562c49e31e253f18bc827b91851184e2fde1ebef04fbec319&amp;a=29&amp;b=24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10edc5c6655a505d0b97ff6726dbcef05f2e7b3edf53307a16bc21601d4a59da9649468e41bbd0ada55c6e562c49e31e253f18bc827b91851184e2fde1ebef04fbec319&amp;a=29&amp;b=24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089b9864128617267096ea8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aike.baidu.com/view/15168.htm" TargetMode="External"/><Relationship Id="rId4" Type="http://schemas.openxmlformats.org/officeDocument/2006/relationships/hyperlink" Target="http://baike.baidu.com/view/141813.htm" TargetMode="External"/><Relationship Id="rId5" Type="http://schemas.openxmlformats.org/officeDocument/2006/relationships/hyperlink" Target="http://baike.baidu.com/view/7485.htm" TargetMode="External"/><Relationship Id="rId6" Type="http://schemas.openxmlformats.org/officeDocument/2006/relationships/hyperlink" Target="http://baike.baidu.com/view/789876.htm" TargetMode="External"/><Relationship Id="rId7" Type="http://schemas.openxmlformats.org/officeDocument/2006/relationships/hyperlink" Target="http://baike.baidu.com/view/582430.htm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771480" y="2357280"/>
            <a:ext cx="8290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43a00"/>
                </a:solidFill>
                <a:latin typeface="微软雅黑"/>
                <a:ea typeface="微软雅黑"/>
              </a:rPr>
              <a:t>黄鹤楼送孟浩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43a00"/>
                </a:solidFill>
                <a:latin typeface="微软雅黑"/>
                <a:ea typeface="微软雅黑"/>
              </a:rPr>
              <a:t>之广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93160" y="58690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3a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743a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8" descr="http_imgloadCA0TYZQ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571680" y="2286000"/>
            <a:ext cx="8820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　　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571680" y="285840"/>
            <a:ext cx="55292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71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生字大比拼</a:t>
            </a:r>
            <a:endParaRPr b="1" lang="en-US" sz="24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285920" y="2214720"/>
            <a:ext cx="700092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鹤      孟      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辞       浩      唯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692000" y="115920"/>
            <a:ext cx="6769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故人西辞黄鹤楼，烟花三月下扬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的好友孟浩然在柳絮如烟，繁花似锦的阳春三月，从黄鹤楼出发，乘船东行到扬州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的好友孟浩然在柳絮如烟，繁花似锦的阳春三月，从黄鹤楼出发，乘船东行到扬州去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我伫立在江边，目送友人的小舟愈行愈远，渐渐消失在湛蓝的天边，只望见浩浩荡荡的江水流向天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img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444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孤帆远影碧空尽，</a:t>
            </a:r>
            <a:br>
              <a:rPr sz="3600"/>
            </a:b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唯见长江天际流。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88000" y="1766880"/>
            <a:ext cx="4356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我伫立在江边，目送友人的小舟愈行愈远，渐渐消失在湛蓝的天边，只望见浩浩荡荡的江水流向天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29"/>
          <p:cNvSpPr/>
          <p:nvPr/>
        </p:nvSpPr>
        <p:spPr>
          <a:xfrm>
            <a:off x="990720" y="685800"/>
            <a:ext cx="342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0"/>
          <p:cNvSpPr/>
          <p:nvPr/>
        </p:nvSpPr>
        <p:spPr>
          <a:xfrm>
            <a:off x="684360" y="704880"/>
            <a:ext cx="845964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自学导航（二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什么说“西辞”？为什么说三月为“烟花三月”？江上只有一只船吗？为什么“孤帆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学法指导：（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）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抓关键词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谈体会。（２）、结合所查资料谈体会。（３）、带着体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感情朗读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。先同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学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，再小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交流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，时间为５分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2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4581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44000" y="981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yan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QC.MP3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8361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enghao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191120" y="10666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隶书"/>
              </a:rPr>
              <a:t>烟雾迷蒙  繁花似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01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29"/>
          <p:cNvSpPr/>
          <p:nvPr/>
        </p:nvSpPr>
        <p:spPr>
          <a:xfrm>
            <a:off x="990720" y="685800"/>
            <a:ext cx="342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0"/>
          <p:cNvSpPr/>
          <p:nvPr/>
        </p:nvSpPr>
        <p:spPr>
          <a:xfrm>
            <a:off x="755640" y="685800"/>
            <a:ext cx="813744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自学导航（三）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李白在黄鹤楼送孟浩然送了多长时间？理由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学法指导：（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）根据后两句发挥想象（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）、带着体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感情朗读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。先同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学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，再小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交流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，时间为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分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11103560422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QC.MP3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8361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792cb3936aafca73b87ce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716360" y="189000"/>
            <a:ext cx="442764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白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字太白，号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青莲居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中国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唐朝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诗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有“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诗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之称，是伟大的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浪漫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人。汉族，祖籍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9"/>
              </a:rPr>
              <a:t>陇西郡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0"/>
              </a:rPr>
              <a:t>成纪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1"/>
              </a:rPr>
              <a:t>甘肃省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2"/>
              </a:rPr>
              <a:t>平凉市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3"/>
              </a:rPr>
              <a:t>静宁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），出生于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4"/>
              </a:rPr>
              <a:t>蜀郡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5"/>
              </a:rPr>
              <a:t>绵州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6"/>
              </a:rPr>
              <a:t>昌隆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四川省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7"/>
              </a:rPr>
              <a:t>江油市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8"/>
              </a:rPr>
              <a:t>青莲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一说出生于西域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9"/>
              </a:rPr>
              <a:t>碎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0"/>
              </a:rPr>
              <a:t>吉尔吉斯斯坦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1"/>
              </a:rPr>
              <a:t>托克马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逝世于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2"/>
              </a:rPr>
              <a:t>安徽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3"/>
              </a:rPr>
              <a:t>当涂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存世诗文千余篇，代表作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4"/>
              </a:rPr>
              <a:t>蜀道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5"/>
              </a:rPr>
              <a:t>行路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6"/>
              </a:rPr>
              <a:t>梦游天姥吟留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7"/>
              </a:rPr>
              <a:t>将进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8"/>
              </a:rPr>
              <a:t>静夜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诗篇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29"/>
              </a:rPr>
              <a:t>李太白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世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病卒，享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38160" y="-3051000"/>
            <a:ext cx="9099360" cy="127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506.mp3" descr=""/>
          <p:cNvPicPr/>
          <p:nvPr/>
        </p:nvPicPr>
        <p:blipFill>
          <a:blip r:embed="rId1"/>
          <a:stretch/>
        </p:blipFill>
        <p:spPr>
          <a:xfrm>
            <a:off x="817236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寒鸦戏水.mp3" descr=""/>
          <p:cNvPicPr/>
          <p:nvPr/>
        </p:nvPicPr>
        <p:blipFill>
          <a:blip r:embed="rId3"/>
          <a:stretch/>
        </p:blipFill>
        <p:spPr>
          <a:xfrm>
            <a:off x="8244000" y="558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-746640" y="0"/>
            <a:ext cx="2618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故人西辞黄鹤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烟花三月下扬州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639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07" name="春江花月夜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5747760" y="549360"/>
            <a:ext cx="2618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孤帆远影碧空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唯见长江天际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6001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1403280" y="119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孟浩然坐着小船，顺江东去了，李白伫立江边，心情久久难以平静，他曾经与孟浩然交往的情景历历在目，他们曾经一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他们曾经一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他们曾经一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那是多么快乐难忘的时光啊！可如今，白帆远去，江水东流，他们再也不能一起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再也不能一起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再也不能一起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幸福快乐的日子就被这无情的“孤帆远影”带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Picture 4" descr="img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7958880" y="1557360"/>
            <a:ext cx="7898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表达了诗人送别好友时依依惜别的感情，也写出了祖国河山的壮丽美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未命名h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570384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800600" y="1219320"/>
            <a:ext cx="4343400" cy="54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黄鹤楼送孟浩然之广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唐  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故人西辞黄鹤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　烟花三月下扬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　孤帆远影碧空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　唯见长江天际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周正 - 黄鹤楼送孟浩然之广陵 唐 李白.mp3" descr=""/>
          <p:cNvPicPr/>
          <p:nvPr/>
        </p:nvPicPr>
        <p:blipFill>
          <a:blip r:embed="rId2"/>
          <a:stretch/>
        </p:blipFill>
        <p:spPr>
          <a:xfrm>
            <a:off x="179280" y="610884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7787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09440"/>
            <a:ext cx="9468000" cy="9467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094560" y="1481040"/>
            <a:ext cx="35607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别董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唐 高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千里黄云白日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北风吹雁雪纷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莫愁前路无知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天下谁人不识君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09440"/>
            <a:ext cx="9468000" cy="946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834280" y="1654560"/>
            <a:ext cx="31068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送元二使安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唐 王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劝君更尽一杯酒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西出阳关无故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-36360" y="-171360"/>
            <a:ext cx="9144000" cy="6858000"/>
          </a:xfrm>
          <a:prstGeom prst="rect">
            <a:avLst/>
          </a:prstGeom>
          <a:solidFill>
            <a:srgbClr val="dfd6c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143000" y="1066680"/>
            <a:ext cx="3429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山中送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王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山中相送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日暮掩柴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春草年年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王孙归不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8d38a26992ccb11d50742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79280" y="765000"/>
            <a:ext cx="8064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畅谈收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本节课的学习，我最大的收获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＿＿＿＿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79280" y="557388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109eb7ec4961311e62d09f89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课堂检测 </a:t>
            </a:r>
            <a:endParaRPr b="0" lang="en-US" sz="7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280" y="1681200"/>
            <a:ext cx="8388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解释带点字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广陵    唯见   碧空尽  下扬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回顾课文内容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人西辞黄鹤楼”这句诗出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“故人”是指           ，送别的地点是              时间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首诗表达了送别好友               的情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1214280" y="478620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直接箭头连接符 8"/>
          <p:cNvCxnSpPr/>
          <p:nvPr/>
        </p:nvCxnSpPr>
        <p:spPr>
          <a:xfrm>
            <a:off x="6587640" y="48150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1" name="直接连接符 16"/>
          <p:cNvSpPr/>
          <p:nvPr/>
        </p:nvSpPr>
        <p:spPr>
          <a:xfrm>
            <a:off x="4357800" y="5572080"/>
            <a:ext cx="1428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直接连接符 18"/>
          <p:cNvSpPr/>
          <p:nvPr/>
        </p:nvSpPr>
        <p:spPr>
          <a:xfrm>
            <a:off x="7358040" y="557208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直接连接符 20"/>
          <p:cNvSpPr/>
          <p:nvPr/>
        </p:nvSpPr>
        <p:spPr>
          <a:xfrm>
            <a:off x="5857920" y="6143760"/>
            <a:ext cx="157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6C7-D00F-430E-B706-A87A0B933B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59120" y="249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HHL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黑鸭子 - 送别.mp3" descr=""/>
          <p:cNvPicPr/>
          <p:nvPr/>
        </p:nvPicPr>
        <p:blipFill>
          <a:blip r:embed="rId2"/>
          <a:stretch/>
        </p:blipFill>
        <p:spPr>
          <a:xfrm>
            <a:off x="7885080" y="5878440"/>
            <a:ext cx="592200" cy="592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132000" y="544500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黄鹤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313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77164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d089b9864128617267096ea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659640" y="1268280"/>
            <a:ext cx="2484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孟浩然，唐代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诗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汉族，襄州襄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湖北襄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字浩然，世称“孟襄阳”，与另一位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山水田园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王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王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写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田园山水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李白和孟浩然的故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据说李白常在黄鹤楼上与人饮酒赋诗。有一天，他听说仰慕已久的孟浩然就隐居在附近的襄阳，便立刻前往拜见。孟浩然听说李白来了，顾不得整理衣冠，赶忙来到堂前。李白一见孟浩然，抢上一步说：“孟兄，李白早知道您诗名天下，特来求教啊！”“哪里哪里，贤弟过奖了，过奖了！你才华横溢，我也久仰了呀！”两人一见如故，从此一起游山赏月，饮酒赋诗，谈人生，谈抱负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这样，好几个月形影不离。不久，孟浩然要到江浙一带远游，李白有事不能同往，特地选在黄鹤楼为孟浩然送行。望着帆船远去，李白心中百感交集，于是一首千古名诗诞生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971640" y="620640"/>
            <a:ext cx="770400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幼圆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能认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生字，会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生字。能正确理解“西辞、下、唯、尽、烟花、天际流”等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会有感情朗读课文并背诵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可以理解诗意，体会诗人与朋友间的送别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187280" y="1628640"/>
            <a:ext cx="77058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  <a:ea typeface="隶书"/>
              </a:rPr>
              <a:t>自学导航一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大声朗读课文，注意读准字音，读通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理解词语：西辞、下、唯、尽、烟花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、结合课下注释和所查阅的资料，理解诗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先自学，再小组交流，时间为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7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0348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6912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鹤楼送孟浩然之广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唐）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故 人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西 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 鹤 楼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烟 花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 月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下 扬 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孤 帆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远  影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碧 空 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唯 见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长 江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 际 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春江花月夜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6001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7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21Z</dcterms:modified>
  <cp:revision>1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